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9.jpeg" ContentType="image/jpeg"/>
  <Override PartName="/ppt/media/image18.jpeg" ContentType="image/jpeg"/>
  <Override PartName="/ppt/media/image17.png" ContentType="image/png"/>
  <Override PartName="/ppt/media/image7.jpeg" ContentType="image/jpeg"/>
  <Override PartName="/ppt/media/cashreg.wav" ContentType="audio/x-wav"/>
  <Override PartName="/ppt/media/image22.jpeg" ContentType="image/jpeg"/>
  <Override PartName="/ppt/media/image1.jpeg" ContentType="image/jpeg"/>
  <Override PartName="/ppt/media/image11.jpeg" ContentType="image/jpeg"/>
  <Override PartName="/ppt/media/image9.jpeg" ContentType="image/jpeg"/>
  <Override PartName="/ppt/media/image5.jpeg" ContentType="image/jpeg"/>
  <Override PartName="/ppt/media/image10.jpeg" ContentType="image/jpeg"/>
  <Override PartName="/ppt/media/whoosh.wav" ContentType="audio/x-wav"/>
  <Override PartName="/ppt/media/image8.jpeg" ContentType="image/jpeg"/>
  <Override PartName="/ppt/media/image12.jpeg" ContentType="image/jpeg"/>
  <Override PartName="/ppt/media/image4.png" ContentType="image/png"/>
  <Override PartName="/ppt/media/image21.png" ContentType="image/png"/>
  <Override PartName="/ppt/media/voltage.wav" ContentType="audio/x-wav"/>
  <Override PartName="/ppt/media/image3.jpeg" ContentType="image/jpeg"/>
  <Override PartName="/ppt/media/image20.png" ContentType="image/png"/>
  <Override PartName="/ppt/media/image2.jpeg" ContentType="image/jpeg"/>
  <Override PartName="/ppt/media/arrow.wav" ContentType="audio/x-wav"/>
  <Override PartName="/ppt/media/image13.jpeg" ContentType="image/jpeg"/>
  <Override PartName="/ppt/media/chimes.wav" ContentType="audio/x-wav"/>
  <Override PartName="/ppt/media/%E8%B0%90%E6%B3%A2.wav" ContentType="audio/x-wav"/>
  <Override PartName="/ppt/media/wind.wav" ContentType="audio/x-wav"/>
  <Override PartName="/ppt/media/laser.wav" ContentType="audio/x-wav"/>
  <Override PartName="/ppt/media/image16.jpeg" ContentType="image/jpeg"/>
  <Override PartName="/ppt/media/image14.jpeg" ContentType="image/jpeg"/>
  <Override PartName="/ppt/media/click.wav" ContentType="audio/x-wav"/>
  <Override PartName="/ppt/media/image15.jpeg" ContentType="image/jpeg"/>
  <Override PartName="/ppt/media/image6.jpeg" ContentType="image/jpeg"/>
  <Override PartName="/ppt/media/type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B7766-B75A-455D-AEEC-D7D10FE7A25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C7A5C-DA7C-4464-B6CC-3010BB31AAA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90C8-9205-476A-8459-8E38DDD9B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71FA-D3A3-4AFB-BE04-96935053A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DA01-F97B-424F-B392-BC78BAFE9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8C24-C629-45AF-B6ED-981891C3E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EF9C-2079-416A-96DA-B59334889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3ECA-0EBA-4EE3-9D61-7445679CD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27A3-1FF9-4FDA-965F-073DC5CEE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1023-516F-4B41-A417-BCDC44555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1F74-2A2C-46ED-B035-6C07CC120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52FB-A467-4469-961F-0C228DD3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754D-B656-41DA-B9F2-F8C203F6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F286-D952-49B8-A997-B2DE8AA9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B89C4-42D7-4A7B-89B9-D7FE92B9B2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wind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type.wav"/><Relationship Id="rId3" Type="http://schemas.openxmlformats.org/officeDocument/2006/relationships/audio" Target="../media/voltage.wav"/><Relationship Id="rId4" Type="http://schemas.openxmlformats.org/officeDocument/2006/relationships/audio" Target="../media/type.wav"/><Relationship Id="rId5" Type="http://schemas.openxmlformats.org/officeDocument/2006/relationships/audio" Target="../media/wind.wav"/><Relationship Id="rId6" Type="http://schemas.openxmlformats.org/officeDocument/2006/relationships/audio" Target="../media/type.wav"/><Relationship Id="rId7" Type="http://schemas.openxmlformats.org/officeDocument/2006/relationships/audio" Target="../media/wind.wav"/><Relationship Id="rId8" Type="http://schemas.openxmlformats.org/officeDocument/2006/relationships/audio" Target="../media/type.wav"/><Relationship Id="rId9" Type="http://schemas.openxmlformats.org/officeDocument/2006/relationships/audio" Target="../media/wind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&#35856;&#27874;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2.jpeg"/><Relationship Id="rId3" Type="http://schemas.openxmlformats.org/officeDocument/2006/relationships/slide" Target="slide28.xml"/><Relationship Id="rId4" Type="http://schemas.openxmlformats.org/officeDocument/2006/relationships/image" Target="../media/image3.jpeg"/><Relationship Id="rId5" Type="http://schemas.openxmlformats.org/officeDocument/2006/relationships/slide" Target="slide7.xml"/><Relationship Id="rId6" Type="http://schemas.openxmlformats.org/officeDocument/2006/relationships/image" Target="../media/image4.png"/><Relationship Id="rId7" Type="http://schemas.openxmlformats.org/officeDocument/2006/relationships/slide" Target="slide7.xml"/><Relationship Id="rId8" Type="http://schemas.openxmlformats.org/officeDocument/2006/relationships/image" Target="../media/image5.jpeg"/><Relationship Id="rId9" Type="http://schemas.openxmlformats.org/officeDocument/2006/relationships/slide" Target="slide16.xml"/><Relationship Id="rId10" Type="http://schemas.openxmlformats.org/officeDocument/2006/relationships/image" Target="../media/image4.png"/><Relationship Id="rId11" Type="http://schemas.openxmlformats.org/officeDocument/2006/relationships/slide" Target="slide7.xml"/><Relationship Id="rId12" Type="http://schemas.openxmlformats.org/officeDocument/2006/relationships/image" Target="../media/image6.jpeg"/><Relationship Id="rId13" Type="http://schemas.openxmlformats.org/officeDocument/2006/relationships/slide" Target="slide19.xml"/><Relationship Id="rId14" Type="http://schemas.openxmlformats.org/officeDocument/2006/relationships/image" Target="../media/image7.jpeg"/><Relationship Id="rId15" Type="http://schemas.openxmlformats.org/officeDocument/2006/relationships/slide" Target="slide7.xml"/><Relationship Id="rId16" Type="http://schemas.openxmlformats.org/officeDocument/2006/relationships/image" Target="../media/image8.jpeg"/><Relationship Id="rId17" Type="http://schemas.openxmlformats.org/officeDocument/2006/relationships/slide" Target="slide24.xml"/><Relationship Id="rId18" Type="http://schemas.openxmlformats.org/officeDocument/2006/relationships/image" Target="../media/image9.jpeg"/><Relationship Id="rId19" Type="http://schemas.openxmlformats.org/officeDocument/2006/relationships/slide" Target="slide7.xml"/><Relationship Id="rId20" Type="http://schemas.openxmlformats.org/officeDocument/2006/relationships/image" Target="../media/image10.jpeg"/><Relationship Id="rId21" Type="http://schemas.openxmlformats.org/officeDocument/2006/relationships/slide" Target="slide13.xml"/><Relationship Id="rId22" Type="http://schemas.openxmlformats.org/officeDocument/2006/relationships/image" Target="../media/image11.jpeg"/><Relationship Id="rId23" Type="http://schemas.openxmlformats.org/officeDocument/2006/relationships/slide" Target="slide6.xml"/><Relationship Id="rId2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jbedu.org/cczxxx/wucaichi/pic/aa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arrow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684360" y="765000"/>
            <a:ext cx="58323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1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002060"/>
                </a:solidFill>
                <a:latin typeface="华文彩云"/>
                <a:ea typeface="华文彩云"/>
              </a:rPr>
              <a:t>五彩池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8"/>
          <p:cNvSpPr/>
          <p:nvPr/>
        </p:nvSpPr>
        <p:spPr>
          <a:xfrm>
            <a:off x="566280" y="56610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0" y="17524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hǒng             jià        màn               yào    mǔ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哄 骗    腾云 驾 雾    漫 山遍野 闪 耀  一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zhàng mǔ        lián          sǔn         fú  qiū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一 丈     拇  指    镰 刀   竹 笋    起 伏  丘 陵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shè     lún     níng méng  níng    yǎo          jù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射  昆 仑山    柠   檬       凝 成  舀 水   险 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3"/>
          <p:cNvSpPr txBox="1"/>
          <p:nvPr/>
        </p:nvSpPr>
        <p:spPr>
          <a:xfrm>
            <a:off x="324000" y="549360"/>
            <a:ext cx="27432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新魏"/>
              </a:rPr>
              <a:t>记住我了吗？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751680" y="1828800"/>
            <a:ext cx="7335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哄 骗     腾云驾雾     漫山遍野    闪 耀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一 亩     一 丈     拇 指    镰 刀    竹 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起 伏    丘 陵     折 射    昆仑山   柠檬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凝成      舀水     险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3"/>
          <p:cNvSpPr txBox="1"/>
          <p:nvPr/>
        </p:nvSpPr>
        <p:spPr>
          <a:xfrm>
            <a:off x="685800" y="457200"/>
            <a:ext cx="6858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华文新魏"/>
              </a:rPr>
              <a:t>我的帽子没有了，你还认识我吗？</a:t>
            </a:r>
            <a:endParaRPr b="0" lang="en-US" sz="1800" spc="-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华文新魏"/>
              <a:ea typeface="华文新魏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《五彩池》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576360" y="333360"/>
            <a:ext cx="831672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7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那是个晴朗的日子，我乘汽车来到藏龙山，只见漫山遍野都是大大小小的水池。无数的水池在灿烂的阳光下，闪耀着各种不同颜色的光辉，好像是铺展着的巨幅地毯上的宝石。大水池面积不足一亩，水深不过一丈；小的像个菜碟，水很浅，用小拇指就能触到池底。池边是金黄色的石粉凝成的，像一圈圈彩带，把大大小小的水池围成各种不同的形状，有像葫芦的，有像镰刀的，有像盘子的，有像莲花</a:t>
            </a: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的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539640" y="3933720"/>
            <a:ext cx="84250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5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池边是金黄色的石粉凝成的，像一圈圈彩带，把大大小小的水池围成各种不同的形状，有像葫芦的，有像镰刀的，有像盘子的，有像莲花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秋4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9640" y="4365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250920" y="1052640"/>
            <a:ext cx="93614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　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那是个晴朗的日子，我乘车来到藏龙山，只见漫山遍野都是大大小小的水池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5580000" y="2492280"/>
            <a:ext cx="216000" cy="1447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5003640" y="2492280"/>
            <a:ext cx="216000" cy="1447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8928000" y="2492280"/>
            <a:ext cx="216000" cy="1447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8388360" y="2492280"/>
            <a:ext cx="216000" cy="1429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9"/>
          <p:cNvSpPr/>
          <p:nvPr/>
        </p:nvSpPr>
        <p:spPr>
          <a:xfrm>
            <a:off x="3924360" y="2492280"/>
            <a:ext cx="216000" cy="1447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0"/>
          <p:cNvSpPr/>
          <p:nvPr/>
        </p:nvSpPr>
        <p:spPr>
          <a:xfrm>
            <a:off x="4427640" y="2492280"/>
            <a:ext cx="215640" cy="1447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1"/>
          <p:cNvSpPr/>
          <p:nvPr/>
        </p:nvSpPr>
        <p:spPr>
          <a:xfrm>
            <a:off x="7812000" y="2492280"/>
            <a:ext cx="216000" cy="1447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2"/>
          <p:cNvSpPr/>
          <p:nvPr/>
        </p:nvSpPr>
        <p:spPr>
          <a:xfrm>
            <a:off x="7236000" y="2492280"/>
            <a:ext cx="215640" cy="1447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500"/>
                            </p:stCondLst>
                            <p:childTnLst>
                              <p:par>
                                <p:cTn id="13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3500"/>
                            </p:stCondLst>
                            <p:childTnLst>
                              <p:par>
                                <p:cTn id="14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秋5"/>
          <p:cNvPicPr/>
          <p:nvPr/>
        </p:nvPicPr>
        <p:blipFill>
          <a:blip r:embed="rId1"/>
          <a:stretch/>
        </p:blipFill>
        <p:spPr>
          <a:xfrm>
            <a:off x="-318960" y="-237960"/>
            <a:ext cx="9748800" cy="73101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0" y="260280"/>
            <a:ext cx="946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　　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无数</a:t>
            </a:r>
            <a:r>
              <a:rPr b="1" lang="zh-CN" sz="4400" spc="-1" strike="noStrike">
                <a:solidFill>
                  <a:srgbClr val="ff00ff"/>
                </a:solidFill>
                <a:latin typeface="Arial"/>
              </a:rPr>
              <a:t>的水池在灿烂的阳光下，闪耀着各种不同颜色的光辉，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好像</a:t>
            </a:r>
            <a:r>
              <a:rPr b="1" lang="zh-CN" sz="4400" spc="-1" strike="noStrike">
                <a:solidFill>
                  <a:srgbClr val="ff00ff"/>
                </a:solidFill>
                <a:latin typeface="Arial"/>
              </a:rPr>
              <a:t>是铺展着的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巨幅地毯上的的宝石</a:t>
            </a:r>
            <a:r>
              <a:rPr b="1" lang="zh-CN" sz="4400" spc="-1" strike="noStrike">
                <a:solidFill>
                  <a:srgbClr val="ff00ff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611280" y="333360"/>
            <a:ext cx="47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755640" y="479520"/>
            <a:ext cx="770400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池边是金黄色的石粉凝成的，像一圈圈彩带，把大大小小的水池围成各种不同的形状，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有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葫芦的，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有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镰刀的，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有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盘子的，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有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莲花的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11280" y="2649600"/>
            <a:ext cx="7272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﹞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这句话写了水池哪几种形状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539640" y="3284640"/>
            <a:ext cx="7993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﹞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句话运用了＿＿＿＿＿＿修辞方法，把＿＿＿＿分别比作＿＿＿　＿＿＿　　＿＿＿　＿＿＿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5364000" y="3429000"/>
            <a:ext cx="42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4284720" y="328464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打比方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835280" y="386064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水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5003640" y="3933720"/>
            <a:ext cx="13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葫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6659640" y="38606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镰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3"/>
          <p:cNvSpPr/>
          <p:nvPr/>
        </p:nvSpPr>
        <p:spPr>
          <a:xfrm>
            <a:off x="468360" y="44370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盘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2411280" y="436572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莲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2066760" y="39225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468360" y="501336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﹞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谁能说说这句话中省略号的意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秋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4"/>
          <p:cNvSpPr/>
          <p:nvPr/>
        </p:nvSpPr>
        <p:spPr>
          <a:xfrm>
            <a:off x="71280" y="1413000"/>
            <a:ext cx="907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　　发挥想象：说说还有哪些形状的水池？用上“有像……的”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79280" y="3789360"/>
            <a:ext cx="896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　　五彩池姿态万千：有的像（　 ），有的像（　），有的像（　），有的像（　）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692360" y="1773360"/>
            <a:ext cx="604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799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水池大的面积不足一亩，水深不过一丈；小的像菜碟，水很浅，用小拇指就能触到池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bk_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"/>
          <p:cNvSpPr/>
          <p:nvPr/>
        </p:nvSpPr>
        <p:spPr>
          <a:xfrm>
            <a:off x="468360" y="69228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大的面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4"/>
          <p:cNvSpPr/>
          <p:nvPr/>
        </p:nvSpPr>
        <p:spPr>
          <a:xfrm>
            <a:off x="2556000" y="105264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4427640" y="677880"/>
            <a:ext cx="22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小的面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"/>
          <p:cNvSpPr/>
          <p:nvPr/>
        </p:nvSpPr>
        <p:spPr>
          <a:xfrm>
            <a:off x="6443640" y="981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611280" y="343548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大的水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8"/>
          <p:cNvSpPr/>
          <p:nvPr/>
        </p:nvSpPr>
        <p:spPr>
          <a:xfrm>
            <a:off x="2700360" y="3860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4140360" y="343548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小的水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0"/>
          <p:cNvSpPr/>
          <p:nvPr/>
        </p:nvSpPr>
        <p:spPr>
          <a:xfrm flipH="1">
            <a:off x="6516720" y="3789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4643280" y="198900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像个菜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755640" y="49482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Arial"/>
              </a:rPr>
              <a:t>不过一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4788000" y="468648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用小拇指就能触到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684360" y="1989000"/>
            <a:ext cx="22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Arial"/>
              </a:rPr>
              <a:t>不足一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学习重难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95280" y="198900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理解课文每一个自然段的大意，学习文章的结构，欣赏并积累优美的语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755640" y="476280"/>
            <a:ext cx="75614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5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3600" spc="-1" strike="noStrike">
                <a:solidFill>
                  <a:srgbClr val="ff5050"/>
                </a:solidFill>
                <a:latin typeface="Arial"/>
              </a:rPr>
              <a:t>更使我惊奇的是，所有的池水来自同一条溪流，溪水流到各个水池里，颜色却不同了。有些水池的水还不止一种颜色，上层是咖啡色的，下层却是成了柠檬黄；左半边是天蓝色的，右半边却成了橄榄绿。可是把水舀起来看，又跟普通的清水一个样，什么颜色也没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2068560" y="278748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柠檬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4427640" y="221760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咖啡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5759280" y="278748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天蓝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3492360" y="340992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橄榄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2050920" y="6518160"/>
            <a:ext cx="18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371600" y="38098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蓝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2590920" y="5562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柠檬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3962520" y="48006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橄榄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颜色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6"/>
          <p:cNvSpPr/>
          <p:nvPr/>
        </p:nvSpPr>
        <p:spPr>
          <a:xfrm>
            <a:off x="3657600" y="54864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天蓝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6934320" y="44956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橄榄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4724280" y="40384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柠檬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5257800" y="28954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咖啡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0"/>
          <p:cNvSpPr/>
          <p:nvPr/>
        </p:nvSpPr>
        <p:spPr>
          <a:xfrm flipV="1">
            <a:off x="4495680" y="5105160"/>
            <a:ext cx="381240" cy="533160"/>
          </a:xfrm>
          <a:prstGeom prst="line">
            <a:avLst/>
          </a:prstGeom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1"/>
          <p:cNvSpPr/>
          <p:nvPr/>
        </p:nvSpPr>
        <p:spPr>
          <a:xfrm flipH="1" flipV="1">
            <a:off x="7086240" y="4266720"/>
            <a:ext cx="609480" cy="304920"/>
          </a:xfrm>
          <a:prstGeom prst="line">
            <a:avLst/>
          </a:prstGeom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2"/>
          <p:cNvSpPr/>
          <p:nvPr/>
        </p:nvSpPr>
        <p:spPr>
          <a:xfrm flipH="1" flipV="1">
            <a:off x="5334120" y="3886200"/>
            <a:ext cx="380880" cy="380880"/>
          </a:xfrm>
          <a:prstGeom prst="line">
            <a:avLst/>
          </a:prstGeom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3"/>
          <p:cNvSpPr/>
          <p:nvPr/>
        </p:nvSpPr>
        <p:spPr>
          <a:xfrm flipH="1">
            <a:off x="5638320" y="3352680"/>
            <a:ext cx="304920" cy="304920"/>
          </a:xfrm>
          <a:prstGeom prst="line">
            <a:avLst/>
          </a:prstGeom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971640" y="549360"/>
            <a:ext cx="76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柠檬黄、天蓝、咖啡色、橄榄绿等是“物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﹢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色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”式的词。你还能说出这样的词吗？并能用它们来填写下面的句子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755640" y="328464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ff5050"/>
                </a:solidFill>
                <a:latin typeface="Arial"/>
              </a:rPr>
              <a:t>有的上边的池水是（　　　），流到下边的池就成了（　　　）；有的左半边的池水是（　　　），右半边的池水却是（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7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2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755640" y="476280"/>
            <a:ext cx="75614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5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4000" spc="-1" strike="noStrike">
                <a:solidFill>
                  <a:srgbClr val="ff5050"/>
                </a:solidFill>
                <a:latin typeface="Arial"/>
              </a:rPr>
              <a:t>更使我惊奇的是，所有的池水来自同一条溪流，溪水流到各个水池里，颜色却不同了。有些水池的水还不止一种颜色，上层是咖啡色的，下层却是成了柠檬黄；左半边是天蓝色的，右半边却成了橄榄绿。可是把水舀起来看，又跟普通的清水一个样，什么颜色也没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4284720" y="163512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6804000" y="222264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上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3780000" y="2798640"/>
            <a:ext cx="129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下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1735200" y="341460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左半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6300720" y="337500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右半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0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755640" y="620640"/>
            <a:ext cx="777708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399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明明是清水，为什么在水池里会显出不同的颜色来呢？原来池底长着许多石笋，有的像起伏的丘陵，有的像险峻的山峰，有的像矗立的宝塔，有的像成簇的珊瑚。石笋表面凝结着一层细腻的透明的石粉。阳光透过池水射到池底，石笋就像高低不平的折光镜，把阳光折射成各种不同的色彩。水池周围的树木花草长得很茂盛，五光十色的倒影使池水更加瑰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2" dur="5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2003381903591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165" name="WordArt 3"/>
          <p:cNvSpPr txBox="1"/>
          <p:nvPr/>
        </p:nvSpPr>
        <p:spPr>
          <a:xfrm>
            <a:off x="2286000" y="609480"/>
            <a:ext cx="44197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ff99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池水颜色不同的原因</a:t>
            </a:r>
            <a:endParaRPr b="0" lang="en-US" sz="1800" spc="1" strike="noStrike">
              <a:ln w="19080">
                <a:solidFill>
                  <a:srgbClr val="ffff99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3435120" y="2514600"/>
            <a:ext cx="1064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、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池底有高低不平的石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、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石笋表面有石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、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阳光折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、花木倒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75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75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75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75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五彩池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3"/>
          <p:cNvSpPr/>
          <p:nvPr/>
        </p:nvSpPr>
        <p:spPr>
          <a:xfrm>
            <a:off x="4408560" y="60199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池底长着许多石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-681120" y="0"/>
            <a:ext cx="982512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Oval 3"/>
          <p:cNvSpPr/>
          <p:nvPr/>
        </p:nvSpPr>
        <p:spPr>
          <a:xfrm>
            <a:off x="1979640" y="260280"/>
            <a:ext cx="136836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4"/>
          <p:cNvSpPr/>
          <p:nvPr/>
        </p:nvSpPr>
        <p:spPr>
          <a:xfrm flipV="1">
            <a:off x="1835280" y="1628640"/>
            <a:ext cx="504720" cy="9367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2340000" y="333360"/>
            <a:ext cx="647640" cy="10796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6"/>
          <p:cNvSpPr/>
          <p:nvPr/>
        </p:nvSpPr>
        <p:spPr>
          <a:xfrm>
            <a:off x="1979640" y="333360"/>
            <a:ext cx="504720" cy="217440"/>
          </a:xfrm>
          <a:prstGeom prst="line">
            <a:avLst/>
          </a:prstGeom>
          <a:ln w="604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7"/>
          <p:cNvSpPr/>
          <p:nvPr/>
        </p:nvSpPr>
        <p:spPr>
          <a:xfrm>
            <a:off x="2916360" y="765000"/>
            <a:ext cx="649080" cy="287640"/>
          </a:xfrm>
          <a:prstGeom prst="line">
            <a:avLst/>
          </a:prstGeom>
          <a:ln w="349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8"/>
          <p:cNvSpPr/>
          <p:nvPr/>
        </p:nvSpPr>
        <p:spPr>
          <a:xfrm>
            <a:off x="2916360" y="907920"/>
            <a:ext cx="647640" cy="289080"/>
          </a:xfrm>
          <a:prstGeom prst="line">
            <a:avLst/>
          </a:prstGeom>
          <a:ln w="28440">
            <a:solidFill>
              <a:srgbClr val="99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9"/>
          <p:cNvSpPr/>
          <p:nvPr/>
        </p:nvSpPr>
        <p:spPr>
          <a:xfrm>
            <a:off x="2916360" y="1052640"/>
            <a:ext cx="503280" cy="215640"/>
          </a:xfrm>
          <a:prstGeom prst="line">
            <a:avLst/>
          </a:prstGeom>
          <a:ln w="2844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684360" y="2924280"/>
            <a:ext cx="5975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5499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400" spc="-1" strike="noStrike">
                <a:solidFill>
                  <a:srgbClr val="ff00ff"/>
                </a:solidFill>
                <a:latin typeface="Arial"/>
              </a:rPr>
              <a:t>原来五彩的瑶池就在人间，不在天上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1" dur="3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2003381903591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3"/>
          <p:cNvSpPr/>
          <p:nvPr/>
        </p:nvSpPr>
        <p:spPr>
          <a:xfrm>
            <a:off x="952560" y="1143000"/>
            <a:ext cx="723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隶书"/>
                <a:ea typeface="隶书"/>
              </a:rPr>
              <a:t>    </a:t>
            </a:r>
            <a:r>
              <a:rPr b="1" lang="zh-CN" sz="5400" spc="-1" strike="noStrike">
                <a:solidFill>
                  <a:srgbClr val="ff0000"/>
                </a:solidFill>
                <a:latin typeface="隶书"/>
                <a:ea typeface="隶书"/>
              </a:rPr>
              <a:t>为五彩池写广告词，吸引大家来旅游 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669960" y="3657600"/>
            <a:ext cx="780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游人来到五彩池，飘飘欲仙当瑶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838080" y="487692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藏龙五彩池，心中的瑶池。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8%B0%90%E6%B3%A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认读、书写本课生字，理解字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理解课文内容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:(1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五彩池是什么样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五彩池是怎样形成的？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文首尾是什么关系？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课文表达了作者怎样的感情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积累文中优美的语言，有感情的朗读课文，背诵课文第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然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课堂小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95280" y="2133720"/>
            <a:ext cx="8229600" cy="16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两节课我们学习了全文，全文着重描写的是五彩池的姿态、颜色以及形成五彩池的原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课堂练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组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炽（    ）      母（    ）      缭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织（    ）      拇（    ）      撩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舀（    ）      俊（    ）      碟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滔（    ）      峻（    ）      碟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 txBox="1"/>
          <p:nvPr/>
        </p:nvSpPr>
        <p:spPr>
          <a:xfrm>
            <a:off x="971280" y="764640"/>
            <a:ext cx="72738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作业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１、摘抄文中你喜欢的句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２、把课文改写成导游词讲给父母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板书设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11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姿态万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色彩多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五彩池         石笋各异      人间美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花树结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1"/>
          <p:cNvSpPr/>
          <p:nvPr/>
        </p:nvSpPr>
        <p:spPr>
          <a:xfrm>
            <a:off x="1298520" y="6267600"/>
            <a:ext cx="512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01680" y="188640"/>
            <a:ext cx="8540640" cy="59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WordArt 4"/>
          <p:cNvSpPr txBox="1"/>
          <p:nvPr/>
        </p:nvSpPr>
        <p:spPr>
          <a:xfrm>
            <a:off x="2050920" y="1557360"/>
            <a:ext cx="5042160" cy="31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谢谢</a:t>
            </a:r>
            <a:endParaRPr b="0" lang="en-US" sz="96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35C83-1E0F-4179-8907-5C112917AC2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6836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五彩池在四川的黄龙风景区。黄龙风景区与九寨沟风景区一样，同为川西北高原上耀眼的明珠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99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被联合国列入《世界自然遗产名录》。五彩池美不胜收，如人间仙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2004213132745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0400" y="2362320"/>
            <a:ext cx="1981080" cy="1628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aa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429000" y="304920"/>
            <a:ext cx="2666880" cy="1828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hl7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85800" y="304920"/>
            <a:ext cx="2514600" cy="1828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20042131321551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38080" y="2362320"/>
            <a:ext cx="2057400" cy="1604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hl7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7391520" y="2370240"/>
            <a:ext cx="1752480" cy="1592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changhai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6248520" y="380880"/>
            <a:ext cx="2666880" cy="1766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009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838080" y="4203720"/>
            <a:ext cx="2057400" cy="1892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AA03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3276720" y="4270320"/>
            <a:ext cx="1904760" cy="1825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Xc901014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5410080" y="4267080"/>
            <a:ext cx="1859040" cy="1752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20031201111136033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7391520" y="41911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02">
            <a:hlinkClick r:id="rId21" action="ppaction://hlinksldjump"/>
          </p:cNvPr>
          <p:cNvPicPr/>
          <p:nvPr/>
        </p:nvPicPr>
        <p:blipFill>
          <a:blip r:embed="rId22"/>
          <a:stretch/>
        </p:blipFill>
        <p:spPr>
          <a:xfrm>
            <a:off x="5410080" y="2362320"/>
            <a:ext cx="1905120" cy="16444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3"/>
          <p:cNvSpPr/>
          <p:nvPr/>
        </p:nvSpPr>
        <p:spPr>
          <a:xfrm>
            <a:off x="232920" y="304920"/>
            <a:ext cx="729000" cy="62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五彩池美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"/>
          <p:cNvSpPr/>
          <p:nvPr/>
        </p:nvSpPr>
        <p:spPr>
          <a:xfrm>
            <a:off x="7543800" y="6095880"/>
            <a:ext cx="1219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Times New Roman"/>
                <a:hlinkClick r:id="rId23" action="ppaction://hlinksldjump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500"/>
                            </p:stCondLst>
                            <p:childTnLst>
                              <p:par>
                                <p:cTn id="34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500"/>
                            </p:stCondLst>
                            <p:childTnLst>
                              <p:par>
                                <p:cTn id="4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a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304920"/>
            <a:ext cx="7010280" cy="541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40328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0" y="1197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505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请给课题《五彩池》加一个修饰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468360" y="2349360"/>
            <a:ext cx="59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＿＿＿＿＿的五彩池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250920" y="4724280"/>
            <a:ext cx="82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美丽   好看   漂亮    奇特    奇异      神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1042920" y="270828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1332000" y="1125360"/>
            <a:ext cx="56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0" y="907920"/>
            <a:ext cx="8532720" cy="6426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1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请给课题《五彩池》加一个修饰的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539640" y="2349360"/>
            <a:ext cx="48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_________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的五彩池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539640" y="530064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美丽   好看  漂亮  奇特  奇异  神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1187280" y="227664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神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2400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Arial"/>
              </a:rPr>
              <a:t>用自己喜欢的方式读课文，要求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0" lang="zh-CN" sz="4400" spc="-1" strike="noStrike">
                <a:solidFill>
                  <a:srgbClr val="0000cc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0000cc"/>
                </a:solidFill>
                <a:latin typeface="Arial"/>
              </a:rPr>
              <a:t>、读准字音，读通句子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0" lang="zh-CN" sz="44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0000cc"/>
                </a:solidFill>
                <a:latin typeface="Arial"/>
              </a:rPr>
              <a:t>、标出自然段序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0" lang="zh-CN" sz="4400" spc="-1" strike="noStrike">
                <a:solidFill>
                  <a:srgbClr val="0000cc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0000cc"/>
                </a:solidFill>
                <a:latin typeface="Arial"/>
              </a:rPr>
              <a:t>、想想课文从哪些方面向我们介绍了五彩池的神奇美丽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3T07:03:2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28:13Z</dcterms:modified>
  <cp:revision>13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