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EE6F-A68D-4C61-BED2-13402B0F54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CB17-9DCA-45B1-B26D-D8EFE54ABB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8186-342F-4A94-B113-854D501A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FE4-F516-4B31-9236-FD07D920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9FE-821C-4747-BF37-2DBE3E2A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4DD0-C4F1-4497-808A-88C3E017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451-019C-4839-BBE0-7A06C482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FA4A-5A1A-494B-96DB-1C396970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FAED-7467-47A5-A036-50CCB768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6E0-A804-4FFE-B320-D84691ED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4843-6341-4388-ACC2-3AA6524B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BF8-CAFF-4306-8422-8DB0DF11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2C6-7B3A-4C29-A96F-283035CF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04C-3621-462B-9045-DCFDFE75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4C3E-787E-4EDE-B4FC-16939079A2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36800" y="2349360"/>
            <a:ext cx="72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微软雅黑"/>
                <a:ea typeface="微软雅黑"/>
              </a:rPr>
              <a:t>我和大猩猩握了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"/>
          <p:cNvSpPr/>
          <p:nvPr/>
        </p:nvSpPr>
        <p:spPr>
          <a:xfrm>
            <a:off x="2042640" y="558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8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2643120" y="27860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你想对偷猎者说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拓展学习"/>
          <p:cNvPicPr/>
          <p:nvPr/>
        </p:nvPicPr>
        <p:blipFill>
          <a:blip r:embed="rId1"/>
          <a:stretch/>
        </p:blipFill>
        <p:spPr>
          <a:xfrm>
            <a:off x="468360" y="1197000"/>
            <a:ext cx="2079720" cy="512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小女孩"/>
          <p:cNvPicPr/>
          <p:nvPr/>
        </p:nvPicPr>
        <p:blipFill>
          <a:blip r:embed="rId2"/>
          <a:stretch/>
        </p:blipFill>
        <p:spPr>
          <a:xfrm>
            <a:off x="179280" y="2852640"/>
            <a:ext cx="1967040" cy="327996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1"/>
          <p:cNvSpPr/>
          <p:nvPr/>
        </p:nvSpPr>
        <p:spPr>
          <a:xfrm>
            <a:off x="2643120" y="5359320"/>
            <a:ext cx="53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2214720" y="2143080"/>
            <a:ext cx="62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有过和动物交流的体验吗？同学之间说一说，写在自己的“小本本”上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拓展学习"/>
          <p:cNvPicPr/>
          <p:nvPr/>
        </p:nvPicPr>
        <p:blipFill>
          <a:blip r:embed="rId1"/>
          <a:stretch/>
        </p:blipFill>
        <p:spPr>
          <a:xfrm>
            <a:off x="642960" y="785880"/>
            <a:ext cx="2079720" cy="512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小女孩"/>
          <p:cNvPicPr/>
          <p:nvPr/>
        </p:nvPicPr>
        <p:blipFill>
          <a:blip r:embed="rId2"/>
          <a:stretch/>
        </p:blipFill>
        <p:spPr>
          <a:xfrm>
            <a:off x="214200" y="2857680"/>
            <a:ext cx="1967040" cy="327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54F3-BFF2-42D4-B434-ED80EF8FEF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428760" y="1928880"/>
            <a:ext cx="84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正确、流利、有感情地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学习生字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体会“我”对大猩猩的喜爱之情和热爱动物，热爱自然的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00040" y="98100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小女孩"/>
          <p:cNvPicPr/>
          <p:nvPr/>
        </p:nvPicPr>
        <p:blipFill>
          <a:blip r:embed="rId1"/>
          <a:stretch/>
        </p:blipFill>
        <p:spPr>
          <a:xfrm>
            <a:off x="603360" y="2637000"/>
            <a:ext cx="1966680" cy="3279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268360" y="148608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们见过大猩猩吗？说说你对大猩猩的了解有多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创设情境"/>
          <p:cNvPicPr/>
          <p:nvPr/>
        </p:nvPicPr>
        <p:blipFill>
          <a:blip r:embed="rId2"/>
          <a:stretch/>
        </p:blipFill>
        <p:spPr>
          <a:xfrm>
            <a:off x="428760" y="571680"/>
            <a:ext cx="2074680" cy="569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a1b68c0014caa71b728b6584"/>
          <p:cNvPicPr/>
          <p:nvPr/>
        </p:nvPicPr>
        <p:blipFill>
          <a:blip r:embed="rId3"/>
          <a:stretch/>
        </p:blipFill>
        <p:spPr>
          <a:xfrm>
            <a:off x="4067280" y="3429000"/>
            <a:ext cx="3457440" cy="3149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57720" y="2286000"/>
            <a:ext cx="46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用自己喜欢的方式读课文，想想课文主要写了什么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小女孩"/>
          <p:cNvPicPr/>
          <p:nvPr/>
        </p:nvPicPr>
        <p:blipFill>
          <a:blip r:embed="rId1"/>
          <a:stretch/>
        </p:blipFill>
        <p:spPr>
          <a:xfrm>
            <a:off x="755640" y="2637000"/>
            <a:ext cx="1967040" cy="3279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初读感知"/>
          <p:cNvPicPr/>
          <p:nvPr/>
        </p:nvPicPr>
        <p:blipFill>
          <a:blip r:embed="rId2"/>
          <a:stretch/>
        </p:blipFill>
        <p:spPr>
          <a:xfrm>
            <a:off x="611280" y="1125360"/>
            <a:ext cx="2079360" cy="503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5"/>
          <p:cNvSpPr/>
          <p:nvPr/>
        </p:nvSpPr>
        <p:spPr>
          <a:xfrm>
            <a:off x="3830760" y="42926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050920" y="3789360"/>
            <a:ext cx="532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弥漫  妖娆  鞋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71640" y="2205000"/>
            <a:ext cx="28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重点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初读感知"/>
          <p:cNvPicPr/>
          <p:nvPr/>
        </p:nvPicPr>
        <p:blipFill>
          <a:blip r:embed="rId1"/>
          <a:stretch/>
        </p:blipFill>
        <p:spPr>
          <a:xfrm>
            <a:off x="611280" y="1125360"/>
            <a:ext cx="2079360" cy="503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857160" y="1357200"/>
            <a:ext cx="59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自读、勾画、想象、批注</a:t>
            </a:r>
            <a:r>
              <a:rPr b="0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500200" y="2214720"/>
            <a:ext cx="58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画出“我是怎样和大猩猩交流的？”的句子，反复品读。边读边想象句子描绘的情景，适时地在书上标注出自己的收获或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小女孩"/>
          <p:cNvPicPr/>
          <p:nvPr/>
        </p:nvPicPr>
        <p:blipFill>
          <a:blip r:embed="rId1"/>
          <a:stretch/>
        </p:blipFill>
        <p:spPr>
          <a:xfrm>
            <a:off x="611280" y="2997360"/>
            <a:ext cx="1966680" cy="3279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细读感悟"/>
          <p:cNvPicPr/>
          <p:nvPr/>
        </p:nvPicPr>
        <p:blipFill>
          <a:blip r:embed="rId2"/>
          <a:stretch/>
        </p:blipFill>
        <p:spPr>
          <a:xfrm>
            <a:off x="285840" y="428760"/>
            <a:ext cx="2033640" cy="544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87280" y="1844640"/>
            <a:ext cx="438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学习第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自然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987640" y="278136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认为这是个怎样的女科学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小男孩1"/>
          <p:cNvPicPr/>
          <p:nvPr/>
        </p:nvPicPr>
        <p:blipFill>
          <a:blip r:embed="rId1"/>
          <a:stretch/>
        </p:blipFill>
        <p:spPr>
          <a:xfrm>
            <a:off x="971640" y="2924280"/>
            <a:ext cx="1352520" cy="3016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细读感悟"/>
          <p:cNvPicPr/>
          <p:nvPr/>
        </p:nvPicPr>
        <p:blipFill>
          <a:blip r:embed="rId2"/>
          <a:stretch/>
        </p:blipFill>
        <p:spPr>
          <a:xfrm>
            <a:off x="539640" y="907920"/>
            <a:ext cx="2033640" cy="544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857160" y="1785960"/>
            <a:ext cx="74296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5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黑体"/>
              </a:rPr>
              <a:t>—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13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我和大猩猩握手”经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285920" y="385776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皮纳茨外貌的描写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071720" y="485784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我”和大猩猩握手前后的动作描写。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细读感悟"/>
          <p:cNvPicPr/>
          <p:nvPr/>
        </p:nvPicPr>
        <p:blipFill>
          <a:blip r:embed="rId1"/>
          <a:stretch/>
        </p:blipFill>
        <p:spPr>
          <a:xfrm>
            <a:off x="539640" y="907920"/>
            <a:ext cx="2033640" cy="544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857160" y="1928880"/>
            <a:ext cx="63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说说对“这是我平生以来得到的最珍贵的礼品。”这句话的理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细读感悟"/>
          <p:cNvPicPr/>
          <p:nvPr/>
        </p:nvPicPr>
        <p:blipFill>
          <a:blip r:embed="rId1"/>
          <a:stretch/>
        </p:blipFill>
        <p:spPr>
          <a:xfrm>
            <a:off x="539640" y="907920"/>
            <a:ext cx="2033640" cy="544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小孩子"/>
          <p:cNvPicPr/>
          <p:nvPr/>
        </p:nvPicPr>
        <p:blipFill>
          <a:blip r:embed="rId2"/>
          <a:stretch/>
        </p:blipFill>
        <p:spPr>
          <a:xfrm>
            <a:off x="6948360" y="3429000"/>
            <a:ext cx="1305000" cy="2828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2:47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7:11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8c02000000000001024120</vt:lpwstr>
  </property>
</Properties>
</file>