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499A-1C9F-4185-B2FD-8D7B3E96F6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免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尽在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944F-94C1-4CA4-9F8C-9B2040240D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D60-ABB2-4C51-97E2-38DB9992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10F-DF9C-482F-92A7-5554A155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699-27D9-4AA2-8657-8F9AD827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17B-CA71-4897-A857-6CB6CB01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FE0-A352-4615-A12B-04B6A739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222-57D0-44E2-AA17-3D317784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3A8-6B91-4B29-8C22-396AD3CA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D9E-BBA4-44DF-B3AC-9890FDB7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4A2-0984-43B4-A62B-463607BA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66E-479D-415F-BDB4-11B756E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350-2FA4-47D3-9A9F-36B9A153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024-2B83-4D57-A197-2597847E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E1B4-DABF-4EBD-9679-CDD2A26A6E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36800" y="2349360"/>
            <a:ext cx="72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微软雅黑"/>
                <a:ea typeface="微软雅黑"/>
              </a:rPr>
              <a:t>我和大猩猩握了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204264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643120" y="27860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你想对偷猎者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拓展学习"/>
          <p:cNvPicPr/>
          <p:nvPr/>
        </p:nvPicPr>
        <p:blipFill>
          <a:blip r:embed="rId1"/>
          <a:stretch/>
        </p:blipFill>
        <p:spPr>
          <a:xfrm>
            <a:off x="468360" y="1197000"/>
            <a:ext cx="2079720" cy="51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小女孩"/>
          <p:cNvPicPr/>
          <p:nvPr/>
        </p:nvPicPr>
        <p:blipFill>
          <a:blip r:embed="rId2"/>
          <a:stretch/>
        </p:blipFill>
        <p:spPr>
          <a:xfrm>
            <a:off x="179280" y="2852640"/>
            <a:ext cx="1967040" cy="3279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214720" y="214308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有过和动物交流的体验吗？同学之间说一说，写在自己的“小本本”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拓展学习"/>
          <p:cNvPicPr/>
          <p:nvPr/>
        </p:nvPicPr>
        <p:blipFill>
          <a:blip r:embed="rId1"/>
          <a:stretch/>
        </p:blipFill>
        <p:spPr>
          <a:xfrm>
            <a:off x="642960" y="785880"/>
            <a:ext cx="2079720" cy="51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小女孩"/>
          <p:cNvPicPr/>
          <p:nvPr/>
        </p:nvPicPr>
        <p:blipFill>
          <a:blip r:embed="rId2"/>
          <a:stretch/>
        </p:blipFill>
        <p:spPr>
          <a:xfrm>
            <a:off x="214200" y="285768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61D5-7C00-4DF9-86E9-5977DD49C4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28760" y="192888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学习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体会“我”对大猩猩的喜爱之情和热爱动物，热爱自然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00040" y="98100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小女孩"/>
          <p:cNvPicPr/>
          <p:nvPr/>
        </p:nvPicPr>
        <p:blipFill>
          <a:blip r:embed="rId1"/>
          <a:stretch/>
        </p:blipFill>
        <p:spPr>
          <a:xfrm>
            <a:off x="603360" y="2637000"/>
            <a:ext cx="1966680" cy="3279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68360" y="14860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们见过大猩猩吗？说说你对大猩猩的了解有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创设情境"/>
          <p:cNvPicPr/>
          <p:nvPr/>
        </p:nvPicPr>
        <p:blipFill>
          <a:blip r:embed="rId2"/>
          <a:stretch/>
        </p:blipFill>
        <p:spPr>
          <a:xfrm>
            <a:off x="428760" y="571680"/>
            <a:ext cx="2074680" cy="56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a1b68c0014caa71b728b6584"/>
          <p:cNvPicPr/>
          <p:nvPr/>
        </p:nvPicPr>
        <p:blipFill>
          <a:blip r:embed="rId3"/>
          <a:stretch/>
        </p:blipFill>
        <p:spPr>
          <a:xfrm>
            <a:off x="4067280" y="3429000"/>
            <a:ext cx="3457440" cy="314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57720" y="228600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用自己喜欢的方式读课文，想想课文主要写了什么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小女孩"/>
          <p:cNvPicPr/>
          <p:nvPr/>
        </p:nvPicPr>
        <p:blipFill>
          <a:blip r:embed="rId1"/>
          <a:stretch/>
        </p:blipFill>
        <p:spPr>
          <a:xfrm>
            <a:off x="755640" y="2637000"/>
            <a:ext cx="1967040" cy="327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初读感知"/>
          <p:cNvPicPr/>
          <p:nvPr/>
        </p:nvPicPr>
        <p:blipFill>
          <a:blip r:embed="rId2"/>
          <a:stretch/>
        </p:blipFill>
        <p:spPr>
          <a:xfrm>
            <a:off x="611280" y="112536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"/>
          <p:cNvSpPr/>
          <p:nvPr/>
        </p:nvSpPr>
        <p:spPr>
          <a:xfrm>
            <a:off x="2265480" y="555156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5"/>
          <p:cNvSpPr/>
          <p:nvPr/>
        </p:nvSpPr>
        <p:spPr>
          <a:xfrm>
            <a:off x="3830760" y="4292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050920" y="3789360"/>
            <a:ext cx="53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弥漫  妖娆  鞋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71640" y="2205000"/>
            <a:ext cx="28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重点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初读感知"/>
          <p:cNvPicPr/>
          <p:nvPr/>
        </p:nvPicPr>
        <p:blipFill>
          <a:blip r:embed="rId1"/>
          <a:stretch/>
        </p:blipFill>
        <p:spPr>
          <a:xfrm>
            <a:off x="611280" y="112536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857160" y="1357200"/>
            <a:ext cx="59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自读、勾画、想象、批注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500200" y="221472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画出“我是怎样和大猩猩交流的？”的句子，反复品读。边读边想象句子描绘的情景，适时地在书上标注出自己的收获或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小女孩"/>
          <p:cNvPicPr/>
          <p:nvPr/>
        </p:nvPicPr>
        <p:blipFill>
          <a:blip r:embed="rId1"/>
          <a:stretch/>
        </p:blipFill>
        <p:spPr>
          <a:xfrm>
            <a:off x="611280" y="2997360"/>
            <a:ext cx="1966680" cy="3279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细读感悟"/>
          <p:cNvPicPr/>
          <p:nvPr/>
        </p:nvPicPr>
        <p:blipFill>
          <a:blip r:embed="rId2"/>
          <a:stretch/>
        </p:blipFill>
        <p:spPr>
          <a:xfrm>
            <a:off x="285840" y="428760"/>
            <a:ext cx="2033640" cy="544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187280" y="1844640"/>
            <a:ext cx="438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学习第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自然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87640" y="278136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认为这是个怎样的女科学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小男孩1"/>
          <p:cNvPicPr/>
          <p:nvPr/>
        </p:nvPicPr>
        <p:blipFill>
          <a:blip r:embed="rId1"/>
          <a:stretch/>
        </p:blipFill>
        <p:spPr>
          <a:xfrm>
            <a:off x="971640" y="2924280"/>
            <a:ext cx="1352520" cy="301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细读感悟"/>
          <p:cNvPicPr/>
          <p:nvPr/>
        </p:nvPicPr>
        <p:blipFill>
          <a:blip r:embed="rId2"/>
          <a:stretch/>
        </p:blipFill>
        <p:spPr>
          <a:xfrm>
            <a:off x="539640" y="907920"/>
            <a:ext cx="2033640" cy="54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857160" y="1785960"/>
            <a:ext cx="74296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—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3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和大猩猩握手”经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85920" y="385776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皮纳茨外貌的描写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71720" y="485784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”和大猩猩握手前后的动作描写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细读感悟"/>
          <p:cNvPicPr/>
          <p:nvPr/>
        </p:nvPicPr>
        <p:blipFill>
          <a:blip r:embed="rId1"/>
          <a:stretch/>
        </p:blipFill>
        <p:spPr>
          <a:xfrm>
            <a:off x="539640" y="907920"/>
            <a:ext cx="2033640" cy="54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857160" y="1928880"/>
            <a:ext cx="63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说说对“这是我平生以来得到的最珍贵的礼品。”这句话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细读感悟"/>
          <p:cNvPicPr/>
          <p:nvPr/>
        </p:nvPicPr>
        <p:blipFill>
          <a:blip r:embed="rId1"/>
          <a:stretch/>
        </p:blipFill>
        <p:spPr>
          <a:xfrm>
            <a:off x="539640" y="907920"/>
            <a:ext cx="2033640" cy="54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小孩子"/>
          <p:cNvPicPr/>
          <p:nvPr/>
        </p:nvPicPr>
        <p:blipFill>
          <a:blip r:embed="rId2"/>
          <a:stretch/>
        </p:blipFill>
        <p:spPr>
          <a:xfrm>
            <a:off x="6948360" y="3429000"/>
            <a:ext cx="1305000" cy="2828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2:47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7:53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8c02000000000001024120</vt:lpwstr>
  </property>
</Properties>
</file>