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D6F-69F7-48E3-A52B-72643F71D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7127-1BC5-4956-A120-E128A0D1AA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CEF-BB32-4D2D-89B6-19C55E4E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97F-AACC-4A91-99E4-909699A8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61A-143A-4456-A8DD-EBE46F97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D3B-8799-42A4-AB0B-4D1C1A2A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554-9092-44D4-93EE-4CB65B8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608-54B5-4D39-858F-8DA2F70D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0D7-C1CC-4CAF-9D6C-BC5CB80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3D0-E771-49A8-9E32-350F254F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FBF-F877-4579-A70D-D66DDEE0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15F-E7AB-4ADE-82C7-621E4FB6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3F9-6A5A-40F0-A66A-A50E3C05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D4B-4851-4D36-AAF2-234A9F2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5CA-A049-4523-AE51-E08C26637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2944800" y="97164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望庐山瀑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036520" y="5565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5" descr=""/>
          <p:cNvPicPr/>
          <p:nvPr/>
        </p:nvPicPr>
        <p:blipFill>
          <a:blip r:embed="rId1"/>
          <a:stretch/>
        </p:blipFill>
        <p:spPr>
          <a:xfrm>
            <a:off x="2236680" y="2417760"/>
            <a:ext cx="50864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52480" y="838080"/>
            <a:ext cx="396252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庐山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香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瀑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飞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疑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银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562720" y="13716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香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香炉峰，是庐山西北部一座高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升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紫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云烟被日照呈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挂前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是说瀑布像一条巨大的白练从悬崖直挂到前面的河流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828800" y="1523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望庐山瀑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诗人李白五十岁左右隐居庐山时写的一首风景诗。这首诗形象地描绘了庐山瀑布雄奇壮丽的景色，反映了诗人对祖国大好河山的无限热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2819520" y="31510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828800" y="990720"/>
            <a:ext cx="60958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琥珀"/>
              </a:rPr>
              <a:t>诗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阳光照耀下的香炉峰紫色的云烟缭绕，远看瀑布犹如一条长长的白练，高高悬挂于山川之间。那激越的水柱从峭壁上一泻千尺，恍惚间好像银河从云端坠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00200" y="990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琥珀"/>
              </a:rPr>
              <a:t>这首诗中有哪些字用得十分精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828800" y="1752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”、“挂”、“落”这三个字用得十分精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752480" y="2514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“生”字不仅把香炉峰写活了，也把山间烟云冉冉升起的景象表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981080" y="3886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“挂”字描绘出倾泻的瀑布在“遥看”中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9051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“落”字点出了瀑布倾泻的磅礴的气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600200" y="1143000"/>
            <a:ext cx="327672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发白帝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朝辞白帝彩云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里江陵一日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岸猿声啼不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舟已过万重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57800" y="2057400"/>
            <a:ext cx="2666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四川省奉节县东白帝山，山上有白帝城，处长江上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湖北省江陵县，处长江中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1525680" y="5468760"/>
            <a:ext cx="58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371600" y="96084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朝辞白帝彩云间”，首句写诗人的回想，点出开船的时间是早晨，地点是白帝城 。“彩云间”是写白帝城的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00200" y="251316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里江陵一日还”，次句写诗人的意愿，形容船行之速，千里江陵只要一天即可到达。诗人用夸张的手法，写了长江一泻千里之势，同时也抒发了诗人“归心似箭”的心情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诗人用夸张的手法，写了长江一泻千里之势，同时也抒发了诗人“归心似箭”的心情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447920" y="44503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、四句形象地描绘轻舟快驶的情形。“两岸猿声啼不住，轻舟已过万重山”，两岸猿猴的叫声还没停止，可那轻快的小船已经驶过了千山万岭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905120" y="99072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琥珀"/>
              </a:rPr>
              <a:t>诗意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676520" y="250020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晨才辞别了五彩云霞映照中的白帝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天时间就回到了千里之遥的江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听见两岸山间猿啼的声音连续不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轻快的小舟已经从重重叠叠的高山峻岭中的江面驶过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ED3-DB8A-4F34-8C52-78CB532C08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5:37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48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