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7.gif" ContentType="image/gif"/>
  <Override PartName="/ppt/media/image13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2.jpeg" ContentType="image/jpeg"/>
  <Override PartName="/ppt/media/image3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4.png" ContentType="image/png"/>
  <Override PartName="/ppt/media/image6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E39B-1C3D-46E3-BFE8-63519BB1B49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3690-31D7-4FDE-825B-621BD66CAAD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8960-244B-49A5-91A9-B68C78D10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4584-1782-4EB5-BC88-05ACF864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B54B-594B-4B4A-90BB-7A2756040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7605-75A9-4D71-9A4A-2297A9974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00A6-FF88-4002-A144-1BCB6212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8434-6951-4395-8D42-3D9ECED9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166B-EA8B-4E60-BD0D-6D48F770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914E-E27E-4A37-9B6E-96E0BC48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D5E5-A06B-4E1D-ABC1-F276E7E6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3798-3EA1-4E5A-90D5-BC0F08F0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2A3A-8D31-457F-89D1-05F1F0AC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DAA2-65F6-49CD-8992-0D614A25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2A1F-A263-47FC-9881-11E7273627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WordArt 3" descr=""/>
          <p:cNvPicPr/>
          <p:nvPr/>
        </p:nvPicPr>
        <p:blipFill>
          <a:blip r:embed="rId2"/>
          <a:stretch/>
        </p:blipFill>
        <p:spPr>
          <a:xfrm>
            <a:off x="1670040" y="1898640"/>
            <a:ext cx="5627520" cy="1360440"/>
          </a:xfrm>
          <a:prstGeom prst="rect">
            <a:avLst/>
          </a:prstGeom>
          <a:ln w="0">
            <a:noFill/>
          </a:ln>
        </p:spPr>
      </p:pic>
      <p:pic>
        <p:nvPicPr>
          <p:cNvPr id="49" name="矩形 5" descr=""/>
          <p:cNvPicPr/>
          <p:nvPr/>
        </p:nvPicPr>
        <p:blipFill>
          <a:blip r:embed="rId3"/>
          <a:stretch/>
        </p:blipFill>
        <p:spPr>
          <a:xfrm>
            <a:off x="1665360" y="5638680"/>
            <a:ext cx="5672160" cy="498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447920" y="137160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来到春天的小院落里，你看到了什么？想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066680" y="289548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屋子前面是一个小院。春天来了，大丽花开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屋子后面，是一个大竹园。一竿竿翠竹不时发出飒飒的声音，仿佛在亲切地交谈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990720" y="76212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夏天来了，作者首先想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371600" y="251460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夏天，我们常常弹下一张席子，带着一壶凉茶，躺在那里读故事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复件 24"/>
          <p:cNvPicPr/>
          <p:nvPr/>
        </p:nvPicPr>
        <p:blipFill>
          <a:blip r:embed="rId2"/>
          <a:stretch/>
        </p:blipFill>
        <p:spPr>
          <a:xfrm>
            <a:off x="1600200" y="685800"/>
            <a:ext cx="5943600" cy="5592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828800" y="28195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秋天和冬天的小屋还有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371600" y="403848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秋天到了，晚上月光如水，棚架上的绿叶丛中，不断送来虫子的歌声，很容易地把我带进了甜蜜的梦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457200" y="17524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冬天是最寂寞的，但是，在这屋里的火炉边，我常和表姐妹们烤山芋吃；在屋外的雪地上，我们曾经张起一个竹罩，捉麻雀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1"/>
          <p:cNvSpPr/>
          <p:nvPr/>
        </p:nvSpPr>
        <p:spPr>
          <a:xfrm>
            <a:off x="1339920" y="1220760"/>
            <a:ext cx="53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600200" y="2057400"/>
            <a:ext cx="6019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你最喜欢哪个季节的小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联系家乡的一处景物，仿照书上说的写一段话。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小屋"/>
          <p:cNvPicPr/>
          <p:nvPr/>
        </p:nvPicPr>
        <p:blipFill>
          <a:blip r:embed="rId2"/>
          <a:stretch/>
        </p:blipFill>
        <p:spPr>
          <a:xfrm>
            <a:off x="1219320" y="914400"/>
            <a:ext cx="2743200" cy="3657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小屋2"/>
          <p:cNvPicPr/>
          <p:nvPr/>
        </p:nvPicPr>
        <p:blipFill>
          <a:blip r:embed="rId3"/>
          <a:stretch/>
        </p:blipFill>
        <p:spPr>
          <a:xfrm>
            <a:off x="5170320" y="914400"/>
            <a:ext cx="2610000" cy="3733920"/>
          </a:xfrm>
          <a:prstGeom prst="rect">
            <a:avLst/>
          </a:prstGeom>
          <a:ln w="0">
            <a:noFill/>
          </a:ln>
        </p:spPr>
      </p:pic>
      <p:sp>
        <p:nvSpPr>
          <p:cNvPr id="82" name="WordArt 4"/>
          <p:cNvSpPr txBox="1"/>
          <p:nvPr/>
        </p:nvSpPr>
        <p:spPr>
          <a:xfrm>
            <a:off x="3505320" y="2590920"/>
            <a:ext cx="23619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再见！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blinds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FEFA-CAFC-4CF5-B71F-FDD9B63DE60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86000" y="1752480"/>
            <a:ext cx="1447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ff"/>
                </a:solidFill>
                <a:latin typeface="Arial"/>
                <a:ea typeface="楷体_GB2312"/>
              </a:rPr>
              <a:t>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410080" y="1828800"/>
            <a:ext cx="1447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ff"/>
                </a:solidFill>
                <a:latin typeface="Arial"/>
                <a:ea typeface="楷体_GB2312"/>
              </a:rPr>
              <a:t>蜜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80880" y="3808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看清楚，认真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371600" y="2286000"/>
            <a:ext cx="655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ff"/>
                </a:solidFill>
                <a:latin typeface="Arial"/>
                <a:ea typeface="楷体_GB2312"/>
              </a:rPr>
              <a:t>座           雪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600200" y="10666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zu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324480" y="106668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xu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0" y="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读一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209680" y="10666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词语积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762120" y="3276720"/>
            <a:ext cx="5715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蜜蜂  盘旋  亲切  舒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小院  外婆  山芋  雪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5720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比一比：看谁填得快又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80880" y="2438280"/>
            <a:ext cx="7925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（      ）花坛      （      ）大丽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（      ）席子      （      ）翠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（      ）凉茶      （       ）蜜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447920" y="2133720"/>
            <a:ext cx="60195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你们觉得外婆家的小屋神奇吗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你们最喜欢哪几个自然段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80880" y="38088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  <a:ea typeface="楷体_GB2312"/>
              </a:rPr>
              <a:t>读课文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6"/>
          <p:cNvSpPr/>
          <p:nvPr/>
        </p:nvSpPr>
        <p:spPr>
          <a:xfrm>
            <a:off x="3352680" y="26668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1523880" y="243828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昨天晚上我做了一个梦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梦见到了外婆家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不由得勾起了我对那座小屋的回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828800" y="16002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开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905120" y="213372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好美的一个梦啊</a:t>
            </a:r>
            <a:r>
              <a:rPr b="1" lang="zh-CN" sz="32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!</a:t>
            </a:r>
            <a:r>
              <a:rPr b="1" lang="zh-CN" sz="32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让我又一次回到了外婆家</a:t>
            </a:r>
            <a:r>
              <a:rPr b="1" lang="zh-CN" sz="32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回到了那座伴我度过童年的小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2133720" y="1371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Arial"/>
                <a:ea typeface="楷体_GB2312"/>
              </a:rPr>
              <a:t>结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371600" y="3048120"/>
            <a:ext cx="64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课文开头和结尾的内容相似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这是不是重复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说说你的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3"/>
          <p:cNvSpPr txBox="1"/>
          <p:nvPr/>
        </p:nvSpPr>
        <p:spPr>
          <a:xfrm>
            <a:off x="1143000" y="2209680"/>
            <a:ext cx="175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讨论：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strips dir="l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3T14:35:4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46:02Z</dcterms:modified>
  <cp:revision>3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