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D536-C6C4-4639-8995-30476EEAB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C51A-B9DF-4A53-9DE2-7D993FBD8E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9793-53A1-476D-8EEE-62B5B27250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82E-4FD3-4EB2-B937-7E27FDB2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15B-B7C5-4379-82B4-E75630F9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8F1-D62D-4703-848F-EBEB90D5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8BE-C3B1-431B-AA36-AA5C26CB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942-DA8B-4980-9F5C-476D30E9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901-33E1-4962-90FC-5C4034B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CFD-28F6-4DFA-8A61-21FE59A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C90-F0AE-4D48-8A1C-91149F5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55C-2843-4BF8-A4B4-E96B957D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B7A-7446-4C91-814A-80F1414E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BDF-5C6F-4929-AE9E-5E75ECE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5F4-636E-4C01-A039-E57A75C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2A50-EC66-417F-9316-E2386828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3072600" y="1125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上呼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376880" y="3141720"/>
            <a:ext cx="70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谁网上呼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网上呼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怎样呼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65384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526280" y="1628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美国紧急救援中心的高度责任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6948360" y="638172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55000" y="177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地的紧急救援人员的及时救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>
            <a:hlinkClick r:id="rId2" action="ppaction://hlinksldjump"/>
          </p:cNvPr>
          <p:cNvSpPr/>
          <p:nvPr/>
        </p:nvSpPr>
        <p:spPr>
          <a:xfrm>
            <a:off x="6588000" y="6381720"/>
            <a:ext cx="505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4455000" y="4311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地的紧急救援人员的及时救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55000" y="330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美国紧急救援中心的高度责任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487960" y="2276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麦克富有爱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762000" y="1268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科技的发达，网络的快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4176360" y="1989000"/>
            <a:ext cx="114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了这篇课文，你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网络还给人们带来了哪些方便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2146320" y="5184720"/>
            <a:ext cx="56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A48-3A52-414C-9860-8BE30C1178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55640" y="2633040"/>
            <a:ext cx="784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。她旧病复发，双腿剧烈疼痛，不能行走，两肋像被紧紧夹住似的，呼吸困难。此时，整个楼面只有她一个人，距离最近的电话也无法拿到。于是，她强忍着疼痛，上网发出了求助信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755640" y="2340720"/>
            <a:ext cx="78487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。她旧病复发，双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剧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疼痛，不能行走，两肋像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紧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夹住似的，呼吸困难。此时，整个楼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她一个人，距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最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电话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无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拿到。于是，她强忍着疼痛，上网发出了求助信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042920" y="2663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上出现了一行黑体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能动，呼吸困难，请帮助我，苏珊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042920" y="2663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上出现了一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体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能动，呼吸困难，请帮助我，苏珊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71640" y="2276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思考，苏珊最终获救的原因是什么？你是怎样体会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>
            <a:hlinkClick r:id="rId2" action="ppaction://hlinksldjump"/>
          </p:cNvPr>
          <p:cNvSpPr/>
          <p:nvPr/>
        </p:nvSpPr>
        <p:spPr>
          <a:xfrm>
            <a:off x="457200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>
            <a:hlinkClick r:id="rId3" action="ppaction://hlinksldjump"/>
          </p:cNvPr>
          <p:cNvSpPr/>
          <p:nvPr/>
        </p:nvSpPr>
        <p:spPr>
          <a:xfrm>
            <a:off x="673272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>
            <a:hlinkClick r:id="rId4" action="ppaction://hlinksldjump"/>
          </p:cNvPr>
          <p:cNvSpPr/>
          <p:nvPr/>
        </p:nvSpPr>
        <p:spPr>
          <a:xfrm>
            <a:off x="745164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>
            <a:hlinkClick r:id="rId5" action="ppaction://hlinksldjump"/>
          </p:cNvPr>
          <p:cNvSpPr/>
          <p:nvPr/>
        </p:nvSpPr>
        <p:spPr>
          <a:xfrm>
            <a:off x="601200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>
            <a:hlinkClick r:id="rId6" action="ppaction://hlinksldjump"/>
          </p:cNvPr>
          <p:cNvSpPr/>
          <p:nvPr/>
        </p:nvSpPr>
        <p:spPr>
          <a:xfrm>
            <a:off x="529272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4561560" y="126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科技的发达，网络的快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124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218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芬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492000" y="314172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09640" y="386064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509640" y="458136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492000" y="530064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>
            <a:hlinkClick r:id="rId2" action="ppaction://hlinksldjump"/>
          </p:cNvPr>
          <p:cNvSpPr/>
          <p:nvPr/>
        </p:nvSpPr>
        <p:spPr>
          <a:xfrm>
            <a:off x="7236000" y="638172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227040" y="907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麦克富有爱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438280" y="24199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在网上问道：“你在什么地方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66800" y="32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把这一紧急情况告诉了中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422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立刻用粗体大字打出：“挺住！我已经打了电话去求助！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背景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27040" y="907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麦克富有爱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438280" y="24199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在网上问道：“你在什么地方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566800" y="32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把这一紧急情况告诉了中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39640" y="422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麦克立刻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粗体大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打出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挺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！我已经打了电话去求助！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2" action="ppaction://hlinksldjump"/>
          </p:cNvPr>
          <p:cNvSpPr/>
          <p:nvPr/>
        </p:nvSpPr>
        <p:spPr>
          <a:xfrm>
            <a:off x="7236000" y="6381720"/>
            <a:ext cx="504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41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0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