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gif" ContentType="image/gif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C2D2-F840-44E5-AAB9-00E26C5C75D2}" type="slidenum">
              <a:rPr b="1" lang="zh-CN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E475-DD72-4DC6-A71C-54FB927E3233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125-C616-4405-AB94-144F32B2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E46-03AA-4E2C-ABD4-449716CF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B2A-A832-4351-A575-4D0B32C4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B13-7169-4AEE-A670-378E01AD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220-4748-4224-BD79-DB44F971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1F3-EBE8-4FCD-8C67-CA30376D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7F9-AD2B-427F-A89E-D3B5B3F3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F94-F9FB-4691-AE96-88D80104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B7F-A2EC-4168-8289-1EBF455D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794-E4FF-48CB-89F2-9305918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AFE-341F-4DA3-9AB7-A5570990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9D4-7DEB-4B75-840E-6BE9710A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C84E-488E-4DEB-9136-66F836FCC6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7.xml"/><Relationship Id="rId3" Type="http://schemas.openxmlformats.org/officeDocument/2006/relationships/slide" Target="slide20.xml"/><Relationship Id="rId4" Type="http://schemas.openxmlformats.org/officeDocument/2006/relationships/slide" Target="slide22.xml"/><Relationship Id="rId5" Type="http://schemas.openxmlformats.org/officeDocument/2006/relationships/slide" Target="slide15.xml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33480" y="2852640"/>
            <a:ext cx="7315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是你的朋友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4572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she3"/>
          <p:cNvPicPr/>
          <p:nvPr/>
        </p:nvPicPr>
        <p:blipFill>
          <a:blip r:embed="rId1"/>
          <a:stretch/>
        </p:blipFill>
        <p:spPr>
          <a:xfrm>
            <a:off x="0" y="2852640"/>
            <a:ext cx="4427640" cy="435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2268360" y="836640"/>
            <a:ext cx="7309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小青蛙见了我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小鸟见了我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田鼠见了我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孩子们见了我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5651640" y="1484280"/>
            <a:ext cx="194292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5076720" y="2492280"/>
            <a:ext cx="29512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5076720" y="3429000"/>
            <a:ext cx="20876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2484360" y="5157720"/>
            <a:ext cx="41036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5580000" y="836640"/>
            <a:ext cx="2735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慌忙逃跑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076720" y="1700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吓得吱喳乱叫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5148360" y="27082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惊恐不安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327400" y="4437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也常常吓得哭起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4"/>
          <p:cNvSpPr/>
          <p:nvPr/>
        </p:nvSpPr>
        <p:spPr>
          <a:xfrm>
            <a:off x="3203640" y="404640"/>
            <a:ext cx="2448000" cy="792360"/>
          </a:xfrm>
          <a:prstGeom prst="horizontalScrol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师生共解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851280" y="1700280"/>
            <a:ext cx="2521080" cy="865080"/>
          </a:xfrm>
          <a:prstGeom prst="wedgeRoundRectCallout">
            <a:avLst>
              <a:gd name="adj1" fmla="val -120212"/>
              <a:gd name="adj2" fmla="val 12384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从哪儿看出蛇令人害怕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小女孩"/>
          <p:cNvPicPr/>
          <p:nvPr/>
        </p:nvPicPr>
        <p:blipFill>
          <a:blip r:embed="rId1"/>
          <a:stretch/>
        </p:blipFill>
        <p:spPr>
          <a:xfrm>
            <a:off x="468360" y="765000"/>
            <a:ext cx="1967040" cy="32799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7"/>
          <p:cNvSpPr/>
          <p:nvPr/>
        </p:nvSpPr>
        <p:spPr>
          <a:xfrm>
            <a:off x="2124000" y="3213000"/>
            <a:ext cx="3600360" cy="1441440"/>
          </a:xfrm>
          <a:prstGeom prst="wedgeEllipseCallout">
            <a:avLst>
              <a:gd name="adj1" fmla="val 85319"/>
              <a:gd name="adj2" fmla="val 62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青蛙看来会慌忙逃跑、小鸟见了吓得吱喳乱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小孩子"/>
          <p:cNvPicPr/>
          <p:nvPr/>
        </p:nvPicPr>
        <p:blipFill>
          <a:blip r:embed="rId2"/>
          <a:stretch/>
        </p:blipFill>
        <p:spPr>
          <a:xfrm>
            <a:off x="6877080" y="3500280"/>
            <a:ext cx="1305000" cy="28292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9"/>
          <p:cNvSpPr/>
          <p:nvPr/>
        </p:nvSpPr>
        <p:spPr>
          <a:xfrm>
            <a:off x="3132000" y="5373720"/>
            <a:ext cx="3456000" cy="1224000"/>
          </a:xfrm>
          <a:prstGeom prst="cloudCallout">
            <a:avLst>
              <a:gd name="adj1" fmla="val -89550"/>
              <a:gd name="adj2" fmla="val -5894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田鼠看了被吓得惊恐不安、小孩看了吓得哭起来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小男孩1"/>
          <p:cNvPicPr/>
          <p:nvPr/>
        </p:nvPicPr>
        <p:blipFill>
          <a:blip r:embed="rId3"/>
          <a:stretch/>
        </p:blipFill>
        <p:spPr>
          <a:xfrm>
            <a:off x="395280" y="4365720"/>
            <a:ext cx="13525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小女孩"/>
          <p:cNvPicPr/>
          <p:nvPr/>
        </p:nvPicPr>
        <p:blipFill>
          <a:blip r:embed="rId1"/>
          <a:stretch/>
        </p:blipFill>
        <p:spPr>
          <a:xfrm>
            <a:off x="539640" y="692280"/>
            <a:ext cx="1967040" cy="32796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5"/>
          <p:cNvSpPr/>
          <p:nvPr/>
        </p:nvSpPr>
        <p:spPr>
          <a:xfrm>
            <a:off x="3059280" y="1125360"/>
            <a:ext cx="4392360" cy="1943280"/>
          </a:xfrm>
          <a:prstGeom prst="wedgeRoundRectCallout">
            <a:avLst>
              <a:gd name="adj1" fmla="val -76129"/>
              <a:gd name="adj2" fmla="val -256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蛇对人们的贡献可真不小，可是就是因为它长的丑又凶，人们就随意的谩骂它，捕杀它，这样对蛇，公平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6" name="Picture 3" descr="22我是你的朋友2"/>
          <p:cNvPicPr/>
          <p:nvPr/>
        </p:nvPicPr>
        <p:blipFill>
          <a:blip r:embed="rId2"/>
          <a:srcRect l="10625" t="6023" r="57884" b="35441"/>
          <a:stretch/>
        </p:blipFill>
        <p:spPr>
          <a:xfrm>
            <a:off x="6227640" y="4075200"/>
            <a:ext cx="2735280" cy="2666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539640" y="26028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知道，我很丑很凶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小青蛙见了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慌忙逃跑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小鸟见了我吓得吱喳乱叫，田鼠见了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惊恐不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孩子们见了我，也常常吓得哭起来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可我要说，我是人类真诚的朋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3232135391f4e5beac4af1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547640" y="3213000"/>
            <a:ext cx="58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蛇到底是不是我们的朋友呢？你从哪看出来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177840" y="0"/>
            <a:ext cx="9321840" cy="685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1" name="Text Box 3"/>
          <p:cNvSpPr/>
          <p:nvPr/>
        </p:nvSpPr>
        <p:spPr>
          <a:xfrm>
            <a:off x="539640" y="3333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善于偷盗粮食的田鼠最怕我，我常常把它们捉住。农民伯伯喜欢我，夸我是保护农田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卫士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医生也喜欢我，他们用我的唾液制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珍贵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药品，挽救了许多垂危的病人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she3"/>
          <p:cNvPicPr/>
          <p:nvPr/>
        </p:nvPicPr>
        <p:blipFill>
          <a:blip r:embed="rId2"/>
          <a:stretch/>
        </p:blipFill>
        <p:spPr>
          <a:xfrm>
            <a:off x="6718320" y="4221000"/>
            <a:ext cx="2438280" cy="25196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160200" y="3776760"/>
            <a:ext cx="654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此时，农民伯伯，医生还有病人他们会说些什么？蛇听后心情是怎样的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177840" y="0"/>
            <a:ext cx="9321840" cy="685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5" name="Text Box 3"/>
          <p:cNvSpPr/>
          <p:nvPr/>
        </p:nvSpPr>
        <p:spPr>
          <a:xfrm>
            <a:off x="539640" y="333360"/>
            <a:ext cx="77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善于偷盗粮食的田鼠最怕我，我常常把它们捉住。农民伯伯喜欢我，夸我是保护农田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卫士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医生也喜欢我，他们用我的唾液制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珍贵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药品，挽救了许多垂危的病人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he3"/>
          <p:cNvPicPr/>
          <p:nvPr/>
        </p:nvPicPr>
        <p:blipFill>
          <a:blip r:embed="rId2"/>
          <a:stretch/>
        </p:blipFill>
        <p:spPr>
          <a:xfrm>
            <a:off x="6372360" y="4076640"/>
            <a:ext cx="2438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tp2"/>
          <p:cNvPicPr/>
          <p:nvPr/>
        </p:nvPicPr>
        <p:blipFill>
          <a:blip r:embed="rId1"/>
          <a:stretch/>
        </p:blipFill>
        <p:spPr>
          <a:xfrm>
            <a:off x="250920" y="333360"/>
            <a:ext cx="3887640" cy="2736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4"/>
          <p:cNvSpPr/>
          <p:nvPr/>
        </p:nvSpPr>
        <p:spPr>
          <a:xfrm>
            <a:off x="5148360" y="765000"/>
            <a:ext cx="3024000" cy="863640"/>
          </a:xfrm>
          <a:prstGeom prst="wedgeRoundRectCallout">
            <a:avLst>
              <a:gd name="adj1" fmla="val -109055"/>
              <a:gd name="adj2" fmla="val 398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为什么说我是人类真诚的朋友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小男孩1"/>
          <p:cNvPicPr/>
          <p:nvPr/>
        </p:nvPicPr>
        <p:blipFill>
          <a:blip r:embed="rId2"/>
          <a:stretch/>
        </p:blipFill>
        <p:spPr>
          <a:xfrm>
            <a:off x="900000" y="3357720"/>
            <a:ext cx="1352520" cy="3016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/>
          <p:cNvSpPr/>
          <p:nvPr/>
        </p:nvSpPr>
        <p:spPr>
          <a:xfrm>
            <a:off x="2556000" y="3068640"/>
            <a:ext cx="3311280" cy="1152360"/>
          </a:xfrm>
          <a:prstGeom prst="cloudCallout">
            <a:avLst>
              <a:gd name="adj1" fmla="val -61361"/>
              <a:gd name="adj2" fmla="val 7699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因为你是保护农田的卫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小男孩2"/>
          <p:cNvPicPr/>
          <p:nvPr/>
        </p:nvPicPr>
        <p:blipFill>
          <a:blip r:embed="rId3"/>
          <a:stretch/>
        </p:blipFill>
        <p:spPr>
          <a:xfrm>
            <a:off x="7093080" y="3645000"/>
            <a:ext cx="1841400" cy="30178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9"/>
          <p:cNvSpPr/>
          <p:nvPr/>
        </p:nvSpPr>
        <p:spPr>
          <a:xfrm>
            <a:off x="2843280" y="4869000"/>
            <a:ext cx="4105080" cy="1800000"/>
          </a:xfrm>
          <a:prstGeom prst="cloudCallout">
            <a:avLst>
              <a:gd name="adj1" fmla="val 73162"/>
              <a:gd name="adj2" fmla="val -707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你的唾液可以制成珍贵的药品，能够挽救很垂危的病人。</a:t>
            </a:r>
            <a:br>
              <a:rPr sz="18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177840" y="0"/>
            <a:ext cx="9321840" cy="685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4" name="Picture 3" descr="she3"/>
          <p:cNvPicPr/>
          <p:nvPr/>
        </p:nvPicPr>
        <p:blipFill>
          <a:blip r:embed="rId2"/>
          <a:stretch/>
        </p:blipFill>
        <p:spPr>
          <a:xfrm>
            <a:off x="-177840" y="4467240"/>
            <a:ext cx="2481480" cy="2390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22我是你的朋友2"/>
          <p:cNvPicPr/>
          <p:nvPr/>
        </p:nvPicPr>
        <p:blipFill>
          <a:blip r:embed="rId3"/>
          <a:srcRect l="10625" t="6023" r="57884" b="35441"/>
          <a:stretch/>
        </p:blipFill>
        <p:spPr>
          <a:xfrm>
            <a:off x="6948360" y="0"/>
            <a:ext cx="2195640" cy="21398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611280" y="1197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虽然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我长得很丑很凶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但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我不是人类的仇敌，希望人们不要对我随意谩骂和捕杀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611280" y="1052640"/>
            <a:ext cx="6265800" cy="3240000"/>
          </a:xfrm>
          <a:prstGeom prst="wedgeRoundRectCallout">
            <a:avLst>
              <a:gd name="adj1" fmla="val -38143"/>
              <a:gd name="adj2" fmla="val 77537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340000" y="242424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学了这篇文章，你最想说点什么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484360" y="357336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还知道哪些动物是人类的朋友？哪些不是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小女孩"/>
          <p:cNvPicPr/>
          <p:nvPr/>
        </p:nvPicPr>
        <p:blipFill>
          <a:blip r:embed="rId1"/>
          <a:stretch/>
        </p:blipFill>
        <p:spPr>
          <a:xfrm>
            <a:off x="539640" y="836640"/>
            <a:ext cx="19670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/>
          <p:cNvSpPr/>
          <p:nvPr/>
        </p:nvSpPr>
        <p:spPr>
          <a:xfrm>
            <a:off x="2124000" y="0"/>
            <a:ext cx="2879640" cy="1440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我会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198440" y="2060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舌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077360" y="2122560"/>
            <a:ext cx="143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慌    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422080" y="2060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很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6167160" y="2090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吓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7391160" y="2133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人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1558800" y="3530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真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286440" y="353232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偷 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5065200" y="356220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粮  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7022880" y="350028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夸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赞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116000" y="511488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珍 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916360" y="5084640"/>
            <a:ext cx="15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微软雅黑"/>
              </a:rPr>
              <a:t>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危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4643280" y="511488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仇  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824520" y="5032440"/>
            <a:ext cx="14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微软雅黑"/>
              </a:rPr>
              <a:t>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971640" y="1557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微软雅黑"/>
              </a:rPr>
              <a:t>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627280" y="1541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微软雅黑"/>
              </a:rPr>
              <a:t>x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ō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3708360" y="1557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微软雅黑"/>
              </a:rPr>
              <a:t>h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ā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4862520" y="15573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á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6054840" y="1557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7770240" y="1628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è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1692360" y="3068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微软雅黑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3060720" y="3068640"/>
            <a:ext cx="7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微软雅黑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ō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3714480" y="306864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à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4704480" y="30686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á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5727960" y="306864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6706440" y="3068640"/>
            <a:ext cx="8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k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907920" y="4562640"/>
            <a:ext cx="9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z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ē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1982160" y="456552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3484800" y="46339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ē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4611600" y="4638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z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ó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5653440" y="4653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7270200" y="46530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she3"/>
          <p:cNvPicPr/>
          <p:nvPr/>
        </p:nvPicPr>
        <p:blipFill>
          <a:blip r:embed="rId2"/>
          <a:stretch/>
        </p:blipFill>
        <p:spPr>
          <a:xfrm>
            <a:off x="47520" y="4149720"/>
            <a:ext cx="2292480" cy="27082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4"/>
          <p:cNvSpPr/>
          <p:nvPr/>
        </p:nvSpPr>
        <p:spPr>
          <a:xfrm>
            <a:off x="1476360" y="1125360"/>
            <a:ext cx="7199280" cy="3024360"/>
          </a:xfrm>
          <a:prstGeom prst="cloudCallout">
            <a:avLst>
              <a:gd name="adj1" fmla="val -49162"/>
              <a:gd name="adj2" fmla="val 77402"/>
            </a:avLst>
          </a:pr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979640" y="1628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学了课文，你一定改变了对我的看法，你愿意把我介绍给其他的小朋友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00504a19e2c2c6fbad6e75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0" y="3213000"/>
            <a:ext cx="8207280" cy="3124440"/>
            <a:chOff x="0" y="3213000"/>
            <a:chExt cx="8207280" cy="3124440"/>
          </a:xfrm>
        </p:grpSpPr>
        <p:sp>
          <p:nvSpPr>
            <p:cNvPr id="187" name="Text Box 4"/>
            <p:cNvSpPr/>
            <p:nvPr/>
          </p:nvSpPr>
          <p:spPr>
            <a:xfrm>
              <a:off x="1042920" y="3665160"/>
              <a:ext cx="70884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a200"/>
                  </a:solidFill>
                  <a:latin typeface="Arial"/>
                  <a:ea typeface="楷体_GB2312"/>
                </a:rPr>
                <a:t>你还知道哪些动物是我们的朋友？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>
              <a:off x="0" y="3213000"/>
              <a:ext cx="8207280" cy="3124440"/>
            </a:xfrm>
            <a:prstGeom prst="cloudCallout">
              <a:avLst>
                <a:gd name="adj1" fmla="val 32787"/>
                <a:gd name="adj2" fmla="val -88935"/>
              </a:avLst>
            </a:pr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WordArt 6"/>
          <p:cNvSpPr txBox="1"/>
          <p:nvPr/>
        </p:nvSpPr>
        <p:spPr>
          <a:xfrm>
            <a:off x="539640" y="620640"/>
            <a:ext cx="38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隶书"/>
              </a:rPr>
              <a:t>课外拓展</a:t>
            </a:r>
            <a:endParaRPr b="1" lang="en-US" sz="54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田"/>
          <p:cNvPicPr/>
          <p:nvPr/>
        </p:nvPicPr>
        <p:blipFill>
          <a:blip r:embed="rId1"/>
          <a:stretch/>
        </p:blipFill>
        <p:spPr>
          <a:xfrm>
            <a:off x="395280" y="1341360"/>
            <a:ext cx="5111640" cy="36702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7093080" y="112536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>
            <a:hlinkClick r:id="rId2" action="ppaction://hlinksldjump"/>
          </p:cNvPr>
          <p:cNvSpPr/>
          <p:nvPr/>
        </p:nvSpPr>
        <p:spPr>
          <a:xfrm>
            <a:off x="106668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>
            <a:hlinkClick r:id="rId3" action="ppaction://hlinksldjump"/>
          </p:cNvPr>
          <p:cNvSpPr/>
          <p:nvPr/>
        </p:nvSpPr>
        <p:spPr>
          <a:xfrm>
            <a:off x="1042920" y="292428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>
            <a:hlinkClick r:id="rId4" action="ppaction://hlinksldjump"/>
          </p:cNvPr>
          <p:cNvSpPr/>
          <p:nvPr/>
        </p:nvSpPr>
        <p:spPr>
          <a:xfrm>
            <a:off x="7164360" y="292428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>
            <a:hlinkClick r:id="rId5" action="ppaction://hlinksldjump"/>
          </p:cNvPr>
          <p:cNvSpPr/>
          <p:nvPr/>
        </p:nvSpPr>
        <p:spPr>
          <a:xfrm>
            <a:off x="5076720" y="263700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042920" y="981000"/>
            <a:ext cx="324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楷体"/>
              </a:rPr>
              <a:t>舌</a:t>
            </a:r>
            <a:endParaRPr b="1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田"/>
          <p:cNvPicPr/>
          <p:nvPr/>
        </p:nvPicPr>
        <p:blipFill>
          <a:blip r:embed="rId6"/>
          <a:stretch/>
        </p:blipFill>
        <p:spPr>
          <a:xfrm>
            <a:off x="4356000" y="1413000"/>
            <a:ext cx="5112000" cy="36702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"/>
          <p:cNvSpPr/>
          <p:nvPr/>
        </p:nvSpPr>
        <p:spPr>
          <a:xfrm>
            <a:off x="5003640" y="907920"/>
            <a:ext cx="3240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楷体"/>
              </a:rPr>
              <a:t>杀</a:t>
            </a:r>
            <a:endParaRPr b="1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田"/>
          <p:cNvPicPr/>
          <p:nvPr/>
        </p:nvPicPr>
        <p:blipFill>
          <a:blip r:embed="rId1"/>
          <a:stretch/>
        </p:blipFill>
        <p:spPr>
          <a:xfrm>
            <a:off x="4356000" y="1484280"/>
            <a:ext cx="5112000" cy="3670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田"/>
          <p:cNvPicPr/>
          <p:nvPr/>
        </p:nvPicPr>
        <p:blipFill>
          <a:blip r:embed="rId2"/>
          <a:stretch/>
        </p:blipFill>
        <p:spPr>
          <a:xfrm>
            <a:off x="250920" y="1484280"/>
            <a:ext cx="5111640" cy="36702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900000" y="1052640"/>
            <a:ext cx="3240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楷体"/>
              </a:rPr>
              <a:t>杀</a:t>
            </a:r>
            <a:endParaRPr b="1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003640" y="1125360"/>
            <a:ext cx="3240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楷体"/>
              </a:rPr>
              <a:t>贵</a:t>
            </a:r>
            <a:endParaRPr b="1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田"/>
          <p:cNvPicPr/>
          <p:nvPr/>
        </p:nvPicPr>
        <p:blipFill>
          <a:blip r:embed="rId1"/>
          <a:stretch/>
        </p:blipFill>
        <p:spPr>
          <a:xfrm>
            <a:off x="4356000" y="1484280"/>
            <a:ext cx="5112000" cy="3670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田"/>
          <p:cNvPicPr/>
          <p:nvPr/>
        </p:nvPicPr>
        <p:blipFill>
          <a:blip r:embed="rId2"/>
          <a:stretch/>
        </p:blipFill>
        <p:spPr>
          <a:xfrm>
            <a:off x="250920" y="1484280"/>
            <a:ext cx="5111640" cy="36702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900000" y="1052640"/>
            <a:ext cx="3240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楷体"/>
              </a:rPr>
              <a:t>慌</a:t>
            </a:r>
            <a:endParaRPr b="1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003640" y="1125360"/>
            <a:ext cx="3240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楷体"/>
              </a:rPr>
              <a:t>忙</a:t>
            </a:r>
            <a:endParaRPr b="1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田"/>
          <p:cNvPicPr/>
          <p:nvPr/>
        </p:nvPicPr>
        <p:blipFill>
          <a:blip r:embed="rId1"/>
          <a:stretch/>
        </p:blipFill>
        <p:spPr>
          <a:xfrm>
            <a:off x="4356000" y="1484280"/>
            <a:ext cx="5112000" cy="3670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田"/>
          <p:cNvPicPr/>
          <p:nvPr/>
        </p:nvPicPr>
        <p:blipFill>
          <a:blip r:embed="rId2"/>
          <a:stretch/>
        </p:blipFill>
        <p:spPr>
          <a:xfrm>
            <a:off x="250920" y="1484280"/>
            <a:ext cx="5111640" cy="3670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900000" y="1052640"/>
            <a:ext cx="3240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楷体"/>
              </a:rPr>
              <a:t>诚</a:t>
            </a:r>
            <a:endParaRPr b="1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003640" y="1125360"/>
            <a:ext cx="3240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楷体"/>
              </a:rPr>
              <a:t>珍</a:t>
            </a:r>
            <a:endParaRPr b="1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"/>
          <p:cNvSpPr/>
          <p:nvPr/>
        </p:nvSpPr>
        <p:spPr>
          <a:xfrm>
            <a:off x="1327320" y="5975280"/>
            <a:ext cx="61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7B66-370D-4304-B5F3-725FA96332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小女孩"/>
          <p:cNvPicPr/>
          <p:nvPr/>
        </p:nvPicPr>
        <p:blipFill>
          <a:blip r:embed="rId2"/>
          <a:stretch/>
        </p:blipFill>
        <p:spPr>
          <a:xfrm>
            <a:off x="468360" y="765000"/>
            <a:ext cx="1967040" cy="327996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/>
          <p:cNvSpPr/>
          <p:nvPr/>
        </p:nvSpPr>
        <p:spPr>
          <a:xfrm>
            <a:off x="3708360" y="476280"/>
            <a:ext cx="3743280" cy="3960720"/>
          </a:xfrm>
          <a:prstGeom prst="cloudCallout">
            <a:avLst>
              <a:gd name="adj1" fmla="val -102416"/>
              <a:gd name="adj2" fmla="val -1717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同学们，你们喜欢小动物吗？你和哪些小动物是好朋友？今天，我们教室来了一位新朋友，请听听他的心里话吧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tp1"/>
          <p:cNvPicPr/>
          <p:nvPr/>
        </p:nvPicPr>
        <p:blipFill>
          <a:blip r:embed="rId3"/>
          <a:stretch/>
        </p:blipFill>
        <p:spPr>
          <a:xfrm>
            <a:off x="971640" y="4149720"/>
            <a:ext cx="2952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tp2"/>
          <p:cNvPicPr/>
          <p:nvPr/>
        </p:nvPicPr>
        <p:blipFill>
          <a:blip r:embed="rId2"/>
          <a:stretch/>
        </p:blipFill>
        <p:spPr>
          <a:xfrm>
            <a:off x="2556000" y="3645000"/>
            <a:ext cx="3887640" cy="273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小女孩"/>
          <p:cNvPicPr/>
          <p:nvPr/>
        </p:nvPicPr>
        <p:blipFill>
          <a:blip r:embed="rId3"/>
          <a:stretch/>
        </p:blipFill>
        <p:spPr>
          <a:xfrm>
            <a:off x="684360" y="1197000"/>
            <a:ext cx="1966680" cy="32796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8"/>
          <p:cNvSpPr/>
          <p:nvPr/>
        </p:nvSpPr>
        <p:spPr>
          <a:xfrm>
            <a:off x="2340000" y="-171360"/>
            <a:ext cx="5832360" cy="4032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首先我们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听听课文朗读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看蛇都对我们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了些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42be94127a264014dd5401de"/>
          <p:cNvPicPr/>
          <p:nvPr/>
        </p:nvPicPr>
        <p:blipFill>
          <a:blip r:embed="rId1"/>
          <a:stretch/>
        </p:blipFill>
        <p:spPr>
          <a:xfrm>
            <a:off x="3492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124000" y="26668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706920" y="25956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435640" y="25653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948360" y="25225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偷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122560" y="4005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粮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706920" y="396252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435640" y="3962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珍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946920" y="396252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124000" y="544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780000" y="544500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危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5435640" y="53737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7020000" y="5373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1979640" y="2349360"/>
            <a:ext cx="1079640" cy="1239840"/>
          </a:xfrm>
          <a:custGeom>
            <a:avLst/>
            <a:gdLst/>
            <a:ahLst/>
            <a:rect l="l" t="t" r="r" b="b"/>
            <a:pathLst>
              <a:path w="1079500" h="1239837">
                <a:moveTo>
                  <a:pt x="1" y="473574"/>
                </a:moveTo>
                <a:lnTo>
                  <a:pt x="412334" y="473577"/>
                </a:lnTo>
                <a:lnTo>
                  <a:pt x="539750" y="0"/>
                </a:lnTo>
                <a:lnTo>
                  <a:pt x="667165" y="473577"/>
                </a:lnTo>
                <a:lnTo>
                  <a:pt x="1079498" y="473574"/>
                </a:lnTo>
                <a:lnTo>
                  <a:pt x="745912" y="766258"/>
                </a:lnTo>
                <a:lnTo>
                  <a:pt x="873333" y="1239834"/>
                </a:lnTo>
                <a:lnTo>
                  <a:pt x="539750" y="947145"/>
                </a:lnTo>
                <a:lnTo>
                  <a:pt x="206166" y="1239834"/>
                </a:lnTo>
                <a:lnTo>
                  <a:pt x="333587" y="766258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"/>
          <p:cNvSpPr/>
          <p:nvPr/>
        </p:nvSpPr>
        <p:spPr>
          <a:xfrm>
            <a:off x="3564000" y="2276640"/>
            <a:ext cx="1079280" cy="1241280"/>
          </a:xfrm>
          <a:custGeom>
            <a:avLst/>
            <a:gdLst/>
            <a:ahLst/>
            <a:rect l="l" t="t" r="r" b="b"/>
            <a:pathLst>
              <a:path w="1079500" h="1241425">
                <a:moveTo>
                  <a:pt x="1" y="474180"/>
                </a:moveTo>
                <a:lnTo>
                  <a:pt x="412334" y="474184"/>
                </a:lnTo>
                <a:lnTo>
                  <a:pt x="539750" y="0"/>
                </a:lnTo>
                <a:lnTo>
                  <a:pt x="667165" y="474184"/>
                </a:lnTo>
                <a:lnTo>
                  <a:pt x="1079498" y="474180"/>
                </a:lnTo>
                <a:lnTo>
                  <a:pt x="745912" y="767239"/>
                </a:lnTo>
                <a:lnTo>
                  <a:pt x="873333" y="1241421"/>
                </a:lnTo>
                <a:lnTo>
                  <a:pt x="539750" y="948357"/>
                </a:lnTo>
                <a:lnTo>
                  <a:pt x="206166" y="1241421"/>
                </a:lnTo>
                <a:lnTo>
                  <a:pt x="333587" y="76723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5219640" y="2276640"/>
            <a:ext cx="1152720" cy="1242720"/>
          </a:xfrm>
          <a:custGeom>
            <a:avLst/>
            <a:gdLst/>
            <a:ahLst/>
            <a:rect l="l" t="t" r="r" b="b"/>
            <a:pathLst>
              <a:path w="1152525" h="1243012">
                <a:moveTo>
                  <a:pt x="1" y="474787"/>
                </a:moveTo>
                <a:lnTo>
                  <a:pt x="440227" y="474790"/>
                </a:lnTo>
                <a:lnTo>
                  <a:pt x="576262" y="0"/>
                </a:lnTo>
                <a:lnTo>
                  <a:pt x="712297" y="474790"/>
                </a:lnTo>
                <a:lnTo>
                  <a:pt x="1152523" y="474787"/>
                </a:lnTo>
                <a:lnTo>
                  <a:pt x="796371" y="768220"/>
                </a:lnTo>
                <a:lnTo>
                  <a:pt x="932411" y="1243009"/>
                </a:lnTo>
                <a:lnTo>
                  <a:pt x="576262" y="949570"/>
                </a:lnTo>
                <a:lnTo>
                  <a:pt x="220113" y="1243009"/>
                </a:lnTo>
                <a:lnTo>
                  <a:pt x="356153" y="76822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8"/>
          <p:cNvSpPr/>
          <p:nvPr/>
        </p:nvSpPr>
        <p:spPr>
          <a:xfrm>
            <a:off x="6732720" y="2349360"/>
            <a:ext cx="1152360" cy="1243080"/>
          </a:xfrm>
          <a:custGeom>
            <a:avLst/>
            <a:gdLst/>
            <a:ahLst/>
            <a:rect l="l" t="t" r="r" b="b"/>
            <a:pathLst>
              <a:path w="1152525" h="1243012">
                <a:moveTo>
                  <a:pt x="1" y="474787"/>
                </a:moveTo>
                <a:lnTo>
                  <a:pt x="440227" y="474790"/>
                </a:lnTo>
                <a:lnTo>
                  <a:pt x="576262" y="0"/>
                </a:lnTo>
                <a:lnTo>
                  <a:pt x="712297" y="474790"/>
                </a:lnTo>
                <a:lnTo>
                  <a:pt x="1152523" y="474787"/>
                </a:lnTo>
                <a:lnTo>
                  <a:pt x="796371" y="768220"/>
                </a:lnTo>
                <a:lnTo>
                  <a:pt x="932411" y="1243009"/>
                </a:lnTo>
                <a:lnTo>
                  <a:pt x="576262" y="949570"/>
                </a:lnTo>
                <a:lnTo>
                  <a:pt x="220113" y="1243009"/>
                </a:lnTo>
                <a:lnTo>
                  <a:pt x="356153" y="76822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1908000" y="3716280"/>
            <a:ext cx="1151280" cy="1225440"/>
          </a:xfrm>
          <a:custGeom>
            <a:avLst/>
            <a:gdLst/>
            <a:ahLst/>
            <a:rect l="l" t="t" r="r" b="b"/>
            <a:pathLst>
              <a:path w="1150937" h="1225550">
                <a:moveTo>
                  <a:pt x="1" y="468117"/>
                </a:moveTo>
                <a:lnTo>
                  <a:pt x="439621" y="468120"/>
                </a:lnTo>
                <a:lnTo>
                  <a:pt x="575468" y="0"/>
                </a:lnTo>
                <a:lnTo>
                  <a:pt x="711316" y="468120"/>
                </a:lnTo>
                <a:lnTo>
                  <a:pt x="1150936" y="468117"/>
                </a:lnTo>
                <a:lnTo>
                  <a:pt x="795274" y="757428"/>
                </a:lnTo>
                <a:lnTo>
                  <a:pt x="931127" y="1225546"/>
                </a:lnTo>
                <a:lnTo>
                  <a:pt x="575468" y="936230"/>
                </a:lnTo>
                <a:lnTo>
                  <a:pt x="219810" y="1225546"/>
                </a:lnTo>
                <a:lnTo>
                  <a:pt x="355663" y="75742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0"/>
          <p:cNvSpPr/>
          <p:nvPr/>
        </p:nvSpPr>
        <p:spPr>
          <a:xfrm>
            <a:off x="3492360" y="3645000"/>
            <a:ext cx="1224000" cy="1239840"/>
          </a:xfrm>
          <a:custGeom>
            <a:avLst/>
            <a:gdLst/>
            <a:ahLst/>
            <a:rect l="l" t="t" r="r" b="b"/>
            <a:pathLst>
              <a:path w="1223962" h="1239837">
                <a:moveTo>
                  <a:pt x="1" y="473574"/>
                </a:moveTo>
                <a:lnTo>
                  <a:pt x="467514" y="473577"/>
                </a:lnTo>
                <a:lnTo>
                  <a:pt x="611981" y="0"/>
                </a:lnTo>
                <a:lnTo>
                  <a:pt x="756447" y="473577"/>
                </a:lnTo>
                <a:lnTo>
                  <a:pt x="1223961" y="473574"/>
                </a:lnTo>
                <a:lnTo>
                  <a:pt x="845733" y="766258"/>
                </a:lnTo>
                <a:lnTo>
                  <a:pt x="990205" y="1239834"/>
                </a:lnTo>
                <a:lnTo>
                  <a:pt x="611981" y="947145"/>
                </a:lnTo>
                <a:lnTo>
                  <a:pt x="233756" y="1239834"/>
                </a:lnTo>
                <a:lnTo>
                  <a:pt x="378229" y="7662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1"/>
          <p:cNvSpPr/>
          <p:nvPr/>
        </p:nvSpPr>
        <p:spPr>
          <a:xfrm>
            <a:off x="5219640" y="3645000"/>
            <a:ext cx="1152720" cy="1224000"/>
          </a:xfrm>
          <a:custGeom>
            <a:avLst/>
            <a:gdLst/>
            <a:ahLst/>
            <a:rect l="l" t="t" r="r" b="b"/>
            <a:pathLst>
              <a:path w="1152525" h="1223962">
                <a:moveTo>
                  <a:pt x="1" y="467510"/>
                </a:moveTo>
                <a:lnTo>
                  <a:pt x="440227" y="467514"/>
                </a:lnTo>
                <a:lnTo>
                  <a:pt x="576262" y="0"/>
                </a:lnTo>
                <a:lnTo>
                  <a:pt x="712297" y="467514"/>
                </a:lnTo>
                <a:lnTo>
                  <a:pt x="1152523" y="467510"/>
                </a:lnTo>
                <a:lnTo>
                  <a:pt x="796371" y="756447"/>
                </a:lnTo>
                <a:lnTo>
                  <a:pt x="932411" y="1223959"/>
                </a:lnTo>
                <a:lnTo>
                  <a:pt x="576262" y="935017"/>
                </a:lnTo>
                <a:lnTo>
                  <a:pt x="220113" y="1223959"/>
                </a:lnTo>
                <a:lnTo>
                  <a:pt x="356153" y="756447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2"/>
          <p:cNvSpPr/>
          <p:nvPr/>
        </p:nvSpPr>
        <p:spPr>
          <a:xfrm>
            <a:off x="6732720" y="3718080"/>
            <a:ext cx="1079280" cy="1241280"/>
          </a:xfrm>
          <a:custGeom>
            <a:avLst/>
            <a:gdLst/>
            <a:ahLst/>
            <a:rect l="l" t="t" r="r" b="b"/>
            <a:pathLst>
              <a:path w="1079500" h="1241425">
                <a:moveTo>
                  <a:pt x="1" y="474180"/>
                </a:moveTo>
                <a:lnTo>
                  <a:pt x="412334" y="474184"/>
                </a:lnTo>
                <a:lnTo>
                  <a:pt x="539750" y="0"/>
                </a:lnTo>
                <a:lnTo>
                  <a:pt x="667165" y="474184"/>
                </a:lnTo>
                <a:lnTo>
                  <a:pt x="1079498" y="474180"/>
                </a:lnTo>
                <a:lnTo>
                  <a:pt x="745912" y="767239"/>
                </a:lnTo>
                <a:lnTo>
                  <a:pt x="873333" y="1241421"/>
                </a:lnTo>
                <a:lnTo>
                  <a:pt x="539750" y="948357"/>
                </a:lnTo>
                <a:lnTo>
                  <a:pt x="206166" y="1241421"/>
                </a:lnTo>
                <a:lnTo>
                  <a:pt x="333587" y="76723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6732720" y="5229360"/>
            <a:ext cx="1224000" cy="1152360"/>
          </a:xfrm>
          <a:custGeom>
            <a:avLst/>
            <a:gdLst/>
            <a:ahLst/>
            <a:rect l="l" t="t" r="r" b="b"/>
            <a:pathLst>
              <a:path w="1223962" h="1152525">
                <a:moveTo>
                  <a:pt x="1" y="440224"/>
                </a:moveTo>
                <a:lnTo>
                  <a:pt x="467514" y="440227"/>
                </a:lnTo>
                <a:lnTo>
                  <a:pt x="611981" y="0"/>
                </a:lnTo>
                <a:lnTo>
                  <a:pt x="756447" y="440227"/>
                </a:lnTo>
                <a:lnTo>
                  <a:pt x="1223961" y="440224"/>
                </a:lnTo>
                <a:lnTo>
                  <a:pt x="845733" y="712296"/>
                </a:lnTo>
                <a:lnTo>
                  <a:pt x="990205" y="1152522"/>
                </a:lnTo>
                <a:lnTo>
                  <a:pt x="611981" y="880444"/>
                </a:lnTo>
                <a:lnTo>
                  <a:pt x="233756" y="1152522"/>
                </a:lnTo>
                <a:lnTo>
                  <a:pt x="378229" y="71229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4"/>
          <p:cNvSpPr/>
          <p:nvPr/>
        </p:nvSpPr>
        <p:spPr>
          <a:xfrm>
            <a:off x="5219640" y="5157720"/>
            <a:ext cx="1224000" cy="1224000"/>
          </a:xfrm>
          <a:custGeom>
            <a:avLst/>
            <a:gdLst/>
            <a:ahLst/>
            <a:rect l="l" t="t" r="r" b="b"/>
            <a:pathLst>
              <a:path w="1223962" h="1223962">
                <a:moveTo>
                  <a:pt x="1" y="467510"/>
                </a:moveTo>
                <a:lnTo>
                  <a:pt x="467514" y="467514"/>
                </a:lnTo>
                <a:lnTo>
                  <a:pt x="611981" y="0"/>
                </a:lnTo>
                <a:lnTo>
                  <a:pt x="756447" y="467514"/>
                </a:lnTo>
                <a:lnTo>
                  <a:pt x="1223961" y="467510"/>
                </a:lnTo>
                <a:lnTo>
                  <a:pt x="845733" y="756447"/>
                </a:lnTo>
                <a:lnTo>
                  <a:pt x="990205" y="1223959"/>
                </a:lnTo>
                <a:lnTo>
                  <a:pt x="611981" y="935017"/>
                </a:lnTo>
                <a:lnTo>
                  <a:pt x="233756" y="1223959"/>
                </a:lnTo>
                <a:lnTo>
                  <a:pt x="378229" y="75644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3564000" y="5229360"/>
            <a:ext cx="1150920" cy="1152360"/>
          </a:xfrm>
          <a:custGeom>
            <a:avLst/>
            <a:gdLst/>
            <a:ahLst/>
            <a:rect l="l" t="t" r="r" b="b"/>
            <a:pathLst>
              <a:path w="1150937" h="1152525">
                <a:moveTo>
                  <a:pt x="1" y="440224"/>
                </a:moveTo>
                <a:lnTo>
                  <a:pt x="439621" y="440227"/>
                </a:lnTo>
                <a:lnTo>
                  <a:pt x="575468" y="0"/>
                </a:lnTo>
                <a:lnTo>
                  <a:pt x="711316" y="440227"/>
                </a:lnTo>
                <a:lnTo>
                  <a:pt x="1150936" y="440224"/>
                </a:lnTo>
                <a:lnTo>
                  <a:pt x="795274" y="712296"/>
                </a:lnTo>
                <a:lnTo>
                  <a:pt x="931127" y="1152522"/>
                </a:lnTo>
                <a:lnTo>
                  <a:pt x="575468" y="880444"/>
                </a:lnTo>
                <a:lnTo>
                  <a:pt x="219810" y="1152522"/>
                </a:lnTo>
                <a:lnTo>
                  <a:pt x="355663" y="71229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1979640" y="5157720"/>
            <a:ext cx="1079640" cy="1168560"/>
          </a:xfrm>
          <a:custGeom>
            <a:avLst/>
            <a:gdLst/>
            <a:ahLst/>
            <a:rect l="l" t="t" r="r" b="b"/>
            <a:pathLst>
              <a:path w="1079500" h="1168400">
                <a:moveTo>
                  <a:pt x="1" y="446287"/>
                </a:moveTo>
                <a:lnTo>
                  <a:pt x="412334" y="446291"/>
                </a:lnTo>
                <a:lnTo>
                  <a:pt x="539750" y="0"/>
                </a:lnTo>
                <a:lnTo>
                  <a:pt x="667165" y="446291"/>
                </a:lnTo>
                <a:lnTo>
                  <a:pt x="1079498" y="446287"/>
                </a:lnTo>
                <a:lnTo>
                  <a:pt x="745912" y="722107"/>
                </a:lnTo>
                <a:lnTo>
                  <a:pt x="873333" y="1168397"/>
                </a:lnTo>
                <a:lnTo>
                  <a:pt x="539750" y="892572"/>
                </a:lnTo>
                <a:lnTo>
                  <a:pt x="206166" y="1168397"/>
                </a:lnTo>
                <a:lnTo>
                  <a:pt x="333587" y="722107"/>
                </a:lnTo>
                <a:close/>
              </a:path>
            </a:pathLst>
          </a:custGeom>
          <a:solidFill>
            <a:srgbClr val="ea7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27"/>
          <p:cNvSpPr txBox="1"/>
          <p:nvPr/>
        </p:nvSpPr>
        <p:spPr>
          <a:xfrm>
            <a:off x="1835280" y="404640"/>
            <a:ext cx="6553080" cy="338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28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楷体_GB2312"/>
              </a:rPr>
              <a:t>摘星乐园欢迎你！</a:t>
            </a:r>
            <a:endParaRPr b="1" lang="en-US" sz="44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latin typeface="楷体_GB2312"/>
              <a:ea typeface="楷体_GB2312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8285040" y="55180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8285040" y="26384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0"/>
          <p:cNvSpPr/>
          <p:nvPr/>
        </p:nvSpPr>
        <p:spPr>
          <a:xfrm>
            <a:off x="8028000" y="2349360"/>
            <a:ext cx="1079640" cy="1239840"/>
          </a:xfrm>
          <a:custGeom>
            <a:avLst/>
            <a:gdLst/>
            <a:ahLst/>
            <a:rect l="l" t="t" r="r" b="b"/>
            <a:pathLst>
              <a:path w="1079500" h="1239837">
                <a:moveTo>
                  <a:pt x="1" y="473574"/>
                </a:moveTo>
                <a:lnTo>
                  <a:pt x="412334" y="473577"/>
                </a:lnTo>
                <a:lnTo>
                  <a:pt x="539750" y="0"/>
                </a:lnTo>
                <a:lnTo>
                  <a:pt x="667165" y="473577"/>
                </a:lnTo>
                <a:lnTo>
                  <a:pt x="1079498" y="473574"/>
                </a:lnTo>
                <a:lnTo>
                  <a:pt x="745912" y="766258"/>
                </a:lnTo>
                <a:lnTo>
                  <a:pt x="873333" y="1239834"/>
                </a:lnTo>
                <a:lnTo>
                  <a:pt x="539750" y="947145"/>
                </a:lnTo>
                <a:lnTo>
                  <a:pt x="206166" y="1239834"/>
                </a:lnTo>
                <a:lnTo>
                  <a:pt x="333587" y="766258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8140680" y="3933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2"/>
          <p:cNvSpPr/>
          <p:nvPr/>
        </p:nvSpPr>
        <p:spPr>
          <a:xfrm>
            <a:off x="7885080" y="3718080"/>
            <a:ext cx="1150920" cy="1225440"/>
          </a:xfrm>
          <a:custGeom>
            <a:avLst/>
            <a:gdLst/>
            <a:ahLst/>
            <a:rect l="l" t="t" r="r" b="b"/>
            <a:pathLst>
              <a:path w="1150937" h="1225550">
                <a:moveTo>
                  <a:pt x="1" y="468117"/>
                </a:moveTo>
                <a:lnTo>
                  <a:pt x="439621" y="468120"/>
                </a:lnTo>
                <a:lnTo>
                  <a:pt x="575468" y="0"/>
                </a:lnTo>
                <a:lnTo>
                  <a:pt x="711316" y="468120"/>
                </a:lnTo>
                <a:lnTo>
                  <a:pt x="1150936" y="468117"/>
                </a:lnTo>
                <a:lnTo>
                  <a:pt x="795274" y="757428"/>
                </a:lnTo>
                <a:lnTo>
                  <a:pt x="931127" y="1225546"/>
                </a:lnTo>
                <a:lnTo>
                  <a:pt x="575468" y="936230"/>
                </a:lnTo>
                <a:lnTo>
                  <a:pt x="219810" y="1225546"/>
                </a:lnTo>
                <a:lnTo>
                  <a:pt x="355663" y="75742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3"/>
          <p:cNvSpPr/>
          <p:nvPr/>
        </p:nvSpPr>
        <p:spPr>
          <a:xfrm>
            <a:off x="8028000" y="5229360"/>
            <a:ext cx="1152360" cy="1242720"/>
          </a:xfrm>
          <a:custGeom>
            <a:avLst/>
            <a:gdLst/>
            <a:ahLst/>
            <a:rect l="l" t="t" r="r" b="b"/>
            <a:pathLst>
              <a:path w="1152525" h="1243012">
                <a:moveTo>
                  <a:pt x="1" y="474787"/>
                </a:moveTo>
                <a:lnTo>
                  <a:pt x="440227" y="474790"/>
                </a:lnTo>
                <a:lnTo>
                  <a:pt x="576262" y="0"/>
                </a:lnTo>
                <a:lnTo>
                  <a:pt x="712297" y="474790"/>
                </a:lnTo>
                <a:lnTo>
                  <a:pt x="1152523" y="474787"/>
                </a:lnTo>
                <a:lnTo>
                  <a:pt x="796371" y="768220"/>
                </a:lnTo>
                <a:lnTo>
                  <a:pt x="932411" y="1243009"/>
                </a:lnTo>
                <a:lnTo>
                  <a:pt x="576262" y="949570"/>
                </a:lnTo>
                <a:lnTo>
                  <a:pt x="220113" y="1243009"/>
                </a:lnTo>
                <a:lnTo>
                  <a:pt x="356153" y="76822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828720" y="5373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5"/>
          <p:cNvSpPr/>
          <p:nvPr/>
        </p:nvSpPr>
        <p:spPr>
          <a:xfrm>
            <a:off x="611280" y="5157720"/>
            <a:ext cx="1152360" cy="1243080"/>
          </a:xfrm>
          <a:custGeom>
            <a:avLst/>
            <a:gdLst/>
            <a:ahLst/>
            <a:rect l="l" t="t" r="r" b="b"/>
            <a:pathLst>
              <a:path w="1152525" h="1243012">
                <a:moveTo>
                  <a:pt x="1" y="474787"/>
                </a:moveTo>
                <a:lnTo>
                  <a:pt x="440227" y="474790"/>
                </a:lnTo>
                <a:lnTo>
                  <a:pt x="576262" y="0"/>
                </a:lnTo>
                <a:lnTo>
                  <a:pt x="712297" y="474790"/>
                </a:lnTo>
                <a:lnTo>
                  <a:pt x="1152523" y="474787"/>
                </a:lnTo>
                <a:lnTo>
                  <a:pt x="796371" y="768220"/>
                </a:lnTo>
                <a:lnTo>
                  <a:pt x="932411" y="1243009"/>
                </a:lnTo>
                <a:lnTo>
                  <a:pt x="576262" y="949570"/>
                </a:lnTo>
                <a:lnTo>
                  <a:pt x="220113" y="1243009"/>
                </a:lnTo>
                <a:lnTo>
                  <a:pt x="356153" y="76822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0"/>
          <p:cNvSpPr/>
          <p:nvPr/>
        </p:nvSpPr>
        <p:spPr>
          <a:xfrm>
            <a:off x="3154320" y="216216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539640" y="14256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的耳朵在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舌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底下，每当我吐出里面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芯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那就是在听四周的动静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68360" y="40179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医生也喜欢我，他们用我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唾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制成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珍贵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药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挽救了许多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垂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病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8360" y="538632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虽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长得很丑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很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但我不是人类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仇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希望人们不要对我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随意谩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捕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68360" y="30067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可我要说，我是人类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真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朋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886320" y="189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3232135391f4e5beac4af1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692360" y="292428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蛇宝宝是从哪里来的？它刚出生的时候是什么样子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32" name="Picture 3" descr="she3"/>
          <p:cNvPicPr/>
          <p:nvPr/>
        </p:nvPicPr>
        <p:blipFill>
          <a:blip r:embed="rId2"/>
          <a:stretch/>
        </p:blipFill>
        <p:spPr>
          <a:xfrm>
            <a:off x="0" y="4121280"/>
            <a:ext cx="2843280" cy="2736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1332000" y="69228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当我从妈妈的蛋壳里爬出来的时候，我的身体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细长细长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，并且已经能在草地上爬行。我没有脚，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行走如风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我的耳朵在舌头底下，每当我吐出里面的芯子，那就是在听四周的动静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2我是你的朋友2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684360" y="3333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可是，大家看到蛇是怎样的表现呢？蛇心里是怎么想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08:22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9:59Z</dcterms:modified>
  <cp:revision>4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