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gif" ContentType="image/gif"/>
  <Override PartName="/ppt/media/image2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0FA4-5961-4387-8636-F07275CB1507}" type="slidenum">
              <a:rPr b="1" lang="zh-CN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3C1-5D63-4434-8197-E1DD0CB80027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EE9-7C5F-4FAD-965A-D4134035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F21-0734-4ED0-8F3D-B62ED9C3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B81-9F25-4508-BEBE-F68BFDDB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C63-6874-4F8E-AC1A-6202538D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B82-1365-47EF-BBD0-1BD009DE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7FC-4838-4D3D-9D81-E1FD124E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DBF-AB2E-42CB-BE7D-148CD95A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A11-92B3-487F-A1B8-2012BB00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5CA-EB80-4937-8386-FA24C341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7A8-F7D9-4B08-A284-D6C8D06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9B5-032B-44E6-B06E-1E15365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E19-2AAD-4034-A7E4-CE12A491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2FD6-501B-4B17-AE49-5C48521D46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4920" y="11556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华文隶书"/>
                <a:ea typeface="华文隶书"/>
              </a:rPr>
              <a:t>我是你的朋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he3"/>
          <p:cNvPicPr/>
          <p:nvPr/>
        </p:nvPicPr>
        <p:blipFill>
          <a:blip r:embed="rId2"/>
          <a:stretch/>
        </p:blipFill>
        <p:spPr>
          <a:xfrm>
            <a:off x="0" y="2637000"/>
            <a:ext cx="4321080" cy="368136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269028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8" name="Picture 3" descr="she3"/>
          <p:cNvPicPr/>
          <p:nvPr/>
        </p:nvPicPr>
        <p:blipFill>
          <a:blip r:embed="rId2"/>
          <a:stretch/>
        </p:blipFill>
        <p:spPr>
          <a:xfrm>
            <a:off x="0" y="4121280"/>
            <a:ext cx="2843280" cy="2736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332000" y="69228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当我从妈妈的蛋壳里爬出来的时候，我的身体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细长细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，并且已经能在草地上爬行。我没有脚，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行走如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我的耳朵在舌头底下，每当我吐出里面的芯子，那就是在听四周的动静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2我是你的朋友2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84360" y="333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可是，大家看到蛇是怎样的表现呢？蛇心里是怎么想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he3"/>
          <p:cNvPicPr/>
          <p:nvPr/>
        </p:nvPicPr>
        <p:blipFill>
          <a:blip r:embed="rId1"/>
          <a:stretch/>
        </p:blipFill>
        <p:spPr>
          <a:xfrm>
            <a:off x="0" y="2852640"/>
            <a:ext cx="4427640" cy="4356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2268360" y="836640"/>
            <a:ext cx="7309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青蛙见了我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鸟见了我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田鼠见了我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孩子们见了我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5651640" y="1484280"/>
            <a:ext cx="194292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5076720" y="2492280"/>
            <a:ext cx="29512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5076720" y="3429000"/>
            <a:ext cx="2087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484360" y="5157720"/>
            <a:ext cx="4103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580000" y="836640"/>
            <a:ext cx="2735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慌忙逃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076720" y="1700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吓得吱喳乱叫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148360" y="27082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惊恐不安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327400" y="4437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也常常吓得哭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3" name="Picture 3" descr="22我是你的朋友2"/>
          <p:cNvPicPr/>
          <p:nvPr/>
        </p:nvPicPr>
        <p:blipFill>
          <a:blip r:embed="rId2"/>
          <a:srcRect l="10625" t="6023" r="57884" b="35441"/>
          <a:stretch/>
        </p:blipFill>
        <p:spPr>
          <a:xfrm>
            <a:off x="6227640" y="4075200"/>
            <a:ext cx="2735280" cy="26668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539640" y="2602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知道，我很丑很凶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青蛙见了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慌忙逃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小鸟见了我吓得吱喳乱叫，田鼠见了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惊恐不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孩子们见了我，也常常吓得哭起来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我要说，我是人类真诚的朋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3232135391f4e5beac4af1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547640" y="321300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蛇到底是不是我们的朋友呢？你从哪看出来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177840" y="0"/>
            <a:ext cx="9321840" cy="685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8" name="Text Box 3"/>
          <p:cNvSpPr/>
          <p:nvPr/>
        </p:nvSpPr>
        <p:spPr>
          <a:xfrm>
            <a:off x="414360" y="30636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善于偷盗粮食的田鼠最怕我，我常常把它们捉住。农民伯伯喜欢我，夸我是保护农田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卫士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医生也喜欢我，他们用我的唾液制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珍贵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药品，挽救了许多垂危的病人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she3"/>
          <p:cNvPicPr/>
          <p:nvPr/>
        </p:nvPicPr>
        <p:blipFill>
          <a:blip r:embed="rId2"/>
          <a:stretch/>
        </p:blipFill>
        <p:spPr>
          <a:xfrm>
            <a:off x="6372360" y="4076640"/>
            <a:ext cx="2438280" cy="2519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250920" y="3645000"/>
            <a:ext cx="60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此时，农民伯伯，医生还有病人他们会说些什么？蛇听后心情是怎样的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177840" y="0"/>
            <a:ext cx="9321840" cy="685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2" name="Text Box 3"/>
          <p:cNvSpPr/>
          <p:nvPr/>
        </p:nvSpPr>
        <p:spPr>
          <a:xfrm>
            <a:off x="539640" y="333360"/>
            <a:ext cx="77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善于偷盗粮食的田鼠最怕我，我常常把它们捉住。农民伯伯喜欢我，夸我是保护农田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卫士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医生也喜欢我，他们用我的唾液制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珍贵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药品，挽救了许多垂危的病人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she3"/>
          <p:cNvPicPr/>
          <p:nvPr/>
        </p:nvPicPr>
        <p:blipFill>
          <a:blip r:embed="rId2"/>
          <a:stretch/>
        </p:blipFill>
        <p:spPr>
          <a:xfrm>
            <a:off x="6372360" y="4076640"/>
            <a:ext cx="2438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177840" y="0"/>
            <a:ext cx="9321840" cy="685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5" name="Picture 3" descr="she3"/>
          <p:cNvPicPr/>
          <p:nvPr/>
        </p:nvPicPr>
        <p:blipFill>
          <a:blip r:embed="rId2"/>
          <a:stretch/>
        </p:blipFill>
        <p:spPr>
          <a:xfrm>
            <a:off x="-177840" y="4467240"/>
            <a:ext cx="2481480" cy="2390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22我是你的朋友2"/>
          <p:cNvPicPr/>
          <p:nvPr/>
        </p:nvPicPr>
        <p:blipFill>
          <a:blip r:embed="rId3"/>
          <a:srcRect l="10625" t="6023" r="57884" b="35441"/>
          <a:stretch/>
        </p:blipFill>
        <p:spPr>
          <a:xfrm>
            <a:off x="6948360" y="0"/>
            <a:ext cx="2195640" cy="2139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611280" y="1197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虽然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长得很丑很凶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但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不是人类的仇敌，希望人们不要对我随意谩骂和捕杀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611280" y="1052640"/>
            <a:ext cx="6265800" cy="3240000"/>
          </a:xfrm>
          <a:prstGeom prst="wedgeRoundRectCallout">
            <a:avLst>
              <a:gd name="adj1" fmla="val -38143"/>
              <a:gd name="adj2" fmla="val 77537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she3"/>
          <p:cNvPicPr/>
          <p:nvPr/>
        </p:nvPicPr>
        <p:blipFill>
          <a:blip r:embed="rId2"/>
          <a:stretch/>
        </p:blipFill>
        <p:spPr>
          <a:xfrm>
            <a:off x="47520" y="4149720"/>
            <a:ext cx="2292480" cy="27082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4"/>
          <p:cNvSpPr/>
          <p:nvPr/>
        </p:nvSpPr>
        <p:spPr>
          <a:xfrm>
            <a:off x="1476360" y="1125360"/>
            <a:ext cx="7199280" cy="3024360"/>
          </a:xfrm>
          <a:prstGeom prst="cloudCallout">
            <a:avLst>
              <a:gd name="adj1" fmla="val -49162"/>
              <a:gd name="adj2" fmla="val 77402"/>
            </a:avLst>
          </a:pr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979640" y="1628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了课文，你一定改变了对我的看法，你愿意把我介绍给其他的小朋友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"/>
          <p:cNvSpPr/>
          <p:nvPr/>
        </p:nvSpPr>
        <p:spPr>
          <a:xfrm>
            <a:off x="644400" y="4835520"/>
            <a:ext cx="82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00504a19e2c2c6fbad6e75d2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3"/>
          <p:cNvGrpSpPr/>
          <p:nvPr/>
        </p:nvGrpSpPr>
        <p:grpSpPr>
          <a:xfrm>
            <a:off x="0" y="3213000"/>
            <a:ext cx="8207280" cy="3124440"/>
            <a:chOff x="0" y="3213000"/>
            <a:chExt cx="8207280" cy="3124440"/>
          </a:xfrm>
        </p:grpSpPr>
        <p:sp>
          <p:nvSpPr>
            <p:cNvPr id="166" name="Text Box 4"/>
            <p:cNvSpPr/>
            <p:nvPr/>
          </p:nvSpPr>
          <p:spPr>
            <a:xfrm>
              <a:off x="1042920" y="3665160"/>
              <a:ext cx="70884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a200"/>
                  </a:solidFill>
                  <a:latin typeface="Arial"/>
                  <a:ea typeface="楷体_GB2312"/>
                </a:rPr>
                <a:t>你还知道哪些动物是我们的朋友？ 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>
              <a:off x="0" y="3213000"/>
              <a:ext cx="8207280" cy="3124440"/>
            </a:xfrm>
            <a:prstGeom prst="cloudCallout">
              <a:avLst>
                <a:gd name="adj1" fmla="val 32787"/>
                <a:gd name="adj2" fmla="val -88935"/>
              </a:avLst>
            </a:pr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WordArt 6"/>
          <p:cNvSpPr txBox="1"/>
          <p:nvPr/>
        </p:nvSpPr>
        <p:spPr>
          <a:xfrm>
            <a:off x="539640" y="62064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隶书"/>
              </a:rPr>
              <a:t>课外拓展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5285-0C67-473D-AB65-B23C6E5976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ophidian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2花的闹市1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ua4"/>
          <p:cNvPicPr/>
          <p:nvPr/>
        </p:nvPicPr>
        <p:blipFill>
          <a:blip r:embed="rId2"/>
          <a:stretch/>
        </p:blipFill>
        <p:spPr>
          <a:xfrm>
            <a:off x="1547640" y="141300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ua5"/>
          <p:cNvPicPr/>
          <p:nvPr/>
        </p:nvPicPr>
        <p:blipFill>
          <a:blip r:embed="rId3"/>
          <a:stretch/>
        </p:blipFill>
        <p:spPr>
          <a:xfrm>
            <a:off x="1403280" y="2854440"/>
            <a:ext cx="1489320" cy="153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ua5"/>
          <p:cNvPicPr/>
          <p:nvPr/>
        </p:nvPicPr>
        <p:blipFill>
          <a:blip r:embed="rId4"/>
          <a:stretch/>
        </p:blipFill>
        <p:spPr>
          <a:xfrm>
            <a:off x="2771640" y="2709720"/>
            <a:ext cx="148932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ua5"/>
          <p:cNvPicPr/>
          <p:nvPr/>
        </p:nvPicPr>
        <p:blipFill>
          <a:blip r:embed="rId5"/>
          <a:stretch/>
        </p:blipFill>
        <p:spPr>
          <a:xfrm>
            <a:off x="2627280" y="4365720"/>
            <a:ext cx="172872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ua5"/>
          <p:cNvPicPr/>
          <p:nvPr/>
        </p:nvPicPr>
        <p:blipFill>
          <a:blip r:embed="rId6"/>
          <a:stretch/>
        </p:blipFill>
        <p:spPr>
          <a:xfrm>
            <a:off x="2987640" y="1270080"/>
            <a:ext cx="1657440" cy="143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ua5"/>
          <p:cNvPicPr/>
          <p:nvPr/>
        </p:nvPicPr>
        <p:blipFill>
          <a:blip r:embed="rId7"/>
          <a:stretch/>
        </p:blipFill>
        <p:spPr>
          <a:xfrm>
            <a:off x="4356000" y="4365720"/>
            <a:ext cx="1656000" cy="150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ua4"/>
          <p:cNvPicPr/>
          <p:nvPr/>
        </p:nvPicPr>
        <p:blipFill>
          <a:blip r:embed="rId8"/>
          <a:stretch/>
        </p:blipFill>
        <p:spPr>
          <a:xfrm>
            <a:off x="4572000" y="1413000"/>
            <a:ext cx="137484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ua4"/>
          <p:cNvPicPr/>
          <p:nvPr/>
        </p:nvPicPr>
        <p:blipFill>
          <a:blip r:embed="rId9"/>
          <a:stretch/>
        </p:blipFill>
        <p:spPr>
          <a:xfrm>
            <a:off x="6156360" y="4438800"/>
            <a:ext cx="150192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ua4"/>
          <p:cNvPicPr/>
          <p:nvPr/>
        </p:nvPicPr>
        <p:blipFill>
          <a:blip r:embed="rId10"/>
          <a:stretch/>
        </p:blipFill>
        <p:spPr>
          <a:xfrm>
            <a:off x="6084720" y="263844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hua4"/>
          <p:cNvPicPr/>
          <p:nvPr/>
        </p:nvPicPr>
        <p:blipFill>
          <a:blip r:embed="rId11"/>
          <a:stretch/>
        </p:blipFill>
        <p:spPr>
          <a:xfrm>
            <a:off x="4284720" y="2709720"/>
            <a:ext cx="1584360" cy="1368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1476360" y="3357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舌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微软雅黑"/>
              </a:rPr>
              <a:t>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1547640" y="170172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微软雅黑"/>
              </a:rPr>
              <a:t>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771640" y="32860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慌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060720" y="1773360"/>
            <a:ext cx="130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真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645080" y="1701720"/>
            <a:ext cx="15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偷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844720" y="472608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粮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4427640" y="3070080"/>
            <a:ext cx="14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珍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6227640" y="2925720"/>
            <a:ext cx="149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仇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4500720" y="4726080"/>
            <a:ext cx="183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微软雅黑"/>
              </a:rPr>
              <a:t>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6300720" y="4797360"/>
            <a:ext cx="149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微软雅黑"/>
              </a:rPr>
              <a:t>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7680240" y="32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7848720" y="11430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6"/>
          <p:cNvSpPr txBox="1"/>
          <p:nvPr/>
        </p:nvSpPr>
        <p:spPr>
          <a:xfrm rot="20788800">
            <a:off x="395280" y="549360"/>
            <a:ext cx="349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知识花园采蜜忙</a:t>
            </a:r>
            <a:endParaRPr b="1" lang="en-US" sz="4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81" name="Picture 27" descr="hua4"/>
          <p:cNvPicPr/>
          <p:nvPr/>
        </p:nvPicPr>
        <p:blipFill>
          <a:blip r:embed="rId12"/>
          <a:stretch/>
        </p:blipFill>
        <p:spPr>
          <a:xfrm>
            <a:off x="6012000" y="1125360"/>
            <a:ext cx="1712880" cy="1440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8"/>
          <p:cNvSpPr/>
          <p:nvPr/>
        </p:nvSpPr>
        <p:spPr>
          <a:xfrm>
            <a:off x="6227640" y="1557360"/>
            <a:ext cx="15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微软雅黑"/>
              </a:rPr>
              <a:t>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危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9" descr="hua4"/>
          <p:cNvPicPr/>
          <p:nvPr/>
        </p:nvPicPr>
        <p:blipFill>
          <a:blip r:embed="rId13"/>
          <a:stretch/>
        </p:blipFill>
        <p:spPr>
          <a:xfrm>
            <a:off x="1116000" y="4510080"/>
            <a:ext cx="1584360" cy="1463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0"/>
          <p:cNvSpPr/>
          <p:nvPr/>
        </p:nvSpPr>
        <p:spPr>
          <a:xfrm>
            <a:off x="1260360" y="479736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夸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微软雅黑"/>
              </a:rPr>
              <a:t>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3919680" y="25653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草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39640" y="404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的耳朵在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舌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底下，每当我吐出里面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芯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那就是在听四周的动静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68360" y="2997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医生也喜欢我，他们用我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唾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制成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珍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药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挽救了许多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垂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病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8360" y="436572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虽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长得很丑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很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但我不是人类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仇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希望人们不要对我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随意谩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捕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8360" y="19861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我要说，我是人类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真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朋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2be94127a264014dd5401de"/>
          <p:cNvPicPr/>
          <p:nvPr/>
        </p:nvPicPr>
        <p:blipFill>
          <a:blip r:embed="rId1"/>
          <a:stretch/>
        </p:blipFill>
        <p:spPr>
          <a:xfrm>
            <a:off x="3492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124000" y="26668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706920" y="25956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435640" y="25653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948360" y="25225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偷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122560" y="4005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粮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706920" y="396252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435640" y="3962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946920" y="396252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124000" y="544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780000" y="544500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危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435640" y="5373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7020000" y="5373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1979640" y="2349360"/>
            <a:ext cx="1079640" cy="1239840"/>
          </a:xfrm>
          <a:custGeom>
            <a:avLst/>
            <a:gdLst/>
            <a:ahLst/>
            <a:rect l="l" t="t" r="r" b="b"/>
            <a:pathLst>
              <a:path w="1079500" h="1239837">
                <a:moveTo>
                  <a:pt x="1" y="473574"/>
                </a:moveTo>
                <a:lnTo>
                  <a:pt x="412334" y="473577"/>
                </a:lnTo>
                <a:lnTo>
                  <a:pt x="539750" y="0"/>
                </a:lnTo>
                <a:lnTo>
                  <a:pt x="667165" y="473577"/>
                </a:lnTo>
                <a:lnTo>
                  <a:pt x="1079498" y="473574"/>
                </a:lnTo>
                <a:lnTo>
                  <a:pt x="745912" y="766258"/>
                </a:lnTo>
                <a:lnTo>
                  <a:pt x="873333" y="1239834"/>
                </a:lnTo>
                <a:lnTo>
                  <a:pt x="539750" y="947145"/>
                </a:lnTo>
                <a:lnTo>
                  <a:pt x="206166" y="1239834"/>
                </a:lnTo>
                <a:lnTo>
                  <a:pt x="333587" y="766258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3564000" y="2276640"/>
            <a:ext cx="1079280" cy="1241280"/>
          </a:xfrm>
          <a:custGeom>
            <a:avLst/>
            <a:gdLst/>
            <a:ahLst/>
            <a:rect l="l" t="t" r="r" b="b"/>
            <a:pathLst>
              <a:path w="1079500" h="1241425">
                <a:moveTo>
                  <a:pt x="1" y="474180"/>
                </a:moveTo>
                <a:lnTo>
                  <a:pt x="412334" y="474184"/>
                </a:lnTo>
                <a:lnTo>
                  <a:pt x="539750" y="0"/>
                </a:lnTo>
                <a:lnTo>
                  <a:pt x="667165" y="474184"/>
                </a:lnTo>
                <a:lnTo>
                  <a:pt x="1079498" y="474180"/>
                </a:lnTo>
                <a:lnTo>
                  <a:pt x="745912" y="767239"/>
                </a:lnTo>
                <a:lnTo>
                  <a:pt x="873333" y="1241421"/>
                </a:lnTo>
                <a:lnTo>
                  <a:pt x="539750" y="948357"/>
                </a:lnTo>
                <a:lnTo>
                  <a:pt x="206166" y="1241421"/>
                </a:lnTo>
                <a:lnTo>
                  <a:pt x="333587" y="76723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5219640" y="2276640"/>
            <a:ext cx="1152720" cy="1242720"/>
          </a:xfrm>
          <a:custGeom>
            <a:avLst/>
            <a:gdLst/>
            <a:ahLst/>
            <a:rect l="l" t="t" r="r" b="b"/>
            <a:pathLst>
              <a:path w="1152525" h="1243012">
                <a:moveTo>
                  <a:pt x="1" y="474787"/>
                </a:moveTo>
                <a:lnTo>
                  <a:pt x="440227" y="474790"/>
                </a:lnTo>
                <a:lnTo>
                  <a:pt x="576262" y="0"/>
                </a:lnTo>
                <a:lnTo>
                  <a:pt x="712297" y="474790"/>
                </a:lnTo>
                <a:lnTo>
                  <a:pt x="1152523" y="474787"/>
                </a:lnTo>
                <a:lnTo>
                  <a:pt x="796371" y="768220"/>
                </a:lnTo>
                <a:lnTo>
                  <a:pt x="932411" y="1243009"/>
                </a:lnTo>
                <a:lnTo>
                  <a:pt x="576262" y="949570"/>
                </a:lnTo>
                <a:lnTo>
                  <a:pt x="220113" y="1243009"/>
                </a:lnTo>
                <a:lnTo>
                  <a:pt x="356153" y="76822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6732720" y="2349360"/>
            <a:ext cx="1152360" cy="1243080"/>
          </a:xfrm>
          <a:custGeom>
            <a:avLst/>
            <a:gdLst/>
            <a:ahLst/>
            <a:rect l="l" t="t" r="r" b="b"/>
            <a:pathLst>
              <a:path w="1152525" h="1243012">
                <a:moveTo>
                  <a:pt x="1" y="474787"/>
                </a:moveTo>
                <a:lnTo>
                  <a:pt x="440227" y="474790"/>
                </a:lnTo>
                <a:lnTo>
                  <a:pt x="576262" y="0"/>
                </a:lnTo>
                <a:lnTo>
                  <a:pt x="712297" y="474790"/>
                </a:lnTo>
                <a:lnTo>
                  <a:pt x="1152523" y="474787"/>
                </a:lnTo>
                <a:lnTo>
                  <a:pt x="796371" y="768220"/>
                </a:lnTo>
                <a:lnTo>
                  <a:pt x="932411" y="1243009"/>
                </a:lnTo>
                <a:lnTo>
                  <a:pt x="576262" y="949570"/>
                </a:lnTo>
                <a:lnTo>
                  <a:pt x="220113" y="1243009"/>
                </a:lnTo>
                <a:lnTo>
                  <a:pt x="356153" y="76822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1908000" y="3716280"/>
            <a:ext cx="1151280" cy="1225440"/>
          </a:xfrm>
          <a:custGeom>
            <a:avLst/>
            <a:gdLst/>
            <a:ahLst/>
            <a:rect l="l" t="t" r="r" b="b"/>
            <a:pathLst>
              <a:path w="1150937" h="1225550">
                <a:moveTo>
                  <a:pt x="1" y="468117"/>
                </a:moveTo>
                <a:lnTo>
                  <a:pt x="439621" y="468120"/>
                </a:lnTo>
                <a:lnTo>
                  <a:pt x="575468" y="0"/>
                </a:lnTo>
                <a:lnTo>
                  <a:pt x="711316" y="468120"/>
                </a:lnTo>
                <a:lnTo>
                  <a:pt x="1150936" y="468117"/>
                </a:lnTo>
                <a:lnTo>
                  <a:pt x="795274" y="757428"/>
                </a:lnTo>
                <a:lnTo>
                  <a:pt x="931127" y="1225546"/>
                </a:lnTo>
                <a:lnTo>
                  <a:pt x="575468" y="936230"/>
                </a:lnTo>
                <a:lnTo>
                  <a:pt x="219810" y="1225546"/>
                </a:lnTo>
                <a:lnTo>
                  <a:pt x="355663" y="75742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3492360" y="3645000"/>
            <a:ext cx="1224000" cy="1239840"/>
          </a:xfrm>
          <a:custGeom>
            <a:avLst/>
            <a:gdLst/>
            <a:ahLst/>
            <a:rect l="l" t="t" r="r" b="b"/>
            <a:pathLst>
              <a:path w="1223962" h="1239837">
                <a:moveTo>
                  <a:pt x="1" y="473574"/>
                </a:moveTo>
                <a:lnTo>
                  <a:pt x="467514" y="473577"/>
                </a:lnTo>
                <a:lnTo>
                  <a:pt x="611981" y="0"/>
                </a:lnTo>
                <a:lnTo>
                  <a:pt x="756447" y="473577"/>
                </a:lnTo>
                <a:lnTo>
                  <a:pt x="1223961" y="473574"/>
                </a:lnTo>
                <a:lnTo>
                  <a:pt x="845733" y="766258"/>
                </a:lnTo>
                <a:lnTo>
                  <a:pt x="990205" y="1239834"/>
                </a:lnTo>
                <a:lnTo>
                  <a:pt x="611981" y="947145"/>
                </a:lnTo>
                <a:lnTo>
                  <a:pt x="233756" y="1239834"/>
                </a:lnTo>
                <a:lnTo>
                  <a:pt x="378229" y="7662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1"/>
          <p:cNvSpPr/>
          <p:nvPr/>
        </p:nvSpPr>
        <p:spPr>
          <a:xfrm>
            <a:off x="5219640" y="3645000"/>
            <a:ext cx="1152720" cy="1224000"/>
          </a:xfrm>
          <a:custGeom>
            <a:avLst/>
            <a:gdLst/>
            <a:ahLst/>
            <a:rect l="l" t="t" r="r" b="b"/>
            <a:pathLst>
              <a:path w="1152525" h="1223962">
                <a:moveTo>
                  <a:pt x="1" y="467510"/>
                </a:moveTo>
                <a:lnTo>
                  <a:pt x="440227" y="467514"/>
                </a:lnTo>
                <a:lnTo>
                  <a:pt x="576262" y="0"/>
                </a:lnTo>
                <a:lnTo>
                  <a:pt x="712297" y="467514"/>
                </a:lnTo>
                <a:lnTo>
                  <a:pt x="1152523" y="467510"/>
                </a:lnTo>
                <a:lnTo>
                  <a:pt x="796371" y="756447"/>
                </a:lnTo>
                <a:lnTo>
                  <a:pt x="932411" y="1223959"/>
                </a:lnTo>
                <a:lnTo>
                  <a:pt x="576262" y="935017"/>
                </a:lnTo>
                <a:lnTo>
                  <a:pt x="220113" y="1223959"/>
                </a:lnTo>
                <a:lnTo>
                  <a:pt x="356153" y="756447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6732720" y="3718080"/>
            <a:ext cx="1079280" cy="1241280"/>
          </a:xfrm>
          <a:custGeom>
            <a:avLst/>
            <a:gdLst/>
            <a:ahLst/>
            <a:rect l="l" t="t" r="r" b="b"/>
            <a:pathLst>
              <a:path w="1079500" h="1241425">
                <a:moveTo>
                  <a:pt x="1" y="474180"/>
                </a:moveTo>
                <a:lnTo>
                  <a:pt x="412334" y="474184"/>
                </a:lnTo>
                <a:lnTo>
                  <a:pt x="539750" y="0"/>
                </a:lnTo>
                <a:lnTo>
                  <a:pt x="667165" y="474184"/>
                </a:lnTo>
                <a:lnTo>
                  <a:pt x="1079498" y="474180"/>
                </a:lnTo>
                <a:lnTo>
                  <a:pt x="745912" y="767239"/>
                </a:lnTo>
                <a:lnTo>
                  <a:pt x="873333" y="1241421"/>
                </a:lnTo>
                <a:lnTo>
                  <a:pt x="539750" y="948357"/>
                </a:lnTo>
                <a:lnTo>
                  <a:pt x="206166" y="1241421"/>
                </a:lnTo>
                <a:lnTo>
                  <a:pt x="333587" y="76723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6732720" y="5229360"/>
            <a:ext cx="1224000" cy="1152360"/>
          </a:xfrm>
          <a:custGeom>
            <a:avLst/>
            <a:gdLst/>
            <a:ahLst/>
            <a:rect l="l" t="t" r="r" b="b"/>
            <a:pathLst>
              <a:path w="1223962" h="1152525">
                <a:moveTo>
                  <a:pt x="1" y="440224"/>
                </a:moveTo>
                <a:lnTo>
                  <a:pt x="467514" y="440227"/>
                </a:lnTo>
                <a:lnTo>
                  <a:pt x="611981" y="0"/>
                </a:lnTo>
                <a:lnTo>
                  <a:pt x="756447" y="440227"/>
                </a:lnTo>
                <a:lnTo>
                  <a:pt x="1223961" y="440224"/>
                </a:lnTo>
                <a:lnTo>
                  <a:pt x="845733" y="712296"/>
                </a:lnTo>
                <a:lnTo>
                  <a:pt x="990205" y="1152522"/>
                </a:lnTo>
                <a:lnTo>
                  <a:pt x="611981" y="880444"/>
                </a:lnTo>
                <a:lnTo>
                  <a:pt x="233756" y="1152522"/>
                </a:lnTo>
                <a:lnTo>
                  <a:pt x="378229" y="71229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5219640" y="5157720"/>
            <a:ext cx="1224000" cy="1224000"/>
          </a:xfrm>
          <a:custGeom>
            <a:avLst/>
            <a:gdLst/>
            <a:ahLst/>
            <a:rect l="l" t="t" r="r" b="b"/>
            <a:pathLst>
              <a:path w="1223962" h="1223962">
                <a:moveTo>
                  <a:pt x="1" y="467510"/>
                </a:moveTo>
                <a:lnTo>
                  <a:pt x="467514" y="467514"/>
                </a:lnTo>
                <a:lnTo>
                  <a:pt x="611981" y="0"/>
                </a:lnTo>
                <a:lnTo>
                  <a:pt x="756447" y="467514"/>
                </a:lnTo>
                <a:lnTo>
                  <a:pt x="1223961" y="467510"/>
                </a:lnTo>
                <a:lnTo>
                  <a:pt x="845733" y="756447"/>
                </a:lnTo>
                <a:lnTo>
                  <a:pt x="990205" y="1223959"/>
                </a:lnTo>
                <a:lnTo>
                  <a:pt x="611981" y="935017"/>
                </a:lnTo>
                <a:lnTo>
                  <a:pt x="233756" y="1223959"/>
                </a:lnTo>
                <a:lnTo>
                  <a:pt x="378229" y="75644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3564000" y="5229360"/>
            <a:ext cx="1150920" cy="1152360"/>
          </a:xfrm>
          <a:custGeom>
            <a:avLst/>
            <a:gdLst/>
            <a:ahLst/>
            <a:rect l="l" t="t" r="r" b="b"/>
            <a:pathLst>
              <a:path w="1150937" h="1152525">
                <a:moveTo>
                  <a:pt x="1" y="440224"/>
                </a:moveTo>
                <a:lnTo>
                  <a:pt x="439621" y="440227"/>
                </a:lnTo>
                <a:lnTo>
                  <a:pt x="575468" y="0"/>
                </a:lnTo>
                <a:lnTo>
                  <a:pt x="711316" y="440227"/>
                </a:lnTo>
                <a:lnTo>
                  <a:pt x="1150936" y="440224"/>
                </a:lnTo>
                <a:lnTo>
                  <a:pt x="795274" y="712296"/>
                </a:lnTo>
                <a:lnTo>
                  <a:pt x="931127" y="1152522"/>
                </a:lnTo>
                <a:lnTo>
                  <a:pt x="575468" y="880444"/>
                </a:lnTo>
                <a:lnTo>
                  <a:pt x="219810" y="1152522"/>
                </a:lnTo>
                <a:lnTo>
                  <a:pt x="355663" y="71229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6"/>
          <p:cNvSpPr/>
          <p:nvPr/>
        </p:nvSpPr>
        <p:spPr>
          <a:xfrm>
            <a:off x="1979640" y="5157720"/>
            <a:ext cx="1079640" cy="1168560"/>
          </a:xfrm>
          <a:custGeom>
            <a:avLst/>
            <a:gdLst/>
            <a:ahLst/>
            <a:rect l="l" t="t" r="r" b="b"/>
            <a:pathLst>
              <a:path w="1079500" h="1168400">
                <a:moveTo>
                  <a:pt x="1" y="446287"/>
                </a:moveTo>
                <a:lnTo>
                  <a:pt x="412334" y="446291"/>
                </a:lnTo>
                <a:lnTo>
                  <a:pt x="539750" y="0"/>
                </a:lnTo>
                <a:lnTo>
                  <a:pt x="667165" y="446291"/>
                </a:lnTo>
                <a:lnTo>
                  <a:pt x="1079498" y="446287"/>
                </a:lnTo>
                <a:lnTo>
                  <a:pt x="745912" y="722107"/>
                </a:lnTo>
                <a:lnTo>
                  <a:pt x="873333" y="1168397"/>
                </a:lnTo>
                <a:lnTo>
                  <a:pt x="539750" y="892572"/>
                </a:lnTo>
                <a:lnTo>
                  <a:pt x="206166" y="1168397"/>
                </a:lnTo>
                <a:lnTo>
                  <a:pt x="333587" y="722107"/>
                </a:lnTo>
                <a:close/>
              </a:path>
            </a:pathLst>
          </a:custGeom>
          <a:solidFill>
            <a:srgbClr val="ea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27"/>
          <p:cNvSpPr txBox="1"/>
          <p:nvPr/>
        </p:nvSpPr>
        <p:spPr>
          <a:xfrm>
            <a:off x="1835280" y="404640"/>
            <a:ext cx="6553080" cy="33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楷体_GB2312"/>
              </a:rPr>
              <a:t>摘星乐园欢迎你！</a:t>
            </a:r>
            <a:endParaRPr b="1" lang="en-US" sz="44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8285040" y="5518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8285040" y="2638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0"/>
          <p:cNvSpPr/>
          <p:nvPr/>
        </p:nvSpPr>
        <p:spPr>
          <a:xfrm>
            <a:off x="8028000" y="2349360"/>
            <a:ext cx="1079640" cy="1239840"/>
          </a:xfrm>
          <a:custGeom>
            <a:avLst/>
            <a:gdLst/>
            <a:ahLst/>
            <a:rect l="l" t="t" r="r" b="b"/>
            <a:pathLst>
              <a:path w="1079500" h="1239837">
                <a:moveTo>
                  <a:pt x="1" y="473574"/>
                </a:moveTo>
                <a:lnTo>
                  <a:pt x="412334" y="473577"/>
                </a:lnTo>
                <a:lnTo>
                  <a:pt x="539750" y="0"/>
                </a:lnTo>
                <a:lnTo>
                  <a:pt x="667165" y="473577"/>
                </a:lnTo>
                <a:lnTo>
                  <a:pt x="1079498" y="473574"/>
                </a:lnTo>
                <a:lnTo>
                  <a:pt x="745912" y="766258"/>
                </a:lnTo>
                <a:lnTo>
                  <a:pt x="873333" y="1239834"/>
                </a:lnTo>
                <a:lnTo>
                  <a:pt x="539750" y="947145"/>
                </a:lnTo>
                <a:lnTo>
                  <a:pt x="206166" y="1239834"/>
                </a:lnTo>
                <a:lnTo>
                  <a:pt x="333587" y="766258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8140680" y="3933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2"/>
          <p:cNvSpPr/>
          <p:nvPr/>
        </p:nvSpPr>
        <p:spPr>
          <a:xfrm>
            <a:off x="7885080" y="3718080"/>
            <a:ext cx="1150920" cy="1225440"/>
          </a:xfrm>
          <a:custGeom>
            <a:avLst/>
            <a:gdLst/>
            <a:ahLst/>
            <a:rect l="l" t="t" r="r" b="b"/>
            <a:pathLst>
              <a:path w="1150937" h="1225550">
                <a:moveTo>
                  <a:pt x="1" y="468117"/>
                </a:moveTo>
                <a:lnTo>
                  <a:pt x="439621" y="468120"/>
                </a:lnTo>
                <a:lnTo>
                  <a:pt x="575468" y="0"/>
                </a:lnTo>
                <a:lnTo>
                  <a:pt x="711316" y="468120"/>
                </a:lnTo>
                <a:lnTo>
                  <a:pt x="1150936" y="468117"/>
                </a:lnTo>
                <a:lnTo>
                  <a:pt x="795274" y="757428"/>
                </a:lnTo>
                <a:lnTo>
                  <a:pt x="931127" y="1225546"/>
                </a:lnTo>
                <a:lnTo>
                  <a:pt x="575468" y="936230"/>
                </a:lnTo>
                <a:lnTo>
                  <a:pt x="219810" y="1225546"/>
                </a:lnTo>
                <a:lnTo>
                  <a:pt x="355663" y="75742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8028000" y="5229360"/>
            <a:ext cx="1152360" cy="1242720"/>
          </a:xfrm>
          <a:custGeom>
            <a:avLst/>
            <a:gdLst/>
            <a:ahLst/>
            <a:rect l="l" t="t" r="r" b="b"/>
            <a:pathLst>
              <a:path w="1152525" h="1243012">
                <a:moveTo>
                  <a:pt x="1" y="474787"/>
                </a:moveTo>
                <a:lnTo>
                  <a:pt x="440227" y="474790"/>
                </a:lnTo>
                <a:lnTo>
                  <a:pt x="576262" y="0"/>
                </a:lnTo>
                <a:lnTo>
                  <a:pt x="712297" y="474790"/>
                </a:lnTo>
                <a:lnTo>
                  <a:pt x="1152523" y="474787"/>
                </a:lnTo>
                <a:lnTo>
                  <a:pt x="796371" y="768220"/>
                </a:lnTo>
                <a:lnTo>
                  <a:pt x="932411" y="1243009"/>
                </a:lnTo>
                <a:lnTo>
                  <a:pt x="576262" y="949570"/>
                </a:lnTo>
                <a:lnTo>
                  <a:pt x="220113" y="1243009"/>
                </a:lnTo>
                <a:lnTo>
                  <a:pt x="356153" y="76822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828720" y="5373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611280" y="5157720"/>
            <a:ext cx="1152360" cy="1243080"/>
          </a:xfrm>
          <a:custGeom>
            <a:avLst/>
            <a:gdLst/>
            <a:ahLst/>
            <a:rect l="l" t="t" r="r" b="b"/>
            <a:pathLst>
              <a:path w="1152525" h="1243012">
                <a:moveTo>
                  <a:pt x="1" y="474787"/>
                </a:moveTo>
                <a:lnTo>
                  <a:pt x="440227" y="474790"/>
                </a:lnTo>
                <a:lnTo>
                  <a:pt x="576262" y="0"/>
                </a:lnTo>
                <a:lnTo>
                  <a:pt x="712297" y="474790"/>
                </a:lnTo>
                <a:lnTo>
                  <a:pt x="1152523" y="474787"/>
                </a:lnTo>
                <a:lnTo>
                  <a:pt x="796371" y="768220"/>
                </a:lnTo>
                <a:lnTo>
                  <a:pt x="932411" y="1243009"/>
                </a:lnTo>
                <a:lnTo>
                  <a:pt x="576262" y="949570"/>
                </a:lnTo>
                <a:lnTo>
                  <a:pt x="220113" y="1243009"/>
                </a:lnTo>
                <a:lnTo>
                  <a:pt x="356153" y="76822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3232135391f4e5beac4af1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692360" y="292428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蛇宝宝是从哪里来的？它刚出生的时候是什么样子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08:22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53Z</dcterms:modified>
  <cp:revision>3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