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jpeg" ContentType="image/jpeg"/>
  <Override PartName="/ppt/media/image24.gif" ContentType="image/gif"/>
  <Override PartName="/ppt/media/image3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5.jpeg" ContentType="image/jpeg"/>
  <Override PartName="/ppt/media/image46.jpeg" ContentType="image/jpeg"/>
  <Override PartName="/ppt/media/image43.jpeg" ContentType="image/jpeg"/>
  <Override PartName="/ppt/media/image48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9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1.gif" ContentType="image/gif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D88B-3DFC-4A2A-9380-B33B676B87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0D20-87BB-433C-A2A7-20D75C5F7C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00A-56C8-404A-9933-05391566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11F-3089-4F50-9F86-B9871D3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712BC-8D75-487B-AED9-A6996D0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2A7BE-E325-45E3-B6C5-0AF23B37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0ABDD-506A-44E5-B6E0-C4C4EF3D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3CA77-47FE-4AF3-B2F7-FF78562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E850-CC9E-447E-94E8-085A11A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475A6-37CA-4370-861A-19B0FC8A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7E764-167B-447A-8C11-3D0E042B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276A4-B63B-416C-B4AB-7CBF7C10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9FB48-C9CB-4893-BDBC-6344E848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544C7-CE6F-43B9-B2DC-31053B61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6B4-D978-46FF-9696-102A15C9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C2A10-123C-43B6-8E54-1DBBF14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43962-F677-4E8C-825A-C2323E0C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02DCB-482F-4C22-BFD2-47E3CF8A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84F5E-66CA-4533-B9BA-2CBCC5CC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73319-A75E-44C2-AEB0-84A58873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5B531-54EF-4CFF-ADA7-8E4CAFD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64832-97E5-499E-B2EB-67F3CABE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414AF-DBC3-47E4-868F-3AB12A92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F9BD0-E9F9-46D0-B023-AF6383D1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8D2A1-A3E0-4679-BACA-62FC60B3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9A6-CEE5-47EB-AD10-4B990D21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5377A-DBE1-4241-AE65-F549FC3F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30973-3BE6-47B6-8AAC-79E6A555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A7C97-4657-47D2-B7FE-560A2F1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150FE-F7E1-48CB-AA47-5F091217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CABA4-61A0-457E-B293-F0864048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1E532-7A39-405B-811D-89985BF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B523B-DAF0-4E06-86E9-2EEB034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DC1F3-E33E-48BA-B340-6BBA6066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E4D84-7DA0-46EE-8C73-0E7E9E2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9C0D8-51BE-46CA-9904-A4C3CF40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52C7-16E2-42E5-B7EB-970F7EF1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9EE91-98BC-4F85-804D-E0799BC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92A83-CDB6-4DDD-AD91-DB63506D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B1C03-F672-42A6-BF1F-7EA3080B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AF0EC-DCF0-4131-AD42-FAC9AD99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10FB6-E338-4A66-B9A2-BC400CC3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FB3FC-F91B-4EEE-ABD1-4F84612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6B58F-160B-4D98-8264-FE6042C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671CD-24E8-4EC0-BD75-D1BD85EF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6AC29-4CAD-4567-9853-7200AD2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F52D3-F776-4E79-81E5-C11A1E3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A61E-1891-40EB-B5AF-C5EC019F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2FAA7-F04F-4954-A6A5-0C526C1D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3135C-1E20-482E-97D7-2BFCE75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20638-8FF5-4FB2-972D-6CA6EE1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8E91D-8C59-4131-8731-A8A52099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4225-F72A-4F79-9DD8-063506BD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3408-E754-48E1-B476-AFA9D005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D895-AA9B-4975-989B-3B6C4D6C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8D11-725E-4CB5-8520-201A25C6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6420-8C6C-4A82-88C5-E1D110F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DD35-F243-47B4-BD66-8758D18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097-9AFD-40F5-8CED-8FF2629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890C-3EDA-4888-BA22-BBE6E044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9BCF-4214-4124-8191-150DFCEC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D663-9E3E-4E08-973B-73718D23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DFA7-8C2F-4C3F-A37B-BCAD94ED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111D-E15A-4203-97AC-B4569E9B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FA49-AF9D-4AE3-8543-81C43B8A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86E0-6A20-4D9B-85A3-7AC25D1A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F03F-0777-4C80-A9AA-A3D10A4C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4EB3-12F4-41DE-99EC-D2DEFCD4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E790-91D7-40D7-B55B-EF452487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775-FC98-4627-98C7-4FB75C43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79317-F0E7-42D2-9A34-9D74EC02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DC05-71A4-4C0D-AA80-D0717A5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8301-D034-466F-9FD0-269C40F1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6D2D-C703-48ED-B5A7-FD19F7A9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CAC9-3668-43B3-B212-DA46B84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DBD3-2592-4901-B254-128C41FD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A93C-E61D-4831-AF4C-B818E0A2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B6DF-A4F4-404E-A595-498A65AD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CDA9D-C207-443E-896D-40A3E6D1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4E0BA-FFB1-448F-AD82-65653688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FEF-C300-409A-B8EE-C0A61B65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B626-F6DB-44E9-A6FB-A3AFE624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04D2-A607-45B6-A4C6-D53E70DE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E149-BD05-4B4C-AB8C-3A43047B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FAADD-757E-47B0-837E-0CBE371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2FCC-092B-46EA-B8D7-788FC032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F520-6AC4-4E55-A8A0-6C6C129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F266-222F-4D40-B59D-BF60AF57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1162-4670-4733-A37E-07585E1C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61221-D62D-4547-8AF6-E6DEA8DF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0A65-1C7C-493A-9C49-52778D72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1BE-A827-4EC0-805D-0D8B36A0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A699-E6D1-40F4-AC69-AF1FC7AA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96139-DC61-41FC-82A1-C687491C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3D8C-A6E0-44C8-BF5F-E3F4569E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F329-749E-441F-B59A-E8C8A2E2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28A83-3D62-48C8-984E-5115BBE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63B2D-AC36-4AD6-B48B-05449A28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94C4-BB2D-4512-B6F0-0AB076ED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31CF-0F98-458C-A26A-041B00E9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B3B7-8273-47AB-AA5F-AD9737FA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3B66-7F4D-4C42-B897-84581FC8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365-22EF-4F57-A712-379300F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E468-6507-4B3D-B4FB-6A3DE319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0DF44-F238-470F-A769-D304F68B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6376-0427-4EAF-ADD8-9EE98DA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A755E-5DB4-47A7-8943-1BE2678D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27A1D-D8A9-498A-9CE7-85403B9B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C6804-498D-4057-BFF7-0E3C4B21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1F9C-3D1E-4CED-9832-48E860AB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9BE92-0610-4E27-B13D-58703E8C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CB4B-07C7-4E88-A23F-234721E1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64FC0-CCFE-4950-80A6-74C2624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840-D19D-4806-85CB-0357FE7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82BA-25EA-4EAF-A436-D2682274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DF65-B14E-438C-8009-583D18D1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B4FCC-5FCA-4F11-A776-93794E7A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2DB22-0428-41C2-88D2-D5B5FF37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C41F2-B20D-48D0-ADF9-D2C71DCC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B87B6-CB75-412E-BCDB-07F86193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1033-AC79-45F4-ABBD-9FEC571D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CE622-2FB5-40DF-828C-E9022174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00F61-F026-45CE-ABCB-ACD68EBB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F9050-2269-4637-9F67-1CE771D6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E6E-257E-4D66-8316-E94D3857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3282-A5DF-427F-AAEE-AEB190D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C4587-39A6-4179-AFBF-68F84A07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283B2-91FD-4005-A1AB-E95ABD82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E17C6-F216-42DB-9BE0-05623F6B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6AE65-8746-458B-8B1C-FB86628F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DB811-9267-4BA9-B43F-2760843D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8E91-C131-4C64-AE5C-A42F7256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D95E5-4202-4D12-8811-DBA51EF5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D3110-0434-4D7C-A60D-0B847B9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E4931-1777-491D-9ABE-96D8D5B6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1B8-8EEF-4746-BD81-497041D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6FE7D-69F7-4977-A012-D11349A6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8E5A3-CFFF-4279-A96E-23A3FEB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7E495-65EA-4135-B5C8-8E2D621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55639-2F12-45A4-B127-6BD322F8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43084-48E0-4058-9176-9DCB4AA7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69EE4-29E6-4445-B484-A8032C90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981BF-6C61-4160-AC51-E4E943EC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A39D9-5464-4AE0-8ED9-396D66FA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78D6D-A6C6-4265-89D8-1BEB71AD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A648C-DE1D-4A5C-8090-0EDABD0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574-434B-45CB-8A6C-EF32FDA22D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719D-A8ED-46F2-886A-2F903717F1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4EE1-B0F8-48F7-B34E-FAAE757276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AC6E-8086-4A43-8C10-F9FF3F0D76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B034-7418-4751-8096-3982FCF3BC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DBCE-BDB5-4BC1-AD75-573F2387C9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3E2D-2524-43FD-9E55-4C5D700C53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FB6C-32D4-4C12-A3C5-E661726A1C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FB7-E2CB-46BA-A47C-DFD8E8232B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75D7-35F8-4725-A891-80D8B920EF3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0BE-2074-46EF-A75C-D96398C29B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815-129F-4D25-B785-EA09D79770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301-C60E-4151-80E9-5DAFE7E8B3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E068-3F89-4682-85BE-ADDE3B3DE6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4.gif"/><Relationship Id="rId3" Type="http://schemas.openxmlformats.org/officeDocument/2006/relationships/image" Target="../media/image23.gif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6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23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4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2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2"/>
          <p:cNvSpPr txBox="1"/>
          <p:nvPr/>
        </p:nvSpPr>
        <p:spPr>
          <a:xfrm>
            <a:off x="1003320" y="2781360"/>
            <a:ext cx="693720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微软雅黑"/>
              </a:rPr>
              <a:t>我是一片小树叶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0" name="矩形 3"/>
          <p:cNvSpPr/>
          <p:nvPr/>
        </p:nvSpPr>
        <p:spPr>
          <a:xfrm>
            <a:off x="204264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春天的草地"/>
          <p:cNvPicPr/>
          <p:nvPr/>
        </p:nvPicPr>
        <p:blipFill>
          <a:blip r:embed="rId1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3"/>
          <p:cNvGrpSpPr/>
          <p:nvPr/>
        </p:nvGrpSpPr>
        <p:grpSpPr>
          <a:xfrm>
            <a:off x="-312840" y="3571920"/>
            <a:ext cx="1860480" cy="5483160"/>
            <a:chOff x="-312840" y="3571920"/>
            <a:chExt cx="1860480" cy="5483160"/>
          </a:xfrm>
        </p:grpSpPr>
        <p:sp>
          <p:nvSpPr>
            <p:cNvPr id="558" name="AutoShape 4"/>
            <p:cNvSpPr/>
            <p:nvPr/>
          </p:nvSpPr>
          <p:spPr>
            <a:xfrm>
              <a:off x="245520" y="4806720"/>
              <a:ext cx="1302120" cy="424836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树叶的颜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5" descr="200961621719361"/>
            <p:cNvPicPr/>
            <p:nvPr/>
          </p:nvPicPr>
          <p:blipFill>
            <a:blip r:embed="rId3"/>
            <a:stretch/>
          </p:blipFill>
          <p:spPr>
            <a:xfrm>
              <a:off x="-312840" y="3571920"/>
              <a:ext cx="1398240" cy="17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6"/>
          <p:cNvGrpSpPr/>
          <p:nvPr/>
        </p:nvGrpSpPr>
        <p:grpSpPr>
          <a:xfrm>
            <a:off x="1825560" y="260280"/>
            <a:ext cx="2860920" cy="2448000"/>
            <a:chOff x="1825560" y="260280"/>
            <a:chExt cx="2860920" cy="2448000"/>
          </a:xfrm>
        </p:grpSpPr>
        <p:pic>
          <p:nvPicPr>
            <p:cNvPr id="561" name="Picture 7" descr="5_142953_1"/>
            <p:cNvPicPr/>
            <p:nvPr/>
          </p:nvPicPr>
          <p:blipFill>
            <a:blip r:embed="rId4"/>
            <a:stretch/>
          </p:blipFill>
          <p:spPr>
            <a:xfrm>
              <a:off x="1825560" y="260280"/>
              <a:ext cx="286092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WordArt 8"/>
            <p:cNvSpPr txBox="1"/>
            <p:nvPr/>
          </p:nvSpPr>
          <p:spPr>
            <a:xfrm>
              <a:off x="3772080" y="568800"/>
              <a:ext cx="914040" cy="52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春天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63" name="AutoShape 9"/>
          <p:cNvSpPr/>
          <p:nvPr/>
        </p:nvSpPr>
        <p:spPr>
          <a:xfrm>
            <a:off x="4759200" y="1127160"/>
            <a:ext cx="1036800" cy="33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0"/>
          <p:cNvSpPr/>
          <p:nvPr/>
        </p:nvSpPr>
        <p:spPr>
          <a:xfrm rot="5460000">
            <a:off x="7089120" y="3500280"/>
            <a:ext cx="1038240" cy="33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1"/>
          <p:cNvSpPr/>
          <p:nvPr/>
        </p:nvSpPr>
        <p:spPr>
          <a:xfrm rot="10860000">
            <a:off x="4863960" y="4725360"/>
            <a:ext cx="1038240" cy="33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2"/>
          <p:cNvGrpSpPr/>
          <p:nvPr/>
        </p:nvGrpSpPr>
        <p:grpSpPr>
          <a:xfrm>
            <a:off x="2124000" y="3571920"/>
            <a:ext cx="2597400" cy="2281320"/>
            <a:chOff x="2124000" y="3571920"/>
            <a:chExt cx="2597400" cy="2281320"/>
          </a:xfrm>
        </p:grpSpPr>
        <p:pic>
          <p:nvPicPr>
            <p:cNvPr id="567" name="Picture 13" descr="nature_winter_scene_02_39951_m"/>
            <p:cNvPicPr/>
            <p:nvPr/>
          </p:nvPicPr>
          <p:blipFill>
            <a:blip r:embed="rId8"/>
            <a:stretch/>
          </p:blipFill>
          <p:spPr>
            <a:xfrm>
              <a:off x="2124000" y="3571920"/>
              <a:ext cx="2597400" cy="22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WordArt 14"/>
            <p:cNvSpPr txBox="1"/>
            <p:nvPr/>
          </p:nvSpPr>
          <p:spPr>
            <a:xfrm>
              <a:off x="3657600" y="3880440"/>
              <a:ext cx="914760" cy="52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冬天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569" name="Group 15"/>
          <p:cNvGrpSpPr/>
          <p:nvPr/>
        </p:nvGrpSpPr>
        <p:grpSpPr>
          <a:xfrm>
            <a:off x="5978520" y="4292640"/>
            <a:ext cx="2925720" cy="1994040"/>
            <a:chOff x="5978520" y="4292640"/>
            <a:chExt cx="2925720" cy="1994040"/>
          </a:xfrm>
        </p:grpSpPr>
        <p:pic>
          <p:nvPicPr>
            <p:cNvPr id="570" name="Picture 16" descr="2008723133022505_2"/>
            <p:cNvPicPr/>
            <p:nvPr/>
          </p:nvPicPr>
          <p:blipFill>
            <a:blip r:embed="rId9"/>
            <a:stretch/>
          </p:blipFill>
          <p:spPr>
            <a:xfrm>
              <a:off x="5978520" y="4292640"/>
              <a:ext cx="29257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WordArt 17"/>
            <p:cNvSpPr txBox="1"/>
            <p:nvPr/>
          </p:nvSpPr>
          <p:spPr>
            <a:xfrm>
              <a:off x="6526800" y="4465080"/>
              <a:ext cx="914040" cy="52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秋天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572" name="Group 18"/>
          <p:cNvGrpSpPr/>
          <p:nvPr/>
        </p:nvGrpSpPr>
        <p:grpSpPr>
          <a:xfrm>
            <a:off x="5940360" y="117360"/>
            <a:ext cx="2925720" cy="2975040"/>
            <a:chOff x="5940360" y="117360"/>
            <a:chExt cx="2925720" cy="2975040"/>
          </a:xfrm>
        </p:grpSpPr>
        <p:pic>
          <p:nvPicPr>
            <p:cNvPr id="573" name="Picture 19" descr="12958418_165640683191_2"/>
            <p:cNvPicPr/>
            <p:nvPr/>
          </p:nvPicPr>
          <p:blipFill>
            <a:blip r:embed="rId10"/>
            <a:stretch/>
          </p:blipFill>
          <p:spPr>
            <a:xfrm>
              <a:off x="5940360" y="117360"/>
              <a:ext cx="292572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WordArt 20"/>
            <p:cNvSpPr txBox="1"/>
            <p:nvPr/>
          </p:nvSpPr>
          <p:spPr>
            <a:xfrm>
              <a:off x="7777800" y="2419920"/>
              <a:ext cx="914040" cy="52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33cc33">
                      <a:alpha val="50000"/>
                    </a:srgbClr>
                  </a:solidFill>
                  <a:effectLst>
                    <a:outerShdw dist="38160" dir="0" blurRad="0" rotWithShape="0">
                      <a:srgbClr val="9999ff"/>
                    </a:outerShdw>
                  </a:effectLst>
                  <a:latin typeface="宋体"/>
                </a:rPr>
                <a:t>夏天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75" name="AutoShape 21"/>
          <p:cNvSpPr/>
          <p:nvPr/>
        </p:nvSpPr>
        <p:spPr>
          <a:xfrm flipH="1">
            <a:off x="2268360" y="2405160"/>
            <a:ext cx="3964320" cy="2281320"/>
          </a:xfrm>
          <a:prstGeom prst="wedgeEllipseCallout">
            <a:avLst>
              <a:gd name="adj1" fmla="val -43750"/>
              <a:gd name="adj2" fmla="val 700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树叶的颜色会随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季节变化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83 0.137778 L 0.034791 -0.58463 E">
                                      <p:cBhvr>
                                        <p:cTn id="230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春天的草地"/>
          <p:cNvPicPr/>
          <p:nvPr/>
        </p:nvPicPr>
        <p:blipFill>
          <a:blip r:embed="rId2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sp>
        <p:nvSpPr>
          <p:cNvPr id="577" name="WordArt 3"/>
          <p:cNvSpPr txBox="1"/>
          <p:nvPr/>
        </p:nvSpPr>
        <p:spPr>
          <a:xfrm>
            <a:off x="1224000" y="23760"/>
            <a:ext cx="71992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画一画美丽的树叶朋友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9900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8" name="Picture 4" descr="200961621719361"/>
          <p:cNvPicPr/>
          <p:nvPr/>
        </p:nvPicPr>
        <p:blipFill>
          <a:blip r:embed="rId3"/>
          <a:stretch/>
        </p:blipFill>
        <p:spPr>
          <a:xfrm>
            <a:off x="-19080" y="-282600"/>
            <a:ext cx="1575000" cy="2119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b_82_PSD_20090606165619"/>
          <p:cNvPicPr/>
          <p:nvPr/>
        </p:nvPicPr>
        <p:blipFill>
          <a:blip r:embed="rId4"/>
          <a:stretch/>
        </p:blipFill>
        <p:spPr>
          <a:xfrm>
            <a:off x="12600" y="1631880"/>
            <a:ext cx="912816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781200" y="396720"/>
            <a:ext cx="1438200" cy="5760720"/>
            <a:chOff x="781200" y="396720"/>
            <a:chExt cx="1438200" cy="5760720"/>
          </a:xfrm>
        </p:grpSpPr>
        <p:sp>
          <p:nvSpPr>
            <p:cNvPr id="581" name="Oval 3"/>
            <p:cNvSpPr/>
            <p:nvPr/>
          </p:nvSpPr>
          <p:spPr>
            <a:xfrm>
              <a:off x="781200" y="396720"/>
              <a:ext cx="1438200" cy="144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观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>
              <a:off x="781200" y="1836720"/>
              <a:ext cx="1438200" cy="14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3333cc"/>
                  </a:solidFill>
                  <a:latin typeface="Arial"/>
                  <a:ea typeface="微软雅黑"/>
                </a:rPr>
                <a:t>察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>
              <a:off x="781200" y="3277440"/>
              <a:ext cx="1438200" cy="144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9900"/>
                  </a:solidFill>
                  <a:latin typeface="Arial"/>
                  <a:ea typeface="微软雅黑"/>
                </a:rPr>
                <a:t>要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6"/>
            <p:cNvSpPr/>
            <p:nvPr/>
          </p:nvSpPr>
          <p:spPr>
            <a:xfrm>
              <a:off x="781200" y="4717440"/>
              <a:ext cx="1438200" cy="144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9900cc"/>
                  </a:solidFill>
                  <a:latin typeface="Arial"/>
                  <a:ea typeface="微软雅黑"/>
                </a:rPr>
                <a:t>求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7"/>
          <p:cNvSpPr/>
          <p:nvPr/>
        </p:nvSpPr>
        <p:spPr>
          <a:xfrm>
            <a:off x="3348000" y="1550880"/>
            <a:ext cx="53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１、轻轻拿出你收集的一片树叶，仔细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3238560" y="313848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２、借助一定的手段感受（看、闻、摸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3365640" y="455760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观察后可以和同桌进行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春天的草地"/>
          <p:cNvPicPr/>
          <p:nvPr/>
        </p:nvPicPr>
        <p:blipFill>
          <a:blip r:embed="rId1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sp>
        <p:nvSpPr>
          <p:cNvPr id="589" name="WordArt 3"/>
          <p:cNvSpPr txBox="1"/>
          <p:nvPr/>
        </p:nvSpPr>
        <p:spPr>
          <a:xfrm>
            <a:off x="3703680" y="217440"/>
            <a:ext cx="3411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00cc"/>
                  </a:solidFill>
                  <a:round/>
                </a:ln>
                <a:solidFill>
                  <a:srgbClr val="9900cc"/>
                </a:solidFill>
                <a:latin typeface="宋体"/>
              </a:rPr>
              <a:t>观察笔记</a:t>
            </a:r>
            <a:endParaRPr b="0" lang="en-US" sz="1800" spc="1" strike="noStrike">
              <a:ln w="9360">
                <a:solidFill>
                  <a:srgbClr val="9900cc"/>
                </a:solidFill>
                <a:round/>
              </a:ln>
              <a:solidFill>
                <a:srgbClr val="9900cc"/>
              </a:solidFill>
              <a:latin typeface="宋体"/>
              <a:ea typeface="宋体"/>
            </a:endParaRPr>
          </a:p>
        </p:txBody>
      </p:sp>
      <p:pic>
        <p:nvPicPr>
          <p:cNvPr id="590" name="Picture 4" descr="20110711053724614"/>
          <p:cNvPicPr/>
          <p:nvPr/>
        </p:nvPicPr>
        <p:blipFill>
          <a:blip r:embed="rId2"/>
          <a:stretch/>
        </p:blipFill>
        <p:spPr>
          <a:xfrm>
            <a:off x="257040" y="12600"/>
            <a:ext cx="3135600" cy="16509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132000" y="1628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990099"/>
                </a:solidFill>
                <a:latin typeface="宋体"/>
                <a:ea typeface="宋体"/>
              </a:rPr>
              <a:t>我要介绍的一片从校园里捡到的玉兰树叶。它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没有</a:t>
            </a:r>
            <a:r>
              <a:rPr b="0" lang="zh-CN" sz="2800" spc="-1" strike="noStrike">
                <a:solidFill>
                  <a:srgbClr val="990099"/>
                </a:solidFill>
                <a:latin typeface="宋体"/>
                <a:ea typeface="宋体"/>
              </a:rPr>
              <a:t>银杏树叶那样轻薄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没有</a:t>
            </a:r>
            <a:r>
              <a:rPr b="0" lang="zh-CN" sz="2800" spc="-1" strike="noStrike">
                <a:solidFill>
                  <a:srgbClr val="990099"/>
                </a:solidFill>
                <a:latin typeface="宋体"/>
                <a:ea typeface="宋体"/>
              </a:rPr>
              <a:t>枫树叶那么漂亮，也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没有</a:t>
            </a:r>
            <a:r>
              <a:rPr b="0" lang="zh-CN" sz="2800" spc="-1" strike="noStrike">
                <a:solidFill>
                  <a:srgbClr val="990099"/>
                </a:solidFill>
                <a:latin typeface="宋体"/>
                <a:ea typeface="宋体"/>
              </a:rPr>
              <a:t>玉兰花那么香气宜人。它叶面很光滑，很绿，绿得发亮！叶面周边还有一圈金色的边。再看它的背面，有一层棕色的绒毛，又短又密，像是用来防寒的毛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玉兰树叶"/>
          <p:cNvPicPr/>
          <p:nvPr/>
        </p:nvPicPr>
        <p:blipFill>
          <a:blip r:embed="rId3"/>
          <a:stretch/>
        </p:blipFill>
        <p:spPr>
          <a:xfrm>
            <a:off x="87480" y="2075040"/>
            <a:ext cx="2798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春天的草地"/>
          <p:cNvPicPr/>
          <p:nvPr/>
        </p:nvPicPr>
        <p:blipFill>
          <a:blip r:embed="rId1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sp>
        <p:nvSpPr>
          <p:cNvPr id="594" name="WordArt 3"/>
          <p:cNvSpPr txBox="1"/>
          <p:nvPr/>
        </p:nvSpPr>
        <p:spPr>
          <a:xfrm>
            <a:off x="3703680" y="217440"/>
            <a:ext cx="3411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00cc"/>
                  </a:solidFill>
                  <a:round/>
                </a:ln>
                <a:solidFill>
                  <a:srgbClr val="9900cc"/>
                </a:solidFill>
                <a:latin typeface="宋体"/>
              </a:rPr>
              <a:t>观察笔记</a:t>
            </a:r>
            <a:endParaRPr b="0" lang="en-US" sz="1800" spc="1" strike="noStrike">
              <a:ln w="9360">
                <a:solidFill>
                  <a:srgbClr val="9900cc"/>
                </a:solidFill>
                <a:round/>
              </a:ln>
              <a:solidFill>
                <a:srgbClr val="9900cc"/>
              </a:solidFill>
              <a:latin typeface="宋体"/>
              <a:ea typeface="宋体"/>
            </a:endParaRPr>
          </a:p>
        </p:txBody>
      </p:sp>
      <p:pic>
        <p:nvPicPr>
          <p:cNvPr id="595" name="Picture 4" descr="20110711053724614"/>
          <p:cNvPicPr/>
          <p:nvPr/>
        </p:nvPicPr>
        <p:blipFill>
          <a:blip r:embed="rId2"/>
          <a:stretch/>
        </p:blipFill>
        <p:spPr>
          <a:xfrm>
            <a:off x="257040" y="12600"/>
            <a:ext cx="3135600" cy="16509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5"/>
          <p:cNvSpPr/>
          <p:nvPr/>
        </p:nvSpPr>
        <p:spPr>
          <a:xfrm>
            <a:off x="1552680" y="2276640"/>
            <a:ext cx="57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990099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要介绍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(            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它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没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没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         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也没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2400" spc="-1" strike="noStrike">
                <a:solidFill>
                  <a:srgbClr val="990099"/>
                </a:solidFill>
                <a:latin typeface="宋体"/>
                <a:ea typeface="宋体"/>
              </a:rPr>
              <a:t>它的颜色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990099"/>
                </a:solidFill>
                <a:latin typeface="宋体"/>
                <a:ea typeface="宋体"/>
              </a:rPr>
              <a:t>看起来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      ），</a:t>
            </a:r>
            <a:r>
              <a:rPr b="0" lang="zh-CN" sz="2400" spc="-1" strike="noStrike">
                <a:solidFill>
                  <a:srgbClr val="990099"/>
                </a:solidFill>
                <a:latin typeface="宋体"/>
                <a:ea typeface="宋体"/>
              </a:rPr>
              <a:t>摸起来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990099"/>
                </a:solidFill>
                <a:latin typeface="宋体"/>
                <a:ea typeface="宋体"/>
              </a:rPr>
              <a:t>闻起来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db17fbc0df0208fb072c458b4893c36c"/>
          <p:cNvPicPr/>
          <p:nvPr/>
        </p:nvPicPr>
        <p:blipFill>
          <a:blip r:embed="rId2"/>
          <a:stretch/>
        </p:blipFill>
        <p:spPr>
          <a:xfrm>
            <a:off x="73080" y="-87480"/>
            <a:ext cx="1558800" cy="16462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"/>
          <p:cNvSpPr/>
          <p:nvPr/>
        </p:nvSpPr>
        <p:spPr>
          <a:xfrm>
            <a:off x="538200" y="2133720"/>
            <a:ext cx="7848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是一片小树叶，我离开树妈妈的怀抱，来到我心心念念的天空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飞呀飞呀，飞到了操场上，看到很多的小朋友在跑道上飞奔，跑得可真快呀！终于，最前面的同学奋力一跑，冲过红绳，拿到了了第一名！旁边加油的同学高兴得跳起来了，我也为他这种努力拼搏的精神而喝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离开了操场，又继续了新的旅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·····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春天的草地"/>
          <p:cNvPicPr/>
          <p:nvPr/>
        </p:nvPicPr>
        <p:blipFill>
          <a:blip r:embed="rId3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sp>
        <p:nvSpPr>
          <p:cNvPr id="600" name="WordArt 5"/>
          <p:cNvSpPr txBox="1"/>
          <p:nvPr/>
        </p:nvSpPr>
        <p:spPr>
          <a:xfrm>
            <a:off x="1631880" y="219240"/>
            <a:ext cx="608004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张开想象的翅膀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150"/>
                            </p:stCondLst>
                            <p:childTnLst>
                              <p:par>
                                <p:cTn id="33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500"/>
                            </p:stCondLst>
                            <p:childTnLst>
                              <p:par>
                                <p:cTn id="342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2"/>
          <p:cNvSpPr txBox="1"/>
          <p:nvPr/>
        </p:nvSpPr>
        <p:spPr>
          <a:xfrm>
            <a:off x="1447920" y="2276640"/>
            <a:ext cx="607824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演一演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春天的草地"/>
          <p:cNvPicPr/>
          <p:nvPr/>
        </p:nvPicPr>
        <p:blipFill>
          <a:blip r:embed="rId1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3"/>
          <p:cNvGrpSpPr/>
          <p:nvPr/>
        </p:nvGrpSpPr>
        <p:grpSpPr>
          <a:xfrm>
            <a:off x="-312840" y="3571920"/>
            <a:ext cx="1860480" cy="5483160"/>
            <a:chOff x="-312840" y="3571920"/>
            <a:chExt cx="1860480" cy="5483160"/>
          </a:xfrm>
        </p:grpSpPr>
        <p:sp>
          <p:nvSpPr>
            <p:cNvPr id="604" name="AutoShape 4"/>
            <p:cNvSpPr/>
            <p:nvPr/>
          </p:nvSpPr>
          <p:spPr>
            <a:xfrm>
              <a:off x="245520" y="4806720"/>
              <a:ext cx="1302120" cy="4248360"/>
            </a:xfrm>
            <a:prstGeom prst="vertic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词句加油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Picture 5" descr="200961621719361"/>
            <p:cNvPicPr/>
            <p:nvPr/>
          </p:nvPicPr>
          <p:blipFill>
            <a:blip r:embed="rId3"/>
            <a:stretch/>
          </p:blipFill>
          <p:spPr>
            <a:xfrm>
              <a:off x="-312840" y="3571920"/>
              <a:ext cx="1398240" cy="17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Text Box 6"/>
          <p:cNvSpPr/>
          <p:nvPr/>
        </p:nvSpPr>
        <p:spPr>
          <a:xfrm>
            <a:off x="3567600" y="477720"/>
            <a:ext cx="36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心形   扇形  针形  椭圆形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宽阔   修长  狭长  旋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金黄   火红  嫩绿  黄澄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清香   乘凉  凋谢   飞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枝繁叶茂     苍翠欲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落叶归根     落叶知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一叶知秋     金枝玉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一叶障目，不见泰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牡丹虽好，全仗绿叶扶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583 0.137778 L 0.034791 -0.58463 E">
                                      <p:cBhvr>
                                        <p:cTn id="374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1260360" y="119160"/>
            <a:ext cx="7777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  <a:ea typeface="宋体"/>
              </a:rPr>
              <a:t>我是一片小树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是一片小小的樟树叶，我长得虽然没有枫树叶那么漂亮，没有芭蕉叶那么大，也没有柳树那么修长，但是我有着淡淡的清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春天，我在树妈妈的怀抱里探出脑袋，我每天在妈妈的怀里，幸福极了。咦？那边传来阵阵美妙的音乐，哦！动物们在树下开一年一度的音乐派对，瞧，那是蚂蚁妹妹扭着她那纤细的腰，跳起了美妙的舞蹈，蝴蝶姑娘也在轻轻地起舞，美丽的花衣裳在阳光底下光彩夺目。青蛙大姐来了，她带来了动听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春之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我陶醉在这音乐声。后来又加入了蜜蜂、小鸟，他们聚集在树下，继续进行音乐派队。黑色的燕子朋友旅游回来了，给我们讲它旅游的趣事。我就想，如果我也能够去旅游，那该多好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转眼间炎热的夏天来了，我和妈妈还有许多的兄弟姐妹一起为小动物，还有许多过往的行人挡住火辣辣的阳光，帮助他人，快乐自己。但是，我还是没有忘记想去旅游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3"/>
          <p:cNvSpPr txBox="1"/>
          <p:nvPr/>
        </p:nvSpPr>
        <p:spPr>
          <a:xfrm rot="5400000">
            <a:off x="-144360" y="396360"/>
            <a:ext cx="1753920" cy="119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宋体"/>
              </a:rPr>
              <a:t>欣赏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044720" y="4795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到了秋天，秋风阿姨答应带领我去远方看看，我依依不舍地离开了树妈妈的怀抱，开始我的旅程，我飘呀飘，来到小河，我顺着水流浪，期待这美丽的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“救命呀，救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河水中有一个小小的身影在大叫，我飘过去，原来是一只贪玩的小蜘蛛，我叫他爬到我身上，他挣扎着，用力的抓住我的身子，我载着他，飘到了草地上，他紧紧的抱着我，在草地上睡着了，看着他在睡梦中露出的笑脸，我也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我继续飘呀飘，帮助蚂蚁们过河搬运粮食；帮小鱼遮挡灼人的阳光。一路上，还认识了很多之前没有见过的亲戚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冬天来了，寒风裹着雪花呼呼地吹着，我想念树妈妈了，我想回到树妈妈的身边，这时候，有一个蹦蹦跳跳走过来的小男孩发现了我，他背着小书包，将我带回了他温暖的家，还把我洗干净，做成了一个美丽的书签，从此我和他一起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-27000" y="49320"/>
            <a:ext cx="7335720" cy="15825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森林里正在举行树叶选美比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8572021_214931094000_2"/>
          <p:cNvPicPr/>
          <p:nvPr/>
        </p:nvPicPr>
        <p:blipFill>
          <a:blip r:embed="rId3"/>
          <a:stretch/>
        </p:blipFill>
        <p:spPr>
          <a:xfrm>
            <a:off x="5005440" y="2637000"/>
            <a:ext cx="4102200" cy="398916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4"/>
          <p:cNvSpPr/>
          <p:nvPr/>
        </p:nvSpPr>
        <p:spPr>
          <a:xfrm>
            <a:off x="755640" y="2852640"/>
            <a:ext cx="3816360" cy="2089080"/>
          </a:xfrm>
          <a:prstGeom prst="wedgeRectCallout">
            <a:avLst>
              <a:gd name="adj1" fmla="val 72481"/>
              <a:gd name="adj2" fmla="val 71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282680" y="3139920"/>
            <a:ext cx="2712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是最漂亮的，我不仅形状像是一把漂亮的扇子；而且我的衣服在阳光的照耀下金灿灿的，炫目极了。我肯定能得冠军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5940360" y="1703520"/>
            <a:ext cx="22305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银杏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7"/>
          <p:cNvSpPr txBox="1"/>
          <p:nvPr/>
        </p:nvSpPr>
        <p:spPr>
          <a:xfrm>
            <a:off x="539640" y="5219640"/>
            <a:ext cx="424512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树叶选美大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324000" y="-14400"/>
            <a:ext cx="8712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0" lang="zh-CN" sz="3600" spc="-1" strike="noStrike">
                <a:solidFill>
                  <a:srgbClr val="990099"/>
                </a:solidFill>
                <a:latin typeface="宋体"/>
                <a:ea typeface="宋体"/>
              </a:rPr>
              <a:t>假如我是一片小树叶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是一片树叶，我随风摇曳，我在风中舞蹈，在水上漂浮，在地上翻跟头，在天空中飞翔；我是一片树叶，是一片多姿多彩的树叶……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儿在空中唱着美妙绝伦的歌曲，云朵在空中慢慢地漂浮，太阳在空中开心的微笑。春天，这美丽的节日，百花齐放，鸟语花香，而我，在树上跳着那欢快的踢踏舞，跟着风儿跳舞，跟着云儿奔跑，跟着鸟儿歌唱，跟着花儿微笑，望着旁边的同胞慢慢地抽出新芽，我发自内心的开心，在这个美丽的春天，我要和大家一同欢笑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露珠从我们身上滑过，阳光照耀在我们身上，微风扬过我们的脸颊。我们的下面，是人们的笑声，大家一同欢笑着，在我们的怀抱下乘凉。“唰唰，唰唰……”一个个充满想象的音符，从我们的嘴里出发，要去到各个地方，给人们带去欢乐。我们愿顶着酷热的太阳，唱出最美好的歌曲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转眼间，风儿变快了，云儿变少了，阳光变淡了，我们也随着秋姑娘的到来，换上了鲜艳的红色衣服，看着对面的稻谷哥哥笑嘻嘻地也穿上了金黄的新衣，“稻子丰收了！”农民伯伯开心地大声吆喝，我看着人们那满脸的笑容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里也甜丝丝的。在这火红的秋天里，我的同胞们都投入了大地母亲的怀抱，只剩下大树爷爷和我孤零零地竖立在严霜之中。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冬天来了，白皑皑的雪散布在树上，地上也都是白茫茫的，我也要离开大树爷爷了，慢慢地，我也从树上坠落下来，在严寒之中从高高的树上落下，我虽然只是一片不起眼的树叶，但我也要默默地奉献我的微弱的力量。我要化作一团泥巴，与同胞们一起培养下一代的花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20079416610"/>
          <p:cNvPicPr/>
          <p:nvPr/>
        </p:nvPicPr>
        <p:blipFill>
          <a:blip r:embed="rId2"/>
          <a:stretch/>
        </p:blipFill>
        <p:spPr>
          <a:xfrm>
            <a:off x="-22320" y="3071880"/>
            <a:ext cx="9166320" cy="3786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u=722195490,3157167608&amp;fm=0&amp;gp=0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7180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20061208035728pbm8"/>
          <p:cNvPicPr/>
          <p:nvPr/>
        </p:nvPicPr>
        <p:blipFill>
          <a:blip r:embed="rId4"/>
          <a:stretch/>
        </p:blipFill>
        <p:spPr>
          <a:xfrm>
            <a:off x="-19080" y="-11160"/>
            <a:ext cx="4807080" cy="37051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Leaves_450"/>
          <p:cNvPicPr/>
          <p:nvPr/>
        </p:nvPicPr>
        <p:blipFill>
          <a:blip r:embed="rId5"/>
          <a:stretch/>
        </p:blipFill>
        <p:spPr>
          <a:xfrm>
            <a:off x="-12600" y="0"/>
            <a:ext cx="5016240" cy="4365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F:\PPT\树叶集\20111025161617598.jpg20111025161617598"/>
          <p:cNvPicPr/>
          <p:nvPr/>
        </p:nvPicPr>
        <p:blipFill>
          <a:blip r:embed="rId6"/>
          <a:stretch/>
        </p:blipFill>
        <p:spPr>
          <a:xfrm>
            <a:off x="4414680" y="-14400"/>
            <a:ext cx="4729320" cy="3089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bd5c9743812968251905df5cc1a5_604_514"/>
          <p:cNvPicPr/>
          <p:nvPr/>
        </p:nvPicPr>
        <p:blipFill>
          <a:blip r:embed="rId7"/>
          <a:stretch/>
        </p:blipFill>
        <p:spPr>
          <a:xfrm>
            <a:off x="4413240" y="3073320"/>
            <a:ext cx="4732200" cy="3813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b3fb43166d224f4a82d3d19b09f790529922d1f4"/>
          <p:cNvPicPr/>
          <p:nvPr/>
        </p:nvPicPr>
        <p:blipFill>
          <a:blip r:embed="rId8"/>
          <a:stretch/>
        </p:blipFill>
        <p:spPr>
          <a:xfrm>
            <a:off x="-22320" y="3286080"/>
            <a:ext cx="44290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春天的草地"/>
          <p:cNvPicPr/>
          <p:nvPr/>
        </p:nvPicPr>
        <p:blipFill>
          <a:blip r:embed="rId1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sp>
        <p:nvSpPr>
          <p:cNvPr id="619" name="WordArt 3"/>
          <p:cNvSpPr txBox="1"/>
          <p:nvPr/>
        </p:nvSpPr>
        <p:spPr>
          <a:xfrm>
            <a:off x="2739960" y="84240"/>
            <a:ext cx="34066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智慧开花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0" name="Picture 4" descr="0S3115303-18"/>
          <p:cNvPicPr/>
          <p:nvPr/>
        </p:nvPicPr>
        <p:blipFill>
          <a:blip r:embed="rId2"/>
          <a:stretch/>
        </p:blipFill>
        <p:spPr>
          <a:xfrm>
            <a:off x="47520" y="84240"/>
            <a:ext cx="2960640" cy="165708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112680" y="1844640"/>
            <a:ext cx="8945640" cy="452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      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  <a:ea typeface="宋体"/>
              </a:rPr>
              <a:t>你喜欢刚才的小树叶吗？那现在我们就把自己想象成一片小树叶吧，可以从以下几个方面介绍自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  <a:ea typeface="宋体"/>
              </a:rPr>
              <a:t>　１、“我”在四季里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  <a:ea typeface="宋体"/>
              </a:rPr>
              <a:t>　２、“我”难忘的经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  <a:ea typeface="宋体"/>
              </a:rPr>
              <a:t>、“我”的奇妙之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注意：要将作文写的具体、生动、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243"/>
          <p:cNvPicPr/>
          <p:nvPr/>
        </p:nvPicPr>
        <p:blipFill>
          <a:blip r:embed="rId3"/>
          <a:stretch/>
        </p:blipFill>
        <p:spPr>
          <a:xfrm>
            <a:off x="6213600" y="84240"/>
            <a:ext cx="2768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春天的草地"/>
          <p:cNvPicPr/>
          <p:nvPr/>
        </p:nvPicPr>
        <p:blipFill>
          <a:blip r:embed="rId1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0S3115303-18"/>
          <p:cNvPicPr/>
          <p:nvPr/>
        </p:nvPicPr>
        <p:blipFill>
          <a:blip r:embed="rId2"/>
          <a:stretch/>
        </p:blipFill>
        <p:spPr>
          <a:xfrm>
            <a:off x="47520" y="84240"/>
            <a:ext cx="2960640" cy="16570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243"/>
          <p:cNvPicPr/>
          <p:nvPr/>
        </p:nvPicPr>
        <p:blipFill>
          <a:blip r:embed="rId3"/>
          <a:stretch/>
        </p:blipFill>
        <p:spPr>
          <a:xfrm>
            <a:off x="6213600" y="84240"/>
            <a:ext cx="2768400" cy="19047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5"/>
          <p:cNvSpPr txBox="1"/>
          <p:nvPr/>
        </p:nvSpPr>
        <p:spPr>
          <a:xfrm>
            <a:off x="2739960" y="84240"/>
            <a:ext cx="34066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写作指导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112680" y="1844640"/>
            <a:ext cx="8945640" cy="452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怎样才能将作文写的具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写四季变化的时候，要仔细观察，按照一定观察顺序，将树叶的形状、大小、颜色、味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写难忘的经历和奇异之旅的时候，将事情的开始，经过，结果写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春天的草地"/>
          <p:cNvPicPr/>
          <p:nvPr/>
        </p:nvPicPr>
        <p:blipFill>
          <a:blip r:embed="rId1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0S3115303-18"/>
          <p:cNvPicPr/>
          <p:nvPr/>
        </p:nvPicPr>
        <p:blipFill>
          <a:blip r:embed="rId2"/>
          <a:stretch/>
        </p:blipFill>
        <p:spPr>
          <a:xfrm>
            <a:off x="47520" y="84240"/>
            <a:ext cx="2960640" cy="16570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243"/>
          <p:cNvPicPr/>
          <p:nvPr/>
        </p:nvPicPr>
        <p:blipFill>
          <a:blip r:embed="rId3"/>
          <a:stretch/>
        </p:blipFill>
        <p:spPr>
          <a:xfrm>
            <a:off x="6213600" y="84240"/>
            <a:ext cx="2768400" cy="1904760"/>
          </a:xfrm>
          <a:prstGeom prst="rect">
            <a:avLst/>
          </a:prstGeom>
          <a:ln w="0">
            <a:noFill/>
          </a:ln>
        </p:spPr>
      </p:pic>
      <p:sp>
        <p:nvSpPr>
          <p:cNvPr id="631" name="WordArt 5"/>
          <p:cNvSpPr txBox="1"/>
          <p:nvPr/>
        </p:nvSpPr>
        <p:spPr>
          <a:xfrm>
            <a:off x="2739960" y="84240"/>
            <a:ext cx="34066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写作指导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112680" y="1844640"/>
            <a:ext cx="8945640" cy="452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怎样才能将作文写的生动、形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比喻，拟人的写作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"/>
          <p:cNvSpPr/>
          <p:nvPr/>
        </p:nvSpPr>
        <p:spPr>
          <a:xfrm>
            <a:off x="1574640" y="581832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WordArt 2" descr=""/>
          <p:cNvPicPr/>
          <p:nvPr/>
        </p:nvPicPr>
        <p:blipFill>
          <a:blip r:embed="rId2"/>
          <a:stretch/>
        </p:blipFill>
        <p:spPr>
          <a:xfrm>
            <a:off x="-179280" y="2558880"/>
            <a:ext cx="7958160" cy="17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8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77C0-A092-4D89-812F-6E14DB98E0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杨树叶"/>
          <p:cNvPicPr/>
          <p:nvPr/>
        </p:nvPicPr>
        <p:blipFill>
          <a:blip r:embed="rId2"/>
          <a:stretch/>
        </p:blipFill>
        <p:spPr>
          <a:xfrm>
            <a:off x="4356000" y="2881440"/>
            <a:ext cx="4788000" cy="374328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3"/>
          <p:cNvGrpSpPr/>
          <p:nvPr/>
        </p:nvGrpSpPr>
        <p:grpSpPr>
          <a:xfrm>
            <a:off x="252360" y="2784600"/>
            <a:ext cx="3745080" cy="2660400"/>
            <a:chOff x="252360" y="2784600"/>
            <a:chExt cx="3745080" cy="2660400"/>
          </a:xfrm>
        </p:grpSpPr>
        <p:sp>
          <p:nvSpPr>
            <p:cNvPr id="509" name="AutoShape 4"/>
            <p:cNvSpPr/>
            <p:nvPr/>
          </p:nvSpPr>
          <p:spPr>
            <a:xfrm>
              <a:off x="252360" y="2784600"/>
              <a:ext cx="3745080" cy="2660400"/>
            </a:xfrm>
            <a:prstGeom prst="wedgeRectCallout">
              <a:avLst>
                <a:gd name="adj1" fmla="val 66939"/>
                <a:gd name="adj2" fmla="val 8297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5"/>
            <p:cNvSpPr/>
            <p:nvPr/>
          </p:nvSpPr>
          <p:spPr>
            <a:xfrm>
              <a:off x="537840" y="3130200"/>
              <a:ext cx="30618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才是最漂亮的，你看我绿衣服上面的花纹，是多么的繁复好看，我还有着波浪裙边。而且，我有很多朋友，你看，我的好朋友——蚂蚁先生过来为我加油了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6"/>
          <p:cNvSpPr/>
          <p:nvPr/>
        </p:nvSpPr>
        <p:spPr>
          <a:xfrm>
            <a:off x="5724360" y="1631880"/>
            <a:ext cx="223056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杨树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WordArt 7"/>
          <p:cNvSpPr txBox="1"/>
          <p:nvPr/>
        </p:nvSpPr>
        <p:spPr>
          <a:xfrm>
            <a:off x="1263600" y="227160"/>
            <a:ext cx="42451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树叶选美大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3"/>
          <a:stretch/>
        </p:blipFill>
        <p:spPr>
          <a:xfrm>
            <a:off x="7524720" y="3646440"/>
            <a:ext cx="14209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枫树叶(3)"/>
          <p:cNvPicPr/>
          <p:nvPr/>
        </p:nvPicPr>
        <p:blipFill>
          <a:blip r:embed="rId2"/>
          <a:stretch/>
        </p:blipFill>
        <p:spPr>
          <a:xfrm>
            <a:off x="4141800" y="2708280"/>
            <a:ext cx="4896000" cy="410544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3"/>
          <p:cNvGrpSpPr/>
          <p:nvPr/>
        </p:nvGrpSpPr>
        <p:grpSpPr>
          <a:xfrm>
            <a:off x="39600" y="1924200"/>
            <a:ext cx="3743280" cy="2949480"/>
            <a:chOff x="39600" y="1924200"/>
            <a:chExt cx="3743280" cy="2949480"/>
          </a:xfrm>
        </p:grpSpPr>
        <p:sp>
          <p:nvSpPr>
            <p:cNvPr id="516" name="AutoShape 4"/>
            <p:cNvSpPr/>
            <p:nvPr/>
          </p:nvSpPr>
          <p:spPr>
            <a:xfrm>
              <a:off x="39600" y="1924200"/>
              <a:ext cx="3743280" cy="2949480"/>
            </a:xfrm>
            <a:prstGeom prst="wedgeRectCallout">
              <a:avLst>
                <a:gd name="adj1" fmla="val 66939"/>
                <a:gd name="adj2" fmla="val 82972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5"/>
            <p:cNvSpPr/>
            <p:nvPr/>
          </p:nvSpPr>
          <p:spPr>
            <a:xfrm>
              <a:off x="324360" y="2459160"/>
              <a:ext cx="3060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四季穿不同的衣服，春天是嫩绿的，夏天是翠绿的，秋天则火红一片，冬天的我穿着褐色的衣服，有时还会披上一件冬姑娘送的白色的斗篷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6"/>
          <p:cNvSpPr/>
          <p:nvPr/>
        </p:nvSpPr>
        <p:spPr>
          <a:xfrm>
            <a:off x="5724360" y="1631880"/>
            <a:ext cx="2230560" cy="764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枫树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WordArt 7"/>
          <p:cNvSpPr txBox="1"/>
          <p:nvPr/>
        </p:nvSpPr>
        <p:spPr>
          <a:xfrm>
            <a:off x="1263600" y="227160"/>
            <a:ext cx="42451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树叶选美大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20" name="Picture 8" descr="13946715_1348035177177"/>
          <p:cNvPicPr/>
          <p:nvPr/>
        </p:nvPicPr>
        <p:blipFill>
          <a:blip r:embed="rId3"/>
          <a:stretch/>
        </p:blipFill>
        <p:spPr>
          <a:xfrm>
            <a:off x="4533840" y="2708280"/>
            <a:ext cx="4471920" cy="4105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u143630069_137b9a2dbf0g214"/>
          <p:cNvPicPr/>
          <p:nvPr/>
        </p:nvPicPr>
        <p:blipFill>
          <a:blip r:embed="rId4"/>
          <a:stretch/>
        </p:blipFill>
        <p:spPr>
          <a:xfrm>
            <a:off x="4110120" y="2708280"/>
            <a:ext cx="4895640" cy="40402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5252423_151151928000_2"/>
          <p:cNvPicPr/>
          <p:nvPr/>
        </p:nvPicPr>
        <p:blipFill>
          <a:blip r:embed="rId5"/>
          <a:stretch/>
        </p:blipFill>
        <p:spPr>
          <a:xfrm>
            <a:off x="4110120" y="2727360"/>
            <a:ext cx="5002200" cy="4149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1" descr="3150906_172025054399_2"/>
          <p:cNvPicPr/>
          <p:nvPr/>
        </p:nvPicPr>
        <p:blipFill>
          <a:blip r:embed="rId6"/>
          <a:stretch/>
        </p:blipFill>
        <p:spPr>
          <a:xfrm>
            <a:off x="4111560" y="2703600"/>
            <a:ext cx="50007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9"/>
          <p:cNvSpPr/>
          <p:nvPr/>
        </p:nvSpPr>
        <p:spPr>
          <a:xfrm>
            <a:off x="896760" y="444672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松针"/>
          <p:cNvPicPr/>
          <p:nvPr/>
        </p:nvPicPr>
        <p:blipFill>
          <a:blip r:embed="rId2"/>
          <a:stretch/>
        </p:blipFill>
        <p:spPr>
          <a:xfrm>
            <a:off x="468360" y="2635200"/>
            <a:ext cx="4484520" cy="4105440"/>
          </a:xfrm>
          <a:prstGeom prst="rect">
            <a:avLst/>
          </a:prstGeom>
          <a:ln w="0">
            <a:noFill/>
          </a:ln>
        </p:spPr>
      </p:pic>
      <p:grpSp>
        <p:nvGrpSpPr>
          <p:cNvPr id="526" name="Group 3"/>
          <p:cNvGrpSpPr/>
          <p:nvPr/>
        </p:nvGrpSpPr>
        <p:grpSpPr>
          <a:xfrm>
            <a:off x="5292720" y="2243160"/>
            <a:ext cx="3743280" cy="1977840"/>
            <a:chOff x="5292720" y="2243160"/>
            <a:chExt cx="3743280" cy="1977840"/>
          </a:xfrm>
        </p:grpSpPr>
        <p:sp>
          <p:nvSpPr>
            <p:cNvPr id="527" name="AutoShape 4"/>
            <p:cNvSpPr/>
            <p:nvPr/>
          </p:nvSpPr>
          <p:spPr>
            <a:xfrm>
              <a:off x="5292720" y="2243160"/>
              <a:ext cx="3743280" cy="1977840"/>
            </a:xfrm>
            <a:prstGeom prst="wedgeRectCallout">
              <a:avLst>
                <a:gd name="adj1" fmla="val -79791"/>
                <a:gd name="adj2" fmla="val 10035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5"/>
            <p:cNvSpPr/>
            <p:nvPr/>
          </p:nvSpPr>
          <p:spPr>
            <a:xfrm>
              <a:off x="5796000" y="2782440"/>
              <a:ext cx="2734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的家人特别多，我们分布在东南西北不同的地方，四季常青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6"/>
          <p:cNvSpPr/>
          <p:nvPr/>
        </p:nvSpPr>
        <p:spPr>
          <a:xfrm>
            <a:off x="1476360" y="1730520"/>
            <a:ext cx="22305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松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7"/>
          <p:cNvSpPr txBox="1"/>
          <p:nvPr/>
        </p:nvSpPr>
        <p:spPr>
          <a:xfrm>
            <a:off x="1263600" y="227160"/>
            <a:ext cx="42451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树叶选美大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bki-20110806214458-234554666"/>
          <p:cNvPicPr/>
          <p:nvPr/>
        </p:nvPicPr>
        <p:blipFill>
          <a:blip r:embed="rId2"/>
          <a:stretch/>
        </p:blipFill>
        <p:spPr>
          <a:xfrm>
            <a:off x="395280" y="2492280"/>
            <a:ext cx="4286160" cy="410544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3"/>
          <p:cNvGrpSpPr/>
          <p:nvPr/>
        </p:nvGrpSpPr>
        <p:grpSpPr>
          <a:xfrm>
            <a:off x="4792680" y="2239920"/>
            <a:ext cx="3743280" cy="2413080"/>
            <a:chOff x="4792680" y="2239920"/>
            <a:chExt cx="3743280" cy="2413080"/>
          </a:xfrm>
        </p:grpSpPr>
        <p:sp>
          <p:nvSpPr>
            <p:cNvPr id="533" name="AutoShape 4"/>
            <p:cNvSpPr/>
            <p:nvPr/>
          </p:nvSpPr>
          <p:spPr>
            <a:xfrm>
              <a:off x="4792680" y="2239920"/>
              <a:ext cx="3743280" cy="2413080"/>
            </a:xfrm>
            <a:prstGeom prst="wedgeRectCallout">
              <a:avLst>
                <a:gd name="adj1" fmla="val -79791"/>
                <a:gd name="adj2" fmla="val 100351"/>
              </a:avLst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5"/>
            <p:cNvSpPr/>
            <p:nvPr/>
          </p:nvSpPr>
          <p:spPr>
            <a:xfrm>
              <a:off x="5295240" y="2810520"/>
              <a:ext cx="2734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阔大的叶子像是一片巨型的羽毛。在夏天投下大大的树阴，为怕热的动物和植物朋友遮挡灼人的阳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6"/>
          <p:cNvSpPr/>
          <p:nvPr/>
        </p:nvSpPr>
        <p:spPr>
          <a:xfrm>
            <a:off x="1476360" y="1577880"/>
            <a:ext cx="2230560" cy="764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芭蕉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7"/>
          <p:cNvSpPr txBox="1"/>
          <p:nvPr/>
        </p:nvSpPr>
        <p:spPr>
          <a:xfrm>
            <a:off x="1263600" y="227160"/>
            <a:ext cx="42451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树叶选美大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294739_215202449192_2"/>
          <p:cNvPicPr/>
          <p:nvPr/>
        </p:nvPicPr>
        <p:blipFill>
          <a:blip r:embed="rId2"/>
          <a:stretch/>
        </p:blipFill>
        <p:spPr>
          <a:xfrm>
            <a:off x="466560" y="2411280"/>
            <a:ext cx="4286520" cy="442908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3"/>
          <p:cNvGrpSpPr/>
          <p:nvPr/>
        </p:nvGrpSpPr>
        <p:grpSpPr>
          <a:xfrm>
            <a:off x="4933800" y="4105440"/>
            <a:ext cx="3743640" cy="1477800"/>
            <a:chOff x="4933800" y="4105440"/>
            <a:chExt cx="3743640" cy="1477800"/>
          </a:xfrm>
        </p:grpSpPr>
        <p:sp>
          <p:nvSpPr>
            <p:cNvPr id="539" name="AutoShape 4"/>
            <p:cNvSpPr/>
            <p:nvPr/>
          </p:nvSpPr>
          <p:spPr>
            <a:xfrm>
              <a:off x="4933800" y="4105440"/>
              <a:ext cx="3743640" cy="1477800"/>
            </a:xfrm>
            <a:prstGeom prst="wedgeRectCallout">
              <a:avLst>
                <a:gd name="adj1" fmla="val -63138"/>
                <a:gd name="adj2" fmla="val -87013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5"/>
            <p:cNvSpPr/>
            <p:nvPr/>
          </p:nvSpPr>
          <p:spPr>
            <a:xfrm>
              <a:off x="5435640" y="4481640"/>
              <a:ext cx="2734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春姑娘最喜欢我，选我做春天的使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6"/>
          <p:cNvSpPr/>
          <p:nvPr/>
        </p:nvSpPr>
        <p:spPr>
          <a:xfrm>
            <a:off x="1476360" y="1577880"/>
            <a:ext cx="2230560" cy="764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柳树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7"/>
          <p:cNvSpPr txBox="1"/>
          <p:nvPr/>
        </p:nvSpPr>
        <p:spPr>
          <a:xfrm>
            <a:off x="1263600" y="227160"/>
            <a:ext cx="42451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树叶选美大赛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68360" y="3139920"/>
            <a:ext cx="5832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宋体"/>
              </a:rPr>
              <a:t>你认为谁才是我们的冠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4"/>
          <p:cNvSpPr txBox="1"/>
          <p:nvPr/>
        </p:nvSpPr>
        <p:spPr>
          <a:xfrm>
            <a:off x="468360" y="476280"/>
            <a:ext cx="3887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c0504d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评一评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c0504d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53960" y="4978440"/>
            <a:ext cx="8007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我认为（    ）是冠军，因为（    ）。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春天的草地"/>
          <p:cNvPicPr/>
          <p:nvPr/>
        </p:nvPicPr>
        <p:blipFill>
          <a:blip r:embed="rId2"/>
          <a:stretch/>
        </p:blipFill>
        <p:spPr>
          <a:xfrm>
            <a:off x="-19080" y="5157720"/>
            <a:ext cx="9126720" cy="1700280"/>
          </a:xfrm>
          <a:prstGeom prst="rect">
            <a:avLst/>
          </a:prstGeom>
          <a:ln w="0">
            <a:noFill/>
          </a:ln>
        </p:spPr>
      </p:pic>
      <p:sp>
        <p:nvSpPr>
          <p:cNvPr id="547" name="WordArt 3"/>
          <p:cNvSpPr txBox="1"/>
          <p:nvPr/>
        </p:nvSpPr>
        <p:spPr>
          <a:xfrm>
            <a:off x="36360" y="0"/>
            <a:ext cx="6150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树叶的形状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9900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8" name="Picture 4" descr="540"/>
          <p:cNvPicPr/>
          <p:nvPr/>
        </p:nvPicPr>
        <p:blipFill>
          <a:blip r:embed="rId3"/>
          <a:stretch/>
        </p:blipFill>
        <p:spPr>
          <a:xfrm rot="600000">
            <a:off x="125280" y="1387080"/>
            <a:ext cx="3598920" cy="2765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银杏"/>
          <p:cNvPicPr/>
          <p:nvPr/>
        </p:nvPicPr>
        <p:blipFill>
          <a:blip r:embed="rId4"/>
          <a:stretch/>
        </p:blipFill>
        <p:spPr>
          <a:xfrm rot="21000000">
            <a:off x="5284800" y="858600"/>
            <a:ext cx="3822840" cy="31384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松针"/>
          <p:cNvPicPr/>
          <p:nvPr/>
        </p:nvPicPr>
        <p:blipFill>
          <a:blip r:embed="rId5"/>
          <a:stretch/>
        </p:blipFill>
        <p:spPr>
          <a:xfrm rot="21300000">
            <a:off x="234720" y="3949200"/>
            <a:ext cx="2971800" cy="2737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2531170_071700194000_2"/>
          <p:cNvPicPr/>
          <p:nvPr/>
        </p:nvPicPr>
        <p:blipFill>
          <a:blip r:embed="rId6"/>
          <a:stretch/>
        </p:blipFill>
        <p:spPr>
          <a:xfrm rot="1620000">
            <a:off x="5789520" y="3901680"/>
            <a:ext cx="3433680" cy="32259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fengye"/>
          <p:cNvPicPr/>
          <p:nvPr/>
        </p:nvPicPr>
        <p:blipFill>
          <a:blip r:embed="rId7"/>
          <a:stretch/>
        </p:blipFill>
        <p:spPr>
          <a:xfrm>
            <a:off x="3581280" y="2349360"/>
            <a:ext cx="2606760" cy="26258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b_82_PSD_20090606165619"/>
          <p:cNvPicPr/>
          <p:nvPr/>
        </p:nvPicPr>
        <p:blipFill>
          <a:blip r:embed="rId8"/>
          <a:stretch/>
        </p:blipFill>
        <p:spPr>
          <a:xfrm>
            <a:off x="-4680" y="1270080"/>
            <a:ext cx="9124920" cy="560700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10"/>
          <p:cNvSpPr/>
          <p:nvPr/>
        </p:nvSpPr>
        <p:spPr>
          <a:xfrm>
            <a:off x="3206880" y="2852640"/>
            <a:ext cx="4608360" cy="1584360"/>
          </a:xfrm>
          <a:prstGeom prst="wedgeRoundRectCallout">
            <a:avLst>
              <a:gd name="adj1" fmla="val -36356"/>
              <a:gd name="adj2" fmla="val 106953"/>
              <a:gd name="adj3" fmla="val 16667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树叶的形状真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各种各样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1" descr="200961621719361"/>
          <p:cNvPicPr/>
          <p:nvPr/>
        </p:nvPicPr>
        <p:blipFill>
          <a:blip r:embed="rId10"/>
          <a:stretch/>
        </p:blipFill>
        <p:spPr>
          <a:xfrm>
            <a:off x="1692360" y="3997440"/>
            <a:ext cx="24890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30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