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.png" ContentType="image/png"/>
  <Override PartName="/ppt/media/image12.wmf" ContentType="image/x-wmf"/>
  <Override PartName="/ppt/media/click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763b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DCE-35DA-4874-9BF0-E595DABBD7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16F-49DD-4A3D-96B4-333A08A45079}" type="slidenum">
              <a:rPr b="0" lang="zh-CN" sz="1200" spc="-1" strike="noStrike">
                <a:solidFill>
                  <a:srgbClr val="3f4143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51A-FF83-495E-A91D-8F332291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DAF-DE0C-4E12-B59E-9DA81FB3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055-CD87-40C8-B1CA-D0FE795D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ADB-8B73-491F-8D31-85D0EEC8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31D-634D-478A-8086-0780D57D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F5C-ACE1-4525-BB74-01DF2CD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C6BC-3668-4B4B-916E-E034A3C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EAD-CED1-4510-A789-6D125A1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BE6-C891-427A-B4F5-0BA1941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325F-A3DC-4B79-B598-DB3AE04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5DE-559F-4C21-AC07-3C34245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95B-704B-459D-A12D-16055299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288-4265-493D-B779-7EE09C4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834F-6326-41F4-86CC-A14C1FC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25D2-5950-4BED-A796-EA69B0E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F0B0-9FA2-4B09-B78E-BF2AA91A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1C3-252C-4475-9C9C-9DE6E75A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1C5B-A2F2-45FF-AAC4-E6E04A0F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A5B6-585A-4C2D-8F65-28BA3B4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087B-0DFC-43D6-B0C3-9ECDC045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51C3-2122-4D45-81DC-54BDBBE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6EA4-B687-434F-B5BA-8462034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769-983F-47AA-8F26-5994DB2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4D95-63CC-4D49-8663-6B6334B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3139-12E7-4EF5-8A49-32E31B6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E2C4-EB20-47BA-B1AF-C994B15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BD7D-F284-4B14-ABB7-3EAE924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7ECA-A1B0-43E7-A6B6-2788DD8F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8247-366A-4910-B8F4-8AEBEEE5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681D-396E-435F-82EC-A5B121E6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2599-7614-472D-B5F0-32AD555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DA72-18A0-429D-B7E5-71F5E9E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C6F7-18F7-4729-ACC4-15DF4712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4A6-3719-4817-961F-AC324E7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57BD-9AE3-4F50-B917-99AAFB4C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1D8C-41D4-466E-AF60-BF0CBC86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0AC94-1CD1-4F74-98A1-D0205704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F95E-74DF-4BE9-97AA-E5D306C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8B02-AB81-4967-B902-EB04F31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63CA-CDB5-4851-8C22-116B089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5DAF-A564-4EB8-AEC5-6E28E1E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1E35-47E4-409F-88E0-BDED1ED8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02672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910680"/>
            <a:ext cx="26697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BC6E-B9FE-46E7-9821-822D1C29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364-D9BD-4557-ABA9-56A9948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B10-7A4E-4FF2-B632-C5240D2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0C9-197C-4D10-9A99-A8B2DFD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91068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ECA-115A-4E81-A220-66C33E8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26720"/>
            <a:ext cx="404604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3910680"/>
            <a:ext cx="829152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7FA-D4E2-4B33-B2EE-6BB46D1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6171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c617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C5E-E581-47F7-B850-6257B5AF3BF2}" type="slidenum">
              <a:rPr b="0" lang="zh-CN" sz="1200" spc="-1" strike="noStrike">
                <a:solidFill>
                  <a:srgbClr val="9293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8dcb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6171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c617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8dcb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61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617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0B0-494A-4940-BD72-6904E5237180}" type="slidenum">
              <a:rPr b="0" lang="zh-CN" sz="1200" spc="-1" strike="noStrike">
                <a:solidFill>
                  <a:srgbClr val="9293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63" r="756" b="1616"/>
          <a:stretch/>
        </p:blipFill>
        <p:spPr>
          <a:xfrm>
            <a:off x="3240" y="-11160"/>
            <a:ext cx="9140760" cy="687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763b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881-45F3-45A1-ABB0-3999829A1F17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7c533"/>
              </a:buClr>
              <a:buFont typeface="Web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7dfa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7" descr=""/>
          <p:cNvPicPr/>
          <p:nvPr/>
        </p:nvPicPr>
        <p:blipFill>
          <a:blip r:embed="rId2"/>
          <a:srcRect l="52" t="1274" r="0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763b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040" y="1026720"/>
            <a:ext cx="82915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7c533"/>
              </a:buClr>
              <a:buFont typeface="Web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7dfa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832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E773-C253-4B6C-89E0-CD64850545E8}" type="slidenum">
              <a:rPr b="0" lang="zh-CN" sz="1200" spc="-1" strike="noStrike">
                <a:solidFill>
                  <a:srgbClr val="929292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&#40723;&#25484;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tmp/home/.config/libreoffice/4/user/gallery/&#39118;&#38083;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slideLayout" Target="../slideLayouts/slideLayout25.xml"/><Relationship Id="rId2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467000" y="1174680"/>
            <a:ext cx="6264000" cy="24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中宋"/>
              </a:rPr>
              <a:t>我是中国娃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1861920" y="5591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987640" y="1197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写</a:t>
            </a:r>
            <a:r>
              <a:rPr b="1" lang="zh-CN" sz="5400" spc="-1" strike="noStrike">
                <a:solidFill>
                  <a:srgbClr val="3f4143"/>
                </a:solidFill>
                <a:latin typeface="Arial"/>
                <a:ea typeface="楷体"/>
              </a:rPr>
              <a:t> 的 是 中 国 字 ，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说</a:t>
            </a:r>
            <a:r>
              <a:rPr b="1" lang="zh-CN" sz="5400" spc="-1" strike="noStrike">
                <a:solidFill>
                  <a:srgbClr val="3f4143"/>
                </a:solidFill>
                <a:latin typeface="Arial"/>
                <a:ea typeface="楷体"/>
              </a:rPr>
              <a:t> 的 是 中 国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话</a:t>
            </a:r>
            <a:r>
              <a:rPr b="1" lang="zh-CN" sz="5400" spc="-1" strike="noStrike">
                <a:solidFill>
                  <a:srgbClr val="3f4143"/>
                </a:solidFill>
                <a:latin typeface="Arial"/>
                <a:ea typeface="楷体"/>
              </a:rPr>
              <a:t> 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629080" y="170172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不</a:t>
            </a:r>
            <a:r>
              <a:rPr b="1" lang="zh-CN" sz="5400" spc="-1" strike="noStrike">
                <a:solidFill>
                  <a:srgbClr val="3f4143"/>
                </a:solidFill>
                <a:latin typeface="Arial"/>
                <a:ea typeface="楷体"/>
              </a:rPr>
              <a:t> 管 在 哪 里 ，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4143"/>
                </a:solidFill>
                <a:latin typeface="Arial"/>
                <a:ea typeface="楷体"/>
              </a:rPr>
              <a:t>中 国 都 是 我 的家 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2268360" y="692280"/>
            <a:ext cx="4969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是中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国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娃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我 是 中 国 娃 ，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着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黑 眼 睛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，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长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着 黑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头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发 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写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的 是 中 国 字 ，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的 是 中 国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话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不</a:t>
            </a: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 管 在 哪 里 ，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4143"/>
                </a:solidFill>
                <a:latin typeface="楷体"/>
                <a:ea typeface="楷体"/>
              </a:rPr>
              <a:t>中 国 都 是 我 的 家 </a:t>
            </a:r>
            <a:r>
              <a:rPr b="1" lang="zh-CN" sz="3200" spc="-1" strike="noStrike">
                <a:solidFill>
                  <a:srgbClr val="3f4143"/>
                </a:solidFill>
                <a:latin typeface="Arial"/>
                <a:ea typeface="楷体"/>
              </a:rPr>
              <a:t>。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2009130151178153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971640" y="2602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国有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6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个民族，各民族兄弟姐妹是相亲相爱的一家人。</a:t>
            </a:r>
            <a:endParaRPr b="0" lang="en-US" sz="4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20081209341124_2"/>
          <p:cNvPicPr/>
          <p:nvPr/>
        </p:nvPicPr>
        <p:blipFill>
          <a:blip r:embed="rId1"/>
          <a:stretch/>
        </p:blipFill>
        <p:spPr>
          <a:xfrm>
            <a:off x="5076720" y="404640"/>
            <a:ext cx="3816360" cy="2864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213291_230424007736_2"/>
          <p:cNvPicPr/>
          <p:nvPr/>
        </p:nvPicPr>
        <p:blipFill>
          <a:blip r:embed="rId2"/>
          <a:stretch/>
        </p:blipFill>
        <p:spPr>
          <a:xfrm>
            <a:off x="900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u=2708243064,660087224&amp;fm=23&amp;gp=0"/>
          <p:cNvPicPr/>
          <p:nvPr/>
        </p:nvPicPr>
        <p:blipFill>
          <a:blip r:embed="rId3"/>
          <a:stretch/>
        </p:blipFill>
        <p:spPr>
          <a:xfrm>
            <a:off x="971640" y="3611520"/>
            <a:ext cx="3744720" cy="2481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u=2604243279,4172901374&amp;fm=52&amp;gp=0"/>
          <p:cNvPicPr/>
          <p:nvPr/>
        </p:nvPicPr>
        <p:blipFill>
          <a:blip r:embed="rId4"/>
          <a:stretch/>
        </p:blipFill>
        <p:spPr>
          <a:xfrm>
            <a:off x="5076720" y="3573360"/>
            <a:ext cx="3816360" cy="25210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87280" y="620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藏 布达拉宫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187280" y="5229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南 玉龙雪山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5580000" y="692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里长城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5867280" y="537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杭州 西湖</a:t>
            </a:r>
            <a:endParaRPr b="0" lang="en-US" sz="32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73080" y="333360"/>
            <a:ext cx="61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风景如画的中国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u=1427173288,1188914845&amp;fm=23&amp;gp=0"/>
          <p:cNvPicPr/>
          <p:nvPr/>
        </p:nvPicPr>
        <p:blipFill>
          <a:blip r:embed="rId1"/>
          <a:stretch/>
        </p:blipFill>
        <p:spPr>
          <a:xfrm>
            <a:off x="3348000" y="981000"/>
            <a:ext cx="1898640" cy="223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u=4219715273,2908104592&amp;fm=23&amp;gp=0"/>
          <p:cNvPicPr/>
          <p:nvPr/>
        </p:nvPicPr>
        <p:blipFill>
          <a:blip r:embed="rId2"/>
          <a:stretch/>
        </p:blipFill>
        <p:spPr>
          <a:xfrm>
            <a:off x="324000" y="1003320"/>
            <a:ext cx="2952720" cy="2209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u=2191045762,3955953799&amp;fm=23&amp;gp=0"/>
          <p:cNvPicPr/>
          <p:nvPr/>
        </p:nvPicPr>
        <p:blipFill>
          <a:blip r:embed="rId3"/>
          <a:stretch/>
        </p:blipFill>
        <p:spPr>
          <a:xfrm>
            <a:off x="590400" y="3860640"/>
            <a:ext cx="3333960" cy="1971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u=4184557220,3478862556&amp;fm=23&amp;gp=0"/>
          <p:cNvPicPr/>
          <p:nvPr/>
        </p:nvPicPr>
        <p:blipFill>
          <a:blip r:embed="rId4"/>
          <a:stretch/>
        </p:blipFill>
        <p:spPr>
          <a:xfrm>
            <a:off x="4716360" y="3716280"/>
            <a:ext cx="3780000" cy="2203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u=971625320,1192995820&amp;fm=52&amp;gp=0"/>
          <p:cNvPicPr/>
          <p:nvPr/>
        </p:nvPicPr>
        <p:blipFill>
          <a:blip r:embed="rId5"/>
          <a:stretch/>
        </p:blipFill>
        <p:spPr>
          <a:xfrm>
            <a:off x="5940360" y="996840"/>
            <a:ext cx="2952720" cy="22161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7"/>
          <p:cNvSpPr/>
          <p:nvPr/>
        </p:nvSpPr>
        <p:spPr>
          <a:xfrm>
            <a:off x="6227640" y="3270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火箭发射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11280" y="3270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神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问候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天宫一号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1763640" y="587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08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我国成功举办奥运会</a:t>
            </a:r>
            <a:endParaRPr b="0" lang="en-US" sz="2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108000" y="115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飞速发展的中国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>
            <a:off x="6948360" y="6021360"/>
            <a:ext cx="1871640" cy="79236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51008" h="21600">
                <a:moveTo>
                  <a:pt x="0" y="0"/>
                </a:moveTo>
                <a:lnTo>
                  <a:pt x="51008" y="0"/>
                </a:lnTo>
                <a:lnTo>
                  <a:pt x="51008" y="21600"/>
                </a:lnTo>
                <a:lnTo>
                  <a:pt x="0" y="21600"/>
                </a:lnTo>
                <a:close/>
              </a:path>
              <a:path fill="lightenLess" w="51008" h="21600">
                <a:moveTo>
                  <a:pt x="0" y="0"/>
                </a:moveTo>
                <a:lnTo>
                  <a:pt x="51008" y="0"/>
                </a:lnTo>
                <a:lnTo>
                  <a:pt x="49608" y="1400"/>
                </a:lnTo>
                <a:lnTo>
                  <a:pt x="1400" y="1400"/>
                </a:lnTo>
                <a:close/>
              </a:path>
              <a:path fill="darken" w="51008" h="21600">
                <a:moveTo>
                  <a:pt x="51008" y="0"/>
                </a:moveTo>
                <a:lnTo>
                  <a:pt x="51008" y="21600"/>
                </a:lnTo>
                <a:lnTo>
                  <a:pt x="49608" y="20200"/>
                </a:lnTo>
                <a:lnTo>
                  <a:pt x="49608" y="1400"/>
                </a:lnTo>
                <a:close/>
              </a:path>
              <a:path fill="darkenLess" w="51008" h="21600">
                <a:moveTo>
                  <a:pt x="51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8" y="20200"/>
                </a:lnTo>
                <a:close/>
              </a:path>
              <a:path fill="lighten" w="51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08" h="21600">
                <a:moveTo>
                  <a:pt x="18498" y="7301"/>
                </a:moveTo>
                <a:lnTo>
                  <a:pt x="19411" y="7301"/>
                </a:lnTo>
                <a:lnTo>
                  <a:pt x="19794" y="7667"/>
                </a:lnTo>
                <a:lnTo>
                  <a:pt x="29003" y="7667"/>
                </a:lnTo>
                <a:lnTo>
                  <a:pt x="29560" y="8224"/>
                </a:lnTo>
                <a:lnTo>
                  <a:pt x="29560" y="8772"/>
                </a:lnTo>
                <a:lnTo>
                  <a:pt x="31405" y="8772"/>
                </a:lnTo>
                <a:lnTo>
                  <a:pt x="31771" y="8224"/>
                </a:lnTo>
                <a:lnTo>
                  <a:pt x="32511" y="8224"/>
                </a:lnTo>
                <a:lnTo>
                  <a:pt x="32511" y="13376"/>
                </a:lnTo>
                <a:lnTo>
                  <a:pt x="31771" y="13376"/>
                </a:lnTo>
                <a:lnTo>
                  <a:pt x="31405" y="12828"/>
                </a:lnTo>
                <a:lnTo>
                  <a:pt x="29560" y="12828"/>
                </a:lnTo>
                <a:lnTo>
                  <a:pt x="29560" y="14107"/>
                </a:lnTo>
                <a:lnTo>
                  <a:pt x="19977" y="14107"/>
                </a:lnTo>
                <a:lnTo>
                  <a:pt x="19977" y="9877"/>
                </a:lnTo>
                <a:lnTo>
                  <a:pt x="19794" y="9877"/>
                </a:lnTo>
                <a:lnTo>
                  <a:pt x="19411" y="10243"/>
                </a:lnTo>
                <a:lnTo>
                  <a:pt x="18498" y="10243"/>
                </a:lnTo>
                <a:close/>
              </a:path>
            </a:pathLst>
          </a:custGeom>
          <a:solidFill>
            <a:srgbClr val="5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我是中国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国旗"/>
          <p:cNvPicPr/>
          <p:nvPr/>
        </p:nvPicPr>
        <p:blipFill>
          <a:blip r:embed="rId2"/>
          <a:stretch/>
        </p:blipFill>
        <p:spPr>
          <a:xfrm>
            <a:off x="3564000" y="189000"/>
            <a:ext cx="4537080" cy="30765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484360" y="3429000"/>
            <a:ext cx="669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骄傲，我是中国娃！</a:t>
            </a:r>
            <a:endParaRPr b="0" lang="en-US" sz="44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爱自己的祖国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--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中国！</a:t>
            </a:r>
            <a:endParaRPr b="0" lang="en-US" sz="4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我是中国娃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3"/>
          <p:cNvSpPr/>
          <p:nvPr/>
        </p:nvSpPr>
        <p:spPr>
          <a:xfrm>
            <a:off x="2844720" y="981000"/>
            <a:ext cx="601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作业：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为中国娃画一幅自画像，画出自己的特点来。 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98" name="文本框 1"/>
          <p:cNvSpPr/>
          <p:nvPr/>
        </p:nvSpPr>
        <p:spPr>
          <a:xfrm>
            <a:off x="825480" y="632304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4143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3f4143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3f4143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3f4143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c763b"/>
                </a:solidFill>
                <a:latin typeface="Arial Black"/>
              </a:rPr>
              <a:t>使用规范说明</a:t>
            </a:r>
            <a:endParaRPr b="1" lang="en-US" sz="3200" spc="-1" strike="noStrike">
              <a:solidFill>
                <a:srgbClr val="3c763b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9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70c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a8322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36C-65F4-4BAF-8320-3CEB993A6B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24000" y="249228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自由朗读课文，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楷体"/>
              </a:rPr>
              <a:t>找出文中不认识的字，把它圈出来，读一读，认一认。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0540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宋体"/>
              </a:rPr>
              <a:t>zhōng guó   wá   wa      xué  shēnɡ 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9640" y="1701720"/>
            <a:ext cx="885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中 国   娃 娃   学 生   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00000" y="5661000"/>
            <a:ext cx="72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"/>
              </a:rPr>
              <a:t>长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  短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"/>
              </a:rPr>
              <a:t>长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"/>
              </a:rPr>
              <a:t>  大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-244440" y="2997360"/>
            <a:ext cx="94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黑 板   眼 睛   头 发  是 否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2" name="WordArt 6"/>
          <p:cNvSpPr txBox="1"/>
          <p:nvPr/>
        </p:nvSpPr>
        <p:spPr>
          <a:xfrm rot="840000">
            <a:off x="107640" y="-236520"/>
            <a:ext cx="2452680" cy="17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788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我会认：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788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-101520" y="2565360"/>
            <a:ext cx="91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宋体"/>
              </a:rPr>
              <a:t>hēi   bǎn     yǎn   jing     tóu  fa    shì  fǒu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51320" y="4294080"/>
            <a:ext cx="60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写 字   说 话   不 好</a:t>
            </a:r>
            <a:r>
              <a:rPr b="1" lang="zh-CN" sz="4800" spc="-1" strike="noStrike">
                <a:solidFill>
                  <a:srgbClr val="3f4143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2360" y="3718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宋体"/>
              </a:rPr>
              <a:t>xiě    zì     shuō  huà     bù   hǎo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6360" y="5013360"/>
            <a:ext cx="80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hánɡ </a:t>
            </a: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宋体"/>
              </a:rPr>
              <a:t>duǎn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zhǎnɡ</a:t>
            </a:r>
            <a:r>
              <a:rPr b="1" lang="zh-CN" sz="3600" spc="-1" strike="noStrike">
                <a:solidFill>
                  <a:srgbClr val="3f4143"/>
                </a:solidFill>
                <a:latin typeface="Arial"/>
                <a:ea typeface="宋体"/>
              </a:rPr>
              <a:t>  dà</a:t>
            </a:r>
            <a:endParaRPr b="0" lang="en-US" sz="36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828720" y="105264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是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484360" y="105408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中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14880" y="1268280"/>
            <a:ext cx="11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娃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900000" y="2708280"/>
            <a:ext cx="109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黑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797560" y="270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眼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5320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睛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6012000" y="112392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生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9440" y="2781360"/>
            <a:ext cx="71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长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828720" y="4221000"/>
            <a:ext cx="102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4143"/>
                </a:solidFill>
                <a:latin typeface="Arial"/>
                <a:ea typeface="楷体_GB2312"/>
              </a:rPr>
              <a:t>头</a:t>
            </a:r>
            <a:endParaRPr b="0" lang="en-US" sz="66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196" name="Picture 12" descr="0"/>
          <p:cNvPicPr/>
          <p:nvPr/>
        </p:nvPicPr>
        <p:blipFill>
          <a:blip r:embed="rId1"/>
          <a:stretch/>
        </p:blipFill>
        <p:spPr>
          <a:xfrm>
            <a:off x="900000" y="2781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26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1197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0"/>
          <p:cNvPicPr/>
          <p:nvPr/>
        </p:nvPicPr>
        <p:blipFill>
          <a:blip r:embed="rId6"/>
          <a:stretch/>
        </p:blipFill>
        <p:spPr>
          <a:xfrm>
            <a:off x="4284720" y="126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0"/>
          <p:cNvPicPr/>
          <p:nvPr/>
        </p:nvPicPr>
        <p:blipFill>
          <a:blip r:embed="rId7"/>
          <a:stretch/>
        </p:blipFill>
        <p:spPr>
          <a:xfrm>
            <a:off x="6084720" y="1197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0"/>
          <p:cNvPicPr/>
          <p:nvPr/>
        </p:nvPicPr>
        <p:blipFill>
          <a:blip r:embed="rId8"/>
          <a:stretch/>
        </p:blipFill>
        <p:spPr>
          <a:xfrm>
            <a:off x="2629080" y="27813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0"/>
          <p:cNvPicPr/>
          <p:nvPr/>
        </p:nvPicPr>
        <p:blipFill>
          <a:blip r:embed="rId9"/>
          <a:stretch/>
        </p:blipFill>
        <p:spPr>
          <a:xfrm>
            <a:off x="4356000" y="2852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0"/>
          <p:cNvPicPr/>
          <p:nvPr/>
        </p:nvPicPr>
        <p:blipFill>
          <a:blip r:embed="rId10"/>
          <a:stretch/>
        </p:blipFill>
        <p:spPr>
          <a:xfrm>
            <a:off x="6156360" y="2781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0"/>
          <p:cNvPicPr/>
          <p:nvPr/>
        </p:nvPicPr>
        <p:blipFill>
          <a:blip r:embed="rId11"/>
          <a:stretch/>
        </p:blipFill>
        <p:spPr>
          <a:xfrm>
            <a:off x="900000" y="4292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1"/>
          <p:cNvSpPr txBox="1"/>
          <p:nvPr/>
        </p:nvSpPr>
        <p:spPr>
          <a:xfrm>
            <a:off x="324000" y="0"/>
            <a:ext cx="25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宋体"/>
              </a:rPr>
              <a:t>我 会 认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blipFill rotWithShape="0">
                <a:blip r:embed="rId1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41400" y="6094440"/>
            <a:ext cx="118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2484360" y="43657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4143"/>
                </a:solidFill>
                <a:latin typeface="Arial"/>
                <a:ea typeface="宋体"/>
              </a:rPr>
              <a:t>写</a:t>
            </a:r>
            <a:endParaRPr b="0" lang="en-US" sz="6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229440" y="4221000"/>
            <a:ext cx="10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4143"/>
                </a:solidFill>
                <a:latin typeface="Arial"/>
                <a:ea typeface="宋体"/>
              </a:rPr>
              <a:t>话</a:t>
            </a:r>
            <a:endParaRPr b="0" lang="en-US" sz="60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7453440" y="4292640"/>
            <a:ext cx="11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4143"/>
                </a:solidFill>
                <a:latin typeface="Arial"/>
                <a:ea typeface="宋体"/>
              </a:rPr>
              <a:t>不</a:t>
            </a:r>
            <a:endParaRPr b="0" lang="en-US" sz="60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210" name="Picture 19" descr="0"/>
          <p:cNvPicPr/>
          <p:nvPr/>
        </p:nvPicPr>
        <p:blipFill>
          <a:blip r:embed="rId14"/>
          <a:stretch/>
        </p:blipFill>
        <p:spPr>
          <a:xfrm>
            <a:off x="2556000" y="443700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0"/>
          <p:cNvPicPr/>
          <p:nvPr/>
        </p:nvPicPr>
        <p:blipFill>
          <a:blip r:embed="rId15"/>
          <a:stretch/>
        </p:blipFill>
        <p:spPr>
          <a:xfrm>
            <a:off x="6229440" y="4292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0"/>
          <p:cNvPicPr/>
          <p:nvPr/>
        </p:nvPicPr>
        <p:blipFill>
          <a:blip r:embed="rId16"/>
          <a:stretch/>
        </p:blipFill>
        <p:spPr>
          <a:xfrm>
            <a:off x="7524720" y="4292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8"/>
          <p:cNvSpPr/>
          <p:nvPr/>
        </p:nvSpPr>
        <p:spPr>
          <a:xfrm>
            <a:off x="4213080" y="4437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4143"/>
                </a:solidFill>
                <a:latin typeface="Arial"/>
                <a:ea typeface="宋体"/>
              </a:rPr>
              <a:t>说</a:t>
            </a:r>
            <a:endParaRPr b="0" lang="en-US" sz="60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214" name="Picture 19" descr="0"/>
          <p:cNvPicPr/>
          <p:nvPr/>
        </p:nvPicPr>
        <p:blipFill>
          <a:blip r:embed="rId17"/>
          <a:stretch/>
        </p:blipFill>
        <p:spPr>
          <a:xfrm>
            <a:off x="4356000" y="4437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9"/>
          <p:cNvSpPr/>
          <p:nvPr/>
        </p:nvSpPr>
        <p:spPr>
          <a:xfrm>
            <a:off x="3890880" y="313992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3f4143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789840" y="-372600"/>
            <a:ext cx="7060680" cy="6827040"/>
            <a:chOff x="789840" y="-372600"/>
            <a:chExt cx="7060680" cy="6827040"/>
          </a:xfrm>
        </p:grpSpPr>
        <p:sp>
          <p:nvSpPr>
            <p:cNvPr id="217" name="Rectangle 3"/>
            <p:cNvSpPr/>
            <p:nvPr/>
          </p:nvSpPr>
          <p:spPr>
            <a:xfrm>
              <a:off x="3924360" y="4869720"/>
              <a:ext cx="1152360" cy="158472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4143"/>
                </a:solidFill>
                <a:latin typeface="Arial"/>
              </a:endParaRPr>
            </a:p>
          </p:txBody>
        </p:sp>
        <p:sp>
          <p:nvSpPr>
            <p:cNvPr id="218" name="Cloud"/>
            <p:cNvSpPr/>
            <p:nvPr/>
          </p:nvSpPr>
          <p:spPr>
            <a:xfrm rot="11275200">
              <a:off x="1115640" y="44280"/>
              <a:ext cx="6408720" cy="517680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19" name="Group 5"/>
          <p:cNvGrpSpPr/>
          <p:nvPr/>
        </p:nvGrpSpPr>
        <p:grpSpPr>
          <a:xfrm>
            <a:off x="6012000" y="2709720"/>
            <a:ext cx="1159920" cy="1150920"/>
            <a:chOff x="6012000" y="2709720"/>
            <a:chExt cx="1159920" cy="1150920"/>
          </a:xfrm>
        </p:grpSpPr>
        <p:pic>
          <p:nvPicPr>
            <p:cNvPr id="220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6012000" y="2709720"/>
              <a:ext cx="1139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7"/>
            <p:cNvSpPr/>
            <p:nvPr/>
          </p:nvSpPr>
          <p:spPr>
            <a:xfrm>
              <a:off x="6163920" y="309060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头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5148360" y="3789360"/>
            <a:ext cx="1150920" cy="1150920"/>
            <a:chOff x="5148360" y="3789360"/>
            <a:chExt cx="1150920" cy="1150920"/>
          </a:xfrm>
        </p:grpSpPr>
        <p:pic>
          <p:nvPicPr>
            <p:cNvPr id="223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48360" y="378936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10"/>
            <p:cNvSpPr/>
            <p:nvPr/>
          </p:nvSpPr>
          <p:spPr>
            <a:xfrm>
              <a:off x="5364360" y="414972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不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25" name="Group 11"/>
          <p:cNvGrpSpPr/>
          <p:nvPr/>
        </p:nvGrpSpPr>
        <p:grpSpPr>
          <a:xfrm>
            <a:off x="2556000" y="476280"/>
            <a:ext cx="1139760" cy="1152000"/>
            <a:chOff x="2556000" y="476280"/>
            <a:chExt cx="1139760" cy="1152000"/>
          </a:xfrm>
        </p:grpSpPr>
        <p:pic>
          <p:nvPicPr>
            <p:cNvPr id="226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2556000" y="476280"/>
              <a:ext cx="113976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3"/>
            <p:cNvSpPr/>
            <p:nvPr/>
          </p:nvSpPr>
          <p:spPr>
            <a:xfrm>
              <a:off x="2708280" y="7815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4143"/>
                  </a:solidFill>
                  <a:latin typeface="Arial"/>
                  <a:ea typeface="宋体"/>
                </a:rPr>
                <a:t>中</a:t>
              </a:r>
              <a:endParaRPr b="0" lang="en-US" sz="36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28" name="Group 14"/>
          <p:cNvGrpSpPr/>
          <p:nvPr/>
        </p:nvGrpSpPr>
        <p:grpSpPr>
          <a:xfrm>
            <a:off x="1692360" y="3860640"/>
            <a:ext cx="1218600" cy="1152360"/>
            <a:chOff x="1692360" y="3860640"/>
            <a:chExt cx="1218600" cy="1152360"/>
          </a:xfrm>
        </p:grpSpPr>
        <p:pic>
          <p:nvPicPr>
            <p:cNvPr id="229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1692360" y="3860640"/>
              <a:ext cx="12186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"/>
            <p:cNvSpPr/>
            <p:nvPr/>
          </p:nvSpPr>
          <p:spPr>
            <a:xfrm>
              <a:off x="2018160" y="4241880"/>
              <a:ext cx="5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4143"/>
                  </a:solidFill>
                  <a:latin typeface="Arial"/>
                  <a:ea typeface="宋体"/>
                </a:rPr>
                <a:t>说</a:t>
              </a:r>
              <a:endParaRPr b="0" lang="en-US" sz="36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31" name="Group 17"/>
          <p:cNvGrpSpPr/>
          <p:nvPr/>
        </p:nvGrpSpPr>
        <p:grpSpPr>
          <a:xfrm>
            <a:off x="4284720" y="117360"/>
            <a:ext cx="1495440" cy="1150920"/>
            <a:chOff x="4284720" y="117360"/>
            <a:chExt cx="1495440" cy="1150920"/>
          </a:xfrm>
        </p:grpSpPr>
        <p:pic>
          <p:nvPicPr>
            <p:cNvPr id="232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4284720" y="11736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9"/>
            <p:cNvSpPr/>
            <p:nvPr/>
          </p:nvSpPr>
          <p:spPr>
            <a:xfrm>
              <a:off x="4437000" y="57456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是 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34" name="Group 20"/>
          <p:cNvGrpSpPr/>
          <p:nvPr/>
        </p:nvGrpSpPr>
        <p:grpSpPr>
          <a:xfrm>
            <a:off x="3564000" y="1628640"/>
            <a:ext cx="988920" cy="1000080"/>
            <a:chOff x="3564000" y="1628640"/>
            <a:chExt cx="988920" cy="1000080"/>
          </a:xfrm>
        </p:grpSpPr>
        <p:pic>
          <p:nvPicPr>
            <p:cNvPr id="235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564000" y="1628640"/>
              <a:ext cx="9889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2"/>
            <p:cNvSpPr/>
            <p:nvPr/>
          </p:nvSpPr>
          <p:spPr>
            <a:xfrm>
              <a:off x="3885840" y="1857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4143"/>
                  </a:solidFill>
                  <a:latin typeface="Arial"/>
                  <a:ea typeface="宋体"/>
                </a:rPr>
                <a:t>娃</a:t>
              </a:r>
              <a:endParaRPr b="0" lang="en-US" sz="36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37" name="Group 23"/>
          <p:cNvGrpSpPr/>
          <p:nvPr/>
        </p:nvGrpSpPr>
        <p:grpSpPr>
          <a:xfrm>
            <a:off x="2844720" y="2565360"/>
            <a:ext cx="912960" cy="922320"/>
            <a:chOff x="2844720" y="2565360"/>
            <a:chExt cx="912960" cy="922320"/>
          </a:xfrm>
        </p:grpSpPr>
        <p:pic>
          <p:nvPicPr>
            <p:cNvPr id="238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44720" y="2565360"/>
              <a:ext cx="91296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25"/>
            <p:cNvSpPr/>
            <p:nvPr/>
          </p:nvSpPr>
          <p:spPr>
            <a:xfrm>
              <a:off x="3013920" y="27846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4143"/>
                  </a:solidFill>
                  <a:latin typeface="Arial"/>
                  <a:ea typeface="宋体"/>
                </a:rPr>
                <a:t>睛</a:t>
              </a:r>
              <a:endParaRPr b="0" lang="en-US" sz="36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40" name="Group 26"/>
          <p:cNvGrpSpPr/>
          <p:nvPr/>
        </p:nvGrpSpPr>
        <p:grpSpPr>
          <a:xfrm>
            <a:off x="4500720" y="2349360"/>
            <a:ext cx="1601640" cy="1150920"/>
            <a:chOff x="4500720" y="2349360"/>
            <a:chExt cx="1601640" cy="1150920"/>
          </a:xfrm>
        </p:grpSpPr>
        <p:pic>
          <p:nvPicPr>
            <p:cNvPr id="241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500720" y="234936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8"/>
            <p:cNvSpPr/>
            <p:nvPr/>
          </p:nvSpPr>
          <p:spPr>
            <a:xfrm>
              <a:off x="4805640" y="2730240"/>
              <a:ext cx="12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长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435640" y="836640"/>
            <a:ext cx="1139760" cy="1150920"/>
            <a:chOff x="5435640" y="836640"/>
            <a:chExt cx="1139760" cy="1150920"/>
          </a:xfrm>
        </p:grpSpPr>
        <p:pic>
          <p:nvPicPr>
            <p:cNvPr id="244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543564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31"/>
            <p:cNvSpPr/>
            <p:nvPr/>
          </p:nvSpPr>
          <p:spPr>
            <a:xfrm>
              <a:off x="575748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4143"/>
                  </a:solidFill>
                  <a:latin typeface="Arial"/>
                  <a:ea typeface="宋体"/>
                </a:rPr>
                <a:t>生</a:t>
              </a:r>
              <a:endParaRPr b="0" lang="en-US" sz="36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sp>
        <p:nvSpPr>
          <p:cNvPr id="246" name="未知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grpSp>
        <p:nvGrpSpPr>
          <p:cNvPr id="248" name="Group 34"/>
          <p:cNvGrpSpPr/>
          <p:nvPr/>
        </p:nvGrpSpPr>
        <p:grpSpPr>
          <a:xfrm>
            <a:off x="1044720" y="1557360"/>
            <a:ext cx="1139760" cy="1150920"/>
            <a:chOff x="1044720" y="1557360"/>
            <a:chExt cx="1139760" cy="1150920"/>
          </a:xfrm>
        </p:grpSpPr>
        <p:grpSp>
          <p:nvGrpSpPr>
            <p:cNvPr id="249" name="Group 35"/>
            <p:cNvGrpSpPr/>
            <p:nvPr/>
          </p:nvGrpSpPr>
          <p:grpSpPr>
            <a:xfrm>
              <a:off x="1044720" y="1557360"/>
              <a:ext cx="1139760" cy="1150920"/>
              <a:chOff x="1044720" y="1557360"/>
              <a:chExt cx="1139760" cy="1150920"/>
            </a:xfrm>
          </p:grpSpPr>
          <p:sp>
            <p:nvSpPr>
              <p:cNvPr id="250" name="AutoShape 36"/>
              <p:cNvSpPr/>
              <p:nvPr/>
            </p:nvSpPr>
            <p:spPr>
              <a:xfrm>
                <a:off x="1044720" y="155736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1054080" y="155736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1900440" y="177336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1081080" y="180180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1457640" y="185724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1116000" y="183672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1849680" y="180036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1312920" y="183348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1200240" y="193536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1333800" y="196200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1530360" y="199404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1784520" y="183672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1722600" y="217656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1679760" y="205596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1123920" y="196704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1330560" y="186696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1332000" y="207792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1540080" y="209700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1486080" y="185112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1704960" y="217332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1893960" y="180036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2087640" y="196200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1820880" y="184644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555920" y="159084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1568520" y="160020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1643040" y="162864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1649520" y="163512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573200" y="160020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57640" y="258444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1327320" y="194472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766880" y="195408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589400" y="214632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1524240" y="238608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1603440" y="23828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1359000" y="198108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1778040" y="200340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1600200" y="217188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1549440" y="239724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1338480" y="196056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1806840" y="196704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1538280" y="245412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443240" y="194472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806840" y="195408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1630440" y="214632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1406520" y="2048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1776600" y="203508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</p:grpSp>
        <p:sp>
          <p:nvSpPr>
            <p:cNvPr id="296" name="Text Box 82"/>
            <p:cNvSpPr/>
            <p:nvPr/>
          </p:nvSpPr>
          <p:spPr>
            <a:xfrm>
              <a:off x="1273320" y="193824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眼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297" name="Group 83"/>
          <p:cNvGrpSpPr/>
          <p:nvPr/>
        </p:nvGrpSpPr>
        <p:grpSpPr>
          <a:xfrm>
            <a:off x="1116000" y="2637000"/>
            <a:ext cx="1236600" cy="1150920"/>
            <a:chOff x="1116000" y="2637000"/>
            <a:chExt cx="1236600" cy="1150920"/>
          </a:xfrm>
        </p:grpSpPr>
        <p:pic>
          <p:nvPicPr>
            <p:cNvPr id="298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116000" y="2637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85"/>
            <p:cNvSpPr/>
            <p:nvPr/>
          </p:nvSpPr>
          <p:spPr>
            <a:xfrm>
              <a:off x="1344600" y="2941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写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300" name="Group 86"/>
          <p:cNvGrpSpPr/>
          <p:nvPr/>
        </p:nvGrpSpPr>
        <p:grpSpPr>
          <a:xfrm>
            <a:off x="6372360" y="1341360"/>
            <a:ext cx="1306440" cy="1150920"/>
            <a:chOff x="6372360" y="1341360"/>
            <a:chExt cx="1306440" cy="1150920"/>
          </a:xfrm>
        </p:grpSpPr>
        <p:grpSp>
          <p:nvGrpSpPr>
            <p:cNvPr id="301" name="Group 87"/>
            <p:cNvGrpSpPr/>
            <p:nvPr/>
          </p:nvGrpSpPr>
          <p:grpSpPr>
            <a:xfrm>
              <a:off x="6372360" y="1341360"/>
              <a:ext cx="1139760" cy="1150920"/>
              <a:chOff x="6372360" y="1341360"/>
              <a:chExt cx="1139760" cy="1150920"/>
            </a:xfrm>
          </p:grpSpPr>
          <p:sp>
            <p:nvSpPr>
              <p:cNvPr id="302" name="AutoShape 88"/>
              <p:cNvSpPr/>
              <p:nvPr/>
            </p:nvSpPr>
            <p:spPr>
              <a:xfrm>
                <a:off x="6372360" y="134136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6381720" y="134136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7228080" y="155736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6408720" y="158580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785280" y="164124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443640" y="162072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7177320" y="158436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6640560" y="161748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6527880" y="171936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6661440" y="174600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6858000" y="177804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7112160" y="162072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7050240" y="196056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7007400" y="183996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6451560" y="175104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6658200" y="165096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6659640" y="186192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6867720" y="188100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6813720" y="163512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7032600" y="195732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7221600" y="158436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7415280" y="174600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7148520" y="163044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6883560" y="137484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6896160" y="138420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970680" y="141264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6977160" y="141912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>
                <a:off x="6900840" y="138420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6785280" y="236844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6654960" y="172872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7094520" y="173808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6917040" y="193032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851880" y="217008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931080" y="216684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6686640" y="176508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7105680" y="178740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6927840" y="195588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6877080" y="218124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666120" y="174456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7134480" y="175104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6865920" y="223812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6770880" y="172872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7134480" y="173808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6958080" y="193032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6907320" y="220032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734160" y="1832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934320" y="198288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7104240" y="181908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f4143"/>
                  </a:solidFill>
                  <a:latin typeface="Arial"/>
                </a:endParaRPr>
              </a:p>
            </p:txBody>
          </p:sp>
        </p:grpSp>
        <p:sp>
          <p:nvSpPr>
            <p:cNvPr id="350" name="Text Box 136"/>
            <p:cNvSpPr/>
            <p:nvPr/>
          </p:nvSpPr>
          <p:spPr>
            <a:xfrm>
              <a:off x="6597720" y="172224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黑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  <p:grpSp>
        <p:nvGrpSpPr>
          <p:cNvPr id="351" name="Group 137"/>
          <p:cNvGrpSpPr/>
          <p:nvPr/>
        </p:nvGrpSpPr>
        <p:grpSpPr>
          <a:xfrm>
            <a:off x="3203640" y="3645000"/>
            <a:ext cx="1603080" cy="1152000"/>
            <a:chOff x="3203640" y="3645000"/>
            <a:chExt cx="1603080" cy="1152000"/>
          </a:xfrm>
        </p:grpSpPr>
        <p:pic>
          <p:nvPicPr>
            <p:cNvPr id="352" name="Picture 138" descr="j0305493"/>
            <p:cNvPicPr/>
            <p:nvPr/>
          </p:nvPicPr>
          <p:blipFill>
            <a:blip r:embed="rId12"/>
            <a:stretch/>
          </p:blipFill>
          <p:spPr>
            <a:xfrm>
              <a:off x="3203640" y="3645000"/>
              <a:ext cx="114084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39"/>
            <p:cNvSpPr/>
            <p:nvPr/>
          </p:nvSpPr>
          <p:spPr>
            <a:xfrm>
              <a:off x="3508560" y="4026240"/>
              <a:ext cx="129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4143"/>
                  </a:solidFill>
                  <a:latin typeface="Arial"/>
                  <a:ea typeface="宋体"/>
                </a:rPr>
                <a:t>话</a:t>
              </a:r>
              <a:endParaRPr b="0" lang="en-US" sz="3200" spc="-1" strike="noStrike">
                <a:solidFill>
                  <a:srgbClr val="3f414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Motion origin="layout" path="M 0.004306 0.060556 L -0.054375 0.756111 E">
                                      <p:cBhvr>
                                        <p:cTn id="9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6.9E-005 0 L 0.036319 0.829537 E">
                                      <p:cBhvr>
                                        <p:cTn id="9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0.02934 0.00509 L 0.04201 0.68732 E">
                                      <p:cBhvr>
                                        <p:cTn id="10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Motion origin="layout" path="M -4.16667E-006 -2.09991E-006 L 0.19532 0.60453 E">
                                      <p:cBhvr>
                                        <p:cTn id="107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Motion origin="layout" path="M -3.05556E-006 1.23959E-006 L -0.12066 0.53793 E">
                                      <p:cBhvr>
                                        <p:cTn id="111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Motion origin="layout" path="M 3.33333E-006 -4.95837E-006 L -0.05834 0.31083 E">
                                      <p:cBhvr>
                                        <p:cTn id="115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Motion origin="layout" path="M -4.72222E-006 2.91397E-006 L 0.1533 0.40471 E">
                                      <p:cBhvr>
                                        <p:cTn id="11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Motion origin="layout" path="M 3.33333E-006 3.3765E-006 L 0.15833 0.27752 E">
                                      <p:cBhvr>
                                        <p:cTn id="12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Motion origin="layout" path="M -0.003958 -0.065556 L -0.058819 0.262593 E">
                                      <p:cBhvr>
                                        <p:cTn id="12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Motion origin="layout" path="M 0 4.19981E-006 L 0.0375 0.34921 E">
                                      <p:cBhvr>
                                        <p:cTn id="13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Motion origin="layout" path="M -3.05556E-006 4.56984E-006 L 0.01268 0.48242 E">
                                      <p:cBhvr>
                                        <p:cTn id="1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Motion origin="layout" path="M 0 0 L 0.013056 0.436759 E">
                                      <p:cBhvr>
                                        <p:cTn id="13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Motion origin="layout" path="M 0 0 L 0.038472 0.315093 E">
                                      <p:cBhvr>
                                        <p:cTn id="14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836720" y="249408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听一听：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用你喜欢的方式勾画出中国娃长什么样子？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11111"/>
          <p:cNvPicPr/>
          <p:nvPr/>
        </p:nvPicPr>
        <p:blipFill>
          <a:blip r:embed="rId1"/>
          <a:stretch/>
        </p:blipFill>
        <p:spPr>
          <a:xfrm>
            <a:off x="0" y="1054080"/>
            <a:ext cx="2916360" cy="451008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5" descr="中国人.jpg"/>
          <p:cNvPicPr/>
          <p:nvPr/>
        </p:nvPicPr>
        <p:blipFill>
          <a:blip r:embed="rId2"/>
          <a:stretch/>
        </p:blipFill>
        <p:spPr>
          <a:xfrm>
            <a:off x="2987640" y="1125360"/>
            <a:ext cx="3240000" cy="439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57" name="图片 6" descr="147-110424122645.jpg"/>
          <p:cNvPicPr/>
          <p:nvPr/>
        </p:nvPicPr>
        <p:blipFill>
          <a:blip r:embed="rId3"/>
          <a:stretch/>
        </p:blipFill>
        <p:spPr>
          <a:xfrm>
            <a:off x="6229440" y="1127160"/>
            <a:ext cx="2879640" cy="43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58" name="Text Box 5"/>
          <p:cNvSpPr/>
          <p:nvPr/>
        </p:nvSpPr>
        <p:spPr>
          <a:xfrm>
            <a:off x="171360" y="203040"/>
            <a:ext cx="87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说一说：她们谁是中国娃？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324000" y="5805360"/>
            <a:ext cx="778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4143"/>
                </a:solidFill>
                <a:latin typeface="Arial"/>
                <a:ea typeface="宋体"/>
              </a:rPr>
              <a:t>     </a:t>
            </a:r>
            <a:r>
              <a:rPr b="1" lang="zh-CN" sz="4800" spc="-1" strike="noStrike">
                <a:solidFill>
                  <a:srgbClr val="3f4143"/>
                </a:solidFill>
                <a:latin typeface="Arial"/>
                <a:ea typeface="宋体"/>
              </a:rPr>
              <a:t>黑眼睛、黑头发、黄皮肤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3060720" y="1197000"/>
            <a:ext cx="56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中国娃</a:t>
            </a:r>
            <a:endParaRPr b="0" lang="en-US" sz="40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987640" y="1197000"/>
            <a:ext cx="59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我 是 中 国 娃 ，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生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 着 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黑 眼 睛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 ，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长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 着 黑 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头</a:t>
            </a:r>
            <a:r>
              <a:rPr b="1" lang="zh-CN" sz="5400" spc="-1" strike="noStrike">
                <a:solidFill>
                  <a:srgbClr val="3f4143"/>
                </a:solidFill>
                <a:latin typeface="楷体"/>
                <a:ea typeface="楷体"/>
              </a:rPr>
              <a:t> 发 。</a:t>
            </a:r>
            <a:endParaRPr b="0" lang="en-US" sz="54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3" descr="147-110424122636.jpg"/>
          <p:cNvPicPr/>
          <p:nvPr/>
        </p:nvPicPr>
        <p:blipFill>
          <a:blip r:embed="rId1"/>
          <a:stretch/>
        </p:blipFill>
        <p:spPr>
          <a:xfrm>
            <a:off x="4572000" y="0"/>
            <a:ext cx="4537080" cy="30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63" name="AutoShape 3"/>
          <p:cNvSpPr/>
          <p:nvPr/>
        </p:nvSpPr>
        <p:spPr>
          <a:xfrm>
            <a:off x="684360" y="117360"/>
            <a:ext cx="3600360" cy="2952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476360" y="1054080"/>
            <a:ext cx="182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Hello!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  <p:pic>
        <p:nvPicPr>
          <p:cNvPr id="365" name="图片 5" descr="中国人.jpg"/>
          <p:cNvPicPr/>
          <p:nvPr/>
        </p:nvPicPr>
        <p:blipFill>
          <a:blip r:embed="rId2"/>
          <a:stretch/>
        </p:blipFill>
        <p:spPr>
          <a:xfrm>
            <a:off x="38160" y="3141720"/>
            <a:ext cx="4246560" cy="36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66" name="AutoShape 6"/>
          <p:cNvSpPr/>
          <p:nvPr/>
        </p:nvSpPr>
        <p:spPr>
          <a:xfrm>
            <a:off x="4861080" y="3933720"/>
            <a:ext cx="3311280" cy="1800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508720" y="436572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你 好！</a:t>
            </a:r>
            <a:endParaRPr b="0" lang="en-US" sz="4800" spc="-1" strike="noStrike">
              <a:solidFill>
                <a:srgbClr val="3f4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02:18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41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