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184E-6078-4771-8F74-678467464D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E53E-951F-4F1C-91A1-C8B9C0847A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192-D226-4E9B-8339-CE222C15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3F4-D48D-41B8-8EB2-4F184210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3D4-4950-4C4E-80EE-FA5F97D8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23C-6E60-41C9-8B65-6680CCB3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68C1-025E-4DD0-80B4-5864150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B24-A5E5-4EAA-8CA7-839DA62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EE84-76D6-4C95-AA9D-7C6B3D6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C7F2-79D3-42A8-9793-0421075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FAB6-860D-4599-BCA9-948B0CA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71A-C34D-4766-8066-08893799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8E97-BB7E-41D1-8FE1-9A2CFF7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CE-4F14-42FF-AC31-A77CAD3D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2B3-F7FD-489E-A136-919F4A8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0836-52BE-42CB-B1CD-B128E28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3195-DFDA-4DA1-9F3C-14A5AB74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6D6-74D3-4141-BF14-41EB2CB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418C-483A-44DD-9990-9AEA1FF3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388C-3CAC-4E26-BC57-4E6D387E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D209-2640-4FFD-80EA-DA096E0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9746-3D1C-44FB-BBF8-826B9B2E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9B9A-0A10-4903-B3BD-7EEE1B37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4583-464F-45B8-9071-40A9F41A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8BC-11EF-4702-9654-8DA471F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EA40-9785-4D36-B8DE-A94FCABF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8A2C-C41A-45F3-9DEB-7AB5CBF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D953-5D36-41BC-90A0-278A83D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7BD4-DDB4-4C32-9D22-45A687F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1DBB-9046-43F4-BB6F-CD848F5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5666-500D-42AE-8BE8-0EF03106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CCA1-1936-4E63-80AF-D73F2FEE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035-AAD6-49E2-AFC0-23C9505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973-CBE6-4EE3-8DE8-1275983A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B30-4DD0-4DA6-9C47-E6BB9EA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CFC-0E48-4D28-B81C-D04EAD5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8C9-396F-44C1-80AE-6E1FF031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8F9-86E9-4816-8B43-2708B7E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D49-F353-4704-8707-DDE5D6CA41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A38-F55A-4C4D-898F-C38B8CDBBBA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B38-7BD2-4621-A3D0-CFAE7AE12B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6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1944720" y="1268280"/>
            <a:ext cx="5327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望天门山</a:t>
            </a:r>
            <a:endParaRPr b="1" lang="en-US" sz="60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2014200" y="5816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天门山(黑白)"/>
          <p:cNvPicPr/>
          <p:nvPr/>
        </p:nvPicPr>
        <p:blipFill>
          <a:blip r:embed="rId1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碧水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403280" y="5445000"/>
            <a:ext cx="64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碧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水东流至此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回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694836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626520" y="4150080"/>
            <a:ext cx="117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回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青山碧水4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078560" y="1197000"/>
            <a:ext cx="1171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99ff99"/>
                </a:solidFill>
                <a:latin typeface="Arial"/>
                <a:ea typeface="楷体_GB2312"/>
              </a:rPr>
              <a:t>碧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627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碧水东流至此回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碧水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写出了长江流水之澄清 ，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东流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是写长江总的流向 ，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回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字力度很强，极富动态美，既写出了长江到天门山处江水曲折回荡、漩涡丛生的奇险和壮美，又突现了天门山一段江水流向的陡然转变。正是从一个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回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字中，我们才更加深刻地领会出天门山扼江回流的雄伟气势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感悟诗境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首句以天门山与长江的关系，反衬天门山气势的雄峻险要。诗人采用侧面烘托的艺术手法，渲染长江洪流的湍急与威力，进而反衬出天门山的壮丽奇观。次句暗示了天门山雄视一切、镇慑洪流的威力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6" name="Picture 3" descr="天门中断楚江开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0"/>
            <a:ext cx="17556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感悟诗境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首句以天门山与长江的关系，反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天门山气势的雄峻险要。诗人采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侧面烘托的艺术手法，渲染长江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流的湍急与威力，进而反衬出天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山的壮丽奇观。次句暗示了天门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雄视一切、镇慑洪流的威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末句是诗人顺着天门山远眺一幅远景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孤帆一片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是想以背景的单纯突现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孤帆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之高大 。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日边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写出了长江远景浩瀚迷茫，给人留下了广阔的想象空间，而一个“来”字，又给远景注入了活泼新鲜的色彩和血液 ，使画面顿显活跃，具有不断变幻的美感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9" name="Picture 3" descr="孤帆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189000"/>
            <a:ext cx="1339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末句是诗人顺着天门山远眺一幅远景</a:t>
            </a: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帆一片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是想以背景的单纯突现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帆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之高大 。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日边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写出了长江远景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瀚迷茫，给人留下了广阔的想象空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而一个“来”字，又给远景注入了活泼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鲜的色彩和血液 ，使画面顿显活跃，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有不断变幻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两岸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0328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两岸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青山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相对出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V="1">
            <a:off x="730872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958440" y="3500280"/>
            <a:ext cx="115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突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27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第三句是正面刻划天门山的山势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两岸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指出了天门山与长江的关系 。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相对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二字，恰到好处地表现出天门山隔江兀立、崖峭如削、对峙如门、巧夺天工的雄姿，给人以只可仰观的高峻感。一个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出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字，出神入化，化静为动，令人感到郁郁葱葱的天门山生机盎然，更增添了画面的动态美感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8" name="Picture 3" descr="两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0" y="476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第三句是正面刻划天门山的山势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两岸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指出了天门山与长江的关系 。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相对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二字，恰到好处地表现出天门山隔江兀立、崖峭如削、对峙如门、巧夺天工的雄姿，给人以只可仰观的高峻感。一个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出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字，出神入化，化静为动，令人感到郁郁葱葱的天门山生机盎然，更增添了画面的动态美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孤帆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258920" y="53006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孤帆一片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日边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来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199480" y="3789720"/>
            <a:ext cx="1065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天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5651640" y="47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-397080" y="11970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孤帆远影尽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唯见长江流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106848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断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388800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孤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659916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帆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8" name="Picture 3" descr="全诗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断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楚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碧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048360" y="22636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天门山被长江从中断开，分为两座山，碧绿的江水向东流到这儿突然就在这儿打着回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227640" y="422100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两岸的青山相互对峙，一只小船正乘风破浪，从太阳升起的地方驰来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好似来自天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148360" y="2781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292720" y="4221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 flipV="1" rot="10800000">
            <a:off x="3420720" y="46296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醒“望”的立脚点和表现诗人的淋漓兴会。诗人并不是站在岸上的某一个地方遥望天门山，他“望”的立脚点便是从“日边来”的“一片孤帆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539640" y="501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611280" y="404640"/>
            <a:ext cx="73080" cy="4608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684360" y="40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1835280" y="40464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"/>
                            </p:stCondLst>
                            <p:childTnLst>
                              <p:par>
                                <p:cTn id="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"/>
                            </p:stCondLst>
                            <p:childTnLst>
                              <p:par>
                                <p:cTn id="1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3FXF~MBFP@0Y1PMLO1ZZAW"/>
          <p:cNvPicPr/>
          <p:nvPr/>
        </p:nvPicPr>
        <p:blipFill>
          <a:blip r:embed="rId1"/>
          <a:stretch/>
        </p:blipFill>
        <p:spPr>
          <a:xfrm>
            <a:off x="1828800" y="0"/>
            <a:ext cx="52164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"/>
          <p:cNvSpPr/>
          <p:nvPr/>
        </p:nvSpPr>
        <p:spPr>
          <a:xfrm>
            <a:off x="74520" y="5376960"/>
            <a:ext cx="74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MAG1205809398611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250920" y="319896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门中断楚江开，碧水东流至此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青山相对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帆一片日边来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187280" y="2276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望天门山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1880" y="685800"/>
            <a:ext cx="609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赠  汪   伦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李   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李白称舟将欲行，忽闻岸上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桃花潭水深千尺，不及汪伦送我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汪伦在泾县桃花边的南台寺讲学听说李白到了宣城，特请李白到桃花潭游览。他们潭边垂钓，饮酒赋诗。相间几天，仿佛旧友重逢，难分难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李白临行的那天，汪伦带着自己的学生，将李白送到桃花潭渡口，还摆酒席为他送行。李白为汪伦的一片热情深深打动了，当即写下了这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赠汪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，泾县桃花潭的村民为了纪念李白，还在东岸建起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踏歌岸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成了这里的一处名胜古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赠汪伦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50000">
              <a:srgbClr val="6699ff"/>
            </a:gs>
            <a:gs pos="100000">
              <a:srgbClr val="2f47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3960" y="609480"/>
            <a:ext cx="152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元二使安西</a:t>
            </a:r>
            <a:br>
              <a:rPr sz="44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王  维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渭城朝雨悒轻尘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客舍青青柳色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劝君更尽一杯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西出阳关无故人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一首有名的送别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前两句写了送别的环境，后两句写了送别场面中的一个情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春天的早晨，阵阵细雨润湿着飞飘着的轻尘，在一片青色之中，客舍旁边的柳树显得越发嫩绿，新鲜。可是，老朋友就要离开这里到边远的安西去了。送别饯酒，干了一杯又一杯，诗人提议，再干一杯，因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西出阳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后，不会同老朋友坐在一起饮酒畅叙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ut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5"/>
          <p:cNvSpPr txBox="1"/>
          <p:nvPr/>
        </p:nvSpPr>
        <p:spPr>
          <a:xfrm>
            <a:off x="1541520" y="1773360"/>
            <a:ext cx="6119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谢谢观赏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975-9EB1-4E3B-BC72-82303E602F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濮存昕《望天门山》李白濮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5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9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98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4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-9-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08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5444"/>
          <p:cNvPicPr/>
          <p:nvPr/>
        </p:nvPicPr>
        <p:blipFill>
          <a:blip r:embed="rId1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335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43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2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798"/>
          <p:cNvPicPr/>
          <p:nvPr/>
        </p:nvPicPr>
        <p:blipFill>
          <a:blip r:embed="rId1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5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3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69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0"/>
                            </p:stCondLst>
                            <p:childTnLst>
                              <p:par>
                                <p:cTn id="75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1000"/>
                            </p:stCondLst>
                            <p:childTnLst>
                              <p:par>
                                <p:cTn id="8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000"/>
                            </p:stCondLst>
                            <p:childTnLst>
                              <p:par>
                                <p:cTn id="8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天门山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"/>
          <p:cNvSpPr/>
          <p:nvPr/>
        </p:nvSpPr>
        <p:spPr>
          <a:xfrm>
            <a:off x="5796000" y="3716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716800" y="476280"/>
            <a:ext cx="1642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40464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李白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(701--76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，字太白，盛唐最杰出的诗人，也是我国最伟大的诗人之一，被人们称作“诗仙”。他经历坎坷，思想复杂，既是一个天才的诗人，又兼有游侠、刺客、隐士、道人、策士等人的气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李白留给后世人九百多首诗篇。这些熠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(yì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生辉的诗作，表现了他一生的心路历程，是盛唐社会现实和精神生活面貌的艺术写照。李白大半生过着流浪生活，游历了全国许多名山大川，写下了大量赞美祖国大好河山的优美诗篇，借以表达出他那种酷爱自由、渴望解放的情怀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908000" y="177336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望天门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3" name="Picture 3" descr="全诗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中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楚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天门中断楚江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19280" y="5516640"/>
            <a:ext cx="56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天门中断楚江开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403280" y="5661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332000" y="53737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天门中断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楚江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开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340000" y="256536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江：即长江。古代长江中游地带属楚国，所以叫楚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5940360" y="3357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11280" y="5105520"/>
            <a:ext cx="8208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门山：天门两山本是一体，抵挡汹涌的江流。由于长江的冲击，撞开天门，使它中断成为东西两山。在江北的叫西梁山，在江南的叫东梁山。两山隔江对峙，形同门户，所以叫“天门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020109_15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21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44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