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6981-1FA6-48FF-9F60-8E8768E109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ED5B-DD68-4412-8E70-657995E7B7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289-B150-4621-984D-290B8738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4F7-B8E9-4E10-9EE8-867BF474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C65-8ADB-402E-B3DB-E816E97E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1F0-0E93-4E64-9954-6CD45D94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A3A-AA5B-4C7E-97EC-1D6023D2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227-9F58-4946-AB73-15BFE5B8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E57C-A90D-475C-BC3D-F62FAF14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F52-8A67-4F92-AF07-6DDE88C4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AF5-96AA-4CD1-B2C5-2F12603F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ED8-2E23-4F53-8FE1-27535073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D76-049C-4ED9-9C3E-07403E91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B8D-4ED8-4145-B70B-E63E26DE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211A-410D-46B8-AECA-8955D1625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1116000" y="1700280"/>
            <a:ext cx="6985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隶书"/>
              </a:rPr>
              <a:t>我微笑着走向生活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147200" y="357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汪国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矩形 6" descr=""/>
          <p:cNvPicPr/>
          <p:nvPr/>
        </p:nvPicPr>
        <p:blipFill>
          <a:blip r:embed="rId1"/>
          <a:stretch/>
        </p:blipFill>
        <p:spPr>
          <a:xfrm>
            <a:off x="1379520" y="5445000"/>
            <a:ext cx="65739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1666440" y="10731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流感悟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826920" y="2604960"/>
            <a:ext cx="771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学到这里，联系自己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活实际，谈谈自己以后会怎样面对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1187280" y="2509920"/>
            <a:ext cx="7923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2603520" y="689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拓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11280" y="1484280"/>
            <a:ext cx="71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应该怎样面对生活呢？请你用一两句格言式的话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859320" y="2997360"/>
            <a:ext cx="1531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仿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报我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1946160" y="5891040"/>
            <a:ext cx="52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ongjin.wma" descr=""/>
          <p:cNvPicPr/>
          <p:nvPr/>
        </p:nvPicPr>
        <p:blipFill>
          <a:blip r:embed="rId1"/>
          <a:stretch/>
        </p:blipFill>
        <p:spPr>
          <a:xfrm>
            <a:off x="817236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24000" y="333360"/>
            <a:ext cx="6192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我微笑着走向生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无论生活以什么方式回敬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报我以平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我是一条欢乐奔流的小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报我以崎岖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我是一座大山庄严地思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报我以幸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我是一只凌空飞翔的燕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报我以不幸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我是一根劲竹经得起千击万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生活里不能没有笑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没有笑声的世界该是多么寂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什么也改变不了我对生活的热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我微笑着走向火热的生活！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汪国真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5941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5CDE-7909-4B8C-9D3C-F43AD9C919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300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我微笑着走向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4360" y="765000"/>
            <a:ext cx="6696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我微笑着走向生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无论生活以什么方式回敬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报我以平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我是一条欢乐奔流的小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报我以崎岖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我是一座大山庄严地思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报我以幸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我是一只凌空飞翔的燕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报我以不幸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我是一根劲竹经得起千击万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生活里不能没有笑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没有笑声的世界该是多么寂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什么也改变不了我对生活的热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我微笑着走向火热的生活！   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汪国真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1214640" y="1028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提纲引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55640" y="2082960"/>
            <a:ext cx="765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初读小诗，请找出你最喜欢的句子，并批注自己喜欢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品读小诗，说说它表达了诗人怎样的思想感情和生活态度，并有感情地朗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读了这首诗，我们以后应该以怎样的态度去面对生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2044800" y="155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流感悟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314440" y="2781360"/>
            <a:ext cx="509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用“我最喜欢的句子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我喜欢它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理由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句式来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结合自己的理解先来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2408040" y="1351080"/>
            <a:ext cx="4654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流感悟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文中生活回敬“我”的方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 又是怎样对待的，你从中感受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怎样的情感和生活态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1403280" y="2276640"/>
            <a:ext cx="720720" cy="6267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422240" y="429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热爱生活、积极向上、乐观的生活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"/>
          <p:cNvSpPr/>
          <p:nvPr/>
        </p:nvSpPr>
        <p:spPr>
          <a:xfrm>
            <a:off x="539640" y="417600"/>
            <a:ext cx="5873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报我以       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是一条                的小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报我以       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是一座大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报我以        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是一只              的燕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报我以        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是一根        经得起   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1927800" y="1352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平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2195640" y="18572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欢乐奔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1927800" y="2360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崎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3467160" y="2865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庄严地思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1927800" y="3297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幸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2450880" y="3801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凌空飞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1999440" y="4305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不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2359800" y="47372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劲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4609800" y="47372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千击万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1"/>
          <p:cNvSpPr/>
          <p:nvPr/>
        </p:nvSpPr>
        <p:spPr>
          <a:xfrm>
            <a:off x="852480" y="404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527120" y="480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86080" y="1484280"/>
            <a:ext cx="63007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翅膀断了心也要飞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海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张海迪[著名作家]"/>
          <p:cNvPicPr/>
          <p:nvPr/>
        </p:nvPicPr>
        <p:blipFill>
          <a:blip r:embed="rId1"/>
          <a:stretch/>
        </p:blipFill>
        <p:spPr>
          <a:xfrm>
            <a:off x="324000" y="297000"/>
            <a:ext cx="1982520" cy="2663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3"/>
          <p:cNvSpPr/>
          <p:nvPr/>
        </p:nvSpPr>
        <p:spPr>
          <a:xfrm>
            <a:off x="173160" y="303228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海迪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秋天在济南出生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患脊髓病，胸以下全部瘫痪。从那时起，张海迪开始了她独到的人生。她无法上学，便在在家自学完中学课程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时，海迪跟随父母，下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聊城农村，给孩子当起教书先生。她还自学针灸医术，为乡亲们无偿治疗。自学了大学英语、日语、德语和世界语，并攻读了大学和硕士研究生的课程。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开始，张海迪创作和翻译的作品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邰丽华"/>
          <p:cNvPicPr/>
          <p:nvPr/>
        </p:nvPicPr>
        <p:blipFill>
          <a:blip r:embed="rId1"/>
          <a:stretch/>
        </p:blipFill>
        <p:spPr>
          <a:xfrm>
            <a:off x="250920" y="932040"/>
            <a:ext cx="463212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4788000" y="1413000"/>
            <a:ext cx="4176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邰丽华两岁时，因为高烧注射链霉素，邰丽华从此永远无法听见声音。可她乐观生活，她和盲人、聋哑人表演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手观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震惊了所有人。她说：“我们的确有痛苦的经历，但我们需要的不是眼泪，观众的掌声足以激励我们昂首向前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24000" y="40428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生活是不公平的，不管你的境遇如何，你只能全力以赴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斯蒂芬。威廉。霍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斯蒂芬·威廉·霍金罗杰·彭罗斯"/>
          <p:cNvPicPr/>
          <p:nvPr/>
        </p:nvPicPr>
        <p:blipFill>
          <a:blip r:embed="rId1"/>
          <a:stretch/>
        </p:blipFill>
        <p:spPr>
          <a:xfrm>
            <a:off x="684360" y="1557360"/>
            <a:ext cx="2311200" cy="3095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霍金体验零重力"/>
          <p:cNvPicPr/>
          <p:nvPr/>
        </p:nvPicPr>
        <p:blipFill>
          <a:blip r:embed="rId2"/>
          <a:stretch/>
        </p:blipFill>
        <p:spPr>
          <a:xfrm>
            <a:off x="3851280" y="1700280"/>
            <a:ext cx="4673520" cy="2960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324000" y="49417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斯蒂芬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威廉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霍金，英国著名物理学家和宇宙学家，被誉为继爱因斯坦之后最杰出的理论物理学家。肌肉萎缩性侧索硬化症患者，全身瘫痪，不能发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5T05:38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8:21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