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4A86-8EA5-4C02-9732-90F3342309E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2F05-69ED-4B86-AD42-87BDFBF1AF0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335D-9C16-4C49-8B94-B626E0B3C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754D-1128-4CB3-91F2-3876117F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6A06-5883-4BC1-B492-C4A0CFE6C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22FC-C2F2-465A-BB8F-7A6DED080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1E56-A891-4F77-90AC-5A6EE41E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57EB-C19C-42F7-AE0F-EFFD19CC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8BC3-247D-4CFE-84E2-413C4A19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D82E-2BF0-4881-98B3-E899F843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3971-0202-4781-B43E-80C1B118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989B-EDD9-4E1F-B4FF-90363905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4AFC-E5C1-4279-AE21-85EB3ECB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8194-E697-4B4D-B742-7A8C7344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642C-08D3-4205-8F28-D6637078BEF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19.xml"/><Relationship Id="rId6" Type="http://schemas.openxmlformats.org/officeDocument/2006/relationships/slide" Target="slide20.xml"/><Relationship Id="rId7" Type="http://schemas.openxmlformats.org/officeDocument/2006/relationships/slide" Target="slide15.xm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226240" y="914400"/>
            <a:ext cx="466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6000" spc="-1" strike="noStrike">
                <a:solidFill>
                  <a:srgbClr val="000000"/>
                </a:solidFill>
                <a:latin typeface="楷体_GB2312"/>
              </a:rPr>
              <a:t>15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</a:rPr>
              <a:t>课 乌鸦喝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7360560" y="2438280"/>
            <a:ext cx="677520" cy="13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9999"/>
                </a:solidFill>
                <a:uFillTx/>
                <a:latin typeface="楷体_GB2312"/>
                <a:hlinkClick r:id="rId2" action="ppaction://hlinksldjump"/>
              </a:rPr>
              <a:t>●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hlinkClick r:id="rId3" action="ppaction://hlinksldjump"/>
              </a:rPr>
              <a:t>导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</a:rPr>
              <a:t>●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</a:rPr>
              <a:t>识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</a:rPr>
              <a:t>●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</a:rPr>
              <a:t>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</a:rPr>
              <a:t>●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</a:rPr>
              <a:t>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矩形 5" descr=""/>
          <p:cNvPicPr/>
          <p:nvPr/>
        </p:nvPicPr>
        <p:blipFill>
          <a:blip r:embed="rId4"/>
          <a:stretch/>
        </p:blipFill>
        <p:spPr>
          <a:xfrm>
            <a:off x="1801800" y="6019920"/>
            <a:ext cx="567216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712440" y="7621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读一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967040" y="2133720"/>
            <a:ext cx="520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喝水　到处　乌鸦　　办法　生气　叼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2005200" y="3276720"/>
            <a:ext cx="5133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渐渐　一颗　瓶子　　旁边　升高　里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29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927720" y="6825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读一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525680" y="21337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4024440" y="21337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乌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7088040" y="21337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5869080" y="388620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半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办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2408040" y="388620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颗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927720" y="6825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读一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602000" y="2422440"/>
            <a:ext cx="94284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一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一颗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一颗一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100400" y="2422440"/>
            <a:ext cx="94284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一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一张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一张一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6783480" y="2422440"/>
            <a:ext cx="94284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一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一片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一片一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927720" y="6825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读一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967040" y="1600200"/>
            <a:ext cx="223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瓶子里的水升高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119320" y="2906640"/>
            <a:ext cx="269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瓶子里的水渐渐升高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674080" y="4400640"/>
            <a:ext cx="4252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＿＿＿＿＿＿＿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渐渐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＿＿＿＿＿＿＿＿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1379520" y="1136520"/>
            <a:ext cx="64674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000000"/>
                </a:solidFill>
                <a:latin typeface="楷体_GB2312"/>
              </a:rPr>
              <a:t>鸦  渴  瓶  旁 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143000" y="743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y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873680" y="743040"/>
            <a:ext cx="9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ín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6841800" y="762120"/>
            <a:ext cx="9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án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484280" y="3935520"/>
            <a:ext cx="64674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000000"/>
                </a:solidFill>
                <a:latin typeface="楷体_GB2312"/>
              </a:rPr>
              <a:t>叼  起  颗  渐 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219320" y="3581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iā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3265560" y="3505320"/>
            <a:ext cx="44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q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3048120" y="762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5168160" y="350532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6981840" y="350532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ji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ShockwaveFlash1" descr=""/>
          <p:cNvPicPr/>
          <p:nvPr/>
        </p:nvPicPr>
        <p:blipFill>
          <a:blip r:embed="rId2"/>
          <a:stretch/>
        </p:blipFill>
        <p:spPr>
          <a:xfrm>
            <a:off x="1295280" y="23623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13" name="ShockwaveFlash2" descr=""/>
          <p:cNvPicPr/>
          <p:nvPr/>
        </p:nvPicPr>
        <p:blipFill>
          <a:blip r:embed="rId3"/>
          <a:stretch/>
        </p:blipFill>
        <p:spPr>
          <a:xfrm>
            <a:off x="3200400" y="23623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14" name="ShockwaveFlash3" descr=""/>
          <p:cNvPicPr/>
          <p:nvPr/>
        </p:nvPicPr>
        <p:blipFill>
          <a:blip r:embed="rId4"/>
          <a:stretch/>
        </p:blipFill>
        <p:spPr>
          <a:xfrm>
            <a:off x="5105520" y="23623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15" name="ShockwaveFlash4" descr=""/>
          <p:cNvPicPr/>
          <p:nvPr/>
        </p:nvPicPr>
        <p:blipFill>
          <a:blip r:embed="rId5"/>
          <a:stretch/>
        </p:blipFill>
        <p:spPr>
          <a:xfrm>
            <a:off x="7010280" y="23623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16" name="ShockwaveFlash6" descr=""/>
          <p:cNvPicPr/>
          <p:nvPr/>
        </p:nvPicPr>
        <p:blipFill>
          <a:blip r:embed="rId6"/>
          <a:stretch/>
        </p:blipFill>
        <p:spPr>
          <a:xfrm>
            <a:off x="1371600" y="51055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17" name="ShockwaveFlash7" descr=""/>
          <p:cNvPicPr/>
          <p:nvPr/>
        </p:nvPicPr>
        <p:blipFill>
          <a:blip r:embed="rId7"/>
          <a:stretch/>
        </p:blipFill>
        <p:spPr>
          <a:xfrm>
            <a:off x="3200400" y="51055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18" name="ShockwaveFlash8" descr=""/>
          <p:cNvPicPr/>
          <p:nvPr/>
        </p:nvPicPr>
        <p:blipFill>
          <a:blip r:embed="rId8"/>
          <a:stretch/>
        </p:blipFill>
        <p:spPr>
          <a:xfrm>
            <a:off x="5181480" y="51055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19" name="ShockwaveFlash9" descr=""/>
          <p:cNvPicPr/>
          <p:nvPr/>
        </p:nvPicPr>
        <p:blipFill>
          <a:blip r:embed="rId9"/>
          <a:stretch/>
        </p:blipFill>
        <p:spPr>
          <a:xfrm>
            <a:off x="7086600" y="5105520"/>
            <a:ext cx="533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6916-777F-4017-B118-69CD48CB1AF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01"/>
          <p:cNvPicPr/>
          <p:nvPr/>
        </p:nvPicPr>
        <p:blipFill>
          <a:blip r:embed="rId1"/>
          <a:stretch/>
        </p:blipFill>
        <p:spPr>
          <a:xfrm>
            <a:off x="1752480" y="266760"/>
            <a:ext cx="4572000" cy="63244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6981480" y="6019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乌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-29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导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1"/>
          <p:cNvSpPr/>
          <p:nvPr/>
        </p:nvSpPr>
        <p:spPr>
          <a:xfrm>
            <a:off x="76320" y="58374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380880" y="1828800"/>
            <a:ext cx="8321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一只乌鸦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yā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口渴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kě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了，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到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dào)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宋体"/>
                <a:ea typeface="宋体"/>
                <a:hlinkClick r:id="rId3" action="ppaction://hlinksldjump"/>
              </a:rPr>
              <a:t>处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chù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找水喝。它看见一个瓶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pínɡ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子，里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瓶水，可是，瓶口小，乌鸦喝不着。怎么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bàn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4020840" y="533520"/>
            <a:ext cx="17121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乌鸦</a:t>
            </a:r>
            <a:r>
              <a:rPr b="0" lang="zh-CN" sz="3000" spc="-1" strike="noStrike" u="sng">
                <a:solidFill>
                  <a:srgbClr val="009999"/>
                </a:solidFill>
                <a:uFillTx/>
                <a:latin typeface="楷体_GB2312"/>
                <a:hlinkClick r:id="rId7" action="ppaction://hlinksldjump"/>
              </a:rPr>
              <a:t>喝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hē)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29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识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411120" y="3537000"/>
            <a:ext cx="8321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乌鸦看见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pánɡ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边有许多小石子，想出办法来了。它叼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diāo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起小石子，一颗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kē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颗地放进瓶子里。瓶子里的水渐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jiàn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渐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升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shēnɡ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高了，乌鸦就喝着水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4024440" y="5335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乌鸦喝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5486400" y="3429000"/>
            <a:ext cx="3200400" cy="1828800"/>
          </a:xfrm>
          <a:prstGeom prst="cloudCallout">
            <a:avLst>
              <a:gd name="adj1" fmla="val 42162"/>
              <a:gd name="adj2" fmla="val 61023"/>
            </a:avLst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乌鸦为什么一开始喝不着水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365040" y="2057400"/>
            <a:ext cx="83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一只乌鸦口渴了，到处找水喝。它看见一个瓶子，里面有半瓶水，可是，瓶口小，乌鸦喝不着。怎么办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0"/>
          <p:cNvSpPr/>
          <p:nvPr/>
        </p:nvSpPr>
        <p:spPr>
          <a:xfrm>
            <a:off x="2895480" y="2854440"/>
            <a:ext cx="9144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1"/>
          <p:cNvSpPr/>
          <p:nvPr/>
        </p:nvSpPr>
        <p:spPr>
          <a:xfrm>
            <a:off x="762120" y="2819520"/>
            <a:ext cx="8380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2"/>
          <p:cNvSpPr/>
          <p:nvPr/>
        </p:nvSpPr>
        <p:spPr>
          <a:xfrm>
            <a:off x="4724280" y="2879640"/>
            <a:ext cx="9144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29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1297080" y="243828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半瓶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1297080" y="358128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喝不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2438280" y="2590920"/>
            <a:ext cx="152640" cy="1523880"/>
          </a:xfrm>
          <a:custGeom>
            <a:avLst/>
            <a:gdLst>
              <a:gd name="textAreaLeft" fmla="*/ 0 w 152640"/>
              <a:gd name="textAreaRight" fmla="*/ 5508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4"/>
          <p:cNvSpPr/>
          <p:nvPr/>
        </p:nvSpPr>
        <p:spPr>
          <a:xfrm>
            <a:off x="609480" y="1676520"/>
            <a:ext cx="2895840" cy="1523880"/>
          </a:xfrm>
          <a:prstGeom prst="cloudCallout">
            <a:avLst>
              <a:gd name="adj1" fmla="val -48847"/>
              <a:gd name="adj2" fmla="val 65731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乌鸦是怎么喝上水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411120" y="3429000"/>
            <a:ext cx="83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乌鸦看见旁边有许多小石子，想出办法来了。它叼起小石子，一颗一颗地放进瓶子里。瓶子里的水渐渐升高了，乌鸦就喝着水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8"/>
          <p:cNvSpPr/>
          <p:nvPr/>
        </p:nvSpPr>
        <p:spPr>
          <a:xfrm>
            <a:off x="1371600" y="4213080"/>
            <a:ext cx="12952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9"/>
          <p:cNvSpPr/>
          <p:nvPr/>
        </p:nvSpPr>
        <p:spPr>
          <a:xfrm>
            <a:off x="6095880" y="421308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1297080" y="243828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半瓶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297080" y="358128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喝不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6783480" y="243828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放石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6783480" y="358128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喝着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6"/>
          <p:cNvSpPr/>
          <p:nvPr/>
        </p:nvSpPr>
        <p:spPr>
          <a:xfrm>
            <a:off x="2438280" y="2590920"/>
            <a:ext cx="152640" cy="1523880"/>
          </a:xfrm>
          <a:custGeom>
            <a:avLst/>
            <a:gdLst>
              <a:gd name="textAreaLeft" fmla="*/ 0 w 152640"/>
              <a:gd name="textAreaRight" fmla="*/ 5508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7"/>
          <p:cNvSpPr/>
          <p:nvPr/>
        </p:nvSpPr>
        <p:spPr>
          <a:xfrm>
            <a:off x="6400800" y="2590920"/>
            <a:ext cx="152280" cy="1447560"/>
          </a:xfrm>
          <a:custGeom>
            <a:avLst/>
            <a:gdLst>
              <a:gd name="textAreaLeft" fmla="*/ 97200 w 152280"/>
              <a:gd name="textAreaRight" fmla="*/ 152640 w 15228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4116600" y="303228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想办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>
            <a:off x="274320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"/>
          <p:cNvSpPr/>
          <p:nvPr/>
        </p:nvSpPr>
        <p:spPr>
          <a:xfrm>
            <a:off x="525780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1"/>
          <p:cNvSpPr/>
          <p:nvPr/>
        </p:nvSpPr>
        <p:spPr>
          <a:xfrm>
            <a:off x="5181480" y="228600"/>
            <a:ext cx="3048120" cy="1752480"/>
          </a:xfrm>
          <a:prstGeom prst="cloudCallout">
            <a:avLst>
              <a:gd name="adj1" fmla="val 41773"/>
              <a:gd name="adj2" fmla="val 61504"/>
            </a:avLst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你觉得这是只怎样的乌鸦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4"/>
          <p:cNvSpPr/>
          <p:nvPr/>
        </p:nvSpPr>
        <p:spPr>
          <a:xfrm>
            <a:off x="1866960" y="1295280"/>
            <a:ext cx="5219640" cy="365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发散思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　　假如你是那只乌鸦，如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当时旁边没有小石子，你会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么办呢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07:42:41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6T23:25:44Z</dcterms:modified>
  <cp:revision>9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