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31B-0533-469E-9CBA-F9EA30BA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D7A-2B3E-4433-91CF-B665174D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BB4-6C56-4AB8-B42B-9C3F2183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9FD-01EA-42AE-9B21-9FB5025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029-746E-4BC7-8F6D-E0709E5A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2CC-7DA1-42E1-85BA-A8B3A02D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29F-723C-47BB-955A-733737C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F49-9C79-4F21-83A8-74CF4892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DD2-6608-4AC0-B976-51B6AB37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A9D-1FAD-4C1F-BB1C-2975295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864-E052-4548-A252-CEFD7A2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872-D8D5-4447-9C93-8367DD3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32B-666A-4566-BAC1-8ACD5D3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05A-4BBD-4750-8C6E-604EBAF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A95-4981-47BF-BEB0-9C2D46C2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38240" y="1295280"/>
            <a:ext cx="7238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隶书"/>
              </a:rPr>
              <a:t>晓出净慈寺送林子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819520" y="32004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者：杨万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12680" y="5334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76212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桌互相读古诗，说说每句诗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914400" y="2057400"/>
            <a:ext cx="7620120" cy="1068840"/>
            <a:chOff x="914400" y="2057400"/>
            <a:chExt cx="7620120" cy="1068840"/>
          </a:xfrm>
        </p:grpSpPr>
        <p:sp>
          <p:nvSpPr>
            <p:cNvPr id="95" name="Rectangle 7"/>
            <p:cNvSpPr/>
            <p:nvPr/>
          </p:nvSpPr>
          <p:spPr>
            <a:xfrm>
              <a:off x="914400" y="2057400"/>
              <a:ext cx="6629400" cy="60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8"/>
            <p:cNvGrpSpPr/>
            <p:nvPr/>
          </p:nvGrpSpPr>
          <p:grpSpPr>
            <a:xfrm>
              <a:off x="990720" y="2057400"/>
              <a:ext cx="7543800" cy="1068840"/>
              <a:chOff x="990720" y="2057400"/>
              <a:chExt cx="7543800" cy="1068840"/>
            </a:xfrm>
          </p:grpSpPr>
          <p:sp>
            <p:nvSpPr>
              <p:cNvPr id="97" name="Text Box 9"/>
              <p:cNvSpPr/>
              <p:nvPr/>
            </p:nvSpPr>
            <p:spPr>
              <a:xfrm>
                <a:off x="990720" y="2057400"/>
                <a:ext cx="4572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接天连叶无穷碧， </a:t>
                </a:r>
                <a:br>
                  <a:rPr sz="3200"/>
                </a:b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0"/>
              <p:cNvSpPr/>
              <p:nvPr/>
            </p:nvSpPr>
            <p:spPr>
              <a:xfrm>
                <a:off x="4267440" y="2057400"/>
                <a:ext cx="42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映日荷花别样红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12"/>
          <p:cNvSpPr/>
          <p:nvPr/>
        </p:nvSpPr>
        <p:spPr>
          <a:xfrm>
            <a:off x="685800" y="3048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满湖的莲叶一直铺到水天相接的地方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碧绿一片，在阳光的照应下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莲花呈现出了非同一般的红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990720" y="23623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是西湖六月天的景色，风光与其它季节确实不同。莲叶接天望不尽一片碧绿，阳光下荷花分外艳丽鲜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1562040" y="1371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古诗今译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6858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西湖六月中，风光不与四时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首句看似突兀，实际造句大气，虽然读者还不曾从诗中领略到西湖美景，但已能从诗人赞叹的语气中感受到了。这一句似脱口而出，是大惊大喜之余最直观的感受，因而更强化了西湖之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1295280" y="60948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cc00"/>
                </a:solidFill>
                <a:latin typeface="隶书"/>
              </a:rPr>
              <a:t>诗句赏析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99cc00"/>
              </a:solidFill>
              <a:latin typeface="隶书"/>
              <a:ea typeface="隶书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1494000" y="5629320"/>
            <a:ext cx="53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53352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天莲叶无穷碧，映日荷花别样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诗人用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出了莲叶和荷花给人的视觉带来的强烈的冲击力，莲叶无边无际仿佛与天相接，气象宏大，既写出莲叶之无际，又渲染了天地之壮阔，具有极其丰富的空间造型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映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衬，又使整幅画面绚烂生动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1295280" y="45720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cc00"/>
                </a:solidFill>
                <a:latin typeface="隶书"/>
              </a:rPr>
              <a:t>诗句赏析</a:t>
            </a:r>
            <a:endParaRPr b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99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723960" y="21337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方正楷体_GBK"/>
              </a:rPr>
              <a:t>西湖是世界闻名的风景旅游胜地，你去过西湖的哪些景点呢？现在就让我们一起去欣赏西湖的美吧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9072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C30-FFB0-4F6E-B8A9-C16B62C64F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晓出净慈寺送林子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南宋）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西湖六月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光不与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天莲叶无穷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日荷花别样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609480" y="2057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杨万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12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06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吉州吉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江西吉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字廷秀，号诚斋。绍兴二十四年进士。孝宗时官至太子侍读。光宗召为秘书监。工诗。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南宋 四大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一。初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西诗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后学王安石及晚唐诗，终自成一家。一生作诗万余首。亦能文。著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诚斋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800" y="1066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作者介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晓出净慈寺送林子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（南宋）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毕竟</a:t>
            </a: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西湖六月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风光不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时</a:t>
            </a: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接天莲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穷碧</a:t>
            </a: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映日荷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别样红</a:t>
            </a:r>
            <a:r>
              <a:rPr b="1" lang="zh-CN" sz="3200" spc="-1" strike="noStrike">
                <a:solidFill>
                  <a:srgbClr val="3a17bb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514600" y="2178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14400" y="11127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你的好朋友要离开你到很远的地方去，你这时候的心情是怎么样的？你又有什么话要对她说呢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4400" y="2819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咱们以前学的古诗词中有没有描写离别时的情景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066680" y="39625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天我们学一首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666880" y="4724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晓出净慈寺送林子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609480" y="17208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早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09480" y="2406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春夏秋冬四季。在这里指六月以外的其它时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33520" y="347184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穷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因莲叶面积很广，似与天相接，故呈现无穷的碧绿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3520" y="4616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别样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红得特别出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219320" y="457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隶书"/>
              </a:rPr>
              <a:t>词语解释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1"/>
          <p:cNvGrpSpPr/>
          <p:nvPr/>
        </p:nvGrpSpPr>
        <p:grpSpPr>
          <a:xfrm>
            <a:off x="1143000" y="2392200"/>
            <a:ext cx="7543800" cy="2181600"/>
            <a:chOff x="1143000" y="2392200"/>
            <a:chExt cx="7543800" cy="2181600"/>
          </a:xfrm>
        </p:grpSpPr>
        <p:sp>
          <p:nvSpPr>
            <p:cNvPr id="66" name="Text Box 5"/>
            <p:cNvSpPr/>
            <p:nvPr/>
          </p:nvSpPr>
          <p:spPr>
            <a:xfrm>
              <a:off x="1143000" y="3230640"/>
              <a:ext cx="45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毕竟西湖六月中，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4419720" y="323064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风光不与四时同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1143000" y="399240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接天莲叶无穷碧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4419720" y="399240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映日荷花别样红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2438280" y="2392200"/>
              <a:ext cx="426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晓出净慈寺送林子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0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由地朗读古诗，画出古诗的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838080" y="3230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竟   西湖  六月中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724280" y="3230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光  不与  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3886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天   莲叶  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724280" y="3886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日  荷花  别样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438280" y="2392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18284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29714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1828440" y="40384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2895120" y="40384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563832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6629040" y="335268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5638320" y="396252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6705360" y="396252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由地朗读古诗，画出古诗的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99072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桌互相读古诗，说说每句诗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914400" y="2057400"/>
            <a:ext cx="7620120" cy="609480"/>
            <a:chOff x="914400" y="2057400"/>
            <a:chExt cx="7620120" cy="609480"/>
          </a:xfrm>
        </p:grpSpPr>
        <p:sp>
          <p:nvSpPr>
            <p:cNvPr id="88" name="Rectangle 9"/>
            <p:cNvSpPr/>
            <p:nvPr/>
          </p:nvSpPr>
          <p:spPr>
            <a:xfrm>
              <a:off x="914400" y="2057400"/>
              <a:ext cx="6629400" cy="60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8"/>
            <p:cNvGrpSpPr/>
            <p:nvPr/>
          </p:nvGrpSpPr>
          <p:grpSpPr>
            <a:xfrm>
              <a:off x="990720" y="2057400"/>
              <a:ext cx="7543800" cy="581400"/>
              <a:chOff x="990720" y="2057400"/>
              <a:chExt cx="7543800" cy="581400"/>
            </a:xfrm>
          </p:grpSpPr>
          <p:sp>
            <p:nvSpPr>
              <p:cNvPr id="90" name="Text Box 6"/>
              <p:cNvSpPr/>
              <p:nvPr/>
            </p:nvSpPr>
            <p:spPr>
              <a:xfrm>
                <a:off x="990720" y="2057400"/>
                <a:ext cx="457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毕竟西湖六月中，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4267440" y="2057400"/>
                <a:ext cx="42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风光不与四时同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11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西湖六月的风光到底和别的季节不一样。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3:27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41Z</dcterms:modified>
  <cp:revision>7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