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94F8-458D-417C-825D-7042F6CD3E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1EF-F125-4ADA-9FAE-AB1A185580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C0E-A5F7-4314-A38E-9048B3D2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59D-CAFD-48DA-91C7-54955DD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0A5-FBCC-4204-BA6D-3126F714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79E-71FA-4240-903D-4D42B2E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72F-E243-4F4B-BFC2-4650C46B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55D-C68A-4548-A4D5-D6F52F0D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493-F46D-40C6-9F47-EBD1190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CAD-5920-4915-A460-FDC25C8D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D55-C9FC-414B-8266-0C1A1F2D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1AB-A0BD-45A8-8CE9-B5DC5374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21F-84C2-46C9-822A-E1403763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32E-585C-4361-B041-328775F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CD6-D8E8-45BA-90F9-A1BD66906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C:\Users\Administrator\Desktop\新建文件夹 - 副本\getCAP397KV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695160" y="1523880"/>
            <a:ext cx="7755120" cy="201132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1828440" y="5943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603360" y="1142640"/>
            <a:ext cx="471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42640" y="14479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梅花好看，可我们不能忘了种花的人啊，你想对他们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327320" y="4835520"/>
            <a:ext cx="60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7A9-CBE4-4504-A928-357B9F3C7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读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219320" y="2819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课文是按什么顺序来写的？你从哪里可以看出来？画出相关的语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11430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细读理解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齐读第一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默读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2----4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自然段，说说作者在三个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室里分别赏到了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精读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抓住关键句子，理解感悟文章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Users\Administrator\Desktop\新建文件夹 - 副本\getCA6J19S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914400" y="6094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梅树姿态十分优美，梅花大都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含苞欲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Desktop\新建文件夹 - 副本\getCAPBQ35A.jpg"/>
          <p:cNvPicPr/>
          <p:nvPr/>
        </p:nvPicPr>
        <p:blipFill>
          <a:blip r:embed="rId2"/>
          <a:stretch/>
        </p:blipFill>
        <p:spPr>
          <a:xfrm>
            <a:off x="4648320" y="3276720"/>
            <a:ext cx="4000320" cy="314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Desktop\新建文件夹 - 副本\getCACW270J.jpg"/>
          <p:cNvPicPr/>
          <p:nvPr/>
        </p:nvPicPr>
        <p:blipFill>
          <a:blip r:embed="rId3"/>
          <a:stretch/>
        </p:blipFill>
        <p:spPr>
          <a:xfrm>
            <a:off x="1828800" y="1371600"/>
            <a:ext cx="3524400" cy="2819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13440" y="1828800"/>
            <a:ext cx="1094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第一展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15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15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115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115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9"/>
          <p:cNvSpPr/>
          <p:nvPr/>
        </p:nvSpPr>
        <p:spPr>
          <a:xfrm>
            <a:off x="6172200" y="4419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838080" y="838080"/>
            <a:ext cx="7216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这里的梅花开得正旺，红的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火，白的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似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Administrator\Desktop\新建文件夹\getCA2V7ADE.jpg"/>
          <p:cNvPicPr/>
          <p:nvPr/>
        </p:nvPicPr>
        <p:blipFill>
          <a:blip r:embed="rId1"/>
          <a:stretch/>
        </p:blipFill>
        <p:spPr>
          <a:xfrm>
            <a:off x="5105520" y="3200400"/>
            <a:ext cx="378612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36400" y="191916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第二展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"/>
          <p:cNvSpPr/>
          <p:nvPr/>
        </p:nvSpPr>
        <p:spPr>
          <a:xfrm>
            <a:off x="457200" y="4800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我眼前这一棵梅树，花朵不同一般，花瓣里外两层，外面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粉红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里层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雪白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花蕊呈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黄色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矩形 7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694160" cy="397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istrator\Desktop\新建文件夹 - 副本\getCA98M8X5.jpg"/>
          <p:cNvPicPr/>
          <p:nvPr/>
        </p:nvPicPr>
        <p:blipFill>
          <a:blip r:embed="rId2"/>
          <a:stretch/>
        </p:blipFill>
        <p:spPr>
          <a:xfrm>
            <a:off x="0" y="0"/>
            <a:ext cx="7238880" cy="464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15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15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115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115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2438280"/>
            <a:ext cx="611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380880" y="123336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棵棵蜡梅形态各异，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有的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猿猴跳舞，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有        的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喝醉的猪八戒，拿着耙子在树上养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0240" cy="451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0" t="0" r="0" b="52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3:21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6:16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