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7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4ED4-3036-4A1E-89F2-7A88C01889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9CC6-AAC1-43DE-8C5C-CDEC79F3C82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79B-758D-4918-8299-EBAA04A4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D24-D0A2-4C9A-B920-63635D55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B0F-F678-4213-A48F-2A1BC6AE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04D-D5A6-44FC-9B07-BD6A1650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4239-2805-4C99-9FCC-7BF30F75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BC4E-DD63-439B-B1D3-AD1AA98B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9D2D-EBBA-4F57-B7B4-28FD8BA2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FDA5-B511-44C7-BBFC-724A7BDA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39B5-613B-47AE-AC66-FB4D26B5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17AB-4DA9-4843-82CF-6AC52244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9C85-7ACB-4AF4-924E-B099A60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B10-1F12-438D-8BF4-80E9D65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69AC-2702-4C81-9BC4-6773ABDC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7E64-7765-493E-9629-0EBCAB94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40F4-8A02-4040-8101-EBCED5AE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D936-90E7-435A-81A4-17A6C071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696E-1FFA-41D5-B10D-42E5F1F0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DDDE-11DD-4CD5-AE20-4F00E8D6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53F1-02B6-4107-B946-9C09EA73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8432-1AD9-424F-93EB-F341B21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5278-348F-424A-96ED-23E5F057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3FD1-2410-481A-B47E-FBAD1B70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89F-2EDC-4E18-AD73-83C9C394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0A5F-D38F-45D8-8061-DAF4A7B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716F-6A9E-4030-84BB-C3F13E30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675D-4FFF-4E85-9CF7-07AF3A14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CAB0-4F82-4EDB-91B3-8203DA90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FCAE-AC41-4772-BE20-83053935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9D8D-4AD1-4AF8-8DA6-4BF9E0CB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BD89-1BC1-435D-AF0A-7E53DC02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5CF-4F5E-4852-948F-52A24FDC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ED3-773C-451B-B176-53814A0F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F29-21F2-46D3-81A0-B468788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315-14AD-4BEB-BE1E-0BA31D8A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552-E789-4785-A7E0-EBD429F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306-A1EE-47C3-B73B-D8464AA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0399-CC32-4CD6-9985-8AD9CC6DE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4DD0-E0AB-4BDE-AE9B-AB59AF156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92A4-660E-4977-8416-9DF7B3281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1119240" y="1182600"/>
            <a:ext cx="709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2060"/>
                </a:solidFill>
                <a:latin typeface="华文行楷"/>
                <a:ea typeface="华文行楷"/>
              </a:rPr>
              <a:t>心里的世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00001"/>
          <p:cNvPicPr/>
          <p:nvPr/>
        </p:nvPicPr>
        <p:blipFill>
          <a:blip r:embed="rId2"/>
          <a:stretch/>
        </p:blipFill>
        <p:spPr>
          <a:xfrm>
            <a:off x="6084720" y="5589720"/>
            <a:ext cx="1295640" cy="1006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00001"/>
          <p:cNvPicPr/>
          <p:nvPr/>
        </p:nvPicPr>
        <p:blipFill>
          <a:blip r:embed="rId3"/>
          <a:stretch/>
        </p:blipFill>
        <p:spPr>
          <a:xfrm>
            <a:off x="900000" y="3716280"/>
            <a:ext cx="1187640" cy="922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0" y="11592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矩形 5" descr=""/>
          <p:cNvPicPr/>
          <p:nvPr/>
        </p:nvPicPr>
        <p:blipFill>
          <a:blip r:embed="rId4"/>
          <a:stretch/>
        </p:blipFill>
        <p:spPr>
          <a:xfrm>
            <a:off x="1434960" y="5529240"/>
            <a:ext cx="65725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3406691643130463639"/>
          <p:cNvPicPr/>
          <p:nvPr/>
        </p:nvPicPr>
        <p:blipFill>
          <a:blip r:embed="rId1"/>
          <a:stretch/>
        </p:blipFill>
        <p:spPr>
          <a:xfrm>
            <a:off x="1692360" y="2133720"/>
            <a:ext cx="5688000" cy="4267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476360" y="47628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到一棵小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195640" y="12682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想到了草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3663298_210713038909_2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152" name="和兰花在一起(with an orchid).mp3" descr="和兰花在一起(with an orchid)"/>
          <p:cNvPicPr/>
          <p:nvPr/>
        </p:nvPicPr>
        <p:blipFill>
          <a:blip r:embed="rId3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200"/>
                            </p:stCondLst>
                            <p:childTnLst>
                              <p:par>
                                <p:cTn id="5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200"/>
                            </p:stCondLst>
                            <p:childTnLst>
                              <p:par>
                                <p:cTn id="5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200"/>
                            </p:stCondLst>
                            <p:childTnLst>
                              <p:par>
                                <p:cTn id="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200"/>
                            </p:stCondLst>
                            <p:childTnLst>
                              <p:par>
                                <p:cTn id="8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900000" y="54936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一朵鲜花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0" y="549360"/>
            <a:ext cx="41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想到了果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1300000356220124312521940980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5300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2786001_080707410000_2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80880" y="3124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556000" y="426960"/>
            <a:ext cx="47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到一朵浪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103360" y="10746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想到了大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30363757"/>
          <p:cNvPicPr/>
          <p:nvPr/>
        </p:nvPicPr>
        <p:blipFill>
          <a:blip r:embed="rId1"/>
          <a:stretch/>
        </p:blipFill>
        <p:spPr>
          <a:xfrm>
            <a:off x="2195640" y="1952640"/>
            <a:ext cx="5689440" cy="42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6518254_092047842638_2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404280"/>
            <a:ext cx="5113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看到一缕阳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484360" y="1197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想到了蓝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5234236_123537011347_2"/>
          <p:cNvPicPr/>
          <p:nvPr/>
        </p:nvPicPr>
        <p:blipFill>
          <a:blip r:embed="rId1"/>
          <a:stretch/>
        </p:blipFill>
        <p:spPr>
          <a:xfrm>
            <a:off x="1547640" y="1989000"/>
            <a:ext cx="6048720" cy="453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4791134_173046089791_2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52000" y="693360"/>
            <a:ext cx="871236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到眼前这小小的世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想得很远很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要去拥抱草原   大海   果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还有那晴朗的蓝天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69" name="WordArt 4"/>
          <p:cNvSpPr txBox="1"/>
          <p:nvPr/>
        </p:nvSpPr>
        <p:spPr>
          <a:xfrm rot="10546200">
            <a:off x="8609040" y="2315880"/>
            <a:ext cx="2452680" cy="219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16812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连一连</a:t>
            </a:r>
            <a:endParaRPr b="0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16812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333440" y="162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405080" y="35020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332000" y="4508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阳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403280" y="2565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浪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995640" y="162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果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067280" y="2492280"/>
            <a:ext cx="12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140360" y="3429000"/>
            <a:ext cx="13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蓝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140360" y="4437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2411280" y="2060640"/>
            <a:ext cx="1729080" cy="72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556000" y="2997360"/>
            <a:ext cx="1655640" cy="165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2484360" y="2133720"/>
            <a:ext cx="1727280" cy="1800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 flipV="1">
            <a:off x="2556000" y="3789000"/>
            <a:ext cx="1655640" cy="1152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909720" y="5710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544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读课文，在不认识的字下面画上横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20101201052945494_4021"/>
          <p:cNvPicPr/>
          <p:nvPr/>
        </p:nvPicPr>
        <p:blipFill>
          <a:blip r:embed="rId1"/>
          <a:stretch/>
        </p:blipFill>
        <p:spPr>
          <a:xfrm>
            <a:off x="6372360" y="692280"/>
            <a:ext cx="2859120" cy="4394160"/>
          </a:xfrm>
          <a:prstGeom prst="rect">
            <a:avLst/>
          </a:prstGeom>
          <a:ln w="0">
            <a:noFill/>
          </a:ln>
        </p:spPr>
      </p:pic>
      <p:pic>
        <p:nvPicPr>
          <p:cNvPr id="186" name="Host Control 164" descr=""/>
          <p:cNvPicPr/>
          <p:nvPr/>
        </p:nvPicPr>
        <p:blipFill>
          <a:blip r:embed="rId2"/>
          <a:stretch/>
        </p:blipFill>
        <p:spPr>
          <a:xfrm>
            <a:off x="108000" y="692280"/>
            <a:ext cx="63831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B3A-B381-4420-8256-E9B6B1C540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深山藏古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踏花归去马蹄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6720" y="1600200"/>
            <a:ext cx="874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会认本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二类字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会写一类字“看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能正确、流利的朗读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要插上想象的翅膀，快乐飞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9152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自读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多字，不少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会读的字圈起来，按照拼音多读几遍，也可以请教学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5"/>
          <p:cNvSpPr/>
          <p:nvPr/>
        </p:nvSpPr>
        <p:spPr>
          <a:xfrm>
            <a:off x="1403280" y="83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Host Control 140" descr=""/>
          <p:cNvPicPr/>
          <p:nvPr/>
        </p:nvPicPr>
        <p:blipFill>
          <a:blip r:embed="rId1"/>
          <a:stretch/>
        </p:blipFill>
        <p:spPr>
          <a:xfrm>
            <a:off x="612720" y="549360"/>
            <a:ext cx="799308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师友合作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30040"/>
            <a:ext cx="82818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遍学师读，学友听。第二遍学友读，学师听读。读得好的你要表扬他，给他掌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03:51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4:20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