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1.png" ContentType="image/png"/>
  <Override PartName="/ppt/media/image31.png" ContentType="image/png"/>
  <Override PartName="/ppt/media/image43.png" ContentType="image/png"/>
  <Override PartName="/ppt/media/image6.jpeg" ContentType="image/jpeg"/>
  <Override PartName="/ppt/media/image11.gif" ContentType="image/gif"/>
  <Override PartName="/ppt/media/image10.jpeg" ContentType="image/jpeg"/>
  <Override PartName="/ppt/media/image14.png" ContentType="image/png"/>
  <Override PartName="/ppt/media/image2.jpeg" ContentType="image/jpeg"/>
  <Override PartName="/ppt/media/image36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2.gif" ContentType="image/gi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92B3-3A70-429D-B5BB-DA9ECFA1E5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ACFB-C025-4FF3-8DFA-33EFBE46FA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59D-465C-4F95-9590-C8F9C79C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AD8-DED5-4BB5-8A64-BC0AD96B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2EC-2BAB-42F2-865B-A4857AEB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EB9-1314-4C6D-879F-B729A345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5E0-B24F-4CFE-B763-AC28E48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B4F-8555-4960-B1FD-BC97502B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2F0-F13A-47E8-AB4E-D8DC07B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40E-A356-4FC2-BA06-578B3D17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61C-D54C-450C-AFC3-87C8E81E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CFB-B55C-4F34-BDC0-56B3E00E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FE3-3597-451D-B865-71962EC3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750-DAF4-4945-B4F8-66911A7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ADB7-4774-454B-B053-DCED6C2A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1.xml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" Target="slide5.xml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2.xml"/><Relationship Id="rId3" Type="http://schemas.openxmlformats.org/officeDocument/2006/relationships/image" Target="../media/image11.gif"/><Relationship Id="rId4" Type="http://schemas.openxmlformats.org/officeDocument/2006/relationships/slide" Target="slide10.xml"/><Relationship Id="rId5" Type="http://schemas.openxmlformats.org/officeDocument/2006/relationships/image" Target="../media/image12.gif"/><Relationship Id="rId6" Type="http://schemas.openxmlformats.org/officeDocument/2006/relationships/slide" Target="slide14.xm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" Target="slide25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638360" y="1268280"/>
            <a:ext cx="5867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ffff99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微软雅黑"/>
              </a:rPr>
              <a:t>小露珠</a:t>
            </a:r>
            <a:endParaRPr b="1" lang="en-US" sz="9600" spc="-1" strike="noStrike">
              <a:ln w="0">
                <a:noFill/>
              </a:ln>
              <a:solidFill>
                <a:srgbClr val="ffff99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矩形 7" descr=""/>
          <p:cNvPicPr/>
          <p:nvPr/>
        </p:nvPicPr>
        <p:blipFill>
          <a:blip r:embed="rId2"/>
          <a:stretch/>
        </p:blipFill>
        <p:spPr>
          <a:xfrm>
            <a:off x="1504800" y="5638680"/>
            <a:ext cx="6400800" cy="56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5"/>
          <p:cNvSpPr/>
          <p:nvPr/>
        </p:nvSpPr>
        <p:spPr>
          <a:xfrm>
            <a:off x="6588000" y="1125360"/>
            <a:ext cx="136872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492360" y="1125360"/>
            <a:ext cx="1511280" cy="10796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1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1471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956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203640" y="4365720"/>
            <a:ext cx="38862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隶书"/>
                <a:ea typeface="隶书"/>
              </a:rPr>
              <a:t>闪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5"/>
          <p:cNvSpPr/>
          <p:nvPr/>
        </p:nvSpPr>
        <p:spPr>
          <a:xfrm>
            <a:off x="4788000" y="1989000"/>
            <a:ext cx="165564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68360" y="1916280"/>
            <a:ext cx="1727280" cy="12254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zl"/>
          <p:cNvPicPr/>
          <p:nvPr/>
        </p:nvPicPr>
        <p:blipFill>
          <a:blip r:embed="rId2"/>
          <a:stretch/>
        </p:blipFill>
        <p:spPr>
          <a:xfrm>
            <a:off x="0" y="2205000"/>
            <a:ext cx="5724360" cy="4653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6227640" y="1628640"/>
            <a:ext cx="38862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隶书"/>
                <a:ea typeface="隶书"/>
              </a:rPr>
              <a:t>透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4681166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80880" y="4267080"/>
            <a:ext cx="8382240" cy="703440"/>
          </a:xfrm>
          <a:prstGeom prst="rect">
            <a:avLst/>
          </a:prstGeom>
          <a:solidFill>
            <a:srgbClr val="35c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哇，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水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透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露珠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xx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29200" y="1981080"/>
            <a:ext cx="2133720" cy="133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5"/>
          <p:cNvSpPr/>
          <p:nvPr/>
        </p:nvSpPr>
        <p:spPr>
          <a:xfrm>
            <a:off x="4284720" y="1773360"/>
            <a:ext cx="1366920" cy="0"/>
          </a:xfrm>
          <a:prstGeom prst="line">
            <a:avLst/>
          </a:prstGeom>
          <a:ln w="7632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7308720" y="765000"/>
            <a:ext cx="1656000" cy="107964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976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059280" y="5013360"/>
            <a:ext cx="38862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cc"/>
                </a:solidFill>
                <a:latin typeface="隶书"/>
                <a:ea typeface="隶书"/>
              </a:rPr>
              <a:t>圆  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纯音乐 - 橘色温度.mp3" descr=""/>
          <p:cNvPicPr/>
          <p:nvPr/>
        </p:nvPicPr>
        <p:blipFill>
          <a:blip r:embed="rId2"/>
          <a:stretch/>
        </p:blipFill>
        <p:spPr>
          <a:xfrm>
            <a:off x="8748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37959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4"/>
          <p:cNvSpPr/>
          <p:nvPr/>
        </p:nvSpPr>
        <p:spPr>
          <a:xfrm>
            <a:off x="4716360" y="1773360"/>
            <a:ext cx="2016360" cy="0"/>
          </a:xfrm>
          <a:prstGeom prst="line">
            <a:avLst/>
          </a:prstGeom>
          <a:ln w="7632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76360" y="2421000"/>
            <a:ext cx="1582920" cy="64908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861080" y="2492280"/>
            <a:ext cx="1366560" cy="64944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47640" y="3213000"/>
            <a:ext cx="1511640" cy="64764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闪亮透明小圆球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不大不小像豆豆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花草树叶作摇篮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摇来摇去真自在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太阳出来去无踪，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那是自然一奇观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046920" y="53737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小露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4680" y="0"/>
            <a:ext cx="9144000" cy="6858000"/>
            <a:chOff x="4680" y="0"/>
            <a:chExt cx="9144000" cy="6858000"/>
          </a:xfrm>
        </p:grpSpPr>
        <p:pic>
          <p:nvPicPr>
            <p:cNvPr id="124" name="Picture 4" descr="122-111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" descr="未命名-2"/>
            <p:cNvPicPr/>
            <p:nvPr/>
          </p:nvPicPr>
          <p:blipFill>
            <a:blip r:embed="rId2"/>
            <a:stretch/>
          </p:blipFill>
          <p:spPr>
            <a:xfrm>
              <a:off x="7576920" y="103320"/>
              <a:ext cx="1544760" cy="12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5"/>
          <p:cNvSpPr/>
          <p:nvPr/>
        </p:nvSpPr>
        <p:spPr>
          <a:xfrm>
            <a:off x="814680" y="115920"/>
            <a:ext cx="1034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阅读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99240" y="1197000"/>
            <a:ext cx="4401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圈出表示太阳公公动作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看看都提到了哪些植物？用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它们为什么喜欢小露珠呢？文中的一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9" name="Picture 4" descr="122-1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未命名-2"/>
            <p:cNvPicPr/>
            <p:nvPr/>
          </p:nvPicPr>
          <p:blipFill>
            <a:blip r:embed="rId2"/>
            <a:stretch/>
          </p:blipFill>
          <p:spPr>
            <a:xfrm>
              <a:off x="7599240" y="25560"/>
              <a:ext cx="1544760" cy="12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5"/>
          <p:cNvSpPr/>
          <p:nvPr/>
        </p:nvSpPr>
        <p:spPr>
          <a:xfrm>
            <a:off x="2669400" y="1297080"/>
            <a:ext cx="3804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会儿，太阳公公</a:t>
            </a: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披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着云霞，</a:t>
            </a: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上了东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染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红了天空，</a:t>
            </a: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照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亮了大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Image00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5848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859280" y="114444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金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向日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127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859280" y="17924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碧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白杨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5620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924360" y="24400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紫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喇叭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056200" y="321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711320" y="2997360"/>
            <a:ext cx="300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景色8"/>
          <p:cNvPicPr/>
          <p:nvPr/>
        </p:nvPicPr>
        <p:blipFill>
          <a:blip r:embed="rId1"/>
          <a:stretch/>
        </p:blipFill>
        <p:spPr>
          <a:xfrm>
            <a:off x="0" y="0"/>
            <a:ext cx="4952880" cy="502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wK6wyLuo_SwUybE9YOVAj"/>
          <p:cNvPicPr/>
          <p:nvPr/>
        </p:nvPicPr>
        <p:blipFill>
          <a:blip r:embed="rId2"/>
          <a:stretch/>
        </p:blipFill>
        <p:spPr>
          <a:xfrm>
            <a:off x="0" y="3505320"/>
            <a:ext cx="4952880" cy="335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2006117151242823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4495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54348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07120" y="2697120"/>
            <a:ext cx="5614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yhtp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2880" y="4495680"/>
            <a:ext cx="4191120" cy="2362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3962520" y="3200400"/>
            <a:ext cx="2590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505320" y="3276720"/>
            <a:ext cx="2438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895480" y="1828800"/>
            <a:ext cx="31244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1"/>
          <p:cNvSpPr txBox="1"/>
          <p:nvPr/>
        </p:nvSpPr>
        <p:spPr>
          <a:xfrm>
            <a:off x="4191120" y="1066680"/>
            <a:ext cx="198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神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3657600" y="3657600"/>
            <a:ext cx="32767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机勃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828720" y="981000"/>
            <a:ext cx="72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仿照课文中“金黄的向日葵、碧绿的白杨树、紫红的喇叭花”再来说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的（  ）也喜欢小露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3059280" y="620640"/>
            <a:ext cx="5398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雨露滋润禾苗壮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771640" y="3573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植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300720" y="3573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姑娘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86160" y="443700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露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299280" y="438300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4284720" y="3933720"/>
            <a:ext cx="1800000" cy="0"/>
          </a:xfrm>
          <a:prstGeom prst="line">
            <a:avLst/>
          </a:prstGeom>
          <a:ln w="5724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4284720" y="4797360"/>
            <a:ext cx="1727280" cy="0"/>
          </a:xfrm>
          <a:prstGeom prst="line">
            <a:avLst/>
          </a:prstGeom>
          <a:ln w="5724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6360" y="7776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着，滚着，笑着。她感到有一股热气袭来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</a:rPr>
              <a:t>渐渐地，太阳公公散发的热量越来越大，小露珠的身子也越来越轻了。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她渐渐地变成了水蒸气，向空中飘去。向日葵向她点头，白杨树向她招手，喇叭花动情地吹奏着乐曲。大家多么想把小露珠留住呀！小露珠向大伙儿一一告别，她笑盈盈地说：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明天还会来的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95280" y="1413000"/>
            <a:ext cx="813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呀，滚呀，越来越大，越来越亮，到黎明的时候，已经有黄豆粒那么大了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84360" y="115920"/>
            <a:ext cx="7848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渐渐地，太阳公公散发的热量越来越大，小露珠的身子也越来越轻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1763640" y="3213000"/>
            <a:ext cx="547380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越来越……越来越……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6360" y="77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爬着，滚着，笑着。她感到有一股热气袭来。渐渐地，太阳公公散发的热量越来越大，小露珠的身子也越来越轻了。她渐渐地变成了水蒸气，向空中飘去。</a:t>
            </a:r>
            <a:r>
              <a:rPr b="1" lang="zh-CN" sz="3500" spc="-1" strike="noStrike">
                <a:solidFill>
                  <a:srgbClr val="ff5050"/>
                </a:solidFill>
                <a:latin typeface="Arial"/>
              </a:rPr>
              <a:t>向日葵向她点头，白杨树向她招手，喇叭花动情地吹奏着乐曲。大家多么想把小露珠留住呀！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小露珠向大伙儿一一告别，她笑盈盈地说：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我明天还会来的。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小提琴独奏 爱的致意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05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lín                    lì        zhēn         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  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降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临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黄豆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粒  珍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珠  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植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  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俊</a:t>
            </a:r>
            <a:r>
              <a:rPr b="1" lang="zh-CN" sz="40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ài                   gǔ             xí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zòu     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股    袭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  吹</a:t>
            </a:r>
            <a:r>
              <a:rPr b="1" lang="zh-CN" sz="4000" spc="-1" strike="noStrike">
                <a:solidFill>
                  <a:srgbClr val="fa2626"/>
                </a:solidFill>
                <a:latin typeface="楷体_GB2312"/>
                <a:ea typeface="楷体_GB2312"/>
              </a:rPr>
              <a:t>奏  </a:t>
            </a:r>
            <a:r>
              <a:rPr b="1" lang="zh-CN" sz="4000" spc="-1" strike="noStrike">
                <a:solidFill>
                  <a:srgbClr val="fa2626"/>
                </a:solidFill>
                <a:latin typeface="Arial"/>
                <a:ea typeface="楷体_GB2312"/>
              </a:rPr>
              <a:t>披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ǎn     lù                  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g           z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草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杆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露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珠    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喇叭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笑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盈盈  钻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a            zhēng                    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哇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水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蒸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气  光彩</a:t>
            </a:r>
            <a:r>
              <a:rPr b="1" lang="zh-CN" sz="40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熠熠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圆润 白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5156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精神  水晶    黎明   格外   透明</a:t>
            </a:r>
            <a:r>
              <a:rPr b="0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pic>
          <p:nvPicPr>
            <p:cNvPr id="168" name="Picture 3" descr="200510231742914818"/>
            <p:cNvPicPr/>
            <p:nvPr/>
          </p:nvPicPr>
          <p:blipFill>
            <a:blip r:embed="rId1"/>
            <a:stretch/>
          </p:blipFill>
          <p:spPr>
            <a:xfrm>
              <a:off x="3505320" y="2895480"/>
              <a:ext cx="5638680" cy="39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" descr="未命"/>
            <p:cNvPicPr/>
            <p:nvPr/>
          </p:nvPicPr>
          <p:blipFill>
            <a:blip r:embed="rId2"/>
            <a:stretch/>
          </p:blipFill>
          <p:spPr>
            <a:xfrm>
              <a:off x="0" y="2895480"/>
              <a:ext cx="3505320" cy="39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小露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9320" y="129528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我们的世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怎样才能更加生机勃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更加多姿多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它需要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宋体"/>
              </a:rPr>
              <a:t>   无私奉献        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为了我们美好的世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做一颗美丽的小露珠吧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宋体"/>
              </a:rPr>
              <a:t>                   </a:t>
            </a: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43fd17cc953a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为了我们美好的世界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做一颗美的露珠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916360" y="2349360"/>
            <a:ext cx="3405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私奉献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900000" y="907920"/>
            <a:ext cx="7272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如果你是小露珠，你愿意这样无私奉献，装点别人么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WordArt 6" descr=""/>
          <p:cNvPicPr/>
          <p:nvPr/>
        </p:nvPicPr>
        <p:blipFill>
          <a:blip r:embed="rId2"/>
          <a:stretch/>
        </p:blipFill>
        <p:spPr>
          <a:xfrm>
            <a:off x="1038240" y="2583000"/>
            <a:ext cx="5243400" cy="108576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"/>
          <p:cNvSpPr/>
          <p:nvPr/>
        </p:nvSpPr>
        <p:spPr>
          <a:xfrm>
            <a:off x="770040" y="6337440"/>
            <a:ext cx="50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179280" y="260280"/>
            <a:ext cx="3600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超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11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必选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读一读：有感情地朗读课文、背诵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写一写：学完这一课你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选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画一画：可爱的小露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赞一赞：用你喜欢的方式，来赞一赞小露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演一演：把这篇课文编成课本剧演一演，准备在队会课上表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5A81-235E-41A2-A870-0E7F4FED6E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66348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42920" y="1197000"/>
            <a:ext cx="7294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夜幕降临    小露珠       笑盈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戴上珠宝     鲜花嫩草   俊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彩熠熠     生机勃勃   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吹奏乐曲     喇叭花       告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79280" y="24300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2060"/>
                </a:solidFill>
                <a:latin typeface="Arial"/>
                <a:ea typeface="黑体"/>
              </a:rPr>
              <a:t>夜幕降临了，草叶上、花朵上、禾苗上出现了一颗颗小露珠。小露珠爬呀，滚呀，越来越大，越来越亮，到黎明的时候，已经有黄豆粒那么大了</a:t>
            </a:r>
            <a:r>
              <a:rPr b="0" lang="zh-CN" sz="5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24000" y="4562640"/>
            <a:ext cx="8496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思考：小露珠是怎么形成的</a:t>
            </a:r>
            <a:r>
              <a:rPr b="1" lang="en-US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c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41120" y="115920"/>
            <a:ext cx="87156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5050"/>
                </a:solidFill>
                <a:latin typeface="Arial"/>
              </a:rPr>
              <a:t>夜幕降临了，草叶上、花朵上、禾苗上出现了一颗颗小露珠。</a:t>
            </a:r>
            <a:r>
              <a:rPr b="1" lang="zh-CN" sz="5500" spc="-1" strike="noStrike">
                <a:solidFill>
                  <a:srgbClr val="002060"/>
                </a:solidFill>
                <a:latin typeface="Arial"/>
              </a:rPr>
              <a:t>小露珠爬呀，滚呀，越来越大，越来越亮，到黎明的时候，已经有黄豆粒那么大了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570560" y="2536920"/>
            <a:ext cx="142560" cy="145800"/>
          </a:xfrm>
          <a:prstGeom prst="flowChartConnector">
            <a:avLst/>
          </a:prstGeom>
          <a:gradFill rotWithShape="0">
            <a:gsLst>
              <a:gs pos="0">
                <a:srgbClr val="ff99cc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6154560" y="4265640"/>
            <a:ext cx="1511280" cy="146160"/>
            <a:chOff x="6154560" y="4265640"/>
            <a:chExt cx="1511280" cy="146160"/>
          </a:xfrm>
        </p:grpSpPr>
        <p:sp>
          <p:nvSpPr>
            <p:cNvPr id="66" name="AutoShape 13"/>
            <p:cNvSpPr/>
            <p:nvPr/>
          </p:nvSpPr>
          <p:spPr>
            <a:xfrm>
              <a:off x="6873480" y="4265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>
              <a:off x="7522920" y="426564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1"/>
            <p:cNvSpPr/>
            <p:nvPr/>
          </p:nvSpPr>
          <p:spPr>
            <a:xfrm>
              <a:off x="6154560" y="4265640"/>
              <a:ext cx="14256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2"/>
          <p:cNvGrpSpPr/>
          <p:nvPr/>
        </p:nvGrpSpPr>
        <p:grpSpPr>
          <a:xfrm>
            <a:off x="1833480" y="952560"/>
            <a:ext cx="2085840" cy="146160"/>
            <a:chOff x="1833480" y="952560"/>
            <a:chExt cx="2085840" cy="146160"/>
          </a:xfrm>
        </p:grpSpPr>
        <p:sp>
          <p:nvSpPr>
            <p:cNvPr id="70" name="AutoShape 15"/>
            <p:cNvSpPr/>
            <p:nvPr/>
          </p:nvSpPr>
          <p:spPr>
            <a:xfrm>
              <a:off x="248112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2"/>
            <p:cNvSpPr/>
            <p:nvPr/>
          </p:nvSpPr>
          <p:spPr>
            <a:xfrm>
              <a:off x="183348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3"/>
            <p:cNvSpPr/>
            <p:nvPr/>
          </p:nvSpPr>
          <p:spPr>
            <a:xfrm>
              <a:off x="312876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4"/>
            <p:cNvSpPr/>
            <p:nvPr/>
          </p:nvSpPr>
          <p:spPr>
            <a:xfrm>
              <a:off x="3776400" y="95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5"/>
          <p:cNvGrpSpPr/>
          <p:nvPr/>
        </p:nvGrpSpPr>
        <p:grpSpPr>
          <a:xfrm>
            <a:off x="538200" y="3400560"/>
            <a:ext cx="7848720" cy="938160"/>
            <a:chOff x="538200" y="3400560"/>
            <a:chExt cx="7848720" cy="938160"/>
          </a:xfrm>
        </p:grpSpPr>
        <p:sp>
          <p:nvSpPr>
            <p:cNvPr id="75" name="AutoShape 16"/>
            <p:cNvSpPr/>
            <p:nvPr/>
          </p:nvSpPr>
          <p:spPr>
            <a:xfrm>
              <a:off x="538200" y="4192560"/>
              <a:ext cx="142920" cy="14616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5"/>
            <p:cNvSpPr/>
            <p:nvPr/>
          </p:nvSpPr>
          <p:spPr>
            <a:xfrm>
              <a:off x="8244000" y="3400560"/>
              <a:ext cx="142920" cy="145800"/>
            </a:xfrm>
            <a:prstGeom prst="flowChartConnector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37"/>
          <p:cNvSpPr/>
          <p:nvPr/>
        </p:nvSpPr>
        <p:spPr>
          <a:xfrm>
            <a:off x="6729480" y="2536920"/>
            <a:ext cx="142920" cy="145800"/>
          </a:xfrm>
          <a:prstGeom prst="flowChartConnector">
            <a:avLst/>
          </a:prstGeom>
          <a:gradFill rotWithShape="0">
            <a:gsLst>
              <a:gs pos="0">
                <a:srgbClr val="ff99cc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1"/>
          <p:cNvGrpSpPr/>
          <p:nvPr/>
        </p:nvGrpSpPr>
        <p:grpSpPr>
          <a:xfrm>
            <a:off x="538200" y="3400560"/>
            <a:ext cx="4965120" cy="145800"/>
            <a:chOff x="538200" y="3400560"/>
            <a:chExt cx="4965120" cy="145800"/>
          </a:xfrm>
        </p:grpSpPr>
        <p:grpSp>
          <p:nvGrpSpPr>
            <p:cNvPr id="79" name="Group 50"/>
            <p:cNvGrpSpPr/>
            <p:nvPr/>
          </p:nvGrpSpPr>
          <p:grpSpPr>
            <a:xfrm>
              <a:off x="4066200" y="3400560"/>
              <a:ext cx="1437120" cy="145800"/>
              <a:chOff x="4066200" y="3400560"/>
              <a:chExt cx="1437120" cy="145800"/>
            </a:xfrm>
          </p:grpSpPr>
          <p:sp>
            <p:nvSpPr>
              <p:cNvPr id="80" name="AutoShape 40"/>
              <p:cNvSpPr/>
              <p:nvPr/>
            </p:nvSpPr>
            <p:spPr>
              <a:xfrm>
                <a:off x="471348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41"/>
              <p:cNvSpPr/>
              <p:nvPr/>
            </p:nvSpPr>
            <p:spPr>
              <a:xfrm>
                <a:off x="406620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42"/>
              <p:cNvSpPr/>
              <p:nvPr/>
            </p:nvSpPr>
            <p:spPr>
              <a:xfrm>
                <a:off x="536076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9"/>
            <p:cNvGrpSpPr/>
            <p:nvPr/>
          </p:nvGrpSpPr>
          <p:grpSpPr>
            <a:xfrm>
              <a:off x="538200" y="3400560"/>
              <a:ext cx="1437120" cy="145800"/>
              <a:chOff x="538200" y="3400560"/>
              <a:chExt cx="1437120" cy="145800"/>
            </a:xfrm>
          </p:grpSpPr>
          <p:sp>
            <p:nvSpPr>
              <p:cNvPr id="84" name="AutoShape 45"/>
              <p:cNvSpPr/>
              <p:nvPr/>
            </p:nvSpPr>
            <p:spPr>
              <a:xfrm>
                <a:off x="118548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46"/>
              <p:cNvSpPr/>
              <p:nvPr/>
            </p:nvSpPr>
            <p:spPr>
              <a:xfrm>
                <a:off x="53820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47"/>
              <p:cNvSpPr/>
              <p:nvPr/>
            </p:nvSpPr>
            <p:spPr>
              <a:xfrm>
                <a:off x="1832760" y="3400560"/>
                <a:ext cx="142560" cy="145800"/>
              </a:xfrm>
              <a:prstGeom prst="flowChartConnector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5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3fd17cc953a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2565360"/>
            <a:ext cx="896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0303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快要下雷雨了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，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1052640"/>
            <a:ext cx="92898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0303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去了几次美容院，妈妈变得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，越来越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189000"/>
            <a:ext cx="22176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2626"/>
                </a:solidFill>
                <a:latin typeface="Times New Roman"/>
              </a:rPr>
              <a:t>我来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55640" y="1916280"/>
            <a:ext cx="712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雨下得越来越（　　　）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地上的水越来越（　　　　）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71640" y="328464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_17760"/>
          <p:cNvPicPr/>
          <p:nvPr/>
        </p:nvPicPr>
        <p:blipFill>
          <a:blip r:embed="rId1"/>
          <a:stretch/>
        </p:blipFill>
        <p:spPr>
          <a:xfrm>
            <a:off x="611280" y="33336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u=1500680845,586271848&amp;fm=15&amp;gp=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71600">
            <a:off x="324000" y="115920"/>
            <a:ext cx="1655640" cy="156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010060919373814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4797360"/>
            <a:ext cx="2303640" cy="220500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2556000" y="620640"/>
            <a:ext cx="273672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蝴蝶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987640" y="5589720"/>
            <a:ext cx="2879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青蛙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8" name="Picture 8" descr="zhame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rot="20790000">
            <a:off x="324000" y="2349360"/>
            <a:ext cx="2520720" cy="1711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2916360" y="2852640"/>
            <a:ext cx="259236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蟋蟀</a:t>
            </a:r>
            <a:endParaRPr b="1" lang="en-US" sz="6000" spc="-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AutoShape 11">
            <a:hlinkClick r:id="rId10" action="ppaction://hlinksldjump"/>
          </p:cNvPr>
          <p:cNvSpPr/>
          <p:nvPr/>
        </p:nvSpPr>
        <p:spPr>
          <a:xfrm>
            <a:off x="8101080" y="0"/>
            <a:ext cx="1042920" cy="719280"/>
          </a:xfrm>
          <a:prstGeom prst="rightArrow">
            <a:avLst>
              <a:gd name="adj1" fmla="val 50000"/>
              <a:gd name="adj2" fmla="val 36235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2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02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