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3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0.jpeg" ContentType="image/jpeg"/>
  <Override PartName="/ppt/media/image9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3.png" ContentType="image/png"/>
  <Override PartName="/ppt/media/image34.png" ContentType="image/png"/>
  <Override PartName="/ppt/media/image40.jpeg" ContentType="image/jpeg"/>
  <Override PartName="/ppt/media/image35.png" ContentType="image/png"/>
  <Override PartName="/ppt/media/image43.jpeg" ContentType="image/jpeg"/>
  <Override PartName="/ppt/media/image42.gif" ContentType="image/gif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1.jpeg" ContentType="image/jpeg"/>
  <Override PartName="/ppt/media/image33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A49-2A00-4B60-99C0-7A0A19BF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3798-5CA2-41AC-83BD-E34A56A6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DC8-A21A-41E6-93D7-D822D7CC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E9BC-CFB4-4A3F-93C8-F4C313EE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48B-DAA3-4687-818F-4EE60EAD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767C-F85B-4550-ADD4-3139A614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EA37-7547-41AB-B7E0-0CC7E6C2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735-35FE-4551-986C-65EC2144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F3C7-0A52-43DA-B82A-CAB57AE4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0EE-7639-4886-82A9-8604DC33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AB4-C9C0-4770-A5DF-0E057202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69B-31C7-48FD-94A1-77117A25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252-AC99-4062-8AE3-2186CB04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B87-2DDF-49D0-93BD-506038C6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98B-F4CA-4606-9DF6-4243EE2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88E-9A89-4206-B20F-77F8CC1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2F4-6FD8-42FA-A69D-D27A8AB6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F2D-118B-4AFB-9178-CBEF138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5B4-EC75-45D2-9650-CAF3CB12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A39-4EBE-409C-A0C5-4642A325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F4D-E345-4392-AEE5-1549CA9A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336-8E34-4B90-B96F-7F53F03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D46B-5B24-4326-AADC-4C0A6410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54"/>
          <p:cNvPicPr/>
          <p:nvPr/>
        </p:nvPicPr>
        <p:blipFill>
          <a:blip r:embed="rId2"/>
          <a:stretch/>
        </p:blipFill>
        <p:spPr>
          <a:xfrm>
            <a:off x="3635280" y="6137280"/>
            <a:ext cx="14400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5.xml"/><Relationship Id="rId14" Type="http://schemas.openxmlformats.org/officeDocument/2006/relationships/slide" Target="slide27.xml"/><Relationship Id="rId15" Type="http://schemas.openxmlformats.org/officeDocument/2006/relationships/slide" Target="slide26.xml"/><Relationship Id="rId16" Type="http://schemas.openxmlformats.org/officeDocument/2006/relationships/hyperlink" Target="file:///../&#39068;&#25935;&#23567;&#23398;&#35821;&#25991;&#21508;&#29256;&#26412;&#25991;&#20214;&#22841;1/S&#29256;&#26412;/S&#29256;&#26412;&#23567;&#23398;&#35821;&#25991;&#35838;&#20214;/S&#29256;&#26412;&#23567;&#23398;&#35821;&#25991;&#22235;&#24180;&#32423;&#35838;&#20214;/&#19979;&#20876;/&#24352;&#29141;/&#30011;&#27773;&#36710;/&#23567;&#21496;&#26426;.MPG" TargetMode="External"/><Relationship Id="rId17" Type="http://schemas.openxmlformats.org/officeDocument/2006/relationships/image" Target="../media/image14.gi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6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11.xml"/><Relationship Id="rId3" Type="http://schemas.openxmlformats.org/officeDocument/2006/relationships/image" Target="../media/image12.png"/><Relationship Id="rId4" Type="http://schemas.openxmlformats.org/officeDocument/2006/relationships/slide" Target="slide1.xml"/><Relationship Id="rId5" Type="http://schemas.openxmlformats.org/officeDocument/2006/relationships/image" Target="../media/image13.png"/><Relationship Id="rId6" Type="http://schemas.openxmlformats.org/officeDocument/2006/relationships/slide" Target="slide9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image" Target="../media/image12.png"/><Relationship Id="rId4" Type="http://schemas.openxmlformats.org/officeDocument/2006/relationships/slide" Target="slide1.xml"/><Relationship Id="rId5" Type="http://schemas.openxmlformats.org/officeDocument/2006/relationships/image" Target="../media/image13.png"/><Relationship Id="rId6" Type="http://schemas.openxmlformats.org/officeDocument/2006/relationships/slide" Target="slide4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image" Target="../media/image12.png"/><Relationship Id="rId4" Type="http://schemas.openxmlformats.org/officeDocument/2006/relationships/slide" Target="slide1.xml"/><Relationship Id="rId5" Type="http://schemas.openxmlformats.org/officeDocument/2006/relationships/image" Target="../media/image13.png"/><Relationship Id="rId6" Type="http://schemas.openxmlformats.org/officeDocument/2006/relationships/slide" Target="slide6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../&#39068;&#25935;&#23567;&#23398;&#35821;&#25991;&#21508;&#29256;&#26412;&#25991;&#20214;&#22841;1/S&#29256;&#26412;/S&#29256;&#26412;&#23567;&#23398;&#35821;&#25991;&#35838;&#20214;/S&#29256;&#26412;&#23567;&#23398;&#35821;&#25991;&#22235;&#24180;&#32423;&#35838;&#20214;/&#19979;&#20876;/&#24352;&#29141;/&#30011;&#27773;&#36710;/&#23567;&#21496;&#26426;.MPG" TargetMode="Externa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007241548179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476360" y="692280"/>
            <a:ext cx="640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1152360" y="1450800"/>
            <a:ext cx="7056720" cy="23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小狮子爱尔莎</a:t>
            </a:r>
            <a:endParaRPr b="0" lang="en-US" sz="3200" spc="1" strike="noStrike">
              <a:ln w="936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" name="矩形 8" descr=""/>
          <p:cNvPicPr/>
          <p:nvPr/>
        </p:nvPicPr>
        <p:blipFill>
          <a:blip r:embed="rId2"/>
          <a:stretch/>
        </p:blipFill>
        <p:spPr>
          <a:xfrm>
            <a:off x="1558800" y="5800680"/>
            <a:ext cx="64026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403280" y="1413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“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我”和爱尔莎关系如何？你从文中什么地方体会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19280" y="3645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332000" y="386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两个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3059280" y="321300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2360" y="306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我”对爱尔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492360" y="494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爱尔莎对“我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74940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理解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032920" y="5661000"/>
            <a:ext cx="54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我”和爱尔莎情同母女，彼此信任，感情深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71640" y="2492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1" action="ppaction://hlinksldjump"/>
          </p:cNvPr>
          <p:cNvSpPr/>
          <p:nvPr/>
        </p:nvSpPr>
        <p:spPr>
          <a:xfrm>
            <a:off x="1187280" y="1773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>
            <a:hlinkClick r:id="rId2" action="ppaction://hlinksldjump"/>
          </p:cNvPr>
          <p:cNvSpPr/>
          <p:nvPr/>
        </p:nvSpPr>
        <p:spPr>
          <a:xfrm>
            <a:off x="2268360" y="1773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>
            <a:hlinkClick r:id="rId3" action="ppaction://hlinksldjump"/>
          </p:cNvPr>
          <p:cNvSpPr/>
          <p:nvPr/>
        </p:nvSpPr>
        <p:spPr>
          <a:xfrm>
            <a:off x="3276720" y="1773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>
            <a:hlinkClick r:id="rId4" action="ppaction://hlinksldjump"/>
          </p:cNvPr>
          <p:cNvSpPr/>
          <p:nvPr/>
        </p:nvSpPr>
        <p:spPr>
          <a:xfrm>
            <a:off x="971640" y="422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>
            <a:hlinkClick r:id="rId5" action="ppaction://hlinksldjump"/>
          </p:cNvPr>
          <p:cNvSpPr/>
          <p:nvPr/>
        </p:nvSpPr>
        <p:spPr>
          <a:xfrm>
            <a:off x="1763640" y="422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>
            <a:hlinkClick r:id="rId6" action="ppaction://hlinksldjump"/>
          </p:cNvPr>
          <p:cNvSpPr/>
          <p:nvPr/>
        </p:nvSpPr>
        <p:spPr>
          <a:xfrm>
            <a:off x="2700360" y="422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>
            <a:hlinkClick r:id="rId7" action="ppaction://hlinksldjump"/>
          </p:cNvPr>
          <p:cNvSpPr/>
          <p:nvPr/>
        </p:nvSpPr>
        <p:spPr>
          <a:xfrm>
            <a:off x="3564000" y="422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5796000" y="24210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7">
            <a:hlinkClick r:id="rId8" action="ppaction://hlinksldjump"/>
          </p:cNvPr>
          <p:cNvSpPr/>
          <p:nvPr/>
        </p:nvSpPr>
        <p:spPr>
          <a:xfrm>
            <a:off x="5508720" y="1773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8">
            <a:hlinkClick r:id="rId9" action="ppaction://hlinksldjump"/>
          </p:cNvPr>
          <p:cNvSpPr/>
          <p:nvPr/>
        </p:nvSpPr>
        <p:spPr>
          <a:xfrm>
            <a:off x="6372360" y="1773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>
            <a:hlinkClick r:id="rId10" action="ppaction://hlinksldjump"/>
          </p:cNvPr>
          <p:cNvSpPr/>
          <p:nvPr/>
        </p:nvSpPr>
        <p:spPr>
          <a:xfrm>
            <a:off x="8244000" y="1773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0">
            <a:hlinkClick r:id="rId11" action="ppaction://hlinksldjump"/>
          </p:cNvPr>
          <p:cNvSpPr/>
          <p:nvPr/>
        </p:nvSpPr>
        <p:spPr>
          <a:xfrm>
            <a:off x="7308720" y="17733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1">
            <a:hlinkClick r:id="rId12" action="ppaction://hlinksldjump"/>
          </p:cNvPr>
          <p:cNvSpPr/>
          <p:nvPr/>
        </p:nvSpPr>
        <p:spPr>
          <a:xfrm>
            <a:off x="550872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>
            <a:hlinkClick r:id="rId13" action="ppaction://hlinksldjump"/>
          </p:cNvPr>
          <p:cNvSpPr/>
          <p:nvPr/>
        </p:nvSpPr>
        <p:spPr>
          <a:xfrm>
            <a:off x="637236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">
            <a:hlinkClick r:id="rId14" action="ppaction://hlinksldjump"/>
          </p:cNvPr>
          <p:cNvSpPr/>
          <p:nvPr/>
        </p:nvSpPr>
        <p:spPr>
          <a:xfrm>
            <a:off x="824400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6">
            <a:hlinkClick r:id="rId15" action="ppaction://hlinksldjump"/>
          </p:cNvPr>
          <p:cNvSpPr/>
          <p:nvPr/>
        </p:nvSpPr>
        <p:spPr>
          <a:xfrm>
            <a:off x="7308720" y="4292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d31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924360" y="5229360"/>
            <a:ext cx="934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971640" y="981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我从岩石缝里把它抱出来，抚摸它，喂它奶粉和用鱼肝油、葡萄糖配成的饮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55640" y="5413320"/>
            <a:ext cx="7056360" cy="1149480"/>
          </a:xfrm>
          <a:prstGeom prst="rect">
            <a:avLst/>
          </a:prstGeom>
          <a:solidFill>
            <a:srgbClr val="ffcc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运用动作描写，写出了“我”对爱尔莎的细心照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71640" y="2781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这句话运用了什么描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>
            <a:hlinkClick r:id="rId1" action="ppaction://hlinksldjump"/>
          </p:cNvPr>
          <p:cNvSpPr/>
          <p:nvPr/>
        </p:nvSpPr>
        <p:spPr>
          <a:xfrm>
            <a:off x="810108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122050268_11n"/>
          <p:cNvPicPr/>
          <p:nvPr/>
        </p:nvPicPr>
        <p:blipFill>
          <a:blip r:embed="rId2"/>
          <a:stretch/>
        </p:blipFill>
        <p:spPr>
          <a:xfrm>
            <a:off x="3454560" y="2079720"/>
            <a:ext cx="5149800" cy="328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1551240" y="18900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042920" y="119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我有时候靠在爱尔莎身上看书或者画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08000" y="364500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我” 十分信任爱尔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>
            <a:hlinkClick r:id="rId1" action="ppaction://hlinksldjump"/>
          </p:cNvPr>
          <p:cNvSpPr/>
          <p:nvPr/>
        </p:nvSpPr>
        <p:spPr>
          <a:xfrm>
            <a:off x="1042920" y="5445000"/>
            <a:ext cx="503280" cy="50508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74880" y="18900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>
            <a:hlinkClick r:id="rId2" action="ppaction://hlinksldjump"/>
          </p:cNvPr>
          <p:cNvSpPr/>
          <p:nvPr/>
        </p:nvSpPr>
        <p:spPr>
          <a:xfrm>
            <a:off x="7740720" y="537372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116000" y="1197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我用鞭子着实教训了它一顿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看着它可怜的样子，我把震怒抛到了九霄云外。我抚摸着它的头，安慰它，告诉它下次可别这样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58920" y="4221000"/>
            <a:ext cx="6840360" cy="501840"/>
          </a:xfrm>
          <a:prstGeom prst="rect">
            <a:avLst/>
          </a:prstGeom>
          <a:solidFill>
            <a:srgbClr val="ffcc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爱之深，责之切。“我”很快就不生它的气，且去安慰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>
            <a:hlinkClick r:id="rId1" action="ppaction://hlinksldjump"/>
          </p:cNvPr>
          <p:cNvSpPr/>
          <p:nvPr/>
        </p:nvSpPr>
        <p:spPr>
          <a:xfrm>
            <a:off x="810108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046520" y="26028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>
            <a:hlinkClick r:id="rId2" action="ppaction://hlinksldjump"/>
          </p:cNvPr>
          <p:cNvSpPr/>
          <p:nvPr/>
        </p:nvSpPr>
        <p:spPr>
          <a:xfrm>
            <a:off x="971640" y="551664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187280" y="836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我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"/>
              </a:rPr>
              <a:t>高兴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"/>
              </a:rPr>
              <a:t>难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地接待了它，就像我嫁出去的女儿遇到不幸回到家里来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55640" y="5157720"/>
            <a:ext cx="7056360" cy="862200"/>
          </a:xfrm>
          <a:prstGeom prst="rect">
            <a:avLst/>
          </a:prstGeom>
          <a:solidFill>
            <a:srgbClr val="ffcc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又高兴又难过”这两种矛盾的心情却同时出现，此处运用心理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传神地刻画了“我”也想见爱尔莎，但又担心它在外面受了委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我”与爱尔莎情同母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rId1" action="ppaction://hlinksldjump"/>
          </p:cNvPr>
          <p:cNvSpPr/>
          <p:nvPr/>
        </p:nvSpPr>
        <p:spPr>
          <a:xfrm>
            <a:off x="810108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21e5582359a047609822edaf"/>
          <p:cNvPicPr/>
          <p:nvPr/>
        </p:nvPicPr>
        <p:blipFill>
          <a:blip r:embed="rId2"/>
          <a:stretch/>
        </p:blipFill>
        <p:spPr>
          <a:xfrm>
            <a:off x="3780000" y="1916280"/>
            <a:ext cx="4564080" cy="3033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1119600" y="18900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971640" y="83664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它走后，我又十分想念它，特别是暴风雪的夜晚，我整夜想着它，不知它怎么样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492360" y="5373720"/>
            <a:ext cx="3743640" cy="430200"/>
          </a:xfrm>
          <a:prstGeom prst="rect">
            <a:avLst/>
          </a:prstGeom>
          <a:solidFill>
            <a:srgbClr val="ffcc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我”牵挂独自在外的爱尔莎的安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rId1" action="ppaction://hlinksldjump"/>
          </p:cNvPr>
          <p:cNvSpPr/>
          <p:nvPr/>
        </p:nvSpPr>
        <p:spPr>
          <a:xfrm>
            <a:off x="810108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434701_182945642000_2"/>
          <p:cNvPicPr/>
          <p:nvPr/>
        </p:nvPicPr>
        <p:blipFill>
          <a:blip r:embed="rId2"/>
          <a:stretch/>
        </p:blipFill>
        <p:spPr>
          <a:xfrm>
            <a:off x="1547640" y="1773360"/>
            <a:ext cx="4464360" cy="3436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1119600" y="18900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>
            <a:hlinkClick r:id="rId3" action="ppaction://hlinksldjump"/>
          </p:cNvPr>
          <p:cNvSpPr/>
          <p:nvPr/>
        </p:nvSpPr>
        <p:spPr>
          <a:xfrm>
            <a:off x="90000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11280" y="981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我一步也不离开它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总是用两只爪子轻轻地抱着我的脖子入睡。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我给它验血、吃药，和它睡在一起。我自己也忘记了我是个人，爱尔莎是只狮子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渐渐恢复了健康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可是我舍不得丢开它。又一想，它总是要回到兽类中去的，我才决心离开它。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>
            <a:hlinkClick r:id="rId1" action="ppaction://hlinksldjump"/>
          </p:cNvPr>
          <p:cNvSpPr/>
          <p:nvPr/>
        </p:nvSpPr>
        <p:spPr>
          <a:xfrm>
            <a:off x="810108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b21c8701a18b87d610b14041070828381e30fdf9"/>
          <p:cNvPicPr/>
          <p:nvPr/>
        </p:nvPicPr>
        <p:blipFill>
          <a:blip r:embed="rId2"/>
          <a:stretch/>
        </p:blipFill>
        <p:spPr>
          <a:xfrm>
            <a:off x="179280" y="2906640"/>
            <a:ext cx="5267520" cy="3951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5508720" y="2997360"/>
            <a:ext cx="289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”小心照顾生病的爱尔莎，寸步不离，且忘记了我们之间的差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足以说明“我”对爱尔莎的感情之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190880" y="18900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967480" y="16286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后分别的时候，我感到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6000" y="2924280"/>
            <a:ext cx="6842160" cy="720720"/>
          </a:xfrm>
          <a:prstGeom prst="rect">
            <a:avLst/>
          </a:prstGeom>
          <a:solidFill>
            <a:srgbClr val="ffcc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我”爱爱尔莎，所以再痛苦也要给它自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>
            <a:hlinkClick r:id="rId1" action="ppaction://hlinksldjump"/>
          </p:cNvPr>
          <p:cNvSpPr/>
          <p:nvPr/>
        </p:nvSpPr>
        <p:spPr>
          <a:xfrm>
            <a:off x="611280" y="5877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974880" y="189000"/>
            <a:ext cx="30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”对爱尔莎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2.MPG" descr=""/>
          <p:cNvPicPr/>
          <p:nvPr/>
        </p:nvPicPr>
        <p:blipFill>
          <a:blip r:embed="rId2"/>
          <a:stretch/>
        </p:blipFill>
        <p:spPr>
          <a:xfrm>
            <a:off x="2627280" y="4554360"/>
            <a:ext cx="3746520" cy="23036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0">
            <a:hlinkClick r:id="rId3" action="ppaction://hlinksldjump"/>
          </p:cNvPr>
          <p:cNvSpPr/>
          <p:nvPr/>
        </p:nvSpPr>
        <p:spPr>
          <a:xfrm>
            <a:off x="8172360" y="5877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QQ截图2005051313331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6836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小狮子爱尔莎出生才两三天，我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喂它牛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五个月以后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一刻也不离开我，晚上和我一起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到河里洗澡时，它故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扑腾起浪花，跟我开玩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犀牛向我扑来时，爱尔莎勇敢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和它搏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快两岁了，我训练爱尔莎，把它送回大自然，当它饿着肚子回来时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又高兴又难过地接待了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爱尔莎发高烧了，我给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喂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7596360" y="549360"/>
            <a:ext cx="79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859280" y="2349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6659640" y="333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851280" y="1341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6300720" y="33577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4859280" y="4797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5219640" y="58770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中国教育出版网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47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中国教育出版网"/>
          <p:cNvPicPr/>
          <p:nvPr/>
        </p:nvPicPr>
        <p:blipFill>
          <a:blip r:embed="rId2"/>
          <a:stretch/>
        </p:blipFill>
        <p:spPr>
          <a:xfrm>
            <a:off x="0" y="0"/>
            <a:ext cx="4572000" cy="349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中国教育出版网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中国教育出版网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00000" y="2421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瞧，我们多和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508720" y="2421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别生气，我特喜欢看着你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911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啊，来陪我玩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219640" y="579132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不起，太困了，先睡一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692360" y="13413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一刻也不离开我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晚上也跟我一起睡。半夜里它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常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粗糙的舌头舔我的脸，把我舔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476360" y="4653000"/>
            <a:ext cx="6480360" cy="504720"/>
          </a:xfrm>
          <a:prstGeom prst="rect">
            <a:avLst/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此处运用动作描写，传神地写出爱尔莎对“我”的深深的依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>
            <a:hlinkClick r:id="rId1" action="ppaction://hlinksldjump"/>
          </p:cNvPr>
          <p:cNvSpPr/>
          <p:nvPr/>
        </p:nvSpPr>
        <p:spPr>
          <a:xfrm>
            <a:off x="468360" y="573408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708360" y="3357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描写方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95120" y="26028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rId2" action="ppaction://hlinksldjump"/>
          </p:cNvPr>
          <p:cNvSpPr/>
          <p:nvPr/>
        </p:nvSpPr>
        <p:spPr>
          <a:xfrm>
            <a:off x="8028000" y="5805360"/>
            <a:ext cx="503280" cy="50508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971640" y="1125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看见我蹲在河边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故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扑腾起浪花，还用前爪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轻轻地把我扑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地上，十分高兴和我开玩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68360" y="3645000"/>
            <a:ext cx="8280360" cy="504720"/>
          </a:xfrm>
          <a:prstGeom prst="rect">
            <a:avLst/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微软雅黑"/>
              </a:rPr>
              <a:t>故意”“轻轻地把我扑倒”写出了爱尔莎既顽皮又有分寸，小心地不伤到“我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1" action="ppaction://hlinksldjump"/>
          </p:cNvPr>
          <p:cNvSpPr/>
          <p:nvPr/>
        </p:nvSpPr>
        <p:spPr>
          <a:xfrm>
            <a:off x="46836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826920" y="2781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爱尔莎是一只（      ）的小狮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09512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995640" y="27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顽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中国教育出版网"/>
          <p:cNvPicPr/>
          <p:nvPr/>
        </p:nvPicPr>
        <p:blipFill>
          <a:blip r:embed="rId2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971640" y="981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大声呼喊，爱尔莎从远处跑来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勇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和犀牛搏斗。犀牛敌不过它，掉头跑了，爱尔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口气把它赶出很远很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rId1" action="ppaction://hlinksldjump"/>
          </p:cNvPr>
          <p:cNvSpPr/>
          <p:nvPr/>
        </p:nvSpPr>
        <p:spPr>
          <a:xfrm>
            <a:off x="46836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971640" y="2565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爱尔莎是一只（        ）的小狮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a1f8a5022cc22f044bfb51e5"/>
          <p:cNvPicPr/>
          <p:nvPr/>
        </p:nvPicPr>
        <p:blipFill>
          <a:blip r:embed="rId2"/>
          <a:stretch/>
        </p:blipFill>
        <p:spPr>
          <a:xfrm>
            <a:off x="468360" y="3716280"/>
            <a:ext cx="4535280" cy="2625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5435640" y="371628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爱尔莎为了保护“我”，与犀牛搏斗，并把它赶出很远，既写出了爱尔莎的勇敢，也写出了它作为狮子的天性并未消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06728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勇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102348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836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爱尔莎开始换牙的时候，像孩子一样张开嘴给我看。我轻轻地摇动它快要脱落的乳牙。它闭着眼睛，一动也不动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有时候靠在爱尔莎身上看书或者画画，</a:t>
            </a:r>
            <a:r>
              <a:rPr b="1" lang="zh-CN" sz="2800" spc="-1" strike="noStrike">
                <a:solidFill>
                  <a:srgbClr val="cc0000"/>
                </a:solidFill>
                <a:latin typeface="楷体"/>
                <a:ea typeface="楷体"/>
              </a:rPr>
              <a:t>它吮吸着我的大拇指，不一会儿就安静地进入梦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00000" y="3068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爱尔莎是一只（       ）的小狮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859280" y="3789360"/>
            <a:ext cx="4284720" cy="1295280"/>
          </a:xfrm>
          <a:prstGeom prst="rect">
            <a:avLst/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此处爱尔莎孩子气的举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写出它对“我”的信任和依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>
            <a:hlinkClick r:id="rId1" action="ppaction://hlinksldjump"/>
          </p:cNvPr>
          <p:cNvSpPr/>
          <p:nvPr/>
        </p:nvSpPr>
        <p:spPr>
          <a:xfrm>
            <a:off x="468360" y="566100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中国教育出版网"/>
          <p:cNvPicPr/>
          <p:nvPr/>
        </p:nvPicPr>
        <p:blipFill>
          <a:blip r:embed="rId2"/>
          <a:stretch/>
        </p:blipFill>
        <p:spPr>
          <a:xfrm>
            <a:off x="0" y="3673440"/>
            <a:ext cx="4716360" cy="3184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"/>
          <p:cNvSpPr/>
          <p:nvPr/>
        </p:nvSpPr>
        <p:spPr>
          <a:xfrm>
            <a:off x="3995640" y="306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乖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02348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>
            <a:hlinkClick r:id="rId3" action="ppaction://hlinksldjump"/>
          </p:cNvPr>
          <p:cNvSpPr/>
          <p:nvPr/>
        </p:nvSpPr>
        <p:spPr>
          <a:xfrm>
            <a:off x="6804000" y="595008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3924360" y="98100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一路上，爱尔莎像小狗一样蹦来跳去，一会儿追赶野兔，一会儿给我们叨来打死的羚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900000" y="4724280"/>
            <a:ext cx="7596360" cy="648000"/>
          </a:xfrm>
          <a:prstGeom prst="rect">
            <a:avLst/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微软雅黑"/>
                <a:ea typeface="微软雅黑"/>
              </a:rPr>
              <a:t>快乐玩耍的爱尔莎，还不忘给“我们”叼猎物，足见它的机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826920" y="3645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"/>
                <a:ea typeface="楷体"/>
              </a:rPr>
              <a:t>爱尔莎是一只（       ）的小狮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>
            <a:hlinkClick r:id="rId1" action="ppaction://hlinksldjump"/>
          </p:cNvPr>
          <p:cNvSpPr/>
          <p:nvPr/>
        </p:nvSpPr>
        <p:spPr>
          <a:xfrm>
            <a:off x="900000" y="573408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924360" y="3645000"/>
            <a:ext cx="11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102348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6584ef55c4e7ef70d009061e[1]"/>
          <p:cNvPicPr/>
          <p:nvPr/>
        </p:nvPicPr>
        <p:blipFill>
          <a:blip r:embed="rId2"/>
          <a:stretch/>
        </p:blipFill>
        <p:spPr>
          <a:xfrm>
            <a:off x="179280" y="765000"/>
            <a:ext cx="3716280" cy="27352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4">
            <a:hlinkClick r:id="rId3" action="ppaction://hlinksldjump"/>
          </p:cNvPr>
          <p:cNvSpPr/>
          <p:nvPr/>
        </p:nvSpPr>
        <p:spPr>
          <a:xfrm>
            <a:off x="7885080" y="5805360"/>
            <a:ext cx="503280" cy="50508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95280" y="9079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爱尔莎耷拉着脑袋，一声不响，垂头丧气地蹲在地上，好像求我宽恕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看着它那可怜的样子，我的震怒抛到了九霄云外。我抚摸着它的头，安慰它，告诉它下次可别这样了。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它好像听懂了我的话，撒娇似的吮着大拇指，用头蹭着我的膝盖，鼻子里发出轻轻的哼声。</a:t>
            </a: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55640" y="4869000"/>
            <a:ext cx="7704000" cy="1295280"/>
          </a:xfrm>
          <a:prstGeom prst="rect">
            <a:avLst/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这两处分别运用了神态和动作描写，传神地写出了爱尔莎的通人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微软雅黑"/>
              </a:rPr>
              <a:t>一会儿如认错的顽童，一会儿又如撒娇的孩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>
            <a:hlinkClick r:id="rId1" action="ppaction://hlinksldjump"/>
          </p:cNvPr>
          <p:cNvSpPr/>
          <p:nvPr/>
        </p:nvSpPr>
        <p:spPr>
          <a:xfrm>
            <a:off x="539640" y="6165720"/>
            <a:ext cx="503280" cy="50508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332000" y="4292640"/>
            <a:ext cx="676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936880" y="400536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爱尔莎是一只（           ）的小狮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211640" y="400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84420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>
            <a:hlinkClick r:id="rId2" action="ppaction://hlinksldjump"/>
          </p:cNvPr>
          <p:cNvSpPr/>
          <p:nvPr/>
        </p:nvSpPr>
        <p:spPr>
          <a:xfrm>
            <a:off x="8172360" y="6165720"/>
            <a:ext cx="503280" cy="50508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258920" y="14130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我一步也不离开它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"/>
              </a:rPr>
              <a:t>它总是用两只爪子轻轻地抱着我的脖子入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619280" y="4005360"/>
            <a:ext cx="5832360" cy="503280"/>
          </a:xfrm>
          <a:prstGeom prst="rect">
            <a:avLst/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微软雅黑"/>
                <a:ea typeface="微软雅黑"/>
              </a:rPr>
              <a:t>爱尔莎对“我”</a:t>
            </a:r>
            <a:r>
              <a:rPr b="1" i="1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极深的依赖</a:t>
            </a:r>
            <a:r>
              <a:rPr b="1" lang="zh-CN" sz="2800" spc="-1" strike="noStrike">
                <a:solidFill>
                  <a:srgbClr val="0000cc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1" action="ppaction://hlinksldjump"/>
          </p:cNvPr>
          <p:cNvSpPr/>
          <p:nvPr/>
        </p:nvSpPr>
        <p:spPr>
          <a:xfrm>
            <a:off x="1258920" y="573408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2348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>
            <a:hlinkClick r:id="rId2" action="ppaction://hlinksldjump"/>
          </p:cNvPr>
          <p:cNvSpPr/>
          <p:nvPr/>
        </p:nvSpPr>
        <p:spPr>
          <a:xfrm>
            <a:off x="7596360" y="5661000"/>
            <a:ext cx="50292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39640" y="9079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它好像也觉察到什么似的，用它那光滑的身子一个劲蹭我。之后，它恋恋不舍地向森林走去，一次又一次回过头来看我，直到我们互相看不见了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>
            <a:hlinkClick r:id="rId1" action="ppaction://hlinksldjump"/>
          </p:cNvPr>
          <p:cNvSpPr/>
          <p:nvPr/>
        </p:nvSpPr>
        <p:spPr>
          <a:xfrm>
            <a:off x="395280" y="595008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551237accd88c36a42bde139ce73f2d5"/>
          <p:cNvPicPr/>
          <p:nvPr/>
        </p:nvPicPr>
        <p:blipFill>
          <a:blip r:embed="rId2"/>
          <a:stretch/>
        </p:blipFill>
        <p:spPr>
          <a:xfrm>
            <a:off x="4140360" y="3429000"/>
            <a:ext cx="4195440" cy="27669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4"/>
          <p:cNvSpPr/>
          <p:nvPr/>
        </p:nvSpPr>
        <p:spPr>
          <a:xfrm>
            <a:off x="755640" y="407664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爱尔莎的动作，表明了它也舍不得离开“我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1168200" y="189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爱尔莎对“我”的情感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合作学习课文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6-10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989000"/>
            <a:ext cx="828036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此可爱、调皮、温顺的爱尔莎，“我”又怎能不爱它呢？但是“我”最终还是决定要把它送回大自然。在送爱尔莎回大自然中是否一帆风顺？哪些句子能够体现，请找出来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中国教育出版网"/>
          <p:cNvPicPr/>
          <p:nvPr/>
        </p:nvPicPr>
        <p:blipFill>
          <a:blip r:embed="rId1"/>
          <a:stretch/>
        </p:blipFill>
        <p:spPr>
          <a:xfrm>
            <a:off x="1835280" y="4869000"/>
            <a:ext cx="5473440" cy="198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中国教育出版网"/>
          <p:cNvPicPr/>
          <p:nvPr/>
        </p:nvPicPr>
        <p:blipFill>
          <a:blip r:embed="rId2"/>
          <a:stretch/>
        </p:blipFill>
        <p:spPr>
          <a:xfrm>
            <a:off x="0" y="0"/>
            <a:ext cx="19018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好几次，它都饿着肚子回来了。我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难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接待了它，就像我嫁出去的女儿遇到不幸回到家里来一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68360" y="3429000"/>
            <a:ext cx="1152360" cy="180036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175"/>
                <a:lnTo>
                  <a:pt x="14402" y="21168"/>
                </a:lnTo>
                <a:lnTo>
                  <a:pt x="21600" y="17280"/>
                </a:lnTo>
                <a:lnTo>
                  <a:pt x="14402" y="12528"/>
                </a:lnTo>
                <a:lnTo>
                  <a:pt x="14402" y="14688"/>
                </a:lnTo>
                <a:arcTo wR="21600" hR="7560" stAng="8116825" swAng="2325740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76360" y="41497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908000" y="4437000"/>
            <a:ext cx="25909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又看到了朝夕相处的爱尔莎感到亲切和喜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 rot="2355600">
            <a:off x="3562200" y="3755880"/>
            <a:ext cx="2630520" cy="48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5148360" y="4724280"/>
            <a:ext cx="3995640" cy="1513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到它饿着肚子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很心疼，内心有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说不出的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中国教育出版网"/>
          <p:cNvPicPr/>
          <p:nvPr/>
        </p:nvPicPr>
        <p:blipFill>
          <a:blip r:embed="rId1"/>
          <a:stretch/>
        </p:blipFill>
        <p:spPr>
          <a:xfrm>
            <a:off x="0" y="0"/>
            <a:ext cx="20955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1300000435150126113813340988[1]"/>
          <p:cNvPicPr/>
          <p:nvPr/>
        </p:nvPicPr>
        <p:blipFill>
          <a:blip r:embed="rId1"/>
          <a:stretch/>
        </p:blipFill>
        <p:spPr>
          <a:xfrm>
            <a:off x="0" y="0"/>
            <a:ext cx="3960720" cy="6165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440" y="63086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乔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亚当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753557[1]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6165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939280" y="63086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乔伊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亚当逊和爱尔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分别的时候，我感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莫大的痛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搂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脖子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吻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；它好像也觉察到什么似的，用它那光滑的身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劲儿蹭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之后，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恋恋不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向森林走去，一次又一次回过头来看我，直到我们互相看不见了为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中国教育出版网"/>
          <p:cNvPicPr/>
          <p:nvPr/>
        </p:nvPicPr>
        <p:blipFill>
          <a:blip r:embed="rId1"/>
          <a:stretch/>
        </p:blipFill>
        <p:spPr>
          <a:xfrm>
            <a:off x="0" y="0"/>
            <a:ext cx="4211640" cy="19162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>
            <a:hlinkClick r:id="rId2" action="ppaction://hlinksldjump"/>
          </p:cNvPr>
          <p:cNvSpPr/>
          <p:nvPr/>
        </p:nvSpPr>
        <p:spPr>
          <a:xfrm>
            <a:off x="826920" y="5589720"/>
            <a:ext cx="503280" cy="504720"/>
          </a:xfrm>
          <a:custGeom>
            <a:avLst/>
            <a:gdLst/>
            <a:ahLst/>
            <a:rect l="l" t="t" r="r" b="b"/>
            <a:pathLst>
              <a:path w="503237" h="504825">
                <a:moveTo>
                  <a:pt x="0" y="192825"/>
                </a:moveTo>
                <a:lnTo>
                  <a:pt x="192220" y="192826"/>
                </a:lnTo>
                <a:lnTo>
                  <a:pt x="251618" y="0"/>
                </a:lnTo>
                <a:lnTo>
                  <a:pt x="311016" y="192826"/>
                </a:lnTo>
                <a:lnTo>
                  <a:pt x="503236" y="192825"/>
                </a:lnTo>
                <a:lnTo>
                  <a:pt x="347726" y="311997"/>
                </a:lnTo>
                <a:lnTo>
                  <a:pt x="407127" y="504823"/>
                </a:lnTo>
                <a:lnTo>
                  <a:pt x="251618" y="385649"/>
                </a:lnTo>
                <a:lnTo>
                  <a:pt x="96110" y="504823"/>
                </a:lnTo>
                <a:lnTo>
                  <a:pt x="155510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rId3" action="ppaction://hlinksldjump"/>
          </p:cNvPr>
          <p:cNvSpPr/>
          <p:nvPr/>
        </p:nvSpPr>
        <p:spPr>
          <a:xfrm>
            <a:off x="8028000" y="5661000"/>
            <a:ext cx="431640" cy="504720"/>
          </a:xfrm>
          <a:custGeom>
            <a:avLst/>
            <a:gdLst/>
            <a:ahLst/>
            <a:rect l="l" t="t" r="r" b="b"/>
            <a:pathLst>
              <a:path w="431800" h="504825">
                <a:moveTo>
                  <a:pt x="0" y="192825"/>
                </a:moveTo>
                <a:lnTo>
                  <a:pt x="164933" y="192826"/>
                </a:lnTo>
                <a:lnTo>
                  <a:pt x="215900" y="0"/>
                </a:lnTo>
                <a:lnTo>
                  <a:pt x="266866" y="192826"/>
                </a:lnTo>
                <a:lnTo>
                  <a:pt x="431799" y="192825"/>
                </a:lnTo>
                <a:lnTo>
                  <a:pt x="298364" y="311997"/>
                </a:lnTo>
                <a:lnTo>
                  <a:pt x="349333" y="504823"/>
                </a:lnTo>
                <a:lnTo>
                  <a:pt x="215900" y="385649"/>
                </a:lnTo>
                <a:lnTo>
                  <a:pt x="82466" y="504823"/>
                </a:lnTo>
                <a:lnTo>
                  <a:pt x="133435" y="311997"/>
                </a:lnTo>
                <a:close/>
              </a:path>
            </a:pathLst>
          </a:custGeom>
          <a:solidFill>
            <a:srgbClr val="1ed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178080" y="620640"/>
            <a:ext cx="9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真是莫大的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50920" y="1628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劝君更尽一杯酒，（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50920" y="2492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孤帆远影碧空尽，（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85928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西出阳关无故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932360" y="2492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唯见长江天际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403280" y="35733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既然如此痛苦，既然如此恋恋不舍，既然如此难舍难分，</a:t>
            </a:r>
            <a:r>
              <a:rPr b="1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作者为什么还要把爱尔莎送回大自然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gif019"/>
          <p:cNvPicPr/>
          <p:nvPr/>
        </p:nvPicPr>
        <p:blipFill>
          <a:blip r:embed="rId1"/>
          <a:stretch/>
        </p:blipFill>
        <p:spPr>
          <a:xfrm>
            <a:off x="7236000" y="47628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w028"/>
          <p:cNvPicPr/>
          <p:nvPr/>
        </p:nvPicPr>
        <p:blipFill>
          <a:blip r:embed="rId2"/>
          <a:stretch/>
        </p:blipFill>
        <p:spPr>
          <a:xfrm>
            <a:off x="468360" y="5300640"/>
            <a:ext cx="100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0" y="371628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50920" y="0"/>
            <a:ext cx="8424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鱼儿只有在水中嬉戏才会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鸟儿只有在蓝天翱翔才会幸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马儿只有在草原上奔驰才会自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狮子只有回到大自然才算真正回到了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所以我虽然有着莫大的痛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但我还是把它送回了大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S.E.N.S.-沉醉于风中.mp3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200501251540101c505"/>
          <p:cNvPicPr/>
          <p:nvPr/>
        </p:nvPicPr>
        <p:blipFill>
          <a:blip r:embed="rId3"/>
          <a:stretch/>
        </p:blipFill>
        <p:spPr>
          <a:xfrm>
            <a:off x="4500720" y="3716280"/>
            <a:ext cx="4643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1403280" y="69228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爱有多深，痛苦就有多深，让我们的心与作者的心紧紧地贴在一起，深情地读读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自然段，与爱尔莎告个别吧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00"/>
          <p:cNvPicPr/>
          <p:nvPr/>
        </p:nvPicPr>
        <p:blipFill>
          <a:blip r:embed="rId1"/>
          <a:stretch/>
        </p:blipFill>
        <p:spPr>
          <a:xfrm>
            <a:off x="2700360" y="3141720"/>
            <a:ext cx="480528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71440" y="47628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爱尔莎和我一起生活了三年。最后分别的时候，我感到莫大的痛苦。我搂住它的脖子，吻着它；它好像也觉察到什么似的，用它那光滑的身子一个劲儿蹭我。之后，它恋恋不舍地向森林走去，一次又一次回过头来看我，直到我们互相看不见了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就这样，我把爱尔莎交回了大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21e5582359a047609822edaf"/>
          <p:cNvPicPr/>
          <p:nvPr/>
        </p:nvPicPr>
        <p:blipFill>
          <a:blip r:embed="rId1"/>
          <a:stretch/>
        </p:blipFill>
        <p:spPr>
          <a:xfrm>
            <a:off x="2268360" y="3506760"/>
            <a:ext cx="50403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611280" y="0"/>
            <a:ext cx="777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楷体"/>
                <a:ea typeface="楷体"/>
              </a:rPr>
              <a:t>1961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年，亚当逊又重返送爱尔莎回归大自然的那片森林，更令人惊异的奇迹出现了：爱尔莎带着自己的三个子女来看望亚当逊了！亚当逊激动极了，为它们准备了鲜美的骆驼肉。爱尔莎吃完后，一步三回头地走了，却把自己的三个子女全部留给了亚当逊。于是，亚当逊又像以前抚养爱尔莎一样抚养着爱尔莎的子女，又像让爱尔莎回归大自然一样，把它们养大后，送它们回归大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001966a866780c491d6611"/>
          <p:cNvPicPr/>
          <p:nvPr/>
        </p:nvPicPr>
        <p:blipFill>
          <a:blip r:embed="rId1"/>
          <a:stretch/>
        </p:blipFill>
        <p:spPr>
          <a:xfrm>
            <a:off x="3780000" y="4022640"/>
            <a:ext cx="4681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中国教育出版网"/>
          <p:cNvPicPr/>
          <p:nvPr/>
        </p:nvPicPr>
        <p:blipFill>
          <a:blip r:embed="rId1"/>
          <a:stretch/>
        </p:blipFill>
        <p:spPr>
          <a:xfrm>
            <a:off x="0" y="0"/>
            <a:ext cx="9325080" cy="7093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1763640" y="18900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爱尔莎，祝你平安幸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006062417381076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总结扩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85360" y="169992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   </a:t>
            </a:r>
            <a:r>
              <a:rPr b="1" lang="zh-CN" sz="3200" spc="-1" strike="noStrike">
                <a:solidFill>
                  <a:srgbClr val="003300"/>
                </a:solidFill>
                <a:latin typeface="方正舒体"/>
                <a:ea typeface="方正舒体"/>
              </a:rPr>
              <a:t>作者和爱尔莎朝夕相处，帮助爱尔莎从出生，开始换牙，到教会它自己捕食，为它治病最后把它送回大自然，他们之间建立了深厚的友情。这篇课文告诉我们，只要我们充满爱心，保护环境，相信我们和动物之间也会有如此亲密的关系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方正舒体"/>
                <a:ea typeface="方正舒体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方正舒体"/>
                <a:ea typeface="方正舒体"/>
              </a:rPr>
              <a:t>　同学们，你们是如何对待小动物，如何和动物相处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4255bceffc3c9da4cf1b3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656000">
            <a:off x="8381160" y="60955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8b998fcc0423b75b00e928e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4255bceffc3c9da4cf1b3eee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530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中国教育出版网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中国教育出版网"/>
          <p:cNvPicPr/>
          <p:nvPr/>
        </p:nvPicPr>
        <p:blipFill>
          <a:blip r:embed="rId2"/>
          <a:stretch/>
        </p:blipFill>
        <p:spPr>
          <a:xfrm>
            <a:off x="1042920" y="1844640"/>
            <a:ext cx="1514520" cy="1628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971640" y="0"/>
            <a:ext cx="143964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3300"/>
                </a:solidFill>
                <a:latin typeface="Arial"/>
              </a:rPr>
              <a:t>博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3300"/>
                </a:solidFill>
                <a:latin typeface="Arial"/>
              </a:rPr>
              <a:t>爱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中国教育出版网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2340000" y="260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关心爱护动物，共创和谐社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16000" y="62064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0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1.</a:t>
            </a: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自由朗读课文，边读边画出生字，读准字音，难读的地方可以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0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2. </a:t>
            </a: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画出点明爱尔莎</a:t>
            </a:r>
            <a:r>
              <a:rPr b="0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年龄</a:t>
            </a: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的语句，想想课文是按怎样的</a:t>
            </a:r>
            <a:r>
              <a:rPr b="0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顺序</a:t>
            </a:r>
            <a:r>
              <a:rPr b="0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来写的呢？文章可以分为哪几个段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20120307081148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2319480" y="177804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2050920" y="1773360"/>
            <a:ext cx="40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拓展延伸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187280" y="2565360"/>
            <a:ext cx="7272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展开想象，说说爱尔莎回到大自然以后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还知道哪些人与动物和谐相处的有趣故事？跟同学们交流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"/>
          <p:cNvSpPr/>
          <p:nvPr/>
        </p:nvSpPr>
        <p:spPr>
          <a:xfrm>
            <a:off x="2319480" y="5951520"/>
            <a:ext cx="58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练习提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你有过自己喜欢的动物吗？仔细观察过它们吗？如：它小的时候是什么样的呢？后来呢？长大的情况又是怎么样？你最喜欢的是它的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7" descr="中国教育出版网"/>
          <p:cNvPicPr/>
          <p:nvPr/>
        </p:nvPicPr>
        <p:blipFill>
          <a:blip r:embed="rId1"/>
          <a:stretch/>
        </p:blipFill>
        <p:spPr>
          <a:xfrm>
            <a:off x="179280" y="260280"/>
            <a:ext cx="3168720" cy="1047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w028"/>
          <p:cNvPicPr/>
          <p:nvPr/>
        </p:nvPicPr>
        <p:blipFill>
          <a:blip r:embed="rId2"/>
          <a:stretch/>
        </p:blipFill>
        <p:spPr>
          <a:xfrm>
            <a:off x="7596360" y="5661000"/>
            <a:ext cx="100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4FBB-41D6-4255-B385-0016408FFE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4068720" y="4091040"/>
            <a:ext cx="53290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476360" y="907920"/>
            <a:ext cx="6696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习生字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膜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粗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糙</a:t>
            </a:r>
            <a:r>
              <a:rPr b="1" lang="en-US" sz="40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暴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躁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吮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拉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恕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验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血  剖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垂头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丧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气     和</a:t>
            </a: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睦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相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>
            <a:hlinkClick r:id="rId2" action="ppaction://hlinksldjump"/>
          </p:cNvPr>
          <p:cNvSpPr/>
          <p:nvPr/>
        </p:nvSpPr>
        <p:spPr>
          <a:xfrm>
            <a:off x="270000" y="5734080"/>
            <a:ext cx="539640" cy="620640"/>
          </a:xfrm>
          <a:custGeom>
            <a:avLst/>
            <a:gdLst>
              <a:gd name="textAreaLeft" fmla="*/ 222840 w 539640"/>
              <a:gd name="textAreaRight" fmla="*/ 316800 w 539640"/>
              <a:gd name="textAreaTop" fmla="*/ 256320 h 620640"/>
              <a:gd name="textAreaBottom" fmla="*/ 364320 h 62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23" y="8923"/>
                </a:lnTo>
                <a:lnTo>
                  <a:pt x="10800" y="0"/>
                </a:lnTo>
                <a:lnTo>
                  <a:pt x="12677" y="8923"/>
                </a:lnTo>
                <a:lnTo>
                  <a:pt x="21600" y="10800"/>
                </a:lnTo>
                <a:lnTo>
                  <a:pt x="12677" y="12677"/>
                </a:lnTo>
                <a:lnTo>
                  <a:pt x="10800" y="21600"/>
                </a:lnTo>
                <a:lnTo>
                  <a:pt x="8923" y="12677"/>
                </a:lnTo>
                <a:lnTo>
                  <a:pt x="0" y="108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图片63"/>
          <p:cNvPicPr/>
          <p:nvPr/>
        </p:nvPicPr>
        <p:blipFill>
          <a:blip r:embed="rId1"/>
          <a:stretch/>
        </p:blipFill>
        <p:spPr>
          <a:xfrm>
            <a:off x="0" y="-1440"/>
            <a:ext cx="9325080" cy="7030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理解词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5280" y="15699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扑腾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用四肢打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宽恕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容、饶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九霄云外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指把怒气抛到很远的地方，消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无影无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恋恋不舍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极其喜爱，舍不得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垂头丧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因失败或不顺利而精神不振，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消沉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睦相处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处在一起很友好，和气，不争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兽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兽野蛮和残忍的本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4255bceffc3c9da4cf1b3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656000">
            <a:off x="8534160" y="60955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8b998fcc0423b75b00e928e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4255bceffc3c9da4cf1b3eee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530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图片63"/>
          <p:cNvPicPr/>
          <p:nvPr/>
        </p:nvPicPr>
        <p:blipFill>
          <a:blip r:embed="rId1"/>
          <a:stretch/>
        </p:blipFill>
        <p:spPr>
          <a:xfrm>
            <a:off x="0" y="-1440"/>
            <a:ext cx="9325080" cy="7030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熟读课文，整体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85868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课文主要写了些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记述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精心驯养失去母亲的小狮子爱尔莎，和它一起生活了三年，又把它送回大自然的事，表达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爱尔莎之间的深厚感情，体现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爱尔莎的真心爱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4255bceffc3c9da4cf1b3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656000">
            <a:off x="8381160" y="60955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8b998fcc0423b75b00e928e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4255bceffc3c9da4cf1b3eee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530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692360" y="1052640"/>
            <a:ext cx="63370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感知课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说说你找到的点明小狮子爱尔莎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年龄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语句，想想课文是按怎样的</a:t>
            </a:r>
            <a:r>
              <a:rPr b="1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顺序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写的？文章又可以分为哪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个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d3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5084640"/>
            <a:ext cx="1224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"/>
          <p:cNvPicPr/>
          <p:nvPr/>
        </p:nvPicPr>
        <p:blipFill>
          <a:blip r:embed="rId1"/>
          <a:stretch/>
        </p:blipFill>
        <p:spPr>
          <a:xfrm>
            <a:off x="3986280" y="27468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826920" y="765000"/>
            <a:ext cx="734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狮子爱尔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出生才两三天，它的妈妈就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五个月以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它长大了，很强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爱尔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开始换牙的时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，像孩子一样张开嘴给我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爱尔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快两岁了，我想把它送到动物园去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爱尔莎和我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"/>
              </a:rPr>
              <a:t>一起生活了三年。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00360" y="57340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出生</a:t>
            </a:r>
            <a:r>
              <a:rPr b="1" lang="en-US" sz="3600" spc="-1" strike="noStrike">
                <a:solidFill>
                  <a:srgbClr val="0033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成长</a:t>
            </a:r>
            <a:r>
              <a:rPr b="1" lang="en-US" sz="3600" spc="-1" strike="noStrike">
                <a:solidFill>
                  <a:srgbClr val="003300"/>
                </a:solidFill>
                <a:latin typeface="楷体"/>
                <a:ea typeface="楷体"/>
              </a:rPr>
              <a:t>——</a:t>
            </a: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回归自然</a:t>
            </a: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700360" y="5013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时间顺序（爱尔莎成长过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2"/>
          <p:cNvSpPr txBox="1"/>
          <p:nvPr/>
        </p:nvSpPr>
        <p:spPr>
          <a:xfrm>
            <a:off x="1042920" y="5013360"/>
            <a:ext cx="115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顺序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4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40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3:39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