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616-69AA-4078-AB89-9B246DF367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1B56-C7C6-4243-B2AE-EE67C2038A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1A8-18E5-4B30-B457-B5EE0736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75A-0820-400B-B84D-6760AD5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6B8-229C-47F4-9C67-14308071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0C-5A4C-4CA3-99AA-E91B8C20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DEA-17A3-4A37-B1F9-D47B846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439-9CB7-4170-B93B-DC7259F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C4A-8E87-4012-8D48-AA34782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9A7-48F8-42A9-8C94-F9EF5055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C1A-4E8C-4017-A72D-751095D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42E-B7F8-4CEE-A9CF-3374529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5F0-910F-452D-AED0-B72F9AF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18A-FE00-43A5-9D82-23EB0FA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1B9-9636-4871-9153-08D0ABE07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85800" y="24382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1 </a:t>
            </a:r>
            <a:r>
              <a:rPr b="1" lang="zh-CN" sz="8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向卫星求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84284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1982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年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月的一天，西姆的儿子驾驶私人飞机，在加拿大西部山区上空飞行时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失踪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加拿大的西部山区，</a:t>
            </a: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绵延广阔，山势险峻，丛林密布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。要在这样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的范围内、这样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复杂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的地形中寻找一个人的下落，不是一件容易的事。但西姆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还是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约了他的两个朋友，租了一架小型飞机，一起出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他们带着无线电收发报机，从东南向西北飞过群山，没有发现呼救信号。于是，他们绕圈儿飞行，寻找飞机失事的踪迹。不幸再次发生了：</a:t>
            </a: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由于山峦起伏，森林茂密，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气流变化剧烈</a:t>
            </a: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西姆他们驾驶的飞机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也</a:t>
            </a: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在群山峡谷中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失事</a:t>
            </a: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u=2816690435,864114532&amp;fm=23&amp;gp=0"/>
          <p:cNvPicPr/>
          <p:nvPr/>
        </p:nvPicPr>
        <p:blipFill>
          <a:blip r:embed="rId1"/>
          <a:stretch/>
        </p:blipFill>
        <p:spPr>
          <a:xfrm>
            <a:off x="77760" y="79200"/>
            <a:ext cx="8991720" cy="6702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327320" y="615960"/>
            <a:ext cx="530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山势险峻、丛林密布，找人谈何容易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2060"/>
                </a:solidFill>
                <a:latin typeface="华文楷体"/>
                <a:ea typeface="华文楷体"/>
              </a:rPr>
              <a:t>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加拿大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航空救险队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接到西姆驾机失事的报告后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立即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派出飞机救援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但是，经过一个多小时的搜寻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他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收到呼救的无线电信号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没有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发现任何踪迹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办？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维多利亚营救中心建议向卫星求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371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来，苏联三个月前发射的第一颗卫星救援卫星，经过两个多月的精心调试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刚刚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投入使用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而且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就要飞过加拿大上空。于是，人们马上与苏联救援卫星指挥中心联系。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但是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，救援中心能管得了这么细、这么具体的事情吗？人们还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忧心忡忡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渥太华卫星救援中心接到报告后，整个系统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立即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行动起来。几小时后，救援卫星果然传来了微弱的无线电呼救信号。计算机迅速寻迹追踪，很快就查出了无线电呼救信号发出的地点和方位：卫星运行轨迹以西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1900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千米的斯蒂金山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 加拿大救援总部立即派出飞机飞往斯蒂金山区。果然，搜寻人员很快就监听到了呼救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飞机盘旋着。在茂密的松林中，他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终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发现了一顶红色的帐篷。军医迅速跳伞降落。只见帐篷里有三个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是西姆和他的两个朋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他们都受了重伤。万幸的是，他们都活着，只不过急需治疗和护理。如果再过几天，他们肯定就没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西姆三人得救了。至于西姆的儿子，由于错过了及时救援的时间，已经无法寻找。这就是人造卫星第一次救人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从哪些地方认识了救援卫星的神奇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渥太华卫星救援中心接到报告后，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整个系统立即行动起来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。几小时后，救援卫星果然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传来了微弱的无线电呼救信号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。计算机迅速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寻迹追踪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，很快就查出了无线电呼救信号发出的地点和方位：卫星运行轨迹以西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900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千米的斯蒂金山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救援卫星怎么救人的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救援卫星接到地面呼救信号后，会立刻自动计算出发出呼救信号的位置数据，然后把数据信号发给地面接收站，地面接收站把信号数据计算转换后，迅速通知救援指挥中心，赶往出事地点紧急救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339840" y="57610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12600" y="167652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救援卫星是用来营救失事飞机和船舶的的人造卫星，现在在天上运行的救援卫星有四颗，在世界各地设有十一个地面接收站，形成了一个国际卫星营救系统，这个系统能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个小时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地球上的每个角落搜索一遍。搜索营救卫星运行在离地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5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里的高空，可以接收来自直径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里广大地区内任何地方发出的呼救信号。卫星绕地球一周只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，所以不仅搜索范围大，而且发现目标快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98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至今，国际卫星营救系统共搜寻到失事飞机和船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左右，营救遇险者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多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同学们，这节课我们了解了卫星救人的原理，领略了卫星的神奇。这正是科学技术迅速发展的结果，希望同学们能够好好学习，掌握更多的科学文化知识，将来也为科技发展做出自己的贡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把这个情节曲折的故事绘声绘色地讲给家长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893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41320" y="1057320"/>
            <a:ext cx="434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99864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人造卫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CFD-0183-4F9A-B525-7DB542D726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24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人造卫星是个兴旺的家族，如果按用途分，它可分为三大类：科学卫星，技术试验卫星和应用卫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　　科学卫星是用于科学探测和研究的卫星，主要包括空间物理探测卫星和天文卫星，用来研究高层大气，地球辐射带，地球磁层，宇宙线，太阳辐射等，并可以观测其他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　　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技术试验卫星是进行新技术试验或为应用卫星进行试验的卫星。航天技术中有很多新原理，新材料，新仪器，其能否使用，必须在天上进行试验；一种新卫星的性能如何，也只有把它发射到天上去实际“锻炼”，试验成功后才能应用；人上天之前必须先进行动物试验……这些都是技术试验卫星的使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　　应用卫星是直接为人类服务的卫星，它的种类最多，数量最大，其中包括：通信卫星，气象卫星，侦察卫星，导航卫星，测地卫星，地球资源卫星，截击卫星、救援卫星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认真听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听准字词读音，注意文中带音节的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边听边想：课文按什么顺序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985680" y="2438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失踪    搜寻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借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谷    救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迹    监听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利亚  山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起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忧心忡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733920" y="4114800"/>
            <a:ext cx="40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忡忡：忧虑不安的样子。忧愁得心情不能安静。形容心事重重，非常忧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590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是按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事情的发展顺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叙述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讲述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第一颗救援卫星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首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救人的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65080" y="174312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按什么顺序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默读课文，边读边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课文的哪些自然段分别写了事情的起因、经过、结果？并简要概括内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谁向卫星求救？为什么求救？卫星为什么能救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事情起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：西姆的儿子驾机失踪，西姆和朋友去寻找，再次失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事情经过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-8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：飞机救援无果，向卫星求救，卫星搜寻并很快发现目标，飞机实施救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事情结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：西姆和朋友得救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088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谁向卫星求救？为什么求救？卫星为什么能救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让我们再次读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0T22:14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09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