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4F95-0314-4E26-929D-6A176D1EABC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EC41-C1DC-4202-B436-7E9EE7BBBC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E33-A65F-4C2F-8711-14961859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168-C7F6-4C7C-A54F-9E6C937D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A47-ABD8-43E7-9C49-9B0C88AC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D27-4F6A-4FA3-868E-A6C88002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DEC4-A231-4B5A-BD16-D840089B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B3F9-C991-499F-BBD4-93D5AE8C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2687-5ED0-417B-BE89-CDA817AC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AC6-4F8B-4159-A868-F5CD35A5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ABB3-D831-48FB-9AFD-FA808B9C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951-5C96-415B-88E2-806FD034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DC47-E955-4D89-9E02-D87EABD0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DDA-4325-4DB4-9EB5-43B9F180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AA7B-A7C4-48D9-9E68-16B4267A04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1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1270080" y="1197000"/>
            <a:ext cx="662472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中宋"/>
              </a:rPr>
              <a:t>形形色色的植物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377360" y="611964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24000" y="78120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植物的生长速度也不一样，有的很快，如山间竹笋，一场春雨过后，笋芽一天能蹿几尺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24000" y="2565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热带有一种芭蕉，你要是在树下待半天，眼看着树叶就把你遮盖起来了，真像俗语说的那样“随风见长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图片11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20300001180758130320665144240"/>
          <p:cNvPicPr/>
          <p:nvPr/>
        </p:nvPicPr>
        <p:blipFill>
          <a:blip r:embed="rId1"/>
          <a:stretch/>
        </p:blipFill>
        <p:spPr>
          <a:xfrm>
            <a:off x="0" y="3240"/>
            <a:ext cx="9145440" cy="6885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6516720" y="6494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毛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0110915114845621"/>
          <p:cNvPicPr/>
          <p:nvPr/>
        </p:nvPicPr>
        <p:blipFill>
          <a:blip r:embed="rId1"/>
          <a:stretch/>
        </p:blipFill>
        <p:spPr>
          <a:xfrm>
            <a:off x="0" y="324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940360" y="5698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南极地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9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650880" y="836640"/>
            <a:ext cx="81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也许以为花都是白天开放的吧？不是。昙花、待宵草的花，都在夜晚才漏出它们美丽的笑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41520" y="187020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也许以为植物的叶子都是绿色的吧？不是。一到秋天，槭树的叶子就变得紫红，银杏的叶子又变成金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39640" y="335772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也许以为植物都是不能运动的吧？不是。有些植物不但能够运动，而且还会“跳舞”呢。在印度、斯里兰卡有一种电信草，它的每片大叶子旁边长着两片小叶。这两片小叶就像贪玩儿的孩子，白天一刻不停地在“跳舞”，夜晚才会安静下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5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你也许以为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        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吧？不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55640" y="3230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你还知道哪些植物，用这个句式说一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图片6"/>
          <p:cNvPicPr/>
          <p:nvPr/>
        </p:nvPicPr>
        <p:blipFill>
          <a:blip r:embed="rId1"/>
          <a:stretch/>
        </p:blipFill>
        <p:spPr>
          <a:xfrm>
            <a:off x="611280" y="260280"/>
            <a:ext cx="3529080" cy="2646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116000" y="1341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省略号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3068640"/>
            <a:ext cx="82072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引文或引述的话有所省略；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重复词语的省略；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列举同类事物和序数词语的省略；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静默或思考；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说话断断续续；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语言的中断；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话未说完，语意未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9640" y="161604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植物的世界给你留下了什么样的印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300720" y="2349360"/>
            <a:ext cx="11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图片1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1184400" y="674640"/>
            <a:ext cx="252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84360" y="21049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“你也许认为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吧？不是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”这样的句式把你最感兴趣的植物写在摘抄本上，如果能用上“列数字、作比较”就更好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"/>
          <p:cNvSpPr/>
          <p:nvPr/>
        </p:nvSpPr>
        <p:spPr>
          <a:xfrm>
            <a:off x="684360" y="5640480"/>
            <a:ext cx="64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8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1825560" y="1614600"/>
            <a:ext cx="447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6"/>
          <p:cNvSpPr txBox="1"/>
          <p:nvPr/>
        </p:nvSpPr>
        <p:spPr>
          <a:xfrm>
            <a:off x="1189080" y="1414440"/>
            <a:ext cx="691200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谢谢指导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图片1"/>
          <p:cNvPicPr/>
          <p:nvPr/>
        </p:nvPicPr>
        <p:blipFill>
          <a:blip r:embed="rId1"/>
          <a:stretch/>
        </p:blipFill>
        <p:spPr>
          <a:xfrm>
            <a:off x="0" y="-25560"/>
            <a:ext cx="9145440" cy="6883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846000" y="1403280"/>
            <a:ext cx="286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覆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492360" y="1413000"/>
            <a:ext cx="221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树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709640" y="3789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槭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140360" y="3789360"/>
            <a:ext cx="204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4734-3858-4185-9FB5-AD85EFF14A8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图片6"/>
          <p:cNvPicPr/>
          <p:nvPr/>
        </p:nvPicPr>
        <p:blipFill>
          <a:blip r:embed="rId1"/>
          <a:stretch/>
        </p:blipFill>
        <p:spPr>
          <a:xfrm>
            <a:off x="250920" y="190440"/>
            <a:ext cx="4321080" cy="3240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684360" y="1303200"/>
            <a:ext cx="345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自读提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3430440"/>
            <a:ext cx="873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文中讲了哪些形形色色的植物？按顺序边读边画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1096920" y="1204920"/>
            <a:ext cx="70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大的植物，大得让你看不清它的全貌。澳洲的杏仁桉树，就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百几十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116000" y="2781360"/>
            <a:ext cx="712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孟加拉有一种榕树，树冠可以覆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十五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土地，树荫下可以容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万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乘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189080" y="4149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微小的植物，小得让你用肉眼看不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360360" y="357336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图片1"/>
          <p:cNvPicPr/>
          <p:nvPr/>
        </p:nvPicPr>
        <p:blipFill>
          <a:blip r:embed="rId1"/>
          <a:stretch/>
        </p:blipFill>
        <p:spPr>
          <a:xfrm>
            <a:off x="1440" y="0"/>
            <a:ext cx="91458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116000" y="1287360"/>
            <a:ext cx="667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有些植物的寿命很长，北美洲有一种名叫“世界爷”的巨杉，能活几千年。有些植物的寿命又极短，几十分钟就会死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图片9"/>
          <p:cNvPicPr/>
          <p:nvPr/>
        </p:nvPicPr>
        <p:blipFill>
          <a:blip r:embed="rId1"/>
          <a:stretch/>
        </p:blipFill>
        <p:spPr>
          <a:xfrm>
            <a:off x="0" y="-96840"/>
            <a:ext cx="914400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世界上最长寿的植物"/>
          <p:cNvPicPr/>
          <p:nvPr/>
        </p:nvPicPr>
        <p:blipFill>
          <a:blip r:embed="rId1"/>
          <a:stretch/>
        </p:blipFill>
        <p:spPr>
          <a:xfrm>
            <a:off x="0" y="0"/>
            <a:ext cx="65167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6588000" y="0"/>
            <a:ext cx="23767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世界上最长寿的植物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—龙血树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据专家研究，龙血树树龄可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千多年，是地球上最长寿的树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0:41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