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24D5-7AB4-49A3-88BC-E1F4C204B8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D8E-8B18-475D-9D1F-02CAE128B6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C46-F079-4A69-B5E8-9BD2CA9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D4B-164D-41D3-B059-1C04E8B1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461-0BBA-4AE2-B7A9-1639AE33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035-6190-418C-906B-3E04E4A3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594-585C-4474-BE52-AB63E2D2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BDA-14BB-4140-8B9D-3237BDB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78E-6D5F-4013-9C99-B1A1E11E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B275-BE04-4027-81C6-55A4242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A15A-D16A-4D87-9DCF-4DA7744F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DD0-8007-4107-B5B8-75EDE39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5F0-282F-45F6-ABC4-2908C57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4B0-F873-4292-85C1-47E80182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FBBA-07EA-4AA8-8FC8-C982F6B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EB64-6961-411B-9784-1426D3D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A49A-2B49-4585-84CF-66ADAE8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32B-8534-4847-A7FE-7B0CF478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82E-1E49-462D-8604-E9AD1BE1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0E1-2BAE-4117-A6F3-DB45330F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36D-CD31-4965-B419-F55D5B02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9B6-4091-4207-A034-8991602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635-025C-4337-A39F-83B63DF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BF2-2F4B-4A31-A8E3-F21FF30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3C4-06DC-4ADE-9D4C-A72B342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ECA-7CF0-4302-A1CC-E575A20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09B-95AA-4E49-8A36-F23AADF3E2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07B-C84E-44EB-9770-8F4770E976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06600" y="1125360"/>
            <a:ext cx="60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隶书"/>
                <a:ea typeface="华文隶书"/>
              </a:rPr>
              <a:t>一 个 新 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91592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照片 007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116000" y="1773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1280" y="45100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333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老爷爷一边抚摸着大树，一边说，“一棵大树死了，更多的生命在这住下来了，不仅有动物，还有植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老爷爷望着这棵成为动物新家的大树，望着这片长满草莓、蘑菇的土地，欣慰地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0920" y="508644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爷爷为什么“抚摸”大树？又为什么“欣慰地笑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4000" y="333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老爷爷一边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抚摸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着大树，一边说，“一棵大树死了，更多的生命在这住下来了，不仅有动物，还有植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老爷爷望着这棵成为动物新家的大树，望着这片长满草莓、蘑菇的土地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欣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地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照片 007副本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116000" y="1773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45100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 flipH="1">
            <a:off x="252360" y="333360"/>
            <a:ext cx="7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flipH="1">
            <a:off x="252360" y="333360"/>
            <a:ext cx="7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95280" y="549360"/>
            <a:ext cx="6192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以“一个新家的生活”为题，写写你快乐的新家生活吧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957320" y="6058080"/>
            <a:ext cx="53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1092-48AC-4293-BC1A-31A3CFA426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1副本"/>
          <p:cNvPicPr/>
          <p:nvPr/>
        </p:nvPicPr>
        <p:blipFill>
          <a:blip r:embed="rId1"/>
          <a:stretch/>
        </p:blipFill>
        <p:spPr>
          <a:xfrm>
            <a:off x="1547640" y="0"/>
            <a:ext cx="59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84360" y="692280"/>
            <a:ext cx="66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   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这个新家中都有哪些成员</a:t>
            </a:r>
            <a:r>
              <a:rPr b="1" lang="en-US" sz="5400" spc="-1" strike="noStrike">
                <a:solidFill>
                  <a:srgbClr val="cc0000"/>
                </a:solidFill>
                <a:latin typeface="宋体"/>
              </a:rPr>
              <a:t>?”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请同学们一边读一边把它们划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161928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7f330ba54525副本"/>
          <p:cNvPicPr/>
          <p:nvPr/>
        </p:nvPicPr>
        <p:blipFill>
          <a:blip r:embed="rId2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924360" y="134136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副本"/>
          <p:cNvPicPr/>
          <p:nvPr/>
        </p:nvPicPr>
        <p:blipFill>
          <a:blip r:embed="rId1"/>
          <a:stretch/>
        </p:blipFill>
        <p:spPr>
          <a:xfrm>
            <a:off x="1716120" y="27000"/>
            <a:ext cx="575316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10057261"/>
          <p:cNvPicPr/>
          <p:nvPr/>
        </p:nvPicPr>
        <p:blipFill>
          <a:blip r:embed="rId1"/>
          <a:stretch/>
        </p:blipFill>
        <p:spPr>
          <a:xfrm>
            <a:off x="36360" y="-85680"/>
            <a:ext cx="4751640" cy="351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o_367762"/>
          <p:cNvPicPr/>
          <p:nvPr/>
        </p:nvPicPr>
        <p:blipFill>
          <a:blip r:embed="rId2"/>
          <a:stretch/>
        </p:blipFill>
        <p:spPr>
          <a:xfrm>
            <a:off x="34920" y="2925720"/>
            <a:ext cx="4730760" cy="408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无标题1"/>
          <p:cNvPicPr/>
          <p:nvPr/>
        </p:nvPicPr>
        <p:blipFill>
          <a:blip r:embed="rId3"/>
          <a:stretch/>
        </p:blipFill>
        <p:spPr>
          <a:xfrm>
            <a:off x="4788000" y="4428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8604360" y="6597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3794"/>
                </a:moveTo>
                <a:lnTo>
                  <a:pt x="18985" y="10800"/>
                </a:lnTo>
                <a:lnTo>
                  <a:pt x="49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0:02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10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