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13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9.png" ContentType="image/png"/>
  <Override PartName="/ppt/media/chimes.wav" ContentType="audio/x-wav"/>
  <Override PartName="/ppt/media/image21.jpeg" ContentType="image/jpeg"/>
  <Override PartName="/ppt/media/image2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5559-2C79-4E3C-BD31-4DE5E3D7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55D8-E2C9-44BA-BFE1-75C028E3F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561-96D5-4DA7-B411-290D4B4D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815-5E2D-4D04-9A24-4B1792A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18AC9-F9DF-42CE-BB4B-FED54DB3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0EFE-7CA9-4CB0-A67F-C17BB321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B4444-5C57-4818-A572-0B822975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65D7F-C8F2-419D-9993-E3BDA2D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3030D-6B65-4CC3-862D-60D8FB7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92CD2-715C-4C75-83CB-3153584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A40E8-93F5-4454-A18B-038FDCC7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9A60-14CE-4598-9040-4C859B3F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D65AC-A567-4AB0-A27F-CF9E9DEE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EA69C-9256-468B-BF7B-95CB700A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B5E-1BF0-42C3-AE2C-C5D3C749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24C81-6518-4AAF-A080-B94E52DE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DEE84-8B1B-4216-87A6-0C60D334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7FA6A-85A7-434F-8011-BA20E629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D96B8-BC57-4290-8CAB-C1A91E5D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11E48-1AC9-476D-95E7-C3348367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5DA62-7E1C-4F54-8236-DEA8C5C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EDA73-C41E-4AE8-A7B8-DCF5E629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F9E8C-62C8-4DAC-BFA7-DFB5BDE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BDF3A-0167-4D95-8000-B2F96362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C5493-DF8F-472D-80CB-4ECF9FFD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F5A-5967-42A4-9F64-05A6E9EA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BA15C-B0C2-4229-9AD2-0020754A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56538-C12E-43CE-BDEF-6BE784AC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EE207-704A-43EF-9D93-7CC185FC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1C1DD-E1E5-4ABF-9517-DC54A9F0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B5333-58EF-4372-9D25-7E8CCD02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2A138-4455-41CE-AC70-70B7F19C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014D5-AD9F-4202-A20D-21368199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FCB01-7B1D-439E-9900-B81939D4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BAEEB-EAC7-4EDB-8C01-1113A018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A3FA4-4A91-4F97-86D1-26B23974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7A1D-01CE-437C-9B4A-64913187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76C1F-DEA8-4429-B0FF-FDCAFFDF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4CF22-DAFF-4C6D-AE3A-D43E8095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2EAAC-7417-49D0-9739-6650F0BD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7D46-AB37-4D25-94E2-F0FCD6C4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5B22-7927-4C3F-89B6-728EF429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1B11-4DD1-44A9-946A-DF2F6313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07CC-285C-40C6-9D2C-A2B5DC49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5F72-A6EB-459A-A76F-6A227E21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9F2C-C397-4F1C-BC2D-AB78DA9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D52-3439-4799-BB4D-20BA6CED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581-D468-4B6D-80FB-29393C3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C2AB-21A5-4797-B82A-EAA3F0D4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7E8C-547D-4C9A-862A-98B3A210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0FD3-EC74-4373-94BA-31705A6D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4F00-77D7-41B4-BCD1-CA6EF66E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5AB3-79AA-4086-8389-5C063545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2AB3-BCD7-4E6F-82C9-72392A12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A2FC-EEEC-464D-BE20-3C282570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AA0A-F89A-4675-8334-E7A842F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C9E0-0534-4FD9-B982-772FDD95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870B-1315-4845-B672-66867E74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527C-5741-4953-B358-5CC3FCEE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AF75-C5FB-4C1C-B769-49E2575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E4D3-E7F8-4A8D-A961-21366F75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F3C5-05B1-4240-A009-08A073F8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E0D1-7735-4CBC-9300-6E116AED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F7B7E-9B01-40A2-A691-F25FE790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7BEBF-6CAC-4272-A143-6582477C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EFA2-4071-461E-9DC7-70DCA19B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BCBE-1BC1-4B3D-8502-19F7E944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3DCD-22F7-4C7E-9E32-F376BA63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E54-2586-42D9-8FB7-B00A5DB8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37DE7-7429-48EE-B994-9F9ABA73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FDEDC-6B3B-4B1B-A16C-3118EB1C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6051-50AB-42C7-95A2-EA6E895A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673FF-CF87-476B-84AC-23A54BE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C77E-BDF7-44E4-AF2B-C398B5E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25C12-B452-4351-97E3-A6963AD0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E3E62-8D2A-45DA-A8E0-4EA49504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47385-22D7-446F-9FA0-9E96DD0B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88EE4-A1A5-4803-9393-DD3950EC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8AB40-F599-40E3-80D8-A06C6AD2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8CA-BF3A-4368-98FF-8D4892D1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660F-F023-4886-AE31-F227916F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8E26F-6AF8-4793-86AB-C9248B38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3017F-EB50-4CDC-898E-E8334E5A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D7DD-7922-48DC-BE14-F8598BF6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7311-6E10-47F5-B439-D31BB27A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A9D29-ACA7-4DB4-AB9D-20BB4EE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82A0E-1397-4130-9683-A52DCC8C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B55CF-8496-41C5-9779-0BAA6A5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EF597-31B5-4E22-A9B2-C8D9170C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88AF7-200F-4C73-A6F4-1E598782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36D-1130-4A80-80EF-8AFB1A1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302EC-D78D-4B74-BEC3-47A606BD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ED3AD-7289-49A0-9496-69C0BEB3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0411-C9D1-4F91-95C4-3D0A912A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FBD4-9575-4329-9A87-5460B639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9B3C5-4774-4B41-B2FE-9C2BABB1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B3F94-B383-4D0A-9870-D9ABAAF4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817D8-EC6E-4152-B02A-6E7D03B0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F6BE6-517D-419C-88BA-6145041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F7420-3E89-4245-A481-5338F3C3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698B-C880-4CBF-99A2-C737FA3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72F-529D-4912-8B06-F2798C0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FE0AD-848F-4E56-8676-9FD19C45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082E9-61D2-4BA0-96B1-5E26CE0A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650AC-8A6D-4631-B075-3015BC3E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4755C-5679-4DB8-8624-3000EB37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5FEC-E276-4A5C-8B45-B5DFA57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DF296-AEC5-45FF-AD66-E1ADCAC9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8688B-4F66-4941-93C8-C99E8AF9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F3FE-3BA2-44B4-AF8F-33B271D3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BFF41-9CFE-474A-9BD5-FC317FEF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89AB6-A35F-4CC2-8820-95B41C4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A6B-4BBF-4357-8000-9AB61F03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F3AF-2850-4401-AFDB-72F2493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385B5-0087-4B8E-9B4A-DBADA08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9DC1F-558A-4FA7-AA7E-0C85D135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A7C29-2ACB-4E83-80C6-2AF94C12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01A32-93F5-47A7-BA82-27CEBD8C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9CFF1-530F-41DC-A947-21E3C920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097E0-7FC1-447C-8FA0-CDF18ED5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118C3-243E-46E3-9377-F4759BB5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CC6FB-7EE8-4B63-ACFE-9F1734B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1FF74-697E-487F-A712-5CA23BEF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8E4-2B18-4951-A705-AF11FEB6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1DD38-DA01-4681-8B38-8D850006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9FC3C-B75A-44B9-9D4A-118BEEE3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F88AD-0A57-4D06-A62F-79107DF2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5492-8024-461C-AD15-F7E82D11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A6EE2-415F-48F2-B02B-ABE5E062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55C35-E34E-45F7-B8AF-662400BF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65F38-6D45-49AD-BA58-0D0944F2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58CB0-B372-4567-B32D-16C19ECF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F8656-AF28-4C65-ABB8-967893A9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B4413-1B92-4E35-AC21-5B6BDC27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2533-F8A2-46D0-AC69-B7EEBD5D83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0D62-528E-4502-821D-DE05FAF98F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FF5B-EF06-4DD5-9BD0-9B1B2945C7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CB16-6F39-47F6-AEE7-6FEB196AC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830E-7877-4D97-8183-7623C7572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8C5B-E30A-446A-A3A6-3B057E7C62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EAB2-EF6D-4511-9EDF-9133A8CED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8829-9ECA-416D-9414-514F9CEEFA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9C64-2D4B-4A4D-9E66-D4D6FDBBF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A9D0-BE83-408E-88F8-B85728F18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249D-437E-496A-9DF1-6C9C656CC3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2E5F-7853-4C18-A0E0-F35856BB7C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1" descr="1722405_715249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WordArt 12"/>
          <p:cNvSpPr txBox="1"/>
          <p:nvPr/>
        </p:nvSpPr>
        <p:spPr>
          <a:xfrm>
            <a:off x="3886200" y="83808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渔歌子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460" name="矩形 3" descr=""/>
          <p:cNvPicPr/>
          <p:nvPr/>
        </p:nvPicPr>
        <p:blipFill>
          <a:blip r:embed="rId2"/>
          <a:stretch/>
        </p:blipFill>
        <p:spPr>
          <a:xfrm>
            <a:off x="1428840" y="5353200"/>
            <a:ext cx="640224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6"/>
          <p:cNvSpPr/>
          <p:nvPr/>
        </p:nvSpPr>
        <p:spPr>
          <a:xfrm>
            <a:off x="1295280" y="40384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同学们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渔歌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有什么感觉？这首词写了哪些景物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0"/>
          <p:cNvGrpSpPr/>
          <p:nvPr/>
        </p:nvGrpSpPr>
        <p:grpSpPr>
          <a:xfrm>
            <a:off x="1066680" y="1600200"/>
            <a:ext cx="7162920" cy="2364480"/>
            <a:chOff x="1066680" y="1600200"/>
            <a:chExt cx="7162920" cy="2364480"/>
          </a:xfrm>
        </p:grpSpPr>
        <p:sp>
          <p:nvSpPr>
            <p:cNvPr id="481" name="Text Box 7"/>
            <p:cNvSpPr/>
            <p:nvPr/>
          </p:nvSpPr>
          <p:spPr>
            <a:xfrm>
              <a:off x="1066680" y="2408400"/>
              <a:ext cx="7162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西塞山前白鹭飞，桃花流水鳜鱼肥。</a:t>
              </a:r>
              <a:br>
                <a:rPr sz="3200"/>
              </a:br>
              <a:r>
                <a:rPr b="1" lang="zh-CN" sz="3200" spc="-1" strike="noStrike">
                  <a:solidFill>
                    <a:srgbClr val="000066"/>
                  </a:solidFill>
                  <a:latin typeface="Arial"/>
                </a:rPr>
                <a:t>青箬笠，绿蓑衣，斜风细雨不须归。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3200400" y="160020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渔歌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Rectangle 9"/>
          <p:cNvSpPr/>
          <p:nvPr/>
        </p:nvSpPr>
        <p:spPr>
          <a:xfrm>
            <a:off x="1403280" y="76104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自由读词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228600" y="609480"/>
            <a:ext cx="8763120" cy="5943600"/>
            <a:chOff x="228600" y="609480"/>
            <a:chExt cx="8763120" cy="5943600"/>
          </a:xfrm>
        </p:grpSpPr>
        <p:pic>
          <p:nvPicPr>
            <p:cNvPr id="485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609480"/>
              <a:ext cx="876312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4" descr=""/>
            <p:cNvPicPr/>
            <p:nvPr/>
          </p:nvPicPr>
          <p:blipFill>
            <a:blip r:embed="rId2"/>
            <a:stretch/>
          </p:blipFill>
          <p:spPr>
            <a:xfrm>
              <a:off x="762120" y="914400"/>
              <a:ext cx="7772400" cy="541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7" name="Picture 5" descr="2007111161551636_1"/>
          <p:cNvPicPr/>
          <p:nvPr/>
        </p:nvPicPr>
        <p:blipFill>
          <a:blip r:embed="rId3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914400" y="2590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0" lang="zh-CN" sz="4800" spc="-1" strike="noStrike">
                <a:solidFill>
                  <a:srgbClr val="6600ff"/>
                </a:solidFill>
                <a:latin typeface="Arial"/>
                <a:ea typeface="隶书"/>
              </a:rPr>
              <a:t>这首词主要写了哪些景物呢？请在相应的词语下面画上“</a:t>
            </a:r>
            <a:r>
              <a:rPr b="0" lang="en-US" sz="4800" spc="-1" strike="noStrike">
                <a:solidFill>
                  <a:srgbClr val="6600ff"/>
                </a:solidFill>
                <a:latin typeface="Arial"/>
                <a:ea typeface="隶书"/>
              </a:rPr>
              <a:t>——”</a:t>
            </a:r>
            <a:r>
              <a:rPr b="0" lang="zh-CN" sz="4800" spc="-1" strike="noStrike">
                <a:solidFill>
                  <a:srgbClr val="6600ff"/>
                </a:solidFill>
                <a:latin typeface="Arial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10"/>
          <p:cNvGrpSpPr/>
          <p:nvPr/>
        </p:nvGrpSpPr>
        <p:grpSpPr>
          <a:xfrm>
            <a:off x="1523880" y="1981080"/>
            <a:ext cx="7162920" cy="1877040"/>
            <a:chOff x="1523880" y="1981080"/>
            <a:chExt cx="7162920" cy="1877040"/>
          </a:xfrm>
        </p:grpSpPr>
        <p:sp>
          <p:nvSpPr>
            <p:cNvPr id="490" name="Text Box 7"/>
            <p:cNvSpPr/>
            <p:nvPr/>
          </p:nvSpPr>
          <p:spPr>
            <a:xfrm>
              <a:off x="1523880" y="2789280"/>
              <a:ext cx="7162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3657600" y="1981080"/>
              <a:ext cx="3886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Rectangle 9"/>
          <p:cNvSpPr/>
          <p:nvPr/>
        </p:nvSpPr>
        <p:spPr>
          <a:xfrm>
            <a:off x="1414440" y="121860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自由读词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228600" y="609480"/>
            <a:ext cx="8763120" cy="5943600"/>
            <a:chOff x="228600" y="609480"/>
            <a:chExt cx="8763120" cy="5943600"/>
          </a:xfrm>
        </p:grpSpPr>
        <p:pic>
          <p:nvPicPr>
            <p:cNvPr id="494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609480"/>
              <a:ext cx="876312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4" descr=""/>
            <p:cNvPicPr/>
            <p:nvPr/>
          </p:nvPicPr>
          <p:blipFill>
            <a:blip r:embed="rId2"/>
            <a:stretch/>
          </p:blipFill>
          <p:spPr>
            <a:xfrm>
              <a:off x="762120" y="914400"/>
              <a:ext cx="7772400" cy="541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6" name="Picture 5" descr="2007111161551636_1"/>
          <p:cNvPicPr/>
          <p:nvPr/>
        </p:nvPicPr>
        <p:blipFill>
          <a:blip r:embed="rId3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6"/>
          <p:cNvSpPr/>
          <p:nvPr/>
        </p:nvSpPr>
        <p:spPr>
          <a:xfrm>
            <a:off x="1295280" y="1752480"/>
            <a:ext cx="6782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全诗着色明丽，用语活泼，生动地表现了渔父悠闲自在的生活情趣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3200400" y="3505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景物：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7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2819520" y="449568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塞山、白鹭、桃花、流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鳜鱼、斜风、细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20090520155540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3"/>
          <p:cNvSpPr/>
          <p:nvPr/>
        </p:nvSpPr>
        <p:spPr>
          <a:xfrm>
            <a:off x="1219320" y="0"/>
            <a:ext cx="640080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ī            sài           shā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     塞     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678168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今浙江吴兴县西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026" descr="小学语文(古诗词)01"/>
          <p:cNvPicPr/>
          <p:nvPr/>
        </p:nvPicPr>
        <p:blipFill>
          <a:blip r:embed="rId1"/>
          <a:stretch/>
        </p:blipFill>
        <p:spPr>
          <a:xfrm>
            <a:off x="324000" y="189000"/>
            <a:ext cx="1600200" cy="434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027" descr="白鹭"/>
          <p:cNvPicPr/>
          <p:nvPr/>
        </p:nvPicPr>
        <p:blipFill>
          <a:blip r:embed="rId2"/>
          <a:stretch/>
        </p:blipFill>
        <p:spPr>
          <a:xfrm>
            <a:off x="1187280" y="1268280"/>
            <a:ext cx="5791320" cy="46767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028"/>
          <p:cNvSpPr/>
          <p:nvPr/>
        </p:nvSpPr>
        <p:spPr>
          <a:xfrm>
            <a:off x="7046640" y="2421000"/>
            <a:ext cx="7290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白　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0" y="0"/>
            <a:ext cx="350532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 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201003180946260281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9a1151c28e749361e5dd3bcf"/>
          <p:cNvPicPr/>
          <p:nvPr/>
        </p:nvPicPr>
        <p:blipFill>
          <a:blip r:embed="rId2"/>
          <a:stretch/>
        </p:blipFill>
        <p:spPr>
          <a:xfrm>
            <a:off x="0" y="3124080"/>
            <a:ext cx="4724280" cy="37339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2014099_002131469_2"/>
          <p:cNvPicPr/>
          <p:nvPr/>
        </p:nvPicPr>
        <p:blipFill>
          <a:blip r:embed="rId3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小学语文(古诗词)01"/>
          <p:cNvPicPr/>
          <p:nvPr/>
        </p:nvPicPr>
        <p:blipFill>
          <a:blip r:embed="rId1"/>
          <a:stretch/>
        </p:blipFill>
        <p:spPr>
          <a:xfrm>
            <a:off x="684360" y="189000"/>
            <a:ext cx="1600200" cy="4348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桃花"/>
          <p:cNvPicPr/>
          <p:nvPr/>
        </p:nvPicPr>
        <p:blipFill>
          <a:blip r:embed="rId2"/>
          <a:stretch/>
        </p:blipFill>
        <p:spPr>
          <a:xfrm>
            <a:off x="1547640" y="1341360"/>
            <a:ext cx="5791320" cy="45608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3"/>
          <p:cNvSpPr/>
          <p:nvPr/>
        </p:nvSpPr>
        <p:spPr>
          <a:xfrm>
            <a:off x="7333920" y="2565360"/>
            <a:ext cx="72900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桃　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990720" y="-227160"/>
            <a:ext cx="5257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u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鳜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01300000153311121051376775807"/>
          <p:cNvPicPr/>
          <p:nvPr/>
        </p:nvPicPr>
        <p:blipFill>
          <a:blip r:embed="rId1"/>
          <a:stretch/>
        </p:blipFill>
        <p:spPr>
          <a:xfrm>
            <a:off x="4381560" y="-608040"/>
            <a:ext cx="4762440" cy="35798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01300000153311121051384222330"/>
          <p:cNvPicPr/>
          <p:nvPr/>
        </p:nvPicPr>
        <p:blipFill>
          <a:blip r:embed="rId2"/>
          <a:stretch/>
        </p:blipFill>
        <p:spPr>
          <a:xfrm>
            <a:off x="1447920" y="2666880"/>
            <a:ext cx="65530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小学语文(古诗词)01"/>
          <p:cNvPicPr/>
          <p:nvPr/>
        </p:nvPicPr>
        <p:blipFill>
          <a:blip r:embed="rId1"/>
          <a:stretch/>
        </p:blipFill>
        <p:spPr>
          <a:xfrm>
            <a:off x="539640" y="189000"/>
            <a:ext cx="1600200" cy="434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鳜鱼"/>
          <p:cNvPicPr/>
          <p:nvPr/>
        </p:nvPicPr>
        <p:blipFill>
          <a:blip r:embed="rId2"/>
          <a:stretch/>
        </p:blipFill>
        <p:spPr>
          <a:xfrm>
            <a:off x="1979640" y="1916280"/>
            <a:ext cx="4932360" cy="22269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4"/>
          <p:cNvSpPr/>
          <p:nvPr/>
        </p:nvSpPr>
        <p:spPr>
          <a:xfrm>
            <a:off x="2987640" y="436572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鳜　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2819520" y="457200"/>
            <a:ext cx="3962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ò l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箬   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100316-1"/>
          <p:cNvPicPr/>
          <p:nvPr/>
        </p:nvPicPr>
        <p:blipFill>
          <a:blip r:embed="rId1"/>
          <a:stretch/>
        </p:blipFill>
        <p:spPr>
          <a:xfrm>
            <a:off x="4648320" y="297180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eec13f18293358811bd576c3"/>
          <p:cNvPicPr/>
          <p:nvPr/>
        </p:nvPicPr>
        <p:blipFill>
          <a:blip r:embed="rId2"/>
          <a:stretch/>
        </p:blipFill>
        <p:spPr>
          <a:xfrm>
            <a:off x="0" y="29718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江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"/>
          <p:cNvSpPr/>
          <p:nvPr/>
        </p:nvSpPr>
        <p:spPr>
          <a:xfrm>
            <a:off x="971640" y="765000"/>
            <a:ext cx="3456000" cy="5753160"/>
          </a:xfrm>
          <a:prstGeom prst="rect">
            <a:avLst/>
          </a:prstGeom>
          <a:solidFill>
            <a:srgbClr val="bbe0e3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江    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柳宗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千山鸟飞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万径人踪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孤舟蓑笠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独钓寒江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0" y="0"/>
            <a:ext cx="32004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蓑  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Gucn_20101110150828185807Pic1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228600" y="609480"/>
            <a:ext cx="8763120" cy="5943600"/>
            <a:chOff x="228600" y="609480"/>
            <a:chExt cx="8763120" cy="5943600"/>
          </a:xfrm>
        </p:grpSpPr>
        <p:pic>
          <p:nvPicPr>
            <p:cNvPr id="525" name="Picture 3" descr=""/>
            <p:cNvPicPr/>
            <p:nvPr/>
          </p:nvPicPr>
          <p:blipFill>
            <a:blip r:embed="rId1"/>
            <a:stretch/>
          </p:blipFill>
          <p:spPr>
            <a:xfrm>
              <a:off x="228600" y="609480"/>
              <a:ext cx="876312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Picture 4" descr=""/>
            <p:cNvPicPr/>
            <p:nvPr/>
          </p:nvPicPr>
          <p:blipFill>
            <a:blip r:embed="rId2"/>
            <a:stretch/>
          </p:blipFill>
          <p:spPr>
            <a:xfrm>
              <a:off x="762120" y="914400"/>
              <a:ext cx="7772400" cy="541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7" name="Picture 5" descr="2007111161551636_1"/>
          <p:cNvPicPr/>
          <p:nvPr/>
        </p:nvPicPr>
        <p:blipFill>
          <a:blip r:embed="rId3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7"/>
          <p:cNvSpPr/>
          <p:nvPr/>
        </p:nvSpPr>
        <p:spPr>
          <a:xfrm>
            <a:off x="1066680" y="12193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景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838080" y="25909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西塞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白鹭、桃花、流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鳜鱼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箬笠、蓑衣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风、细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6"/>
          <p:cNvGrpSpPr/>
          <p:nvPr/>
        </p:nvGrpSpPr>
        <p:grpSpPr>
          <a:xfrm>
            <a:off x="228600" y="609480"/>
            <a:ext cx="8763120" cy="5943600"/>
            <a:chOff x="228600" y="609480"/>
            <a:chExt cx="8763120" cy="5943600"/>
          </a:xfrm>
        </p:grpSpPr>
        <p:grpSp>
          <p:nvGrpSpPr>
            <p:cNvPr id="531" name="Group 18"/>
            <p:cNvGrpSpPr/>
            <p:nvPr/>
          </p:nvGrpSpPr>
          <p:grpSpPr>
            <a:xfrm>
              <a:off x="228600" y="609480"/>
              <a:ext cx="8763120" cy="5943600"/>
              <a:chOff x="228600" y="609480"/>
              <a:chExt cx="8763120" cy="5943600"/>
            </a:xfrm>
          </p:grpSpPr>
          <p:pic>
            <p:nvPicPr>
              <p:cNvPr id="532" name="Picture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609480"/>
                <a:ext cx="8763120" cy="594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914400"/>
                <a:ext cx="7772400" cy="5410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4" name="Picture 22" descr="2007111161551636_1"/>
            <p:cNvPicPr/>
            <p:nvPr/>
          </p:nvPicPr>
          <p:blipFill>
            <a:blip r:embed="rId3"/>
            <a:stretch/>
          </p:blipFill>
          <p:spPr>
            <a:xfrm>
              <a:off x="685800" y="4680000"/>
              <a:ext cx="2209680" cy="16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" name="Text Box 23"/>
          <p:cNvSpPr/>
          <p:nvPr/>
        </p:nvSpPr>
        <p:spPr>
          <a:xfrm>
            <a:off x="2286000" y="1905120"/>
            <a:ext cx="579132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西塞山前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白鹭飞，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桃花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流水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鳜鱼肥。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青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箬笠，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绿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蓑衣，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斜风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细雨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不须归。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4"/>
          <p:cNvSpPr/>
          <p:nvPr/>
        </p:nvSpPr>
        <p:spPr>
          <a:xfrm>
            <a:off x="3352680" y="990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楷体_GB2312"/>
              </a:rPr>
              <a:t>渔歌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1230120" y="106596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6"/>
          <p:cNvSpPr/>
          <p:nvPr/>
        </p:nvSpPr>
        <p:spPr>
          <a:xfrm>
            <a:off x="1345320" y="761040"/>
            <a:ext cx="144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注释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990720" y="41148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不须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想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106668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归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回去，回家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2438280" y="4191120"/>
            <a:ext cx="358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914400" y="1828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西塞山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即道士矶，在湖北大冶县长江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914400" y="2590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鳜鱼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俗称“花鱼”“桂鱼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914400" y="34290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箬笠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竹篾编成的斗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1224323458"/>
          <p:cNvPicPr/>
          <p:nvPr/>
        </p:nvPicPr>
        <p:blipFill>
          <a:blip r:embed="rId1"/>
          <a:stretch/>
        </p:blipFill>
        <p:spPr>
          <a:xfrm>
            <a:off x="4724280" y="3124080"/>
            <a:ext cx="4419720" cy="37339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869476203059390013"/>
          <p:cNvPicPr/>
          <p:nvPr/>
        </p:nvPicPr>
        <p:blipFill>
          <a:blip r:embed="rId2"/>
          <a:stretch/>
        </p:blipFill>
        <p:spPr>
          <a:xfrm>
            <a:off x="0" y="3124080"/>
            <a:ext cx="4724280" cy="37339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DSC01118"/>
          <p:cNvPicPr/>
          <p:nvPr/>
        </p:nvPicPr>
        <p:blipFill>
          <a:blip r:embed="rId3"/>
          <a:stretch/>
        </p:blipFill>
        <p:spPr>
          <a:xfrm>
            <a:off x="-276120" y="-20520"/>
            <a:ext cx="944712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6"/>
          <p:cNvSpPr/>
          <p:nvPr/>
        </p:nvSpPr>
        <p:spPr>
          <a:xfrm>
            <a:off x="914400" y="1219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</a:rPr>
              <a:t>请同学们看课文插图，描绘这首词所描写的景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762120" y="32004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是一幅垂钓的画面，白色的鹭和红色的桃花点缀其间，色彩本来极其鲜明，而由于斜风细雨的笼罩，却又呈现出迷迷蒙蒙的意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96720" y="693720"/>
            <a:ext cx="8229600" cy="564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句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西塞山前白鹭飞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“西塞山前”点明地点，“白鹭”是闲适的象征，写白鹭自在地飞翔，衬托渔父的悠闲自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句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桃花流水鳜鱼肥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思是说：桃花盛开，江水猛涨，这时节鳜鱼长得正肥。这里桃红与水绿相映，是表现暮春西塞山前的湖光山色，渲染了渔父的生活环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54936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四句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“青箬笠，绿蓑衣，斜风细雨不须归”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描写了渔父捕鱼的情态。渔父戴青箬笠，穿绿蓑衣，在斜风细雨中乐而忘归。“斜风”指微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全诗着色明丽，用语活泼，生动地表现了渔父悠闲自在的生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6"/>
          <p:cNvSpPr/>
          <p:nvPr/>
        </p:nvSpPr>
        <p:spPr>
          <a:xfrm>
            <a:off x="838080" y="1600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西塞山前白鹭在自由地翱翔，桃花盛开，水流湍急，水中的鳜鱼很肥美。漂浮在水中的桃花是那样的鲜艳。江上一位老翁戴着青色的箬笠，披着绿色的蓑衣，冒着斜风细雨，悠然自得地垂钓，他被美丽的江南春景迷住了，久久不愿回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1255680" y="532800"/>
            <a:ext cx="144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译文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3" descr="小学语文(古诗词)03"/>
          <p:cNvPicPr/>
          <p:nvPr/>
        </p:nvPicPr>
        <p:blipFill>
          <a:blip r:embed="rId1"/>
          <a:stretch/>
        </p:blipFill>
        <p:spPr>
          <a:xfrm>
            <a:off x="539640" y="189000"/>
            <a:ext cx="1600200" cy="514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5075280" y="1125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反复吟读诗歌，品味诗歌的思想感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8" descr="渔歌子-插图"/>
          <p:cNvPicPr/>
          <p:nvPr/>
        </p:nvPicPr>
        <p:blipFill>
          <a:blip r:embed="rId2"/>
          <a:stretch/>
        </p:blipFill>
        <p:spPr>
          <a:xfrm>
            <a:off x="900000" y="1916280"/>
            <a:ext cx="3584520" cy="441936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9"/>
          <p:cNvSpPr/>
          <p:nvPr/>
        </p:nvSpPr>
        <p:spPr>
          <a:xfrm>
            <a:off x="3924360" y="1844640"/>
            <a:ext cx="5040360" cy="2016000"/>
          </a:xfrm>
          <a:prstGeom prst="cloudCallout">
            <a:avLst>
              <a:gd name="adj1" fmla="val -9189"/>
              <a:gd name="adj2" fmla="val 7102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0" descr="d01"/>
          <p:cNvPicPr/>
          <p:nvPr/>
        </p:nvPicPr>
        <p:blipFill>
          <a:blip r:embed="rId3"/>
          <a:stretch/>
        </p:blipFill>
        <p:spPr>
          <a:xfrm>
            <a:off x="4716360" y="4149720"/>
            <a:ext cx="2109960" cy="2209680"/>
          </a:xfrm>
          <a:prstGeom prst="rect">
            <a:avLst/>
          </a:prstGeom>
          <a:ln w="0">
            <a:noFill/>
          </a:ln>
        </p:spPr>
      </p:pic>
      <p:sp>
        <p:nvSpPr>
          <p:cNvPr id="559" name="矩形 6"/>
          <p:cNvSpPr/>
          <p:nvPr/>
        </p:nvSpPr>
        <p:spPr>
          <a:xfrm>
            <a:off x="4140360" y="1844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</a:rPr>
              <a:t>那位渔翁为什么在这样的一个雨天还不回家</a:t>
            </a:r>
            <a:r>
              <a:rPr b="0" lang="en-US" sz="3600" spc="-1" strike="noStrike">
                <a:solidFill>
                  <a:srgbClr val="ff0000"/>
                </a:solidFill>
                <a:latin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意境图"/>
          <p:cNvPicPr/>
          <p:nvPr/>
        </p:nvPicPr>
        <p:blipFill>
          <a:blip r:embed="rId1"/>
          <a:stretch/>
        </p:blipFill>
        <p:spPr>
          <a:xfrm>
            <a:off x="1619280" y="0"/>
            <a:ext cx="579924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3"/>
          <p:cNvSpPr/>
          <p:nvPr/>
        </p:nvSpPr>
        <p:spPr>
          <a:xfrm>
            <a:off x="468360" y="1413000"/>
            <a:ext cx="8353440" cy="3146040"/>
          </a:xfrm>
          <a:prstGeom prst="rect">
            <a:avLst/>
          </a:prstGeom>
          <a:solidFill>
            <a:srgbClr val="bbe0e3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宗元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岑  参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  贺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鱼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储光羲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钓渔湾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  牧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渔父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空曙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村即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心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2514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赞美了渔家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悠闲自在</a:t>
            </a: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的生活情趣。抒发了作者对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大自然的热爱</a:t>
            </a: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6"/>
          <p:cNvSpPr/>
          <p:nvPr/>
        </p:nvSpPr>
        <p:spPr>
          <a:xfrm>
            <a:off x="609480" y="16002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词在秀丽的水乡风光和理想化的渔人生活中，寄托了作者爱自由、爱自然的情怀。词中更吸引我们的不是一蓑风雨，从容自适的渔父，而是江乡二月桃花盛开期间春江水涨、烟雨迷蒙的图景。雨中青山，江上渔舟，天空白鹭，两岸红桃，色泽鲜明但又显得柔和，气氛宁静但又充满活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1373760" y="456120"/>
            <a:ext cx="17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赏析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5" descr="2007111161551636_1"/>
          <p:cNvPicPr/>
          <p:nvPr/>
        </p:nvPicPr>
        <p:blipFill>
          <a:blip r:embed="rId1"/>
          <a:stretch/>
        </p:blipFill>
        <p:spPr>
          <a:xfrm>
            <a:off x="68580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6"/>
          <p:cNvSpPr/>
          <p:nvPr/>
        </p:nvSpPr>
        <p:spPr>
          <a:xfrm>
            <a:off x="1219320" y="9144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黑体"/>
              </a:rPr>
              <a:t>请同学们有感情地齐读这首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9"/>
          <p:cNvGrpSpPr/>
          <p:nvPr/>
        </p:nvGrpSpPr>
        <p:grpSpPr>
          <a:xfrm>
            <a:off x="2362320" y="1905120"/>
            <a:ext cx="5486400" cy="4147920"/>
            <a:chOff x="2362320" y="1905120"/>
            <a:chExt cx="5486400" cy="4147920"/>
          </a:xfrm>
        </p:grpSpPr>
        <p:sp>
          <p:nvSpPr>
            <p:cNvPr id="567" name="Text Box 7"/>
            <p:cNvSpPr/>
            <p:nvPr/>
          </p:nvSpPr>
          <p:spPr>
            <a:xfrm>
              <a:off x="2362320" y="2667240"/>
              <a:ext cx="5486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西塞山前白鹭飞，</a:t>
              </a:r>
              <a:br>
                <a:rPr sz="3600"/>
              </a:b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桃花流水鳜鱼肥。</a:t>
              </a:r>
              <a:br>
                <a:rPr sz="3600"/>
              </a:b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青箬笠，</a:t>
              </a:r>
              <a:br>
                <a:rPr sz="3600"/>
              </a:b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绿蓑衣，</a:t>
              </a:r>
              <a:br>
                <a:rPr sz="3600"/>
              </a:b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斜风细雨不须归。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8"/>
            <p:cNvSpPr/>
            <p:nvPr/>
          </p:nvSpPr>
          <p:spPr>
            <a:xfrm>
              <a:off x="3048120" y="190512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</a:rPr>
                <a:t>渔歌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词两首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梦令  渔歌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两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 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梦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人回忆了一次愉快的郊游情景，因酒醉在归途中误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藕花丛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把栖息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水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吓飞了。表现了作者早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生活的情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心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绘了春天秀丽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水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光，朔造了一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渔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象，赞美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渔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情趣，抒发了作者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大自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7812000" y="220500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900000" y="2708280"/>
            <a:ext cx="11509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4211640" y="2637000"/>
            <a:ext cx="720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2484360" y="3141720"/>
            <a:ext cx="201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5003640" y="3141720"/>
            <a:ext cx="79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6156360" y="3716280"/>
            <a:ext cx="863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2916360" y="4221000"/>
            <a:ext cx="79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6227640" y="422100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4284720" y="4724280"/>
            <a:ext cx="1079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梦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词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还知道的词牌有：清平乐、忆江南、水调歌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6156360" y="1700280"/>
            <a:ext cx="934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梦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醉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明词人 心情愉快，是开怀畅饮的结果。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知归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的原因可能是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日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和词人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了；也可能是词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兴致很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流连忘返。两个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争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表现了词人 急于从荷花丛中找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正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路径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914400" y="2438280"/>
            <a:ext cx="719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4067280" y="907920"/>
            <a:ext cx="657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4643280" y="1484280"/>
            <a:ext cx="17575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1828800" y="1905120"/>
            <a:ext cx="9158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4344840" y="1828800"/>
            <a:ext cx="5065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1600200" y="2438280"/>
            <a:ext cx="992160" cy="43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5943600" y="2438280"/>
            <a:ext cx="8398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487840" y="2971800"/>
            <a:ext cx="8686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的自然景物有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西塞山、白鹭、桃花、流水、鳜鱼、风、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构成了一幅美丽的春天景物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7093080" y="1557360"/>
            <a:ext cx="13665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901800" y="2133720"/>
            <a:ext cx="65674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张志和说“斜风细雨不须归”，表面看“不须归”的原因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雨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鱼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穿戴了斗笠蓑衣，渔翁已经陶醉在春天的美景中了，实际是“不想归”，原因是不愿再涉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朝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风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现了诗人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淡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情和对大自然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喜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6156360" y="2133720"/>
            <a:ext cx="216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2438280" y="3581280"/>
            <a:ext cx="865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3809880" y="4191120"/>
            <a:ext cx="79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086600" y="3581280"/>
            <a:ext cx="86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勾勒了一幅具有浓郁江南风味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垂钓图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塑造了一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悠闲自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渔翁形象，透露出词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淡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情和对大自然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喜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1692360" y="2060640"/>
            <a:ext cx="1736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5651640" y="2133720"/>
            <a:ext cx="181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4140360" y="2638440"/>
            <a:ext cx="12715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901800" y="3141720"/>
            <a:ext cx="1233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后题答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600200"/>
            <a:ext cx="861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兴尽：兴致得到了满足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尽了兴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不须：不一定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游兴得到了满足，夜幕降临，才调转船头，准备回家。可是，走着走着，却发现搞错了方向，小船竟然闯入藕塘的深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戴着青色的斗笠，穿着绿色的蓑衣，春风吹拂，细雨扑面，举竿垂钓不想回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小学语文(古诗词)01"/>
          <p:cNvPicPr/>
          <p:nvPr/>
        </p:nvPicPr>
        <p:blipFill>
          <a:blip r:embed="rId1"/>
          <a:stretch/>
        </p:blipFill>
        <p:spPr>
          <a:xfrm>
            <a:off x="250920" y="260280"/>
            <a:ext cx="1600200" cy="4348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"/>
          <p:cNvSpPr/>
          <p:nvPr/>
        </p:nvSpPr>
        <p:spPr>
          <a:xfrm>
            <a:off x="826920" y="1413000"/>
            <a:ext cx="7345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楷体_GB2312"/>
              </a:rPr>
              <a:t>渔歌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　　词牌名。词调是写词时所依据的乐谱，词牌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如念奴娇、西江月等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是各种词调的名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5" descr="2007111161551636_1"/>
          <p:cNvPicPr/>
          <p:nvPr/>
        </p:nvPicPr>
        <p:blipFill>
          <a:blip r:embed="rId1"/>
          <a:stretch/>
        </p:blipFill>
        <p:spPr>
          <a:xfrm>
            <a:off x="374760" y="4680000"/>
            <a:ext cx="2209680" cy="163512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6"/>
          <p:cNvSpPr/>
          <p:nvPr/>
        </p:nvSpPr>
        <p:spPr>
          <a:xfrm>
            <a:off x="1555560" y="76104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布置作业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1685880" y="1981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背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渔歌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1676520" y="2819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动手给这首词配上一幅彩色画来向人们展示江南的美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"/>
          <p:cNvSpPr/>
          <p:nvPr/>
        </p:nvSpPr>
        <p:spPr>
          <a:xfrm>
            <a:off x="2271600" y="522936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小学语文(古诗词)04"/>
          <p:cNvPicPr/>
          <p:nvPr/>
        </p:nvPicPr>
        <p:blipFill>
          <a:blip r:embed="rId1"/>
          <a:stretch/>
        </p:blipFill>
        <p:spPr>
          <a:xfrm>
            <a:off x="611280" y="260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3"/>
          <p:cNvSpPr/>
          <p:nvPr/>
        </p:nvSpPr>
        <p:spPr>
          <a:xfrm>
            <a:off x="3986640" y="17733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有感情地朗读诗歌。背诵诗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771480" y="2617920"/>
            <a:ext cx="73296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找一找，读一读更多的古典诗词，体味古诗词的意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6CD0-976F-4069-AE37-501E4FFF50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3"/>
          <p:cNvSpPr/>
          <p:nvPr/>
        </p:nvSpPr>
        <p:spPr>
          <a:xfrm>
            <a:off x="2895480" y="22986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990720" y="10666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渔歌子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又名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渔父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或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渔父乐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。作者写了五首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渔歌子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，这是第一首。据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词林纪事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转引的记载说，张志和曾谒见湖州刺史颜真卿，因为船破旧了，请颜帮助更换，并作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渔歌子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6"/>
          <p:cNvSpPr/>
          <p:nvPr/>
        </p:nvSpPr>
        <p:spPr>
          <a:xfrm>
            <a:off x="99072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张志和，本名龟龄，字子同，金华（今属浙江）人。生卒年不详。唐肃宗时待诏翰林。后因事被贬，绝意仕进，隐居江湖间。自号玄真子，又自称烟波钓徒。著书亦名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玄真子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1403280" y="532440"/>
            <a:ext cx="20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词人简介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4" descr="张志和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5"/>
          <p:cNvSpPr/>
          <p:nvPr/>
        </p:nvSpPr>
        <p:spPr>
          <a:xfrm>
            <a:off x="53964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意境图"/>
          <p:cNvPicPr/>
          <p:nvPr/>
        </p:nvPicPr>
        <p:blipFill>
          <a:blip r:embed="rId1"/>
          <a:stretch/>
        </p:blipFill>
        <p:spPr>
          <a:xfrm>
            <a:off x="1476360" y="0"/>
            <a:ext cx="579924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468360" y="1052640"/>
            <a:ext cx="40672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和答弟志和渔父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张松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乐是风波钓是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草堂松径已胜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太湖水，洞庭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狂风浪起且须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4716360" y="981000"/>
            <a:ext cx="40672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渔  歌 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张志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西塞山前白鹭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桃花流水鳜鱼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青箬笠，绿蓑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斜风细雨不须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意境图"/>
          <p:cNvPicPr/>
          <p:nvPr/>
        </p:nvPicPr>
        <p:blipFill>
          <a:blip r:embed="rId1"/>
          <a:stretch/>
        </p:blipFill>
        <p:spPr>
          <a:xfrm>
            <a:off x="826920" y="0"/>
            <a:ext cx="579924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3"/>
          <p:cNvSpPr/>
          <p:nvPr/>
        </p:nvSpPr>
        <p:spPr>
          <a:xfrm>
            <a:off x="5360400" y="981000"/>
            <a:ext cx="2935800" cy="3743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世人哪得识深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此翁取适非取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6300720" y="522936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玄真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08:57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0:13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