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433B-86E4-44B6-B6AB-9B432C84F30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DBBE0-D92B-47DF-8CBF-D528A80B40F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7930-F6A1-4A59-A3DC-D4460EEAE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E116-7401-4078-AB51-78131E4DD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1F1A-AAE1-403E-892A-071152459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2EC2-42AF-4385-A6E4-B9C243250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19A7-BFDF-41B2-B428-218D1D85E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2D60-5541-4027-AE2E-B2C7868D1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3CC0-D44D-4A6C-8270-D226CACFF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6609-C571-4BD1-962B-7C19D447C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40B6-DC0D-41C0-9AEF-72CEE2B8B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C69B-F5CE-4A95-86FF-D92113D2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AE0E-A0D1-462C-8443-9F913D03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5286-1182-4F7A-9135-0EEDE078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93740-D617-495E-BD0F-AA6228949C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Bj_0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4"/>
          <p:cNvSpPr txBox="1"/>
          <p:nvPr/>
        </p:nvSpPr>
        <p:spPr>
          <a:xfrm>
            <a:off x="1071720" y="1197000"/>
            <a:ext cx="6786360" cy="19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隶书"/>
              </a:rPr>
              <a:t>《忆江南》</a:t>
            </a:r>
            <a:endParaRPr b="1" lang="en-US" sz="24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隶书"/>
              <a:ea typeface="隶书"/>
            </a:endParaRPr>
          </a:p>
        </p:txBody>
      </p:sp>
      <p:sp>
        <p:nvSpPr>
          <p:cNvPr id="50" name="矩形 3"/>
          <p:cNvSpPr/>
          <p:nvPr/>
        </p:nvSpPr>
        <p:spPr>
          <a:xfrm>
            <a:off x="1719000" y="595008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Bj_0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4"/>
          <p:cNvSpPr/>
          <p:nvPr/>
        </p:nvSpPr>
        <p:spPr>
          <a:xfrm>
            <a:off x="1757880" y="35712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黑体"/>
              </a:rPr>
              <a:t>你能读出感情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3000240" y="3214800"/>
            <a:ext cx="4751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湖光秋月两相和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潭面无风镜未磨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遥望洞庭山水翠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白银盘里一青螺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714840" y="1197000"/>
            <a:ext cx="287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望洞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3714840" y="228600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唐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刘禹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Bj_042"/>
          <p:cNvPicPr/>
          <p:nvPr/>
        </p:nvPicPr>
        <p:blipFill>
          <a:blip r:embed="rId1"/>
          <a:stretch/>
        </p:blipFill>
        <p:spPr>
          <a:xfrm>
            <a:off x="0" y="907920"/>
            <a:ext cx="1677960" cy="5950080"/>
          </a:xfrm>
          <a:prstGeom prst="rect">
            <a:avLst/>
          </a:prstGeom>
          <a:ln w="0">
            <a:noFill/>
          </a:ln>
        </p:spPr>
      </p:pic>
      <p:sp>
        <p:nvSpPr>
          <p:cNvPr id="86" name="矩形 7"/>
          <p:cNvSpPr/>
          <p:nvPr/>
        </p:nvSpPr>
        <p:spPr>
          <a:xfrm>
            <a:off x="642960" y="1928880"/>
            <a:ext cx="8286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写出下列词语的意思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曾：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谙：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江花：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蓝：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用自己的话说说下列句子的意思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日出江花红胜火，春来江水绿如蓝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WordArt 4"/>
          <p:cNvSpPr txBox="1"/>
          <p:nvPr/>
        </p:nvSpPr>
        <p:spPr>
          <a:xfrm>
            <a:off x="1857240" y="785880"/>
            <a:ext cx="2519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隶书"/>
              </a:rPr>
              <a:t>当堂检测</a:t>
            </a:r>
            <a:endParaRPr b="0" lang="en-US" sz="24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Bj_042"/>
          <p:cNvPicPr/>
          <p:nvPr/>
        </p:nvPicPr>
        <p:blipFill>
          <a:blip r:embed="rId1"/>
          <a:stretch/>
        </p:blipFill>
        <p:spPr>
          <a:xfrm>
            <a:off x="0" y="907920"/>
            <a:ext cx="1677960" cy="5950080"/>
          </a:xfrm>
          <a:prstGeom prst="rect">
            <a:avLst/>
          </a:prstGeom>
          <a:ln w="0">
            <a:noFill/>
          </a:ln>
        </p:spPr>
      </p:pic>
      <p:sp>
        <p:nvSpPr>
          <p:cNvPr id="89" name="矩形 7"/>
          <p:cNvSpPr/>
          <p:nvPr/>
        </p:nvSpPr>
        <p:spPr>
          <a:xfrm>
            <a:off x="642960" y="857160"/>
            <a:ext cx="8286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同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者朝代同（都是唐朝诗人写的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景物地点同（都属于江南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诗词内容同（都写景，都是写景抒情的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异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体裁形式不同（前两首是诗，后一首是词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诗人情感不同（前一首冷调写景言意，后两首热情颂景抒情。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现手法不同（第一首主要运用了拟人手法，第二首的比喻很巧妙，第三首对比非常强烈。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WordArt 4"/>
          <p:cNvSpPr txBox="1"/>
          <p:nvPr/>
        </p:nvSpPr>
        <p:spPr>
          <a:xfrm>
            <a:off x="1357200" y="214200"/>
            <a:ext cx="2519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隶书"/>
              </a:rPr>
              <a:t>比较异同</a:t>
            </a:r>
            <a:endParaRPr b="0" lang="en-US" sz="24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Bj_042"/>
          <p:cNvPicPr/>
          <p:nvPr/>
        </p:nvPicPr>
        <p:blipFill>
          <a:blip r:embed="rId1"/>
          <a:stretch/>
        </p:blipFill>
        <p:spPr>
          <a:xfrm>
            <a:off x="0" y="0"/>
            <a:ext cx="885816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其他描写山水风光的古诗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85480" y="1981080"/>
            <a:ext cx="414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惠崇春江晚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宋）苏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竹外桃花三两枝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春江水暖鸭先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蒌蒿满地芦芽短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正是河豚欲上时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4429080" y="1978200"/>
            <a:ext cx="4100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江南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唐）杜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千里莺啼绿映红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水村山郭酒旗风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南朝四百八十寺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多少楼台烟雨中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5A1EC-4986-497A-9F0D-DA3851A7FD0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Bj_042"/>
          <p:cNvPicPr/>
          <p:nvPr/>
        </p:nvPicPr>
        <p:blipFill>
          <a:blip r:embed="rId1"/>
          <a:stretch/>
        </p:blipFill>
        <p:spPr>
          <a:xfrm>
            <a:off x="0" y="785880"/>
            <a:ext cx="1677960" cy="5949720"/>
          </a:xfrm>
          <a:prstGeom prst="rect">
            <a:avLst/>
          </a:prstGeom>
          <a:ln w="0">
            <a:noFill/>
          </a:ln>
        </p:spPr>
      </p:pic>
      <p:sp>
        <p:nvSpPr>
          <p:cNvPr id="52" name="矩形 7"/>
          <p:cNvSpPr/>
          <p:nvPr/>
        </p:nvSpPr>
        <p:spPr>
          <a:xfrm>
            <a:off x="1357200" y="1214280"/>
            <a:ext cx="7429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词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，又叫长短句，是我国古代诗歌的一种。词可以歌唱，每一首词根据格律，都有一个曲调名，成为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词牌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忆江南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就是词牌。宋朝时词创作的鼎盛时期，因而有“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唐诗宋词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”之说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1428840" y="428760"/>
            <a:ext cx="30718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隶书"/>
              </a:rPr>
              <a:t>什么是词</a:t>
            </a:r>
            <a:endParaRPr b="0" lang="en-US" sz="24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5"/>
          <p:cNvGrpSpPr/>
          <p:nvPr/>
        </p:nvGrpSpPr>
        <p:grpSpPr>
          <a:xfrm>
            <a:off x="4714920" y="1501920"/>
            <a:ext cx="4000320" cy="4485600"/>
            <a:chOff x="4714920" y="1501920"/>
            <a:chExt cx="4000320" cy="4485600"/>
          </a:xfrm>
        </p:grpSpPr>
        <p:sp>
          <p:nvSpPr>
            <p:cNvPr id="55" name="Rectangle 6"/>
            <p:cNvSpPr/>
            <p:nvPr/>
          </p:nvSpPr>
          <p:spPr>
            <a:xfrm>
              <a:off x="4714920" y="1501920"/>
              <a:ext cx="4000320" cy="43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cc99"/>
                  </a:solidFill>
                  <a:latin typeface="Times New Roman"/>
                </a:rPr>
                <a:t>白居易，晚年又号香山居士，今河南郑州人，我国唐代伟大的现实主义诗人，有“诗魔”和“诗王”之称。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Rectangle 7"/>
            <p:cNvSpPr/>
            <p:nvPr/>
          </p:nvSpPr>
          <p:spPr>
            <a:xfrm>
              <a:off x="4786920" y="1647360"/>
              <a:ext cx="3352680" cy="43401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7" name="Picture 9" descr="白居易"/>
          <p:cNvPicPr/>
          <p:nvPr/>
        </p:nvPicPr>
        <p:blipFill>
          <a:blip r:embed="rId1"/>
          <a:stretch/>
        </p:blipFill>
        <p:spPr>
          <a:xfrm>
            <a:off x="0" y="0"/>
            <a:ext cx="43243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WordArt 4"/>
          <p:cNvSpPr txBox="1"/>
          <p:nvPr/>
        </p:nvSpPr>
        <p:spPr>
          <a:xfrm>
            <a:off x="4500720" y="357120"/>
            <a:ext cx="3429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作者简介</a:t>
            </a:r>
            <a:endParaRPr b="1" lang="en-US" sz="2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Bj_042"/>
          <p:cNvPicPr/>
          <p:nvPr/>
        </p:nvPicPr>
        <p:blipFill>
          <a:blip r:embed="rId1"/>
          <a:stretch/>
        </p:blipFill>
        <p:spPr>
          <a:xfrm>
            <a:off x="0" y="907920"/>
            <a:ext cx="1677960" cy="5950080"/>
          </a:xfrm>
          <a:prstGeom prst="rect">
            <a:avLst/>
          </a:prstGeom>
          <a:ln w="0">
            <a:noFill/>
          </a:ln>
        </p:spPr>
      </p:pic>
      <p:sp>
        <p:nvSpPr>
          <p:cNvPr id="60" name="矩形 7"/>
          <p:cNvSpPr/>
          <p:nvPr/>
        </p:nvSpPr>
        <p:spPr>
          <a:xfrm>
            <a:off x="1357200" y="1857240"/>
            <a:ext cx="7429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认识生字词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正确、流利地朗读古诗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有感情地朗读并背诵古词，感受江南山水的自然之美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WordArt 4"/>
          <p:cNvSpPr txBox="1"/>
          <p:nvPr/>
        </p:nvSpPr>
        <p:spPr>
          <a:xfrm>
            <a:off x="1857240" y="785880"/>
            <a:ext cx="2519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隶书"/>
              </a:rPr>
              <a:t>学习目标</a:t>
            </a:r>
            <a:endParaRPr b="0" lang="en-US" sz="24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0"/>
          <p:cNvSpPr/>
          <p:nvPr/>
        </p:nvSpPr>
        <p:spPr>
          <a:xfrm>
            <a:off x="285840" y="171468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自由读古诗词，做到“三不”。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分钟后比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WordArt 4"/>
          <p:cNvSpPr txBox="1"/>
          <p:nvPr/>
        </p:nvSpPr>
        <p:spPr>
          <a:xfrm>
            <a:off x="571680" y="357120"/>
            <a:ext cx="2519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隶书"/>
              </a:rPr>
              <a:t>自学指导一</a:t>
            </a:r>
            <a:endParaRPr b="0" lang="en-US" sz="24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隶书"/>
              <a:ea typeface="隶书"/>
            </a:endParaRPr>
          </a:p>
        </p:txBody>
      </p:sp>
      <p:pic>
        <p:nvPicPr>
          <p:cNvPr id="64" name="Picture 4" descr="Bj_042"/>
          <p:cNvPicPr/>
          <p:nvPr/>
        </p:nvPicPr>
        <p:blipFill>
          <a:blip r:embed="rId1"/>
          <a:stretch/>
        </p:blipFill>
        <p:spPr>
          <a:xfrm>
            <a:off x="642960" y="3714840"/>
            <a:ext cx="792972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Bj_0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4"/>
          <p:cNvSpPr/>
          <p:nvPr/>
        </p:nvSpPr>
        <p:spPr>
          <a:xfrm>
            <a:off x="1663200" y="3571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黑体"/>
              </a:rPr>
              <a:t>你能读正确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3071880" y="2928960"/>
            <a:ext cx="47512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江南好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风景旧曾谙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日出江花红胜火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春来江水绿如蓝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能不忆江南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3714840" y="1197000"/>
            <a:ext cx="287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忆江南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714840" y="228600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唐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白居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10"/>
          <p:cNvSpPr/>
          <p:nvPr/>
        </p:nvSpPr>
        <p:spPr>
          <a:xfrm>
            <a:off x="285840" y="1214280"/>
            <a:ext cx="8358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结合注释或工具书理解以下字词意思：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曾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谙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江花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蓝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忆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根据以上词语的含义，指名用自己的话说说每句诗词的大意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庭、潭、螺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”这三个字的字形，再给它们组词，时间是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分钟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WordArt 4"/>
          <p:cNvSpPr txBox="1"/>
          <p:nvPr/>
        </p:nvSpPr>
        <p:spPr>
          <a:xfrm>
            <a:off x="571680" y="357120"/>
            <a:ext cx="2519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隶书"/>
              </a:rPr>
              <a:t>自学指导二</a:t>
            </a:r>
            <a:endParaRPr b="0" lang="en-US" sz="24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隶书"/>
              <a:ea typeface="隶书"/>
            </a:endParaRPr>
          </a:p>
        </p:txBody>
      </p:sp>
      <p:pic>
        <p:nvPicPr>
          <p:cNvPr id="72" name="Picture 4" descr="Bj_042"/>
          <p:cNvPicPr/>
          <p:nvPr/>
        </p:nvPicPr>
        <p:blipFill>
          <a:blip r:embed="rId1"/>
          <a:stretch/>
        </p:blipFill>
        <p:spPr>
          <a:xfrm>
            <a:off x="357120" y="4000680"/>
            <a:ext cx="8501040" cy="2433600"/>
          </a:xfrm>
          <a:prstGeom prst="rect">
            <a:avLst/>
          </a:prstGeom>
          <a:ln w="0">
            <a:noFill/>
          </a:ln>
        </p:spPr>
      </p:pic>
      <p:sp>
        <p:nvSpPr>
          <p:cNvPr id="73" name="文本框 1"/>
          <p:cNvSpPr/>
          <p:nvPr/>
        </p:nvSpPr>
        <p:spPr>
          <a:xfrm>
            <a:off x="571680" y="5369040"/>
            <a:ext cx="617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Bj_042"/>
          <p:cNvPicPr/>
          <p:nvPr/>
        </p:nvPicPr>
        <p:blipFill>
          <a:blip r:embed="rId1"/>
          <a:stretch/>
        </p:blipFill>
        <p:spPr>
          <a:xfrm>
            <a:off x="0" y="0"/>
            <a:ext cx="89298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WordArt 4"/>
          <p:cNvSpPr txBox="1"/>
          <p:nvPr/>
        </p:nvSpPr>
        <p:spPr>
          <a:xfrm>
            <a:off x="571680" y="214200"/>
            <a:ext cx="2519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3333cc"/>
                </a:solidFill>
                <a:latin typeface="隶书"/>
              </a:rPr>
              <a:t>全词大意</a:t>
            </a:r>
            <a:endParaRPr b="0" lang="en-US" sz="2400" spc="1" strike="noStrike">
              <a:ln w="9360">
                <a:solidFill>
                  <a:srgbClr val="000000"/>
                </a:solidFill>
                <a:round/>
              </a:ln>
              <a:solidFill>
                <a:srgbClr val="3333cc"/>
              </a:solidFill>
              <a:latin typeface="隶书"/>
              <a:ea typeface="隶书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85480" y="1071360"/>
            <a:ext cx="871524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江南真好，我对江南的美丽风景曾经是多么的熟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太阳从东方升起，阳光普照大地，遍地开放的鲜花更加艳丽，由于红日映照，所以红花更红，像燃烧的火焰，春回大地，春天的江水如蓝草一样碧绿、清澈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江南的风景这样美好，能不让人回忆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10"/>
          <p:cNvSpPr/>
          <p:nvPr/>
        </p:nvSpPr>
        <p:spPr>
          <a:xfrm>
            <a:off x="285840" y="1214280"/>
            <a:ext cx="835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江南美在哪里？表达了诗人怎样的思想感情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WordArt 4"/>
          <p:cNvSpPr txBox="1"/>
          <p:nvPr/>
        </p:nvSpPr>
        <p:spPr>
          <a:xfrm>
            <a:off x="571680" y="357120"/>
            <a:ext cx="321444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隶书"/>
              </a:rPr>
              <a:t>自学指导三</a:t>
            </a:r>
            <a:endParaRPr b="0" lang="en-US" sz="24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隶书"/>
              <a:ea typeface="隶书"/>
            </a:endParaRPr>
          </a:p>
        </p:txBody>
      </p:sp>
      <p:pic>
        <p:nvPicPr>
          <p:cNvPr id="79" name="Picture 4" descr="Bj_042"/>
          <p:cNvPicPr/>
          <p:nvPr/>
        </p:nvPicPr>
        <p:blipFill>
          <a:blip r:embed="rId1"/>
          <a:stretch/>
        </p:blipFill>
        <p:spPr>
          <a:xfrm>
            <a:off x="357120" y="4000680"/>
            <a:ext cx="850104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7:19:1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14:35Z</dcterms:modified>
  <cp:revision>6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