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camera.wav" ContentType="audio/x-wav"/>
  <Override PartName="/ppt/media/chimes.wav" ContentType="audio/x-wav"/>
  <Override PartName="/ppt/media/wind.wav" ContentType="audio/x-wav"/>
  <Override PartName="/ppt/media/image16.jpeg" ContentType="image/jpeg"/>
  <Override PartName="/ppt/media/image6.jpeg" ContentType="image/jpeg"/>
  <Override PartName="/ppt/media/applause.wav" ContentType="audio/x-wav"/>
  <Override PartName="/ppt/media/image17.jpeg" ContentType="image/jpeg"/>
  <Override PartName="/ppt/media/image14.png" ContentType="image/png"/>
  <Override PartName="/ppt/media/image15.jpeg" ContentType="image/jpeg"/>
  <Override PartName="/ppt/media/type.wav" ContentType="audio/x-wav"/>
  <Override PartName="/ppt/media/image13.jpeg" ContentType="image/jpeg"/>
  <Override PartName="/ppt/media/image12.jpeg" ContentType="image/jpeg"/>
  <Override PartName="/ppt/media/click.wav" ContentType="audio/x-wav"/>
  <Override PartName="/ppt/media/image1.jpeg" ContentType="image/jpeg"/>
  <Override PartName="/ppt/media/push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13C1-E260-4981-8B8F-74F0C29B70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4DD4-DCE2-4596-9D33-ADEC15873E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91A-AA75-4F7D-A6B6-58EA22A0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65B-0212-442B-866C-668121EA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D5B-3AE2-4894-9DD0-C0326B7A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B6E-3B2F-4F16-8B14-2CE42769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E09-B3E9-4BD0-8863-87FFC742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18B-F75D-49E0-AC60-542665E3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DBE-0BDE-4503-B8FC-7B06B34A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C74-4DDC-42DC-A6C1-C66BD6E3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1A8-93B9-4C06-8B29-44101799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172-4E87-4B6C-8A36-64888D07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64F-C5DC-4818-B48B-1722169D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439-DABD-486F-ADFB-6B5E26BB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0FD4-A9DD-42F4-850D-0D380ED5F8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audio" Target="../media/push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483_1158865870"/>
          <p:cNvPicPr/>
          <p:nvPr/>
        </p:nvPicPr>
        <p:blipFill>
          <a:blip r:embed="rId2"/>
          <a:stretch/>
        </p:blipFill>
        <p:spPr>
          <a:xfrm>
            <a:off x="563400" y="144612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49" name="矩形 1"/>
          <p:cNvSpPr/>
          <p:nvPr/>
        </p:nvSpPr>
        <p:spPr>
          <a:xfrm>
            <a:off x="6819840" y="730080"/>
            <a:ext cx="152100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路鲜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912680" y="6019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    tuì            dài       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间     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休     麻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水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ú          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lüè       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     好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ěn     cù          d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      l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又快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稳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花苗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得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5181480" y="457200"/>
            <a:ext cx="3276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生字词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多音字组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iān               chóng                     p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花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新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iǎn           zhòng                           p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朝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要              床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_large_rzM8_37bb0000a9022d13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914400" y="762120"/>
            <a:ext cx="7467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北村到南村之间是怎样的一条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阿光爷爷是做什么工作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他每天走在这条路上可能会想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北村和南村之间有一条路，这是一条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不怎么好走的路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客车司机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阿光爷爷每天都要往返在这条路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_large_lLD3_213b00097d3c2d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0" y="228600"/>
            <a:ext cx="891540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退休的那天阿光爷爷去做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种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的心情如何？你能从文中找出来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阿光爷爷开心地笑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为什么笑了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他为他人、为社会奉献一份爱心后满意的、幸福的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66040" y="3451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壁纸201303160848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387360" y="304920"/>
            <a:ext cx="7772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年之后公路变成了什么样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从文中的哪些词语能看出来，找一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又快又稳、鲜花接连不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为什么会变成这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阿光爷爷的带动下，又有许多人关心这条路，铺路、种花，这条路才变成平坦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鲜花公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爷爷身份的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司机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---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乘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道路的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颠簸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---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平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爷爷第二次笑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他带动了更多的人，服务他人，快乐自己，感到欣慰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爷爷两次笑的心情有什么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第一次笑因为完成了自己的心愿，自己付出了对他人的爱心；第二次笑因为自己的行动感动了其他人，他们也学会为别人送去爱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_large_KqTt_78b700002f512d1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685800" y="228600"/>
            <a:ext cx="7467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鲜花公路”的含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鲜花公路”不仅由于两边的鲜花盛开，更是因为有太多的人献出了爱心，伸出了爱的双手，那一朵朵鲜花就仿佛他们一颗颗纯洁美好的心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_large_j3U3_1719000032532d0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_large_oKbw_3efa0001057a2d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get (2)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7639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心目中的阿光爷爷是一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想对阿光爷爷说些什么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457200" y="600408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0669-E58E-4EEC-87DE-6D5B10B538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et"/>
          <p:cNvPicPr/>
          <p:nvPr/>
        </p:nvPicPr>
        <p:blipFill>
          <a:blip r:embed="rId1"/>
          <a:stretch/>
        </p:blipFill>
        <p:spPr>
          <a:xfrm>
            <a:off x="0" y="228600"/>
            <a:ext cx="8915400" cy="600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get (1)"/>
          <p:cNvPicPr/>
          <p:nvPr/>
        </p:nvPicPr>
        <p:blipFill>
          <a:blip r:embed="rId1"/>
          <a:stretch/>
        </p:blipFill>
        <p:spPr>
          <a:xfrm>
            <a:off x="685800" y="304920"/>
            <a:ext cx="7086600" cy="4860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762120" y="53341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走在这样的路上是什么感受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6"/>
          <p:cNvSpPr/>
          <p:nvPr/>
        </p:nvSpPr>
        <p:spPr>
          <a:xfrm>
            <a:off x="5257800" y="25146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get (1)"/>
          <p:cNvPicPr/>
          <p:nvPr/>
        </p:nvPicPr>
        <p:blipFill>
          <a:blip r:embed="rId1"/>
          <a:stretch/>
        </p:blipFill>
        <p:spPr>
          <a:xfrm>
            <a:off x="152280" y="380880"/>
            <a:ext cx="8686800" cy="5916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get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394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get (5)"/>
          <p:cNvPicPr/>
          <p:nvPr/>
        </p:nvPicPr>
        <p:blipFill>
          <a:blip r:embed="rId2"/>
          <a:stretch/>
        </p:blipFill>
        <p:spPr>
          <a:xfrm>
            <a:off x="0" y="304812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get (4)"/>
          <p:cNvPicPr/>
          <p:nvPr/>
        </p:nvPicPr>
        <p:blipFill>
          <a:blip r:embed="rId1"/>
          <a:stretch/>
        </p:blipFill>
        <p:spPr>
          <a:xfrm>
            <a:off x="762120" y="738360"/>
            <a:ext cx="7732440" cy="5511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et (6)"/>
          <p:cNvPicPr/>
          <p:nvPr/>
        </p:nvPicPr>
        <p:blipFill>
          <a:blip r:embed="rId1"/>
          <a:stretch/>
        </p:blipFill>
        <p:spPr>
          <a:xfrm>
            <a:off x="304920" y="57240"/>
            <a:ext cx="8305560" cy="64958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get (2)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5460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5486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看到这些花你会想到哪些词来形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12:34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0:51Z</dcterms:modified>
  <cp:revision>7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