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131F-EA44-44AE-8DF9-B83FE79A79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2A98-8D99-4325-B824-2B6F0557EE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FAF-5E3B-4127-A11E-7B9847EF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F84-822F-4FEC-8184-FD7B6AE2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DAE-E217-4B3E-8F1E-D3A9D0F6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AC4-55B7-4730-911E-823BA7BC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BD2-3288-4137-9E6E-253DA2AE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E9AE-0798-4F32-94F8-D6CB484F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6EA1-3732-4462-96E8-4D9E0017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649-FA63-4536-AB05-C300FFB8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A73-9DEC-4EA9-913C-E79BB504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186-4E02-452C-90D7-CB19B99D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A27-142E-453F-9598-A52CA432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4D4-9A69-4D71-A1B1-7232EDA2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0573-7192-4508-AF62-128426EB2F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305000" y="1484280"/>
            <a:ext cx="644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00000"/>
                </a:solidFill>
                <a:latin typeface="华文隶书"/>
                <a:ea typeface="华文隶书"/>
              </a:rPr>
              <a:t>有趣的绕口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405800" y="501336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AD2D-7CBD-4F5A-92AD-F2DC2E240A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比赛规则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准确、流利、快速地朗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同学发言，认真倾听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95280" y="298944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比赛程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95280" y="3848040"/>
            <a:ext cx="860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小组赛，再个人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未参赛的同学当评委，比一比谁看得最仔细，听得最认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11280" y="765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材料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724120" y="2205000"/>
            <a:ext cx="456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八百标兵奔北坡，炮兵并排北边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炮兵怕把标兵碰，标兵怕碰炮兵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332000" y="1628640"/>
            <a:ext cx="720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板凳宽，扁担长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扁担绑在板凳上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板凳不让扁担绑在板凳上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扁担偏要绑在板凳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95280" y="620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99"/>
                </a:solidFill>
                <a:latin typeface="Arial"/>
              </a:rPr>
              <a:t>材料 </a:t>
            </a:r>
            <a:r>
              <a:rPr b="1" lang="en-US" sz="3200" spc="-1" strike="noStrike">
                <a:solidFill>
                  <a:srgbClr val="00ff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ff99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"/>
          <p:cNvSpPr/>
          <p:nvPr/>
        </p:nvSpPr>
        <p:spPr>
          <a:xfrm>
            <a:off x="2673360" y="952560"/>
            <a:ext cx="54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7"/>
          <p:cNvSpPr/>
          <p:nvPr/>
        </p:nvSpPr>
        <p:spPr>
          <a:xfrm>
            <a:off x="2916360" y="2340000"/>
            <a:ext cx="734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ccec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ccec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2484360" y="907920"/>
            <a:ext cx="51134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面小花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鼓上画着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宝宝敲破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妈妈拿布补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知是布补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还是布补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2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材  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796000" y="2276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59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写作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4360" y="2276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抓住比赛的主要环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活动过程说、写清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出活动过程中人物的不同反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好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1341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异口同声   伶牙俐齿   笨嘴笨舌     毛遂自荐    鸦雀无声    跃跃欲试  憋足了劲     滚瓜烂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吞吞吐吐   哄堂大笑     鼓起勇气   不甘示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不自禁    抓耳挠腮     一蹦三尺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睛一看   怦怦直跳    从容镇静    炸开了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默念着   期待     前俯后仰    气氛紧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爆笑     羡慕的目光         赞许     笑得夸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简直      有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有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-106560" y="259920"/>
            <a:ext cx="91422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有趣的绕口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叮铃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…”上课了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喧闹的教室立即变得鸦雀无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夹着课本走进教室，微笑着说：“同学们，这节课，我们玩个绕口令的游戏好吗？”“好”同学们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异口同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大声回答。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原本安静的教室顿时炸开了锅，同学们一蹦三尺高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赛开始了，首先上场的是我们班嗓子最亮的彭子昂同学，只见他从容地走上讲台，大声地念着：“一面小花鼓，鼓上画着虎，宝宝敲破鼓，妈妈拿布补……”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他一口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把绕口令说完了。教室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寂静无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同学们都被他的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精彩表演看呆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一会儿，教室里就响起了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热烈的掌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彭海云也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按捺不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，他轻快地走了上来，双手插在口袋里，一副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胸有成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样子。然后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口齿伶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念起来：“扁担长，板凳宽……”读完了还甩甩头，同学们都向他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投来赞许的目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24000" y="692280"/>
            <a:ext cx="830232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吴曾豪也举起了手，他摇摆着身子上来了。他缩着脖子，又显得非常害羞。他结结巴巴地说：“四是四，十是十，十四是十四，四十是事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……”他刚一说完，同学们就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哄堂大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，男同学笑得十分夸张，简直是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前俯后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女同学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笑得不停地揉着肚子直叫“哎呦”，有的甚至流出了眼泪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谁再来试试！”老师话音刚落，教室里立刻安静下来，同学们都害怕叫到自己，都低着头不敢看老师，平常笨嘴笨舌的我更是紧张，心里默默地念着：“别叫我，别叫我……”可我还是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难逃大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只好鼓起勇气认真地念起来：“四是四，十是十……”我居然流利地读完了，教室里又响起一阵热烈的掌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这场有趣的绕口令比赛在大家的笑声中结束了。真希望能多参加这样的活动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3T06:49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5:46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