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8.png" ContentType="image/png"/>
  <Override PartName="/ppt/media/image16.wmf" ContentType="image/x-wmf"/>
  <Override PartName="/ppt/media/image7.jpeg" ContentType="image/jpeg"/>
  <Override PartName="/ppt/media/image6.png" ContentType="image/png"/>
  <Override PartName="/ppt/media/image2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823A-1CD6-4B1C-996A-F238CF816A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BFB-9446-4986-8AB1-0FE2BCECA2B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E1B-B943-43BE-AC25-B5E15A45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899-E802-4FDD-8EB4-CA27D862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8C7-2E1E-4E50-A0A1-99A6ACED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EB7-6724-412D-B2E1-8E7182A9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5F1B-482C-4633-9D06-68152DEF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098-B9C3-489C-9891-5A03687D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2AD6-0A06-49AB-B189-3449641B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AEAE-E2D5-4C0C-9FA4-0407AFC3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BCB3-E51E-4D56-97D9-643D376C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9E35-CDF6-4A5C-AAF7-1338B60A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2BE3-10A8-451A-B19A-D0A1DFC9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1EF-E560-4B90-B277-60135CD1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7F9C-0406-460B-A64A-3851A83E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F54E-4757-4E89-BC66-01C4F08B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595F-B478-4C8C-9803-A2DAD9DB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5DE0-BA75-44AE-8655-45B20A5E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66B6-1F19-490E-AF09-1CE90339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3A4-27A3-4066-9CD0-2420995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C97-2566-4AE1-B5D7-AF8E45B6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939-2293-414D-93D6-65F51C36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B9E-2395-4A6E-8F65-BA7A8656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B50-B414-4C49-A90C-F6F3145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260-824F-4EAD-9D61-BBC3741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E2D-6424-4B50-94BE-77366F7E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734D-9FE2-48C0-8945-1B077E518D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21E5-7D4E-40B3-A888-ADF6E634D0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a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6.wmf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843280" y="1628640"/>
            <a:ext cx="21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547640" y="1628640"/>
            <a:ext cx="568836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楷体_GB2312"/>
              </a:rPr>
              <a:t>一去二三里</a:t>
            </a:r>
            <a:endParaRPr b="1" lang="en-US" sz="4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24360" y="3716280"/>
            <a:ext cx="230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1967400" y="50976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国画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f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1258920" y="1989000"/>
            <a:ext cx="3097080" cy="309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1332000" y="35020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843280" y="198900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476360" y="25401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左上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132000" y="2565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右上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476360" y="41241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左下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3059280" y="41241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右下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268360" y="1125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竖中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30686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横中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4500720" y="62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tián   zì   gé     sì  fāng f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4859280" y="404640"/>
            <a:ext cx="3960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田 字 格，四 方 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写 好 汉 字 它 来 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左 上 格、右 上 格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左 下 格、右 下 格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横 中 线、竖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各 个 方 位 记 心 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4716360" y="1484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xiě hǎo hàn  zì   tā   lái  b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4788000" y="256536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zuǒshànggé  yòushàng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4716360" y="350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zuǒ  xià  gé     yòu  xià  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4492440" y="43657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héngzhōngxiànshùzhōngx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4572000" y="551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gè  gè fāng wèi  jì   xīn j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"/>
          <p:cNvGrpSpPr/>
          <p:nvPr/>
        </p:nvGrpSpPr>
        <p:grpSpPr>
          <a:xfrm>
            <a:off x="2987640" y="549000"/>
            <a:ext cx="5486400" cy="5486400"/>
            <a:chOff x="2987640" y="549000"/>
            <a:chExt cx="5486400" cy="5486400"/>
          </a:xfrm>
        </p:grpSpPr>
        <p:sp>
          <p:nvSpPr>
            <p:cNvPr id="232" name="Rectangle 4"/>
            <p:cNvSpPr/>
            <p:nvPr/>
          </p:nvSpPr>
          <p:spPr>
            <a:xfrm>
              <a:off x="2987640" y="555120"/>
              <a:ext cx="5486400" cy="5480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2987640" y="3295440"/>
              <a:ext cx="54864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 flipV="1">
              <a:off x="5729400" y="549000"/>
              <a:ext cx="1080" cy="548028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WordArt 7"/>
          <p:cNvSpPr txBox="1"/>
          <p:nvPr/>
        </p:nvSpPr>
        <p:spPr>
          <a:xfrm>
            <a:off x="3995640" y="2781360"/>
            <a:ext cx="374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236" name="Picture 8" descr="图3"/>
          <p:cNvPicPr/>
          <p:nvPr/>
        </p:nvPicPr>
        <p:blipFill>
          <a:blip r:embed="rId2"/>
          <a:stretch/>
        </p:blipFill>
        <p:spPr>
          <a:xfrm>
            <a:off x="0" y="0"/>
            <a:ext cx="2411280" cy="1989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250920" y="2205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我 会 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3"/>
          <p:cNvGrpSpPr/>
          <p:nvPr/>
        </p:nvGrpSpPr>
        <p:grpSpPr>
          <a:xfrm>
            <a:off x="1905120" y="609120"/>
            <a:ext cx="5486400" cy="5257800"/>
            <a:chOff x="1905120" y="609120"/>
            <a:chExt cx="5486400" cy="5257800"/>
          </a:xfrm>
        </p:grpSpPr>
        <p:sp>
          <p:nvSpPr>
            <p:cNvPr id="240" name="Rectangle 4"/>
            <p:cNvSpPr/>
            <p:nvPr/>
          </p:nvSpPr>
          <p:spPr>
            <a:xfrm>
              <a:off x="1905120" y="614880"/>
              <a:ext cx="5486400" cy="5252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>
              <a:off x="1905120" y="3241080"/>
              <a:ext cx="54864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 flipV="1">
              <a:off x="4646880" y="609120"/>
              <a:ext cx="1080" cy="525204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WordArt 7"/>
          <p:cNvSpPr txBox="1"/>
          <p:nvPr/>
        </p:nvSpPr>
        <p:spPr>
          <a:xfrm>
            <a:off x="3635280" y="2276640"/>
            <a:ext cx="20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44" name="WordArt 8"/>
          <p:cNvSpPr txBox="1"/>
          <p:nvPr/>
        </p:nvSpPr>
        <p:spPr>
          <a:xfrm>
            <a:off x="2987640" y="3573360"/>
            <a:ext cx="351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3"/>
          <p:cNvGrpSpPr/>
          <p:nvPr/>
        </p:nvGrpSpPr>
        <p:grpSpPr>
          <a:xfrm>
            <a:off x="1905120" y="609120"/>
            <a:ext cx="5486400" cy="5257800"/>
            <a:chOff x="1905120" y="609120"/>
            <a:chExt cx="5486400" cy="5257800"/>
          </a:xfrm>
        </p:grpSpPr>
        <p:sp>
          <p:nvSpPr>
            <p:cNvPr id="247" name="Rectangle 4"/>
            <p:cNvSpPr/>
            <p:nvPr/>
          </p:nvSpPr>
          <p:spPr>
            <a:xfrm>
              <a:off x="1905120" y="614880"/>
              <a:ext cx="5486400" cy="5252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905120" y="3241080"/>
              <a:ext cx="54864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 flipV="1">
              <a:off x="4646880" y="609120"/>
              <a:ext cx="1080" cy="525204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WordArt 7"/>
          <p:cNvSpPr txBox="1"/>
          <p:nvPr/>
        </p:nvSpPr>
        <p:spPr>
          <a:xfrm>
            <a:off x="3851280" y="206064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51" name="WordArt 8"/>
          <p:cNvSpPr txBox="1"/>
          <p:nvPr/>
        </p:nvSpPr>
        <p:spPr>
          <a:xfrm>
            <a:off x="3924360" y="292428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52" name="WordArt 9"/>
          <p:cNvSpPr txBox="1"/>
          <p:nvPr/>
        </p:nvSpPr>
        <p:spPr>
          <a:xfrm>
            <a:off x="3059280" y="3789360"/>
            <a:ext cx="331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740880" y="-416880"/>
            <a:ext cx="7060680" cy="6825600"/>
            <a:chOff x="740880" y="-416880"/>
            <a:chExt cx="7060680" cy="6825600"/>
          </a:xfrm>
        </p:grpSpPr>
        <p:sp>
          <p:nvSpPr>
            <p:cNvPr id="254" name="Rectangle 3"/>
            <p:cNvSpPr/>
            <p:nvPr/>
          </p:nvSpPr>
          <p:spPr>
            <a:xfrm>
              <a:off x="3875040" y="4824360"/>
              <a:ext cx="115236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Cloud"/>
            <p:cNvSpPr/>
            <p:nvPr/>
          </p:nvSpPr>
          <p:spPr>
            <a:xfrm rot="11275200">
              <a:off x="1066680" y="0"/>
              <a:ext cx="6408720" cy="517536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5"/>
          <p:cNvGrpSpPr/>
          <p:nvPr/>
        </p:nvGrpSpPr>
        <p:grpSpPr>
          <a:xfrm>
            <a:off x="5867280" y="2590920"/>
            <a:ext cx="1160640" cy="1150920"/>
            <a:chOff x="5867280" y="2590920"/>
            <a:chExt cx="1160640" cy="1150920"/>
          </a:xfrm>
        </p:grpSpPr>
        <p:pic>
          <p:nvPicPr>
            <p:cNvPr id="257" name="Picture 6" descr="j0305493"/>
            <p:cNvPicPr/>
            <p:nvPr/>
          </p:nvPicPr>
          <p:blipFill>
            <a:blip r:embed="rId2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7"/>
            <p:cNvSpPr/>
            <p:nvPr/>
          </p:nvSpPr>
          <p:spPr>
            <a:xfrm>
              <a:off x="6019560" y="297180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8"/>
          <p:cNvGrpSpPr/>
          <p:nvPr/>
        </p:nvGrpSpPr>
        <p:grpSpPr>
          <a:xfrm>
            <a:off x="5105520" y="3657600"/>
            <a:ext cx="1150920" cy="1150920"/>
            <a:chOff x="5105520" y="3657600"/>
            <a:chExt cx="1150920" cy="1150920"/>
          </a:xfrm>
        </p:grpSpPr>
        <p:pic>
          <p:nvPicPr>
            <p:cNvPr id="260" name="Picture 9" descr="j0305493"/>
            <p:cNvPicPr/>
            <p:nvPr/>
          </p:nvPicPr>
          <p:blipFill>
            <a:blip r:embed="rId3"/>
            <a:stretch/>
          </p:blipFill>
          <p:spPr>
            <a:xfrm>
              <a:off x="5105520" y="36576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0"/>
            <p:cNvSpPr/>
            <p:nvPr/>
          </p:nvSpPr>
          <p:spPr>
            <a:xfrm>
              <a:off x="5321520" y="4017960"/>
              <a:ext cx="93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1"/>
          <p:cNvGrpSpPr/>
          <p:nvPr/>
        </p:nvGrpSpPr>
        <p:grpSpPr>
          <a:xfrm>
            <a:off x="1981080" y="457200"/>
            <a:ext cx="1139760" cy="1150920"/>
            <a:chOff x="1981080" y="457200"/>
            <a:chExt cx="1139760" cy="1150920"/>
          </a:xfrm>
        </p:grpSpPr>
        <p:pic>
          <p:nvPicPr>
            <p:cNvPr id="263" name="Picture 12" descr="j0305493"/>
            <p:cNvPicPr/>
            <p:nvPr/>
          </p:nvPicPr>
          <p:blipFill>
            <a:blip r:embed="rId4"/>
            <a:stretch/>
          </p:blipFill>
          <p:spPr>
            <a:xfrm>
              <a:off x="1981080" y="4572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3"/>
            <p:cNvSpPr/>
            <p:nvPr/>
          </p:nvSpPr>
          <p:spPr>
            <a:xfrm>
              <a:off x="2133360" y="7621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4"/>
          <p:cNvGrpSpPr/>
          <p:nvPr/>
        </p:nvGrpSpPr>
        <p:grpSpPr>
          <a:xfrm>
            <a:off x="2629080" y="3860640"/>
            <a:ext cx="1218600" cy="1152360"/>
            <a:chOff x="2629080" y="3860640"/>
            <a:chExt cx="1218600" cy="1152360"/>
          </a:xfrm>
        </p:grpSpPr>
        <p:pic>
          <p:nvPicPr>
            <p:cNvPr id="266" name="Picture 15" descr="j0305493"/>
            <p:cNvPicPr/>
            <p:nvPr/>
          </p:nvPicPr>
          <p:blipFill>
            <a:blip r:embed="rId5"/>
            <a:stretch/>
          </p:blipFill>
          <p:spPr>
            <a:xfrm>
              <a:off x="2629080" y="3860640"/>
              <a:ext cx="12186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6"/>
            <p:cNvSpPr/>
            <p:nvPr/>
          </p:nvSpPr>
          <p:spPr>
            <a:xfrm>
              <a:off x="2954880" y="4241880"/>
              <a:ext cx="56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7"/>
          <p:cNvGrpSpPr/>
          <p:nvPr/>
        </p:nvGrpSpPr>
        <p:grpSpPr>
          <a:xfrm>
            <a:off x="3492360" y="189000"/>
            <a:ext cx="1510920" cy="1160640"/>
            <a:chOff x="3492360" y="189000"/>
            <a:chExt cx="1510920" cy="1160640"/>
          </a:xfrm>
        </p:grpSpPr>
        <p:pic>
          <p:nvPicPr>
            <p:cNvPr id="269" name="Picture 18" descr="j0305493"/>
            <p:cNvPicPr/>
            <p:nvPr/>
          </p:nvPicPr>
          <p:blipFill>
            <a:blip r:embed="rId6"/>
            <a:stretch/>
          </p:blipFill>
          <p:spPr>
            <a:xfrm>
              <a:off x="3492360" y="189000"/>
              <a:ext cx="11516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9"/>
            <p:cNvSpPr/>
            <p:nvPr/>
          </p:nvSpPr>
          <p:spPr>
            <a:xfrm>
              <a:off x="3646080" y="646200"/>
              <a:ext cx="13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0"/>
          <p:cNvGrpSpPr/>
          <p:nvPr/>
        </p:nvGrpSpPr>
        <p:grpSpPr>
          <a:xfrm>
            <a:off x="3429000" y="1600200"/>
            <a:ext cx="988920" cy="998640"/>
            <a:chOff x="3429000" y="1600200"/>
            <a:chExt cx="988920" cy="998640"/>
          </a:xfrm>
        </p:grpSpPr>
        <p:pic>
          <p:nvPicPr>
            <p:cNvPr id="272" name="Picture 21" descr="j0305493"/>
            <p:cNvPicPr/>
            <p:nvPr/>
          </p:nvPicPr>
          <p:blipFill>
            <a:blip r:embed="rId7"/>
            <a:stretch/>
          </p:blipFill>
          <p:spPr>
            <a:xfrm>
              <a:off x="3429000" y="1600200"/>
              <a:ext cx="988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22"/>
            <p:cNvSpPr/>
            <p:nvPr/>
          </p:nvSpPr>
          <p:spPr>
            <a:xfrm>
              <a:off x="3735360" y="1828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3"/>
          <p:cNvGrpSpPr/>
          <p:nvPr/>
        </p:nvGrpSpPr>
        <p:grpSpPr>
          <a:xfrm>
            <a:off x="2819520" y="2590920"/>
            <a:ext cx="912600" cy="922680"/>
            <a:chOff x="2819520" y="2590920"/>
            <a:chExt cx="912600" cy="922680"/>
          </a:xfrm>
        </p:grpSpPr>
        <p:pic>
          <p:nvPicPr>
            <p:cNvPr id="275" name="Picture 24" descr="j0305493"/>
            <p:cNvPicPr/>
            <p:nvPr/>
          </p:nvPicPr>
          <p:blipFill>
            <a:blip r:embed="rId8"/>
            <a:stretch/>
          </p:blipFill>
          <p:spPr>
            <a:xfrm>
              <a:off x="2819520" y="259092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25"/>
            <p:cNvSpPr/>
            <p:nvPr/>
          </p:nvSpPr>
          <p:spPr>
            <a:xfrm>
              <a:off x="2972880" y="2810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6"/>
          <p:cNvGrpSpPr/>
          <p:nvPr/>
        </p:nvGrpSpPr>
        <p:grpSpPr>
          <a:xfrm>
            <a:off x="4038480" y="2666880"/>
            <a:ext cx="1601640" cy="1150920"/>
            <a:chOff x="4038480" y="2666880"/>
            <a:chExt cx="1601640" cy="1150920"/>
          </a:xfrm>
        </p:grpSpPr>
        <p:pic>
          <p:nvPicPr>
            <p:cNvPr id="278" name="Picture 27" descr="j0305493"/>
            <p:cNvPicPr/>
            <p:nvPr/>
          </p:nvPicPr>
          <p:blipFill>
            <a:blip r:embed="rId9"/>
            <a:stretch/>
          </p:blipFill>
          <p:spPr>
            <a:xfrm>
              <a:off x="4038480" y="26668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8"/>
            <p:cNvSpPr/>
            <p:nvPr/>
          </p:nvSpPr>
          <p:spPr>
            <a:xfrm>
              <a:off x="4343400" y="3047760"/>
              <a:ext cx="129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9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281" name="Picture 30" descr="j0305493"/>
            <p:cNvPicPr/>
            <p:nvPr/>
          </p:nvPicPr>
          <p:blipFill>
            <a:blip r:embed="rId10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31"/>
            <p:cNvSpPr/>
            <p:nvPr/>
          </p:nvSpPr>
          <p:spPr>
            <a:xfrm>
              <a:off x="5094360" y="1141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未知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未知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4"/>
          <p:cNvGrpSpPr/>
          <p:nvPr/>
        </p:nvGrpSpPr>
        <p:grpSpPr>
          <a:xfrm>
            <a:off x="1066680" y="1828800"/>
            <a:ext cx="1139760" cy="1150920"/>
            <a:chOff x="1066680" y="1828800"/>
            <a:chExt cx="1139760" cy="1150920"/>
          </a:xfrm>
        </p:grpSpPr>
        <p:grpSp>
          <p:nvGrpSpPr>
            <p:cNvPr id="286" name="Group 35"/>
            <p:cNvGrpSpPr/>
            <p:nvPr/>
          </p:nvGrpSpPr>
          <p:grpSpPr>
            <a:xfrm>
              <a:off x="1066680" y="1828800"/>
              <a:ext cx="1139760" cy="1150920"/>
              <a:chOff x="1066680" y="1828800"/>
              <a:chExt cx="1139760" cy="1150920"/>
            </a:xfrm>
          </p:grpSpPr>
          <p:sp>
            <p:nvSpPr>
              <p:cNvPr id="287" name="AutoShape 36"/>
              <p:cNvSpPr/>
              <p:nvPr/>
            </p:nvSpPr>
            <p:spPr>
              <a:xfrm>
                <a:off x="1066680" y="182880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1076040" y="182880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1922400" y="20448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1103040" y="207324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1479600" y="212868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1137960" y="210816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1871640" y="207180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1334880" y="210492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1222200" y="220680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1355760" y="223344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1552320" y="226548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1806480" y="210816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1744560" y="244800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1701720" y="232740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1145880" y="223848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1352520" y="213840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>
                <a:off x="1353960" y="234936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1562040" y="236844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1508040" y="212256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1726920" y="244476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1915920" y="207180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2109600" y="223344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>
                <a:off x="1842840" y="211788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1577880" y="186228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>
                <a:off x="1590480" y="187164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>
                <a:off x="1665000" y="190008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1671480" y="190656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>
                <a:off x="1595160" y="187164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>
                <a:off x="1479600" y="285588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1349280" y="221616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1788840" y="222552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1611360" y="241776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1546200" y="265752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1625400" y="265428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1380960" y="225252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1800000" y="227484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1622160" y="244332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1571400" y="266868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1360440" y="223200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1828800" y="223848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1560240" y="272556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1465200" y="221616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>
                <a:off x="1828800" y="22255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>
                <a:off x="1652400" y="241776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1428480" y="231948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1798560" y="230652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Text Box 82"/>
            <p:cNvSpPr/>
            <p:nvPr/>
          </p:nvSpPr>
          <p:spPr>
            <a:xfrm>
              <a:off x="1295280" y="220968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83"/>
          <p:cNvGrpSpPr/>
          <p:nvPr/>
        </p:nvGrpSpPr>
        <p:grpSpPr>
          <a:xfrm>
            <a:off x="1371600" y="3429000"/>
            <a:ext cx="1236600" cy="1150920"/>
            <a:chOff x="1371600" y="3429000"/>
            <a:chExt cx="1236600" cy="1150920"/>
          </a:xfrm>
        </p:grpSpPr>
        <p:pic>
          <p:nvPicPr>
            <p:cNvPr id="335" name="Picture 84" descr="j0305493"/>
            <p:cNvPicPr/>
            <p:nvPr/>
          </p:nvPicPr>
          <p:blipFill>
            <a:blip r:embed="rId11"/>
            <a:stretch/>
          </p:blipFill>
          <p:spPr>
            <a:xfrm>
              <a:off x="137160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85"/>
            <p:cNvSpPr/>
            <p:nvPr/>
          </p:nvSpPr>
          <p:spPr>
            <a:xfrm>
              <a:off x="1600200" y="37339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86"/>
          <p:cNvGrpSpPr/>
          <p:nvPr/>
        </p:nvGrpSpPr>
        <p:grpSpPr>
          <a:xfrm>
            <a:off x="6172200" y="1219320"/>
            <a:ext cx="1306440" cy="1150920"/>
            <a:chOff x="6172200" y="1219320"/>
            <a:chExt cx="1306440" cy="1150920"/>
          </a:xfrm>
        </p:grpSpPr>
        <p:grpSp>
          <p:nvGrpSpPr>
            <p:cNvPr id="338" name="Group 87"/>
            <p:cNvGrpSpPr/>
            <p:nvPr/>
          </p:nvGrpSpPr>
          <p:grpSpPr>
            <a:xfrm>
              <a:off x="6172200" y="1219320"/>
              <a:ext cx="1139760" cy="1150920"/>
              <a:chOff x="6172200" y="1219320"/>
              <a:chExt cx="1139760" cy="1150920"/>
            </a:xfrm>
          </p:grpSpPr>
          <p:sp>
            <p:nvSpPr>
              <p:cNvPr id="339" name="AutoShape 88"/>
              <p:cNvSpPr/>
              <p:nvPr/>
            </p:nvSpPr>
            <p:spPr>
              <a:xfrm>
                <a:off x="6172200" y="121932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7027920" y="143532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6208560" y="146376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6585120" y="151920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6243480" y="149868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6977160" y="146232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6440400" y="149544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6327720" y="159732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6461280" y="162396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6912000" y="149868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6850080" y="183852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6807240" y="171792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6251400" y="162900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6458040" y="152892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6459480" y="173988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6667560" y="175896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6613560" y="1513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6832440" y="183528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7215120" y="162396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>
                <a:off x="6948360" y="150840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6683400" y="125280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6770520" y="129060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6777000" y="129708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>
                <a:off x="6585120" y="224640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>
                <a:off x="6454800" y="160668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6894360" y="161604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6716880" y="180828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>
                <a:off x="6651720" y="204804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>
                <a:off x="6730920" y="20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>
                <a:off x="6486480" y="164304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>
                <a:off x="6727680" y="183384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>
                <a:off x="6676920" y="205920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>
                <a:off x="6465960" y="162252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>
                <a:off x="6934320" y="162900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>
                <a:off x="6665760" y="211608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>
                <a:off x="6570720" y="160668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>
                <a:off x="6934320" y="161604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>
                <a:off x="6757920" y="180828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6734160" y="18608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6904080" y="169704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Text Box 136"/>
            <p:cNvSpPr/>
            <p:nvPr/>
          </p:nvSpPr>
          <p:spPr>
            <a:xfrm>
              <a:off x="6397560" y="160020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12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606 L -0.00399 0.75995 E">
                                      <p:cBhvr>
                                        <p:cTn id="241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2109E-006 L 0.00156 0.82655 E">
                                      <p:cBhvr>
                                        <p:cTn id="245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00509 L 0.04201 0.68732 E">
                                      <p:cBhvr>
                                        <p:cTn id="249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253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23959E-006 L -0.12066 0.53793 E">
                                      <p:cBhvr>
                                        <p:cTn id="25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05834 0.31083 E">
                                      <p:cBhvr>
                                        <p:cTn id="261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1397E-006 L 0.1533 0.40471 E">
                                      <p:cBhvr>
                                        <p:cTn id="265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765E-006 L 0.15833 0.27752 E">
                                      <p:cBhvr>
                                        <p:cTn id="269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52 L -0.004 0.27151 E">
                                      <p:cBhvr>
                                        <p:cTn id="273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9981E-006 L 0.0375 0.34921 E">
                                      <p:cBhvr>
                                        <p:cTn id="277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56984E-006 L 0.01268 0.48242 E">
                                      <p:cBhvr>
                                        <p:cTn id="281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85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"/>
          <p:cNvSpPr/>
          <p:nvPr/>
        </p:nvSpPr>
        <p:spPr>
          <a:xfrm>
            <a:off x="250920" y="333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数数填填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54"/>
          <p:cNvPicPr/>
          <p:nvPr/>
        </p:nvPicPr>
        <p:blipFill>
          <a:blip r:embed="rId2"/>
          <a:stretch/>
        </p:blipFill>
        <p:spPr>
          <a:xfrm>
            <a:off x="395280" y="2133720"/>
            <a:ext cx="1873080" cy="20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165"/>
          <p:cNvPicPr/>
          <p:nvPr/>
        </p:nvPicPr>
        <p:blipFill>
          <a:blip r:embed="rId3"/>
          <a:stretch/>
        </p:blipFill>
        <p:spPr>
          <a:xfrm>
            <a:off x="2700360" y="692280"/>
            <a:ext cx="3024000" cy="2160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2345"/>
          <p:cNvPicPr/>
          <p:nvPr/>
        </p:nvPicPr>
        <p:blipFill>
          <a:blip r:embed="rId4"/>
          <a:stretch/>
        </p:blipFill>
        <p:spPr>
          <a:xfrm>
            <a:off x="6012000" y="2060640"/>
            <a:ext cx="2447640" cy="23032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179280" y="450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zhī  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）只  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2340000" y="314172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ān   zhī ni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）只    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4716360" y="4724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ì   gè píng g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）个  苹     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539640" y="501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2771640" y="364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5148360" y="522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"/>
          <p:cNvSpPr/>
          <p:nvPr/>
        </p:nvSpPr>
        <p:spPr>
          <a:xfrm>
            <a:off x="1020600" y="6099120"/>
            <a:ext cx="51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a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"/>
          <p:cNvSpPr/>
          <p:nvPr/>
        </p:nvSpPr>
        <p:spPr>
          <a:xfrm>
            <a:off x="324000" y="549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后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141280" y="1989000"/>
            <a:ext cx="43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在我们周围找找本课的生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971640" y="3500280"/>
            <a:ext cx="69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向爸爸妈妈介绍自己的文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或家里的用具用上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1—10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的汉字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466A-BEFC-4076-AF4C-D0E91D34D4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g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116000" y="1989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  2  3  4  5  6  7  8  9 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611280" y="620640"/>
            <a:ext cx="1828800" cy="766800"/>
            <a:chOff x="611280" y="620640"/>
            <a:chExt cx="1828800" cy="766800"/>
          </a:xfrm>
        </p:grpSpPr>
        <p:sp>
          <p:nvSpPr>
            <p:cNvPr id="98" name="AutoShape 5"/>
            <p:cNvSpPr/>
            <p:nvPr/>
          </p:nvSpPr>
          <p:spPr>
            <a:xfrm>
              <a:off x="611280" y="620640"/>
              <a:ext cx="1676520" cy="766800"/>
            </a:xfrm>
            <a:prstGeom prst="cube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839880" y="830880"/>
              <a:ext cx="1600200" cy="520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我会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7"/>
          <p:cNvSpPr/>
          <p:nvPr/>
        </p:nvSpPr>
        <p:spPr>
          <a:xfrm>
            <a:off x="395280" y="3645000"/>
            <a:ext cx="9145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</a:rPr>
              <a:t>yī   èr   sān  sì    wǔ   liù    qī   bā    jiǔ   shí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575360" y="4581360"/>
            <a:ext cx="621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 二  三  四  五  六  七  八  九  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数字"/>
          <p:cNvPicPr/>
          <p:nvPr/>
        </p:nvPicPr>
        <p:blipFill>
          <a:blip r:embed="rId1">
            <a:lum contrast="42000"/>
          </a:blip>
          <a:srcRect l="4970" t="4208" r="5590" b="68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Oval 3">
            <a:hlinkClick r:id="rId2" action="ppaction://hlinksldjump"/>
          </p:cNvPr>
          <p:cNvSpPr/>
          <p:nvPr/>
        </p:nvSpPr>
        <p:spPr>
          <a:xfrm>
            <a:off x="6332400" y="5342040"/>
            <a:ext cx="754200" cy="830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>
            <a:hlinkClick r:id="rId3" action="ppaction://hlinksldjump"/>
          </p:cNvPr>
          <p:cNvSpPr/>
          <p:nvPr/>
        </p:nvSpPr>
        <p:spPr>
          <a:xfrm>
            <a:off x="0" y="3809880"/>
            <a:ext cx="83520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>
            <a:hlinkClick r:id="rId4" action="ppaction://hlinksldjump"/>
          </p:cNvPr>
          <p:cNvSpPr/>
          <p:nvPr/>
        </p:nvSpPr>
        <p:spPr>
          <a:xfrm>
            <a:off x="3817800" y="4344840"/>
            <a:ext cx="830520" cy="836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>
            <a:hlinkClick r:id="rId5" action="ppaction://hlinksldjump"/>
          </p:cNvPr>
          <p:cNvSpPr/>
          <p:nvPr/>
        </p:nvSpPr>
        <p:spPr>
          <a:xfrm>
            <a:off x="5292720" y="4040280"/>
            <a:ext cx="809640" cy="836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>
            <a:hlinkClick r:id="rId6" action="ppaction://hlinksldjump"/>
          </p:cNvPr>
          <p:cNvSpPr/>
          <p:nvPr/>
        </p:nvSpPr>
        <p:spPr>
          <a:xfrm>
            <a:off x="5113440" y="3048120"/>
            <a:ext cx="83016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>
            <a:hlinkClick r:id="rId7" action="ppaction://hlinksldjump"/>
          </p:cNvPr>
          <p:cNvSpPr/>
          <p:nvPr/>
        </p:nvSpPr>
        <p:spPr>
          <a:xfrm>
            <a:off x="6789600" y="4192560"/>
            <a:ext cx="760680" cy="785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8229600" y="4419720"/>
            <a:ext cx="762120" cy="760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>
            <a:hlinkClick r:id="rId8" action="ppaction://hlinksldjump"/>
          </p:cNvPr>
          <p:cNvSpPr/>
          <p:nvPr/>
        </p:nvSpPr>
        <p:spPr>
          <a:xfrm>
            <a:off x="45720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>
            <a:hlinkClick r:id="rId9" action="ppaction://hlinksldjump"/>
          </p:cNvPr>
          <p:cNvSpPr/>
          <p:nvPr/>
        </p:nvSpPr>
        <p:spPr>
          <a:xfrm>
            <a:off x="137160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>
            <a:hlinkClick r:id="rId10" action="ppaction://hlinksldjump"/>
          </p:cNvPr>
          <p:cNvSpPr/>
          <p:nvPr/>
        </p:nvSpPr>
        <p:spPr>
          <a:xfrm>
            <a:off x="22096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>
            <a:hlinkClick r:id="rId11" action="ppaction://hlinksldjump"/>
          </p:cNvPr>
          <p:cNvSpPr/>
          <p:nvPr/>
        </p:nvSpPr>
        <p:spPr>
          <a:xfrm>
            <a:off x="312408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>
            <a:hlinkClick r:id="rId12" action="ppaction://hlinksldjump"/>
          </p:cNvPr>
          <p:cNvSpPr/>
          <p:nvPr/>
        </p:nvSpPr>
        <p:spPr>
          <a:xfrm>
            <a:off x="39625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>
            <a:hlinkClick r:id="rId13" action="ppaction://hlinksldjump"/>
          </p:cNvPr>
          <p:cNvSpPr/>
          <p:nvPr/>
        </p:nvSpPr>
        <p:spPr>
          <a:xfrm>
            <a:off x="4724280" y="28954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>
            <a:hlinkClick r:id="rId14" action="ppaction://hlinksldjump"/>
          </p:cNvPr>
          <p:cNvSpPr/>
          <p:nvPr/>
        </p:nvSpPr>
        <p:spPr>
          <a:xfrm>
            <a:off x="57913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>
            <a:hlinkClick r:id="rId15" action="ppaction://hlinksldjump"/>
          </p:cNvPr>
          <p:cNvSpPr/>
          <p:nvPr/>
        </p:nvSpPr>
        <p:spPr>
          <a:xfrm>
            <a:off x="655308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>
            <a:hlinkClick r:id="rId16" action="ppaction://hlinksldjump"/>
          </p:cNvPr>
          <p:cNvSpPr/>
          <p:nvPr/>
        </p:nvSpPr>
        <p:spPr>
          <a:xfrm>
            <a:off x="746748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>
            <a:hlinkClick r:id="rId17" action="ppaction://hlinksldjump"/>
          </p:cNvPr>
          <p:cNvSpPr/>
          <p:nvPr/>
        </p:nvSpPr>
        <p:spPr>
          <a:xfrm>
            <a:off x="83059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>
            <a:hlinkClick r:id="rId18" action="ppaction://hlinksldjump"/>
          </p:cNvPr>
          <p:cNvSpPr/>
          <p:nvPr/>
        </p:nvSpPr>
        <p:spPr>
          <a:xfrm>
            <a:off x="5486400" y="6095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Arial"/>
              </a:rPr>
              <a:t>童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1"/>
          <p:cNvGrpSpPr/>
          <p:nvPr/>
        </p:nvGrpSpPr>
        <p:grpSpPr>
          <a:xfrm>
            <a:off x="74520" y="3886200"/>
            <a:ext cx="762120" cy="838080"/>
            <a:chOff x="74520" y="3886200"/>
            <a:chExt cx="762120" cy="838080"/>
          </a:xfrm>
        </p:grpSpPr>
        <p:sp>
          <p:nvSpPr>
            <p:cNvPr id="122" name="Oval 22"/>
            <p:cNvSpPr/>
            <p:nvPr/>
          </p:nvSpPr>
          <p:spPr>
            <a:xfrm>
              <a:off x="74520" y="3926160"/>
              <a:ext cx="762120" cy="79812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863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3"/>
            <p:cNvSpPr/>
            <p:nvPr/>
          </p:nvSpPr>
          <p:spPr>
            <a:xfrm>
              <a:off x="74520" y="3886200"/>
              <a:ext cx="71892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24"/>
          <p:cNvSpPr/>
          <p:nvPr/>
        </p:nvSpPr>
        <p:spPr>
          <a:xfrm>
            <a:off x="1676520" y="3809880"/>
            <a:ext cx="76176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5"/>
          <p:cNvSpPr/>
          <p:nvPr/>
        </p:nvSpPr>
        <p:spPr>
          <a:xfrm>
            <a:off x="83664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2971800" y="21337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3884760" y="4343400"/>
            <a:ext cx="7617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5105520" y="3048120"/>
            <a:ext cx="7617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5408640" y="4038480"/>
            <a:ext cx="76212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6781680" y="4191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8305920" y="4343400"/>
            <a:ext cx="7635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2"/>
          <p:cNvSpPr/>
          <p:nvPr/>
        </p:nvSpPr>
        <p:spPr>
          <a:xfrm>
            <a:off x="640080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29"/>
          <p:cNvSpPr/>
          <p:nvPr/>
        </p:nvSpPr>
        <p:spPr>
          <a:xfrm>
            <a:off x="1843200" y="30672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数字"/>
          <p:cNvPicPr/>
          <p:nvPr/>
        </p:nvPicPr>
        <p:blipFill>
          <a:blip r:embed="rId1">
            <a:lum contrast="42000"/>
          </a:blip>
          <a:srcRect l="4970" t="4208" r="5590" b="68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未知"/>
          <p:cNvSpPr/>
          <p:nvPr/>
        </p:nvSpPr>
        <p:spPr>
          <a:xfrm>
            <a:off x="803160" y="260280"/>
            <a:ext cx="6697800" cy="1451160"/>
          </a:xfrm>
          <a:custGeom>
            <a:avLst/>
            <a:gdLst/>
            <a:ahLst/>
            <a:rect l="l" t="t" r="r" b="b"/>
            <a:pathLst>
              <a:path w="3869" h="914">
                <a:moveTo>
                  <a:pt x="12" y="463"/>
                </a:moveTo>
                <a:cubicBezTo>
                  <a:pt x="29" y="398"/>
                  <a:pt x="61" y="265"/>
                  <a:pt x="138" y="238"/>
                </a:cubicBezTo>
                <a:cubicBezTo>
                  <a:pt x="179" y="223"/>
                  <a:pt x="220" y="211"/>
                  <a:pt x="263" y="200"/>
                </a:cubicBezTo>
                <a:cubicBezTo>
                  <a:pt x="337" y="210"/>
                  <a:pt x="404" y="223"/>
                  <a:pt x="476" y="238"/>
                </a:cubicBezTo>
                <a:cubicBezTo>
                  <a:pt x="526" y="205"/>
                  <a:pt x="549" y="140"/>
                  <a:pt x="613" y="125"/>
                </a:cubicBezTo>
                <a:cubicBezTo>
                  <a:pt x="664" y="113"/>
                  <a:pt x="714" y="104"/>
                  <a:pt x="764" y="88"/>
                </a:cubicBezTo>
                <a:cubicBezTo>
                  <a:pt x="836" y="100"/>
                  <a:pt x="907" y="114"/>
                  <a:pt x="976" y="138"/>
                </a:cubicBezTo>
                <a:cubicBezTo>
                  <a:pt x="985" y="146"/>
                  <a:pt x="992" y="157"/>
                  <a:pt x="1002" y="163"/>
                </a:cubicBezTo>
                <a:cubicBezTo>
                  <a:pt x="1013" y="170"/>
                  <a:pt x="1030" y="166"/>
                  <a:pt x="1039" y="175"/>
                </a:cubicBezTo>
                <a:cubicBezTo>
                  <a:pt x="1105" y="241"/>
                  <a:pt x="992" y="193"/>
                  <a:pt x="1089" y="225"/>
                </a:cubicBezTo>
                <a:cubicBezTo>
                  <a:pt x="1162" y="202"/>
                  <a:pt x="1100" y="233"/>
                  <a:pt x="1139" y="175"/>
                </a:cubicBezTo>
                <a:cubicBezTo>
                  <a:pt x="1149" y="160"/>
                  <a:pt x="1164" y="150"/>
                  <a:pt x="1177" y="138"/>
                </a:cubicBezTo>
                <a:cubicBezTo>
                  <a:pt x="1200" y="65"/>
                  <a:pt x="1171" y="131"/>
                  <a:pt x="1227" y="75"/>
                </a:cubicBezTo>
                <a:cubicBezTo>
                  <a:pt x="1238" y="65"/>
                  <a:pt x="1241" y="48"/>
                  <a:pt x="1252" y="38"/>
                </a:cubicBezTo>
                <a:cubicBezTo>
                  <a:pt x="1276" y="15"/>
                  <a:pt x="1297" y="10"/>
                  <a:pt x="1327" y="0"/>
                </a:cubicBezTo>
                <a:cubicBezTo>
                  <a:pt x="1406" y="4"/>
                  <a:pt x="1486" y="4"/>
                  <a:pt x="1565" y="13"/>
                </a:cubicBezTo>
                <a:cubicBezTo>
                  <a:pt x="1599" y="17"/>
                  <a:pt x="1632" y="30"/>
                  <a:pt x="1665" y="38"/>
                </a:cubicBezTo>
                <a:cubicBezTo>
                  <a:pt x="1682" y="42"/>
                  <a:pt x="1715" y="50"/>
                  <a:pt x="1715" y="50"/>
                </a:cubicBezTo>
                <a:cubicBezTo>
                  <a:pt x="1753" y="75"/>
                  <a:pt x="1790" y="88"/>
                  <a:pt x="1828" y="113"/>
                </a:cubicBezTo>
                <a:cubicBezTo>
                  <a:pt x="1836" y="125"/>
                  <a:pt x="1839" y="145"/>
                  <a:pt x="1853" y="150"/>
                </a:cubicBezTo>
                <a:cubicBezTo>
                  <a:pt x="1885" y="161"/>
                  <a:pt x="1996" y="63"/>
                  <a:pt x="2016" y="50"/>
                </a:cubicBezTo>
                <a:cubicBezTo>
                  <a:pt x="2045" y="31"/>
                  <a:pt x="2116" y="25"/>
                  <a:pt x="2116" y="25"/>
                </a:cubicBezTo>
                <a:cubicBezTo>
                  <a:pt x="2208" y="30"/>
                  <a:pt x="2310" y="6"/>
                  <a:pt x="2391" y="50"/>
                </a:cubicBezTo>
                <a:cubicBezTo>
                  <a:pt x="2418" y="65"/>
                  <a:pt x="2442" y="83"/>
                  <a:pt x="2467" y="100"/>
                </a:cubicBezTo>
                <a:cubicBezTo>
                  <a:pt x="2479" y="108"/>
                  <a:pt x="2504" y="125"/>
                  <a:pt x="2504" y="125"/>
                </a:cubicBezTo>
                <a:cubicBezTo>
                  <a:pt x="2576" y="234"/>
                  <a:pt x="2480" y="106"/>
                  <a:pt x="2567" y="175"/>
                </a:cubicBezTo>
                <a:cubicBezTo>
                  <a:pt x="2649" y="240"/>
                  <a:pt x="2535" y="195"/>
                  <a:pt x="2629" y="225"/>
                </a:cubicBezTo>
                <a:cubicBezTo>
                  <a:pt x="2710" y="212"/>
                  <a:pt x="2775" y="178"/>
                  <a:pt x="2855" y="163"/>
                </a:cubicBezTo>
                <a:cubicBezTo>
                  <a:pt x="2947" y="167"/>
                  <a:pt x="3039" y="165"/>
                  <a:pt x="3130" y="175"/>
                </a:cubicBezTo>
                <a:cubicBezTo>
                  <a:pt x="3156" y="178"/>
                  <a:pt x="3205" y="200"/>
                  <a:pt x="3205" y="200"/>
                </a:cubicBezTo>
                <a:cubicBezTo>
                  <a:pt x="3390" y="175"/>
                  <a:pt x="3320" y="179"/>
                  <a:pt x="3631" y="200"/>
                </a:cubicBezTo>
                <a:cubicBezTo>
                  <a:pt x="3674" y="203"/>
                  <a:pt x="3744" y="263"/>
                  <a:pt x="3744" y="263"/>
                </a:cubicBezTo>
                <a:cubicBezTo>
                  <a:pt x="3752" y="276"/>
                  <a:pt x="3759" y="289"/>
                  <a:pt x="3769" y="301"/>
                </a:cubicBezTo>
                <a:cubicBezTo>
                  <a:pt x="3780" y="314"/>
                  <a:pt x="3796" y="323"/>
                  <a:pt x="3806" y="338"/>
                </a:cubicBezTo>
                <a:cubicBezTo>
                  <a:pt x="3813" y="349"/>
                  <a:pt x="3812" y="364"/>
                  <a:pt x="3819" y="376"/>
                </a:cubicBezTo>
                <a:cubicBezTo>
                  <a:pt x="3834" y="402"/>
                  <a:pt x="3869" y="451"/>
                  <a:pt x="3869" y="451"/>
                </a:cubicBezTo>
                <a:cubicBezTo>
                  <a:pt x="3845" y="566"/>
                  <a:pt x="3820" y="579"/>
                  <a:pt x="3731" y="639"/>
                </a:cubicBezTo>
                <a:cubicBezTo>
                  <a:pt x="3615" y="717"/>
                  <a:pt x="3538" y="725"/>
                  <a:pt x="3393" y="739"/>
                </a:cubicBezTo>
                <a:cubicBezTo>
                  <a:pt x="3282" y="766"/>
                  <a:pt x="3168" y="761"/>
                  <a:pt x="3055" y="776"/>
                </a:cubicBezTo>
                <a:cubicBezTo>
                  <a:pt x="3030" y="785"/>
                  <a:pt x="3004" y="789"/>
                  <a:pt x="2980" y="801"/>
                </a:cubicBezTo>
                <a:cubicBezTo>
                  <a:pt x="2934" y="823"/>
                  <a:pt x="2930" y="848"/>
                  <a:pt x="2880" y="864"/>
                </a:cubicBezTo>
                <a:cubicBezTo>
                  <a:pt x="2842" y="889"/>
                  <a:pt x="2810" y="900"/>
                  <a:pt x="2767" y="914"/>
                </a:cubicBezTo>
                <a:cubicBezTo>
                  <a:pt x="2565" y="903"/>
                  <a:pt x="2531" y="899"/>
                  <a:pt x="2366" y="852"/>
                </a:cubicBezTo>
                <a:cubicBezTo>
                  <a:pt x="2349" y="847"/>
                  <a:pt x="2332" y="845"/>
                  <a:pt x="2316" y="839"/>
                </a:cubicBezTo>
                <a:cubicBezTo>
                  <a:pt x="2299" y="832"/>
                  <a:pt x="2284" y="820"/>
                  <a:pt x="2266" y="814"/>
                </a:cubicBezTo>
                <a:cubicBezTo>
                  <a:pt x="2233" y="803"/>
                  <a:pt x="2166" y="789"/>
                  <a:pt x="2166" y="789"/>
                </a:cubicBezTo>
                <a:cubicBezTo>
                  <a:pt x="2087" y="793"/>
                  <a:pt x="2007" y="791"/>
                  <a:pt x="1928" y="801"/>
                </a:cubicBezTo>
                <a:cubicBezTo>
                  <a:pt x="1910" y="803"/>
                  <a:pt x="1896" y="820"/>
                  <a:pt x="1878" y="826"/>
                </a:cubicBezTo>
                <a:cubicBezTo>
                  <a:pt x="1802" y="852"/>
                  <a:pt x="1729" y="875"/>
                  <a:pt x="1653" y="902"/>
                </a:cubicBezTo>
                <a:cubicBezTo>
                  <a:pt x="1611" y="898"/>
                  <a:pt x="1568" y="897"/>
                  <a:pt x="1527" y="889"/>
                </a:cubicBezTo>
                <a:cubicBezTo>
                  <a:pt x="1460" y="876"/>
                  <a:pt x="1424" y="840"/>
                  <a:pt x="1365" y="814"/>
                </a:cubicBezTo>
                <a:cubicBezTo>
                  <a:pt x="1308" y="789"/>
                  <a:pt x="1265" y="784"/>
                  <a:pt x="1214" y="751"/>
                </a:cubicBezTo>
                <a:cubicBezTo>
                  <a:pt x="1125" y="766"/>
                  <a:pt x="1059" y="806"/>
                  <a:pt x="989" y="864"/>
                </a:cubicBezTo>
                <a:cubicBezTo>
                  <a:pt x="975" y="875"/>
                  <a:pt x="968" y="896"/>
                  <a:pt x="951" y="902"/>
                </a:cubicBezTo>
                <a:cubicBezTo>
                  <a:pt x="919" y="913"/>
                  <a:pt x="884" y="910"/>
                  <a:pt x="851" y="914"/>
                </a:cubicBezTo>
                <a:cubicBezTo>
                  <a:pt x="790" y="902"/>
                  <a:pt x="734" y="884"/>
                  <a:pt x="676" y="864"/>
                </a:cubicBezTo>
                <a:cubicBezTo>
                  <a:pt x="649" y="855"/>
                  <a:pt x="627" y="835"/>
                  <a:pt x="601" y="826"/>
                </a:cubicBezTo>
                <a:cubicBezTo>
                  <a:pt x="559" y="765"/>
                  <a:pt x="516" y="768"/>
                  <a:pt x="451" y="751"/>
                </a:cubicBezTo>
                <a:cubicBezTo>
                  <a:pt x="346" y="787"/>
                  <a:pt x="230" y="772"/>
                  <a:pt x="125" y="739"/>
                </a:cubicBezTo>
                <a:cubicBezTo>
                  <a:pt x="35" y="679"/>
                  <a:pt x="32" y="678"/>
                  <a:pt x="0" y="576"/>
                </a:cubicBezTo>
                <a:cubicBezTo>
                  <a:pt x="13" y="480"/>
                  <a:pt x="12" y="518"/>
                  <a:pt x="12" y="46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>
            <a:hlinkClick r:id="rId2" action="ppaction://hlinksldjump"/>
          </p:cNvPr>
          <p:cNvSpPr/>
          <p:nvPr/>
        </p:nvSpPr>
        <p:spPr>
          <a:xfrm>
            <a:off x="1116000" y="488880"/>
            <a:ext cx="635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我的朋友在那里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>
            <a:hlinkClick r:id="rId3" action="ppaction://hlinksldjump"/>
          </p:cNvPr>
          <p:cNvSpPr/>
          <p:nvPr/>
        </p:nvSpPr>
        <p:spPr>
          <a:xfrm>
            <a:off x="5486400" y="6095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Arial"/>
              </a:rPr>
              <a:t>童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>
            <a:hlinkClick r:id="rId4" action="ppaction://hlinksldjump"/>
          </p:cNvPr>
          <p:cNvSpPr/>
          <p:nvPr/>
        </p:nvSpPr>
        <p:spPr>
          <a:xfrm>
            <a:off x="45720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>
            <a:hlinkClick r:id="rId5" action="ppaction://hlinksldjump"/>
          </p:cNvPr>
          <p:cNvSpPr/>
          <p:nvPr/>
        </p:nvSpPr>
        <p:spPr>
          <a:xfrm>
            <a:off x="137160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>
            <a:hlinkClick r:id="rId6" action="ppaction://hlinksldjump"/>
          </p:cNvPr>
          <p:cNvSpPr/>
          <p:nvPr/>
        </p:nvSpPr>
        <p:spPr>
          <a:xfrm>
            <a:off x="22096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>
            <a:hlinkClick r:id="rId7" action="ppaction://hlinksldjump"/>
          </p:cNvPr>
          <p:cNvSpPr/>
          <p:nvPr/>
        </p:nvSpPr>
        <p:spPr>
          <a:xfrm>
            <a:off x="312408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>
            <a:hlinkClick r:id="rId8" action="ppaction://hlinksldjump"/>
          </p:cNvPr>
          <p:cNvSpPr/>
          <p:nvPr/>
        </p:nvSpPr>
        <p:spPr>
          <a:xfrm>
            <a:off x="39625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>
            <a:hlinkClick r:id="rId9" action="ppaction://hlinksldjump"/>
          </p:cNvPr>
          <p:cNvSpPr/>
          <p:nvPr/>
        </p:nvSpPr>
        <p:spPr>
          <a:xfrm>
            <a:off x="4724280" y="28954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>
            <a:hlinkClick r:id="rId10" action="ppaction://hlinksldjump"/>
          </p:cNvPr>
          <p:cNvSpPr/>
          <p:nvPr/>
        </p:nvSpPr>
        <p:spPr>
          <a:xfrm>
            <a:off x="57913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>
            <a:hlinkClick r:id="rId11" action="ppaction://hlinksldjump"/>
          </p:cNvPr>
          <p:cNvSpPr/>
          <p:nvPr/>
        </p:nvSpPr>
        <p:spPr>
          <a:xfrm>
            <a:off x="655308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>
            <a:hlinkClick r:id="rId12" action="ppaction://hlinksldjump"/>
          </p:cNvPr>
          <p:cNvSpPr/>
          <p:nvPr/>
        </p:nvSpPr>
        <p:spPr>
          <a:xfrm>
            <a:off x="746748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>
            <a:hlinkClick r:id="rId13" action="ppaction://hlinksldjump"/>
          </p:cNvPr>
          <p:cNvSpPr/>
          <p:nvPr/>
        </p:nvSpPr>
        <p:spPr>
          <a:xfrm>
            <a:off x="83059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74520" y="3925800"/>
            <a:ext cx="762120" cy="7984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74520" y="3886200"/>
            <a:ext cx="71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8"/>
          <p:cNvSpPr/>
          <p:nvPr/>
        </p:nvSpPr>
        <p:spPr>
          <a:xfrm>
            <a:off x="1676520" y="3809880"/>
            <a:ext cx="76176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83664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2895480" y="2209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1"/>
          <p:cNvSpPr/>
          <p:nvPr/>
        </p:nvSpPr>
        <p:spPr>
          <a:xfrm>
            <a:off x="3884760" y="4343400"/>
            <a:ext cx="7617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2"/>
          <p:cNvSpPr/>
          <p:nvPr/>
        </p:nvSpPr>
        <p:spPr>
          <a:xfrm>
            <a:off x="5105520" y="3048120"/>
            <a:ext cx="83664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5408640" y="4038480"/>
            <a:ext cx="76212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4"/>
          <p:cNvSpPr/>
          <p:nvPr/>
        </p:nvSpPr>
        <p:spPr>
          <a:xfrm>
            <a:off x="6781680" y="4191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5"/>
          <p:cNvSpPr/>
          <p:nvPr/>
        </p:nvSpPr>
        <p:spPr>
          <a:xfrm>
            <a:off x="8153280" y="4343400"/>
            <a:ext cx="7635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6"/>
          <p:cNvSpPr/>
          <p:nvPr/>
        </p:nvSpPr>
        <p:spPr>
          <a:xfrm>
            <a:off x="640080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数字"/>
          <p:cNvPicPr/>
          <p:nvPr/>
        </p:nvPicPr>
        <p:blipFill>
          <a:blip r:embed="rId1">
            <a:lum contrast="42000"/>
          </a:blip>
          <a:srcRect l="4970" t="4208" r="5590" b="68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Oval 3"/>
          <p:cNvSpPr/>
          <p:nvPr/>
        </p:nvSpPr>
        <p:spPr>
          <a:xfrm>
            <a:off x="846000" y="5257800"/>
            <a:ext cx="83520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>
            <a:hlinkClick r:id="rId2" action="ppaction://hlinksldjump"/>
          </p:cNvPr>
          <p:cNvSpPr/>
          <p:nvPr/>
        </p:nvSpPr>
        <p:spPr>
          <a:xfrm>
            <a:off x="5562720" y="6095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Arial"/>
              </a:rPr>
              <a:t>童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>
            <a:hlinkClick r:id="rId3" action="ppaction://hlinksldjump"/>
          </p:cNvPr>
          <p:cNvSpPr/>
          <p:nvPr/>
        </p:nvSpPr>
        <p:spPr>
          <a:xfrm>
            <a:off x="5335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>
            <a:hlinkClick r:id="rId4" action="ppaction://hlinksldjump"/>
          </p:cNvPr>
          <p:cNvSpPr/>
          <p:nvPr/>
        </p:nvSpPr>
        <p:spPr>
          <a:xfrm>
            <a:off x="1447920" y="304812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>
            <a:hlinkClick r:id="rId5" action="ppaction://hlinksldjump"/>
          </p:cNvPr>
          <p:cNvSpPr/>
          <p:nvPr/>
        </p:nvSpPr>
        <p:spPr>
          <a:xfrm>
            <a:off x="228600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>
            <a:hlinkClick r:id="rId6" action="ppaction://hlinksldjump"/>
          </p:cNvPr>
          <p:cNvSpPr/>
          <p:nvPr/>
        </p:nvSpPr>
        <p:spPr>
          <a:xfrm>
            <a:off x="320040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>
            <a:hlinkClick r:id="rId7" action="ppaction://hlinksldjump"/>
          </p:cNvPr>
          <p:cNvSpPr/>
          <p:nvPr/>
        </p:nvSpPr>
        <p:spPr>
          <a:xfrm>
            <a:off x="40384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>
            <a:hlinkClick r:id="rId8" action="ppaction://hlinksldjump"/>
          </p:cNvPr>
          <p:cNvSpPr/>
          <p:nvPr/>
        </p:nvSpPr>
        <p:spPr>
          <a:xfrm>
            <a:off x="4800600" y="28954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>
            <a:hlinkClick r:id="rId9" action="ppaction://hlinksldjump"/>
          </p:cNvPr>
          <p:cNvSpPr/>
          <p:nvPr/>
        </p:nvSpPr>
        <p:spPr>
          <a:xfrm>
            <a:off x="58672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>
            <a:hlinkClick r:id="rId10" action="ppaction://hlinksldjump"/>
          </p:cNvPr>
          <p:cNvSpPr/>
          <p:nvPr/>
        </p:nvSpPr>
        <p:spPr>
          <a:xfrm>
            <a:off x="662940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>
            <a:hlinkClick r:id="rId11" action="ppaction://hlinksldjump"/>
          </p:cNvPr>
          <p:cNvSpPr/>
          <p:nvPr/>
        </p:nvSpPr>
        <p:spPr>
          <a:xfrm>
            <a:off x="754380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>
            <a:hlinkClick r:id="rId12" action="ppaction://hlinksldjump"/>
          </p:cNvPr>
          <p:cNvSpPr/>
          <p:nvPr/>
        </p:nvSpPr>
        <p:spPr>
          <a:xfrm>
            <a:off x="83818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1676520" y="3809880"/>
            <a:ext cx="76176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6"/>
          <p:cNvSpPr/>
          <p:nvPr/>
        </p:nvSpPr>
        <p:spPr>
          <a:xfrm>
            <a:off x="83808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7"/>
          <p:cNvSpPr/>
          <p:nvPr/>
        </p:nvSpPr>
        <p:spPr>
          <a:xfrm>
            <a:off x="2971800" y="21337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3886200" y="434340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5105520" y="3048120"/>
            <a:ext cx="7617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5410080" y="4038480"/>
            <a:ext cx="76212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1"/>
          <p:cNvSpPr/>
          <p:nvPr/>
        </p:nvSpPr>
        <p:spPr>
          <a:xfrm>
            <a:off x="6781680" y="4191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2"/>
          <p:cNvSpPr/>
          <p:nvPr/>
        </p:nvSpPr>
        <p:spPr>
          <a:xfrm>
            <a:off x="8153280" y="4343400"/>
            <a:ext cx="7635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3"/>
          <p:cNvSpPr/>
          <p:nvPr/>
        </p:nvSpPr>
        <p:spPr>
          <a:xfrm>
            <a:off x="640080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4"/>
          <p:cNvSpPr/>
          <p:nvPr/>
        </p:nvSpPr>
        <p:spPr>
          <a:xfrm>
            <a:off x="0" y="388620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63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304920" y="533520"/>
            <a:ext cx="3743280" cy="3120840"/>
          </a:xfrm>
          <a:custGeom>
            <a:avLst/>
            <a:gdLst/>
            <a:ahLst/>
            <a:rect l="l" t="t" r="r" b="b"/>
            <a:pathLst>
              <a:path w="2358" h="1966">
                <a:moveTo>
                  <a:pt x="368" y="341"/>
                </a:moveTo>
                <a:cubicBezTo>
                  <a:pt x="310" y="355"/>
                  <a:pt x="316" y="370"/>
                  <a:pt x="278" y="411"/>
                </a:cubicBezTo>
                <a:cubicBezTo>
                  <a:pt x="254" y="436"/>
                  <a:pt x="206" y="484"/>
                  <a:pt x="206" y="484"/>
                </a:cubicBezTo>
                <a:cubicBezTo>
                  <a:pt x="183" y="534"/>
                  <a:pt x="183" y="577"/>
                  <a:pt x="162" y="629"/>
                </a:cubicBezTo>
                <a:cubicBezTo>
                  <a:pt x="166" y="678"/>
                  <a:pt x="176" y="685"/>
                  <a:pt x="148" y="725"/>
                </a:cubicBezTo>
                <a:cubicBezTo>
                  <a:pt x="133" y="747"/>
                  <a:pt x="97" y="786"/>
                  <a:pt x="97" y="786"/>
                </a:cubicBezTo>
                <a:cubicBezTo>
                  <a:pt x="70" y="798"/>
                  <a:pt x="38" y="801"/>
                  <a:pt x="16" y="822"/>
                </a:cubicBezTo>
                <a:cubicBezTo>
                  <a:pt x="3" y="833"/>
                  <a:pt x="5" y="855"/>
                  <a:pt x="3" y="873"/>
                </a:cubicBezTo>
                <a:cubicBezTo>
                  <a:pt x="0" y="904"/>
                  <a:pt x="0" y="964"/>
                  <a:pt x="0" y="964"/>
                </a:cubicBezTo>
                <a:cubicBezTo>
                  <a:pt x="39" y="1065"/>
                  <a:pt x="48" y="1130"/>
                  <a:pt x="164" y="1157"/>
                </a:cubicBezTo>
                <a:cubicBezTo>
                  <a:pt x="174" y="1166"/>
                  <a:pt x="182" y="1179"/>
                  <a:pt x="194" y="1183"/>
                </a:cubicBezTo>
                <a:cubicBezTo>
                  <a:pt x="208" y="1189"/>
                  <a:pt x="226" y="1178"/>
                  <a:pt x="239" y="1185"/>
                </a:cubicBezTo>
                <a:cubicBezTo>
                  <a:pt x="263" y="1196"/>
                  <a:pt x="300" y="1235"/>
                  <a:pt x="300" y="1235"/>
                </a:cubicBezTo>
                <a:cubicBezTo>
                  <a:pt x="321" y="1261"/>
                  <a:pt x="333" y="1298"/>
                  <a:pt x="362" y="1314"/>
                </a:cubicBezTo>
                <a:cubicBezTo>
                  <a:pt x="389" y="1329"/>
                  <a:pt x="421" y="1966"/>
                  <a:pt x="451" y="1959"/>
                </a:cubicBezTo>
                <a:cubicBezTo>
                  <a:pt x="476" y="1952"/>
                  <a:pt x="551" y="1471"/>
                  <a:pt x="551" y="1471"/>
                </a:cubicBezTo>
                <a:cubicBezTo>
                  <a:pt x="610" y="1474"/>
                  <a:pt x="639" y="1287"/>
                  <a:pt x="697" y="1284"/>
                </a:cubicBezTo>
                <a:cubicBezTo>
                  <a:pt x="783" y="1280"/>
                  <a:pt x="871" y="1293"/>
                  <a:pt x="955" y="1273"/>
                </a:cubicBezTo>
                <a:cubicBezTo>
                  <a:pt x="972" y="1277"/>
                  <a:pt x="990" y="1292"/>
                  <a:pt x="1007" y="1285"/>
                </a:cubicBezTo>
                <a:cubicBezTo>
                  <a:pt x="1070" y="1261"/>
                  <a:pt x="1138" y="1176"/>
                  <a:pt x="1166" y="1114"/>
                </a:cubicBezTo>
                <a:cubicBezTo>
                  <a:pt x="1214" y="1089"/>
                  <a:pt x="1262" y="1062"/>
                  <a:pt x="1311" y="1040"/>
                </a:cubicBezTo>
                <a:cubicBezTo>
                  <a:pt x="1350" y="1021"/>
                  <a:pt x="1463" y="1046"/>
                  <a:pt x="1509" y="1050"/>
                </a:cubicBezTo>
                <a:cubicBezTo>
                  <a:pt x="1582" y="1001"/>
                  <a:pt x="1657" y="955"/>
                  <a:pt x="1726" y="902"/>
                </a:cubicBezTo>
                <a:cubicBezTo>
                  <a:pt x="1760" y="876"/>
                  <a:pt x="1820" y="815"/>
                  <a:pt x="1820" y="815"/>
                </a:cubicBezTo>
                <a:cubicBezTo>
                  <a:pt x="2186" y="608"/>
                  <a:pt x="2002" y="653"/>
                  <a:pt x="2211" y="662"/>
                </a:cubicBezTo>
                <a:cubicBezTo>
                  <a:pt x="2234" y="624"/>
                  <a:pt x="2268" y="576"/>
                  <a:pt x="2278" y="533"/>
                </a:cubicBezTo>
                <a:cubicBezTo>
                  <a:pt x="2308" y="411"/>
                  <a:pt x="2285" y="460"/>
                  <a:pt x="2333" y="382"/>
                </a:cubicBezTo>
                <a:cubicBezTo>
                  <a:pt x="2358" y="271"/>
                  <a:pt x="2347" y="286"/>
                  <a:pt x="2264" y="174"/>
                </a:cubicBezTo>
                <a:cubicBezTo>
                  <a:pt x="2241" y="193"/>
                  <a:pt x="2218" y="212"/>
                  <a:pt x="2196" y="231"/>
                </a:cubicBezTo>
                <a:cubicBezTo>
                  <a:pt x="2183" y="243"/>
                  <a:pt x="2176" y="261"/>
                  <a:pt x="2160" y="268"/>
                </a:cubicBezTo>
                <a:cubicBezTo>
                  <a:pt x="2146" y="274"/>
                  <a:pt x="2129" y="266"/>
                  <a:pt x="2114" y="266"/>
                </a:cubicBezTo>
                <a:cubicBezTo>
                  <a:pt x="2074" y="232"/>
                  <a:pt x="2032" y="201"/>
                  <a:pt x="1993" y="165"/>
                </a:cubicBezTo>
                <a:cubicBezTo>
                  <a:pt x="1907" y="85"/>
                  <a:pt x="1864" y="0"/>
                  <a:pt x="1734" y="30"/>
                </a:cubicBezTo>
                <a:cubicBezTo>
                  <a:pt x="1661" y="91"/>
                  <a:pt x="1555" y="161"/>
                  <a:pt x="1452" y="144"/>
                </a:cubicBezTo>
                <a:cubicBezTo>
                  <a:pt x="1375" y="132"/>
                  <a:pt x="1314" y="87"/>
                  <a:pt x="1238" y="84"/>
                </a:cubicBezTo>
                <a:cubicBezTo>
                  <a:pt x="1212" y="112"/>
                  <a:pt x="1182" y="136"/>
                  <a:pt x="1156" y="164"/>
                </a:cubicBezTo>
                <a:cubicBezTo>
                  <a:pt x="1137" y="184"/>
                  <a:pt x="1105" y="226"/>
                  <a:pt x="1105" y="226"/>
                </a:cubicBezTo>
                <a:cubicBezTo>
                  <a:pt x="1074" y="240"/>
                  <a:pt x="1046" y="263"/>
                  <a:pt x="1013" y="268"/>
                </a:cubicBezTo>
                <a:cubicBezTo>
                  <a:pt x="992" y="270"/>
                  <a:pt x="975" y="250"/>
                  <a:pt x="955" y="244"/>
                </a:cubicBezTo>
                <a:cubicBezTo>
                  <a:pt x="921" y="235"/>
                  <a:pt x="886" y="228"/>
                  <a:pt x="852" y="220"/>
                </a:cubicBezTo>
                <a:cubicBezTo>
                  <a:pt x="776" y="202"/>
                  <a:pt x="690" y="199"/>
                  <a:pt x="615" y="219"/>
                </a:cubicBezTo>
                <a:cubicBezTo>
                  <a:pt x="592" y="269"/>
                  <a:pt x="556" y="308"/>
                  <a:pt x="520" y="350"/>
                </a:cubicBezTo>
                <a:cubicBezTo>
                  <a:pt x="462" y="365"/>
                  <a:pt x="427" y="356"/>
                  <a:pt x="368" y="34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 rot="20384400">
            <a:off x="567720" y="874440"/>
            <a:ext cx="27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你的朋友在这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0" y="38098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ic_22776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22560" y="274680"/>
            <a:ext cx="129708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99"/>
                </a:solidFill>
                <a:latin typeface="Times New Roman"/>
                <a:ea typeface="宋体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607840" y="10526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宋体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86040" y="1484280"/>
            <a:ext cx="5087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yí    qù         èr       sān     l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293920" y="1989000"/>
            <a:ext cx="486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一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去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二      三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81332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yān cūn        sì       wǔ      ji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2575800" y="306864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烟   村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íng tái          liù     qī     z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2395080" y="4221000"/>
            <a:ext cx="46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亭  台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1950120" y="486900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ā  jiǔ           shí    zhī   hu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2346480" y="5516640"/>
            <a:ext cx="48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八   九      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枝    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已录下的530.WAV" descr=""/>
          <p:cNvPicPr/>
          <p:nvPr/>
        </p:nvPicPr>
        <p:blipFill>
          <a:blip r:embed="rId2"/>
          <a:stretch/>
        </p:blipFill>
        <p:spPr>
          <a:xfrm>
            <a:off x="8028000" y="609300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5465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国画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v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4716360" y="1773360"/>
            <a:ext cx="54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í   qù   èr  sān  l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一   去   二   三   里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ā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  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w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j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烟   村   四   五   家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。    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íng tái  liù   q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uò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亭   台   六   七   座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，            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i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huā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八   九   十   枝   花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427640" y="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yí  qù  èr sān lǐ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　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  去  二  三  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图片1"/>
          <p:cNvPicPr/>
          <p:nvPr/>
        </p:nvPicPr>
        <p:blipFill>
          <a:blip r:embed="rId2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古筝独奏 高山流水.mp3" descr="古筝独奏 高山流水"/>
          <p:cNvPicPr/>
          <p:nvPr/>
        </p:nvPicPr>
        <p:blipFill>
          <a:blip r:embed="rId3"/>
          <a:stretch/>
        </p:blipFill>
        <p:spPr>
          <a:xfrm>
            <a:off x="108000" y="6021360"/>
            <a:ext cx="66024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3100"/>
                            </p:stCondLst>
                            <p:childTnLst>
                              <p:par>
                                <p:cTn id="7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3100"/>
                            </p:stCondLst>
                            <p:childTnLst>
                              <p:par>
                                <p:cTn id="9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916360" y="1484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我到外面游玩，不知不觉离家已有两、三里地，看到不远处的小村庄里，有四、五户人家已经冒起了炊烟。我信步走来，又看到路边有六、七处精美的亭阁楼台，独自静静观赏，才发现身边的树枝上挂着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八朵、九朵，哦，不，十朵花，真是赏心悦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050920" y="333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诗的大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8:56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25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