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13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32.jpeg" ContentType="image/jpeg"/>
  <Override PartName="/ppt/media/image38.jpeg" ContentType="image/jpeg"/>
  <Override PartName="/ppt/media/image40.png" ContentType="image/png"/>
  <Override PartName="/ppt/media/image41.jpeg" ContentType="image/jpeg"/>
  <Override PartName="/ppt/media/image44.png" ContentType="image/png"/>
  <Override PartName="/ppt/media/image45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46.gif" ContentType="image/gif"/>
  <Override PartName="/ppt/media/image11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9.jpeg" ContentType="image/jpeg"/>
  <Override PartName="/ppt/media/image8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D714-737E-42EF-AE30-E8ED63CFED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641F-D261-4D99-82C9-0488FBFD2A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BAF-3796-4AA1-8C6C-26C65C67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24B-7DAE-4E06-9626-8393BC8E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C1B-293D-44A5-965F-0661FEB5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22B-0B7C-4DCF-9991-6E12DEEF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B582-871D-4A76-82A1-9C063013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1E08-61EA-4F0D-B6EB-38BA8C7F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DD76-FD6D-4300-9DF3-AC3AC293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A2EF-4C13-4907-B807-C8AD93EA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6491-B746-48FA-81C1-8A5B8B1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7BBF-FEDE-4C29-8D7A-8FD173C1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1451-8A2D-45E3-BF65-E0F6F79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ECF-5B18-4B23-AB54-3E62FC3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6682-19DA-40E8-BFCD-A7C2BD88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56C1-B094-4DBC-B9C0-860DB841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B676-8D95-4DE8-9563-059673AB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EBDA-EB4A-4E93-88D3-3B54BF9C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3353-C1DC-4671-A23D-EE78FD1D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E2E-0B22-436A-B8B6-F8956A43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A12-6445-4205-B334-0140FDCC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06D-F2A7-4EFC-B221-5BE61950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8F8-5EA8-495A-9ADA-9547A935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904-76B0-48FE-8015-62E8271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B4A-2F54-48EE-B0A1-658A0CC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058-6358-46C5-A6A9-F8694EC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DF98-E187-44C1-9C1B-338CD092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7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CBC-4FB4-4E11-9869-0BEFDB2FE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slide" Target="slide13.xml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" Target="slide4.xm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1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SGP58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5291280" y="620640"/>
            <a:ext cx="3251160" cy="433872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1819440" y="5877000"/>
            <a:ext cx="5768640" cy="4982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64000" y="907560"/>
            <a:ext cx="5184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旗杆、栏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19280" y="2781000"/>
            <a:ext cx="432108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枪杆、一杆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547640" y="2852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g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547640" y="1197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g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0"/>
          <p:cNvSpPr/>
          <p:nvPr/>
        </p:nvSpPr>
        <p:spPr>
          <a:xfrm>
            <a:off x="1386000" y="346068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俊俏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   聚拢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机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   掠过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192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6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俏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438280" y="2438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生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553080" y="1706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聚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553080" y="2468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拂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609480" y="3429000"/>
            <a:ext cx="3124440" cy="1066680"/>
            <a:chOff x="609480" y="3429000"/>
            <a:chExt cx="3124440" cy="1066680"/>
          </a:xfrm>
        </p:grpSpPr>
        <p:sp>
          <p:nvSpPr>
            <p:cNvPr id="199" name="Oval 11"/>
            <p:cNvSpPr/>
            <p:nvPr/>
          </p:nvSpPr>
          <p:spPr>
            <a:xfrm>
              <a:off x="609480" y="3429000"/>
              <a:ext cx="25909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914400" y="3581280"/>
              <a:ext cx="281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3"/>
          <p:cNvSpPr/>
          <p:nvPr/>
        </p:nvSpPr>
        <p:spPr>
          <a:xfrm>
            <a:off x="609480" y="518148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偶尔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   增添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俊俏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   机灵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438280" y="5181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经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362320" y="5867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丑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553080" y="5135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6553080" y="5897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死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200974022826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边听课文朗读边思考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写了些什么？每个自然段的大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第一段：写燕子的外形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第二段：描写春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第三段：描写燕子的飞行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第四段：描写燕子的歇息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《燕子》课文朗读.wav" descr=""/>
          <p:cNvPicPr/>
          <p:nvPr/>
        </p:nvPicPr>
        <p:blipFill>
          <a:blip r:embed="rId2"/>
          <a:stretch/>
        </p:blipFill>
        <p:spPr>
          <a:xfrm>
            <a:off x="7885080" y="530064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0791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4753080"/>
            <a:ext cx="9121680" cy="18446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569880" y="4878360"/>
            <a:ext cx="8178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        的羽毛，一对        的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上        尾巴，凑成了活泼机灵的小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979640" y="50562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乌黑光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580000" y="50562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俊俏轻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287360" y="5776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剪刀似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3995640" y="5575320"/>
            <a:ext cx="505080" cy="71280"/>
            <a:chOff x="3995640" y="5575320"/>
            <a:chExt cx="505080" cy="71280"/>
          </a:xfrm>
        </p:grpSpPr>
        <p:sp>
          <p:nvSpPr>
            <p:cNvPr id="216" name="Oval 8"/>
            <p:cNvSpPr/>
            <p:nvPr/>
          </p:nvSpPr>
          <p:spPr>
            <a:xfrm>
              <a:off x="3995640" y="5575320"/>
              <a:ext cx="7164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9"/>
            <p:cNvSpPr/>
            <p:nvPr/>
          </p:nvSpPr>
          <p:spPr>
            <a:xfrm>
              <a:off x="4429080" y="5575320"/>
              <a:ext cx="7164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6"/>
          <p:cNvGrpSpPr/>
          <p:nvPr/>
        </p:nvGrpSpPr>
        <p:grpSpPr>
          <a:xfrm>
            <a:off x="7610400" y="5575320"/>
            <a:ext cx="461880" cy="71280"/>
            <a:chOff x="7610400" y="5575320"/>
            <a:chExt cx="461880" cy="71280"/>
          </a:xfrm>
        </p:grpSpPr>
        <p:sp>
          <p:nvSpPr>
            <p:cNvPr id="219" name="Oval 11"/>
            <p:cNvSpPr/>
            <p:nvPr/>
          </p:nvSpPr>
          <p:spPr>
            <a:xfrm>
              <a:off x="7610400" y="5575320"/>
              <a:ext cx="7164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2"/>
            <p:cNvSpPr/>
            <p:nvPr/>
          </p:nvSpPr>
          <p:spPr>
            <a:xfrm>
              <a:off x="8001000" y="5575320"/>
              <a:ext cx="7128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"/>
          <p:cNvGrpSpPr/>
          <p:nvPr/>
        </p:nvGrpSpPr>
        <p:grpSpPr>
          <a:xfrm>
            <a:off x="2959200" y="6265800"/>
            <a:ext cx="504360" cy="71280"/>
            <a:chOff x="2959200" y="6265800"/>
            <a:chExt cx="504360" cy="71280"/>
          </a:xfrm>
        </p:grpSpPr>
        <p:sp>
          <p:nvSpPr>
            <p:cNvPr id="222" name="Oval 14"/>
            <p:cNvSpPr/>
            <p:nvPr/>
          </p:nvSpPr>
          <p:spPr>
            <a:xfrm>
              <a:off x="2959200" y="6265800"/>
              <a:ext cx="7128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"/>
            <p:cNvSpPr/>
            <p:nvPr/>
          </p:nvSpPr>
          <p:spPr>
            <a:xfrm>
              <a:off x="3392280" y="6265800"/>
              <a:ext cx="71280" cy="71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35befd59c95bf3d78d54304e"/>
          <p:cNvPicPr/>
          <p:nvPr/>
        </p:nvPicPr>
        <p:blipFill>
          <a:blip r:embed="rId1"/>
          <a:stretch/>
        </p:blipFill>
        <p:spPr>
          <a:xfrm>
            <a:off x="4356000" y="0"/>
            <a:ext cx="3384720" cy="3573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燕子"/>
          <p:cNvPicPr/>
          <p:nvPr/>
        </p:nvPicPr>
        <p:blipFill>
          <a:blip r:embed="rId2"/>
          <a:stretch/>
        </p:blipFill>
        <p:spPr>
          <a:xfrm>
            <a:off x="1116000" y="0"/>
            <a:ext cx="3286080" cy="3573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59280" y="0"/>
            <a:ext cx="2520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外形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身（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乌黑光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）的羽毛，一对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俊俏轻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翅膀，加上（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剪刀似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）的尾巴，凑成了（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活泼机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小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9112716333238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971640" y="8366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比较一下，说说哪句写得好，好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116000" y="1752480"/>
            <a:ext cx="71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羽毛，一对翅膀，加上尾巴，凑成了小燕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187280" y="3457440"/>
            <a:ext cx="71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乌黑光亮的羽毛，一对俊俏轻快的翅膀，加上剪刀似的尾巴，凑成了活泼可爱的小燕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187280" y="3441600"/>
            <a:ext cx="71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身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黑光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羽毛，一对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俊俏轻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翅膀，加上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剪刀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尾巴，凑成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活泼可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燕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春之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9" descr="bamboo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bamboo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2" descr="《燕子》插图.jpg2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7973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" descr="《燕子》插图.jpg"/>
          <p:cNvPicPr/>
          <p:nvPr/>
        </p:nvPicPr>
        <p:blipFill>
          <a:blip r:embed="rId2"/>
          <a:stretch/>
        </p:blipFill>
        <p:spPr>
          <a:xfrm>
            <a:off x="0" y="0"/>
            <a:ext cx="4573440" cy="4797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94172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是通过哪些景物来展示春之美的？这些景物各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2" descr="《燕子》插图.jpg2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4797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" descr="《燕子》插图.jpg"/>
          <p:cNvPicPr/>
          <p:nvPr/>
        </p:nvPicPr>
        <p:blipFill>
          <a:blip r:embed="rId4"/>
          <a:stretch/>
        </p:blipFill>
        <p:spPr>
          <a:xfrm>
            <a:off x="0" y="0"/>
            <a:ext cx="4573440" cy="4797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57200" y="494172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是通过哪些景物来展示春之美的？这些景物各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" descr="《燕子》插图.jpg2.jpg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479736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" descr="《燕子》插图.jpg"/>
          <p:cNvPicPr/>
          <p:nvPr/>
        </p:nvPicPr>
        <p:blipFill>
          <a:blip r:embed="rId6"/>
          <a:stretch/>
        </p:blipFill>
        <p:spPr>
          <a:xfrm>
            <a:off x="0" y="0"/>
            <a:ext cx="4573440" cy="4797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457200" y="494172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是通过哪些景物来展示春之美的？这些景物各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2" descr="《燕子》插图.jpg2.jpg"/>
          <p:cNvPicPr/>
          <p:nvPr/>
        </p:nvPicPr>
        <p:blipFill>
          <a:blip r:embed="rId7"/>
          <a:stretch/>
        </p:blipFill>
        <p:spPr>
          <a:xfrm>
            <a:off x="4572000" y="0"/>
            <a:ext cx="4572000" cy="47973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" descr="《燕子》插图.jpg"/>
          <p:cNvPicPr/>
          <p:nvPr/>
        </p:nvPicPr>
        <p:blipFill>
          <a:blip r:embed="rId8"/>
          <a:stretch/>
        </p:blipFill>
        <p:spPr>
          <a:xfrm>
            <a:off x="0" y="0"/>
            <a:ext cx="4573440" cy="47973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3"/>
          <p:cNvSpPr/>
          <p:nvPr/>
        </p:nvSpPr>
        <p:spPr>
          <a:xfrm>
            <a:off x="457200" y="494172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是通过哪些景物来展示春之美的？这些景物各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142920"/>
            <a:ext cx="9121680" cy="1557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596880" y="476280"/>
            <a:ext cx="555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下过几阵蒙蒙的细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142920"/>
            <a:ext cx="9121680" cy="24908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755640" y="333360"/>
            <a:ext cx="8280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微风吹拂着千万条才展开带黄色的嫩叶的柳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微风吹拂着展开嫩叶的柳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一比，哪句更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拓展延伸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4282920"/>
            <a:ext cx="2249280" cy="65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作者介绍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1280" y="1413000"/>
            <a:ext cx="2249280" cy="658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课文理解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1280" y="3365640"/>
            <a:ext cx="2249280" cy="658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燕子9"/>
          <p:cNvPicPr/>
          <p:nvPr/>
        </p:nvPicPr>
        <p:blipFill>
          <a:blip r:embed="rId7"/>
          <a:stretch/>
        </p:blipFill>
        <p:spPr>
          <a:xfrm>
            <a:off x="3348000" y="1484280"/>
            <a:ext cx="4824360" cy="342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生字学习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1280" y="2276640"/>
            <a:ext cx="2244600" cy="77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-12600" y="142920"/>
            <a:ext cx="9121680" cy="1917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525600" y="33336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的草，绿的叶，各色鲜艳的花，都像赶集似的聚拢来，形成了光彩夺目的春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525600" y="62064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燕子从南方赶来，为春光增添了许多生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2008121304010877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天的景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1187280" y="1484280"/>
            <a:ext cx="7561440" cy="3600360"/>
          </a:xfrm>
          <a:prstGeom prst="downArrowCallout">
            <a:avLst>
              <a:gd name="adj1" fmla="val 44011"/>
              <a:gd name="adj2" fmla="val 44007"/>
              <a:gd name="adj3" fmla="val 1665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蒙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细雨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千万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才展开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黄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嫩叶的柳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色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鲜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花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赶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似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燕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春天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增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3456000" y="5114880"/>
            <a:ext cx="302400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光彩夺目的春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-1440" y="51786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仔细观察图片，再结合课文第三自然段，看看课文是怎么描写燕子飞行的？用一个字来概括燕子飞行的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p20099281972767407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燕子的飞行美（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动态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微风中，在阳光中，燕子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斜着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身子在天空中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掠过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唧唧地叫着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有的由这边的稻田上，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转眼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飞到了那边的柳树下边；有的横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湖面，尾尖偶尔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沾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了一下水面，就看到波纹一圈一圈地荡漾开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写出了燕子飞行快、灵活的特点，也      写出了燕子自由自在的愉快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611280" y="4797360"/>
            <a:ext cx="9363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xiang"/>
          <p:cNvPicPr/>
          <p:nvPr/>
        </p:nvPicPr>
        <p:blipFill>
          <a:blip r:embed="rId1"/>
          <a:stretch/>
        </p:blipFill>
        <p:spPr>
          <a:xfrm>
            <a:off x="7020000" y="494172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8" descr="xx"/>
          <p:cNvPicPr/>
          <p:nvPr/>
        </p:nvPicPr>
        <p:blipFill>
          <a:blip r:embed="rId2"/>
          <a:stretch/>
        </p:blipFill>
        <p:spPr>
          <a:xfrm>
            <a:off x="971640" y="4076640"/>
            <a:ext cx="5113080" cy="14400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9"/>
          <p:cNvSpPr/>
          <p:nvPr/>
        </p:nvSpPr>
        <p:spPr>
          <a:xfrm>
            <a:off x="7272360" y="1773360"/>
            <a:ext cx="1871640" cy="2016000"/>
          </a:xfrm>
          <a:prstGeom prst="cloudCallout">
            <a:avLst>
              <a:gd name="adj1" fmla="val 2333"/>
              <a:gd name="adj2" fmla="val 22614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么像五线谱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2008103110281941_2"/>
          <p:cNvPicPr/>
          <p:nvPr/>
        </p:nvPicPr>
        <p:blipFill>
          <a:blip r:embed="rId3"/>
          <a:stretch/>
        </p:blipFill>
        <p:spPr>
          <a:xfrm>
            <a:off x="324000" y="765000"/>
            <a:ext cx="5976720" cy="2953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20094901224624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燕子的歇息美（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静态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几对燕子飞倦了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落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在电线上。蓝蓝的天空，电杆之间连着几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痕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细线，多么像五线谱啊！停着的燕子成了音符，谱成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支正待演奏的春天的赞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用比喻修辞手法形象地写出了燕子停息的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611280" y="4653000"/>
            <a:ext cx="936360" cy="504720"/>
          </a:xfrm>
          <a:prstGeom prst="rightArrow">
            <a:avLst>
              <a:gd name="adj1" fmla="val 50000"/>
              <a:gd name="adj2" fmla="val 4636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6f16b1fbbeec2a74242df2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179280" y="1268280"/>
            <a:ext cx="1440000" cy="122400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179280" y="3357720"/>
            <a:ext cx="1440000" cy="122364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162828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线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文从燕子的外形，写到燕子在春天里飞来了，接着从燕子飞行的美，又写到燕子歇息的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天是美的，燕子也是美的。春天因为有了燕子更有生机，而燕子因为有了春天的衬托，又显得更可爱。抒发了作者对春天的热爱，对燕子的喜爱之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200910191829479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3"/>
          <p:cNvSpPr/>
          <p:nvPr/>
        </p:nvSpPr>
        <p:spPr>
          <a:xfrm>
            <a:off x="1449360" y="623880"/>
            <a:ext cx="304920" cy="5181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4640 h 5181480"/>
              <a:gd name="textAreaBottom" fmla="*/ 504684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752480" y="547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2741760" y="5475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滑漂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2480" y="13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817720" y="13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俊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752480" y="2147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尾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17720" y="21477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剪刀似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4494240" y="7002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410080" y="1309680"/>
            <a:ext cx="1752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凑成燕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781680" y="13096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活泼机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1752480" y="2909880"/>
            <a:ext cx="4113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雨、风、柳、草、叶、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5943600" y="32148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6554880" y="290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赶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7238880" y="2909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生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1830240" y="3824280"/>
            <a:ext cx="426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掠、叫、飞、横掠、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5715000" y="4129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400800" y="38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动态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1828800" y="504360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1"/>
          <p:cNvSpPr/>
          <p:nvPr/>
        </p:nvSpPr>
        <p:spPr>
          <a:xfrm>
            <a:off x="2514600" y="4800600"/>
            <a:ext cx="152280" cy="11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2743200" y="4662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2743200" y="5500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3886200" y="4662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线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3886200" y="5500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6"/>
          <p:cNvSpPr/>
          <p:nvPr/>
        </p:nvSpPr>
        <p:spPr>
          <a:xfrm>
            <a:off x="5257800" y="47386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172200" y="5043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静态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4800600" y="16146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562720" y="534816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《燕子》课文朗读.wav" descr=""/>
          <p:cNvPicPr/>
          <p:nvPr/>
        </p:nvPicPr>
        <p:blipFill>
          <a:blip r:embed="rId5"/>
          <a:stretch/>
        </p:blipFill>
        <p:spPr>
          <a:xfrm>
            <a:off x="457200" y="3581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611280" y="549360"/>
            <a:ext cx="4248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天来了，小草偷偷地从土里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569880" y="1274760"/>
            <a:ext cx="82501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郑振铎，现代著名作家、学者、社会活动家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2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，同茅盾、叶圣陶等人共同发起成立 “文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研究会”。毕生从事文学创作、文学研究和考古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返回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5640480"/>
            <a:ext cx="1672920" cy="525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539640" y="476280"/>
            <a:ext cx="8163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蝴蝶在花丛中自由地飞舞，蜜蜂在花丛中辛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采蜜。它们正在花丛中翩翩起舞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838080" y="4076640"/>
            <a:ext cx="8126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湖水刚刚解冻，它  “ 哗哗” 地流淌着，仿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你看，还有几条小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1-04"/>
          <p:cNvPicPr/>
          <p:nvPr/>
        </p:nvPicPr>
        <p:blipFill>
          <a:blip r:embed="rId1"/>
          <a:stretch/>
        </p:blipFill>
        <p:spPr>
          <a:xfrm>
            <a:off x="3852720" y="1362240"/>
            <a:ext cx="4464360" cy="25714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4"/>
          <p:cNvGrpSpPr/>
          <p:nvPr/>
        </p:nvGrpSpPr>
        <p:grpSpPr>
          <a:xfrm>
            <a:off x="1136520" y="950760"/>
            <a:ext cx="2455920" cy="3125880"/>
            <a:chOff x="1136520" y="950760"/>
            <a:chExt cx="2455920" cy="3125880"/>
          </a:xfrm>
        </p:grpSpPr>
        <p:grpSp>
          <p:nvGrpSpPr>
            <p:cNvPr id="314" name="Group 5"/>
            <p:cNvGrpSpPr/>
            <p:nvPr/>
          </p:nvGrpSpPr>
          <p:grpSpPr>
            <a:xfrm>
              <a:off x="1136520" y="950760"/>
              <a:ext cx="2455920" cy="882720"/>
              <a:chOff x="1136520" y="950760"/>
              <a:chExt cx="2455920" cy="882720"/>
            </a:xfrm>
          </p:grpSpPr>
          <p:pic>
            <p:nvPicPr>
              <p:cNvPr id="315" name="Picture 6" descr="007"/>
              <p:cNvPicPr/>
              <p:nvPr/>
            </p:nvPicPr>
            <p:blipFill>
              <a:blip r:embed="rId2"/>
              <a:stretch/>
            </p:blipFill>
            <p:spPr>
              <a:xfrm>
                <a:off x="1136520" y="950760"/>
                <a:ext cx="2455920" cy="88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Rectangle 7"/>
              <p:cNvSpPr/>
              <p:nvPr/>
            </p:nvSpPr>
            <p:spPr>
              <a:xfrm>
                <a:off x="1891800" y="1050840"/>
                <a:ext cx="131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我也来说一说。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8" descr="人物-020"/>
            <p:cNvPicPr/>
            <p:nvPr/>
          </p:nvPicPr>
          <p:blipFill>
            <a:blip r:embed="rId3"/>
            <a:srcRect l="-9136" t="-6900" r="-12240" b="-5513"/>
            <a:stretch/>
          </p:blipFill>
          <p:spPr>
            <a:xfrm>
              <a:off x="1224000" y="1751040"/>
              <a:ext cx="1746360" cy="2325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20098100235097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感情地朗读课文，背诵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你喜欢的句子摘抄在笔记本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模仿课文的第一自然段来描写你喜欢的一种动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287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p20091111123698826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复习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俊俏      凑成      吹拂     增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掠过      偶尔      沾水     荡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线谱    小燕子    聚拢     稻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尾尖      一圈      飞倦     音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演奏      赞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"/>
          <p:cNvSpPr/>
          <p:nvPr/>
        </p:nvSpPr>
        <p:spPr>
          <a:xfrm>
            <a:off x="2800440" y="5140440"/>
            <a:ext cx="56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0BDD-FCFA-4E31-975B-A0479B840D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7"/>
          <p:cNvGrpSpPr/>
          <p:nvPr/>
        </p:nvGrpSpPr>
        <p:grpSpPr>
          <a:xfrm>
            <a:off x="611280" y="1700280"/>
            <a:ext cx="1203120" cy="1166760"/>
            <a:chOff x="611280" y="1700280"/>
            <a:chExt cx="1203120" cy="1166760"/>
          </a:xfrm>
        </p:grpSpPr>
        <p:pic>
          <p:nvPicPr>
            <p:cNvPr id="100" name="Picture 9" descr="花3"/>
            <p:cNvPicPr/>
            <p:nvPr/>
          </p:nvPicPr>
          <p:blipFill>
            <a:blip r:embed="rId2"/>
            <a:stretch/>
          </p:blipFill>
          <p:spPr>
            <a:xfrm>
              <a:off x="611280" y="1700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14"/>
            <p:cNvSpPr/>
            <p:nvPr/>
          </p:nvSpPr>
          <p:spPr>
            <a:xfrm>
              <a:off x="879120" y="1989000"/>
              <a:ext cx="766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8"/>
          <p:cNvGrpSpPr/>
          <p:nvPr/>
        </p:nvGrpSpPr>
        <p:grpSpPr>
          <a:xfrm>
            <a:off x="2050920" y="1773360"/>
            <a:ext cx="1203120" cy="1093680"/>
            <a:chOff x="2050920" y="1773360"/>
            <a:chExt cx="1203120" cy="1093680"/>
          </a:xfrm>
        </p:grpSpPr>
        <p:pic>
          <p:nvPicPr>
            <p:cNvPr id="103" name="Picture 10" descr="花3"/>
            <p:cNvPicPr/>
            <p:nvPr/>
          </p:nvPicPr>
          <p:blipFill>
            <a:blip r:embed="rId3"/>
            <a:stretch/>
          </p:blipFill>
          <p:spPr>
            <a:xfrm>
              <a:off x="2050920" y="1773360"/>
              <a:ext cx="120312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15"/>
            <p:cNvSpPr/>
            <p:nvPr/>
          </p:nvSpPr>
          <p:spPr>
            <a:xfrm>
              <a:off x="2317680" y="2043720"/>
              <a:ext cx="766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0"/>
          <p:cNvGrpSpPr/>
          <p:nvPr/>
        </p:nvGrpSpPr>
        <p:grpSpPr>
          <a:xfrm>
            <a:off x="3492360" y="1700280"/>
            <a:ext cx="1728720" cy="1166760"/>
            <a:chOff x="3492360" y="1700280"/>
            <a:chExt cx="1728720" cy="1166760"/>
          </a:xfrm>
        </p:grpSpPr>
        <p:pic>
          <p:nvPicPr>
            <p:cNvPr id="106" name="Picture 12" descr="花3"/>
            <p:cNvPicPr/>
            <p:nvPr/>
          </p:nvPicPr>
          <p:blipFill>
            <a:blip r:embed="rId4"/>
            <a:stretch/>
          </p:blipFill>
          <p:spPr>
            <a:xfrm>
              <a:off x="3492360" y="1700280"/>
              <a:ext cx="17287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7"/>
            <p:cNvSpPr/>
            <p:nvPr/>
          </p:nvSpPr>
          <p:spPr>
            <a:xfrm>
              <a:off x="3872880" y="1989000"/>
              <a:ext cx="110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增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1"/>
          <p:cNvGrpSpPr/>
          <p:nvPr/>
        </p:nvGrpSpPr>
        <p:grpSpPr>
          <a:xfrm>
            <a:off x="6516720" y="1844640"/>
            <a:ext cx="1871280" cy="1166760"/>
            <a:chOff x="6516720" y="1844640"/>
            <a:chExt cx="1871280" cy="1166760"/>
          </a:xfrm>
        </p:grpSpPr>
        <p:pic>
          <p:nvPicPr>
            <p:cNvPr id="109" name="Picture 13" descr="花3"/>
            <p:cNvPicPr/>
            <p:nvPr/>
          </p:nvPicPr>
          <p:blipFill>
            <a:blip r:embed="rId5"/>
            <a:stretch/>
          </p:blipFill>
          <p:spPr>
            <a:xfrm>
              <a:off x="6516720" y="1844640"/>
              <a:ext cx="18712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8"/>
            <p:cNvSpPr/>
            <p:nvPr/>
          </p:nvSpPr>
          <p:spPr>
            <a:xfrm>
              <a:off x="6929280" y="2133360"/>
              <a:ext cx="11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水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2"/>
          <p:cNvGrpSpPr/>
          <p:nvPr/>
        </p:nvGrpSpPr>
        <p:grpSpPr>
          <a:xfrm>
            <a:off x="755640" y="3429000"/>
            <a:ext cx="1203480" cy="1166760"/>
            <a:chOff x="755640" y="3429000"/>
            <a:chExt cx="1203480" cy="1166760"/>
          </a:xfrm>
        </p:grpSpPr>
        <p:pic>
          <p:nvPicPr>
            <p:cNvPr id="112" name="Picture 23" descr="花3"/>
            <p:cNvPicPr/>
            <p:nvPr/>
          </p:nvPicPr>
          <p:blipFill>
            <a:blip r:embed="rId6"/>
            <a:stretch/>
          </p:blipFill>
          <p:spPr>
            <a:xfrm>
              <a:off x="755640" y="3429000"/>
              <a:ext cx="12034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19"/>
            <p:cNvSpPr/>
            <p:nvPr/>
          </p:nvSpPr>
          <p:spPr>
            <a:xfrm>
              <a:off x="1023840" y="3702240"/>
              <a:ext cx="766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3"/>
          <p:cNvGrpSpPr/>
          <p:nvPr/>
        </p:nvGrpSpPr>
        <p:grpSpPr>
          <a:xfrm>
            <a:off x="3132000" y="3500280"/>
            <a:ext cx="2160360" cy="1166760"/>
            <a:chOff x="3132000" y="3500280"/>
            <a:chExt cx="2160360" cy="1166760"/>
          </a:xfrm>
        </p:grpSpPr>
        <p:pic>
          <p:nvPicPr>
            <p:cNvPr id="115" name="Picture 24" descr="花3"/>
            <p:cNvPicPr/>
            <p:nvPr/>
          </p:nvPicPr>
          <p:blipFill>
            <a:blip r:embed="rId7"/>
            <a:stretch/>
          </p:blipFill>
          <p:spPr>
            <a:xfrm>
              <a:off x="3132000" y="3500280"/>
              <a:ext cx="21603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20"/>
            <p:cNvSpPr/>
            <p:nvPr/>
          </p:nvSpPr>
          <p:spPr>
            <a:xfrm>
              <a:off x="3610800" y="3773520"/>
              <a:ext cx="137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荡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34"/>
          <p:cNvGrpSpPr/>
          <p:nvPr/>
        </p:nvGrpSpPr>
        <p:grpSpPr>
          <a:xfrm>
            <a:off x="5724360" y="3429000"/>
            <a:ext cx="1203120" cy="1166760"/>
            <a:chOff x="5724360" y="3429000"/>
            <a:chExt cx="1203120" cy="1166760"/>
          </a:xfrm>
        </p:grpSpPr>
        <p:pic>
          <p:nvPicPr>
            <p:cNvPr id="118" name="Picture 25" descr="花3"/>
            <p:cNvPicPr/>
            <p:nvPr/>
          </p:nvPicPr>
          <p:blipFill>
            <a:blip r:embed="rId8"/>
            <a:stretch/>
          </p:blipFill>
          <p:spPr>
            <a:xfrm>
              <a:off x="5724360" y="342900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1"/>
            <p:cNvSpPr/>
            <p:nvPr/>
          </p:nvSpPr>
          <p:spPr>
            <a:xfrm>
              <a:off x="5989320" y="3702240"/>
              <a:ext cx="766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5"/>
          <p:cNvGrpSpPr/>
          <p:nvPr/>
        </p:nvGrpSpPr>
        <p:grpSpPr>
          <a:xfrm>
            <a:off x="7093080" y="3500280"/>
            <a:ext cx="1203120" cy="1166760"/>
            <a:chOff x="7093080" y="3500280"/>
            <a:chExt cx="1203120" cy="1166760"/>
          </a:xfrm>
        </p:grpSpPr>
        <p:pic>
          <p:nvPicPr>
            <p:cNvPr id="121" name="Picture 26" descr="花3"/>
            <p:cNvPicPr/>
            <p:nvPr/>
          </p:nvPicPr>
          <p:blipFill>
            <a:blip r:embed="rId9"/>
            <a:stretch/>
          </p:blipFill>
          <p:spPr>
            <a:xfrm>
              <a:off x="7093080" y="3500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22"/>
            <p:cNvSpPr/>
            <p:nvPr/>
          </p:nvSpPr>
          <p:spPr>
            <a:xfrm>
              <a:off x="7358040" y="3773520"/>
              <a:ext cx="766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37"/>
          <p:cNvSpPr/>
          <p:nvPr/>
        </p:nvSpPr>
        <p:spPr>
          <a:xfrm>
            <a:off x="900000" y="2060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燕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826920" y="1413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0"/>
          <p:cNvSpPr/>
          <p:nvPr/>
        </p:nvSpPr>
        <p:spPr>
          <a:xfrm>
            <a:off x="2268360" y="1989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聚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5292720" y="1989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掠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00000" y="378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稻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2124000" y="378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尾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5651640" y="3789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偶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5"/>
          <p:cNvSpPr/>
          <p:nvPr/>
        </p:nvSpPr>
        <p:spPr>
          <a:xfrm>
            <a:off x="7524720" y="378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沾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6"/>
          <p:cNvSpPr/>
          <p:nvPr/>
        </p:nvSpPr>
        <p:spPr>
          <a:xfrm>
            <a:off x="1763640" y="5229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疲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7"/>
          <p:cNvSpPr/>
          <p:nvPr/>
        </p:nvSpPr>
        <p:spPr>
          <a:xfrm>
            <a:off x="3348000" y="522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音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8"/>
          <p:cNvSpPr/>
          <p:nvPr/>
        </p:nvSpPr>
        <p:spPr>
          <a:xfrm>
            <a:off x="5364000" y="530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演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0"/>
          <p:cNvSpPr/>
          <p:nvPr/>
        </p:nvSpPr>
        <p:spPr>
          <a:xfrm>
            <a:off x="7236000" y="530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赞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1"/>
          <p:cNvSpPr/>
          <p:nvPr/>
        </p:nvSpPr>
        <p:spPr>
          <a:xfrm>
            <a:off x="2268360" y="134136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2"/>
          <p:cNvSpPr/>
          <p:nvPr/>
        </p:nvSpPr>
        <p:spPr>
          <a:xfrm>
            <a:off x="3851280" y="134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5364000" y="148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ü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4"/>
          <p:cNvSpPr/>
          <p:nvPr/>
        </p:nvSpPr>
        <p:spPr>
          <a:xfrm>
            <a:off x="7308720" y="1557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5"/>
          <p:cNvSpPr/>
          <p:nvPr/>
        </p:nvSpPr>
        <p:spPr>
          <a:xfrm>
            <a:off x="826920" y="3284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2556000" y="3213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3995640" y="32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5651640" y="328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9"/>
          <p:cNvSpPr/>
          <p:nvPr/>
        </p:nvSpPr>
        <p:spPr>
          <a:xfrm>
            <a:off x="7308720" y="321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340000" y="472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1"/>
          <p:cNvSpPr/>
          <p:nvPr/>
        </p:nvSpPr>
        <p:spPr>
          <a:xfrm>
            <a:off x="4067280" y="4724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2"/>
          <p:cNvSpPr/>
          <p:nvPr/>
        </p:nvSpPr>
        <p:spPr>
          <a:xfrm>
            <a:off x="5364000" y="4724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3"/>
          <p:cNvSpPr/>
          <p:nvPr/>
        </p:nvSpPr>
        <p:spPr>
          <a:xfrm>
            <a:off x="7020000" y="4797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04920" y="2133720"/>
            <a:ext cx="883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俊俏  聚拢  增添  五线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符  翅膀  吹拂  掠过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偶尔  沾水  荡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3924360" y="4292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631800" y="1916280"/>
            <a:ext cx="1203480" cy="1166760"/>
            <a:chOff x="631800" y="1916280"/>
            <a:chExt cx="1203480" cy="1166760"/>
          </a:xfrm>
        </p:grpSpPr>
        <p:pic>
          <p:nvPicPr>
            <p:cNvPr id="153" name="Picture 3" descr="花3"/>
            <p:cNvPicPr/>
            <p:nvPr/>
          </p:nvPicPr>
          <p:blipFill>
            <a:blip r:embed="rId1"/>
            <a:stretch/>
          </p:blipFill>
          <p:spPr>
            <a:xfrm>
              <a:off x="631800" y="1916280"/>
              <a:ext cx="12034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900000" y="220500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5"/>
          <p:cNvGrpSpPr/>
          <p:nvPr/>
        </p:nvGrpSpPr>
        <p:grpSpPr>
          <a:xfrm>
            <a:off x="2270160" y="1916280"/>
            <a:ext cx="1203120" cy="1166760"/>
            <a:chOff x="2270160" y="1916280"/>
            <a:chExt cx="1203120" cy="1166760"/>
          </a:xfrm>
        </p:grpSpPr>
        <p:pic>
          <p:nvPicPr>
            <p:cNvPr id="156" name="Picture 6" descr="花3"/>
            <p:cNvPicPr/>
            <p:nvPr/>
          </p:nvPicPr>
          <p:blipFill>
            <a:blip r:embed="rId2"/>
            <a:stretch/>
          </p:blipFill>
          <p:spPr>
            <a:xfrm>
              <a:off x="2270160" y="1916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7"/>
            <p:cNvSpPr/>
            <p:nvPr/>
          </p:nvSpPr>
          <p:spPr>
            <a:xfrm>
              <a:off x="2536920" y="220500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3908520" y="1916280"/>
            <a:ext cx="1203120" cy="1166760"/>
            <a:chOff x="3908520" y="1916280"/>
            <a:chExt cx="1203120" cy="1166760"/>
          </a:xfrm>
        </p:grpSpPr>
        <p:pic>
          <p:nvPicPr>
            <p:cNvPr id="159" name="Picture 9" descr="花3"/>
            <p:cNvPicPr/>
            <p:nvPr/>
          </p:nvPicPr>
          <p:blipFill>
            <a:blip r:embed="rId3"/>
            <a:stretch/>
          </p:blipFill>
          <p:spPr>
            <a:xfrm>
              <a:off x="3908520" y="1916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10"/>
            <p:cNvSpPr/>
            <p:nvPr/>
          </p:nvSpPr>
          <p:spPr>
            <a:xfrm>
              <a:off x="4175280" y="2205000"/>
              <a:ext cx="76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5546880" y="1916280"/>
            <a:ext cx="1203120" cy="1166760"/>
            <a:chOff x="5546880" y="1916280"/>
            <a:chExt cx="1203120" cy="1166760"/>
          </a:xfrm>
        </p:grpSpPr>
        <p:pic>
          <p:nvPicPr>
            <p:cNvPr id="162" name="Picture 12" descr="花3"/>
            <p:cNvPicPr/>
            <p:nvPr/>
          </p:nvPicPr>
          <p:blipFill>
            <a:blip r:embed="rId4"/>
            <a:stretch/>
          </p:blipFill>
          <p:spPr>
            <a:xfrm>
              <a:off x="5546880" y="191628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13"/>
            <p:cNvSpPr/>
            <p:nvPr/>
          </p:nvSpPr>
          <p:spPr>
            <a:xfrm>
              <a:off x="5811840" y="220500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7184880" y="1916280"/>
            <a:ext cx="1203480" cy="1166760"/>
            <a:chOff x="7184880" y="1916280"/>
            <a:chExt cx="1203480" cy="1166760"/>
          </a:xfrm>
        </p:grpSpPr>
        <p:pic>
          <p:nvPicPr>
            <p:cNvPr id="165" name="Picture 15" descr="花3"/>
            <p:cNvPicPr/>
            <p:nvPr/>
          </p:nvPicPr>
          <p:blipFill>
            <a:blip r:embed="rId5"/>
            <a:stretch/>
          </p:blipFill>
          <p:spPr>
            <a:xfrm>
              <a:off x="7184880" y="1916280"/>
              <a:ext cx="12034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6"/>
            <p:cNvSpPr/>
            <p:nvPr/>
          </p:nvSpPr>
          <p:spPr>
            <a:xfrm>
              <a:off x="7450200" y="220500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631800" y="3573360"/>
            <a:ext cx="1203480" cy="1166760"/>
            <a:chOff x="631800" y="3573360"/>
            <a:chExt cx="1203480" cy="1166760"/>
          </a:xfrm>
        </p:grpSpPr>
        <p:pic>
          <p:nvPicPr>
            <p:cNvPr id="168" name="Picture 18" descr="花3"/>
            <p:cNvPicPr/>
            <p:nvPr/>
          </p:nvPicPr>
          <p:blipFill>
            <a:blip r:embed="rId6"/>
            <a:stretch/>
          </p:blipFill>
          <p:spPr>
            <a:xfrm>
              <a:off x="631800" y="3573360"/>
              <a:ext cx="120348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9"/>
            <p:cNvSpPr/>
            <p:nvPr/>
          </p:nvSpPr>
          <p:spPr>
            <a:xfrm>
              <a:off x="900000" y="384660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0"/>
          <p:cNvGrpSpPr/>
          <p:nvPr/>
        </p:nvGrpSpPr>
        <p:grpSpPr>
          <a:xfrm>
            <a:off x="2270160" y="3573360"/>
            <a:ext cx="1203120" cy="1166760"/>
            <a:chOff x="2270160" y="3573360"/>
            <a:chExt cx="1203120" cy="1166760"/>
          </a:xfrm>
        </p:grpSpPr>
        <p:pic>
          <p:nvPicPr>
            <p:cNvPr id="171" name="Picture 21" descr="花3"/>
            <p:cNvPicPr/>
            <p:nvPr/>
          </p:nvPicPr>
          <p:blipFill>
            <a:blip r:embed="rId7"/>
            <a:stretch/>
          </p:blipFill>
          <p:spPr>
            <a:xfrm>
              <a:off x="2270160" y="357336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2"/>
            <p:cNvSpPr/>
            <p:nvPr/>
          </p:nvSpPr>
          <p:spPr>
            <a:xfrm>
              <a:off x="2536920" y="384660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3"/>
          <p:cNvGrpSpPr/>
          <p:nvPr/>
        </p:nvGrpSpPr>
        <p:grpSpPr>
          <a:xfrm>
            <a:off x="3908520" y="3573360"/>
            <a:ext cx="1203120" cy="1166760"/>
            <a:chOff x="3908520" y="3573360"/>
            <a:chExt cx="1203120" cy="1166760"/>
          </a:xfrm>
        </p:grpSpPr>
        <p:pic>
          <p:nvPicPr>
            <p:cNvPr id="174" name="Picture 24" descr="花3"/>
            <p:cNvPicPr/>
            <p:nvPr/>
          </p:nvPicPr>
          <p:blipFill>
            <a:blip r:embed="rId8"/>
            <a:stretch/>
          </p:blipFill>
          <p:spPr>
            <a:xfrm>
              <a:off x="3908520" y="357336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25"/>
            <p:cNvSpPr/>
            <p:nvPr/>
          </p:nvSpPr>
          <p:spPr>
            <a:xfrm>
              <a:off x="4173480" y="384660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6"/>
          <p:cNvGrpSpPr/>
          <p:nvPr/>
        </p:nvGrpSpPr>
        <p:grpSpPr>
          <a:xfrm>
            <a:off x="5546880" y="3573360"/>
            <a:ext cx="1203120" cy="1166760"/>
            <a:chOff x="5546880" y="3573360"/>
            <a:chExt cx="1203120" cy="1166760"/>
          </a:xfrm>
        </p:grpSpPr>
        <p:pic>
          <p:nvPicPr>
            <p:cNvPr id="177" name="Picture 27" descr="花3"/>
            <p:cNvPicPr/>
            <p:nvPr/>
          </p:nvPicPr>
          <p:blipFill>
            <a:blip r:embed="rId9"/>
            <a:stretch/>
          </p:blipFill>
          <p:spPr>
            <a:xfrm>
              <a:off x="5546880" y="3573360"/>
              <a:ext cx="120312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28"/>
            <p:cNvSpPr/>
            <p:nvPr/>
          </p:nvSpPr>
          <p:spPr>
            <a:xfrm>
              <a:off x="5811840" y="3846600"/>
              <a:ext cx="7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晕倒        晕头转向          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月晕        小圆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晕车、晕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22560" y="299736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晕倒、晕头转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900000" y="13413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y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042920" y="31417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y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旗杆        一杆枪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枪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7:12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23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