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jpeg" ContentType="image/jpeg"/>
  <Override PartName="/ppt/media/image4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png" ContentType="image/png"/>
  <Override PartName="/ppt/media/image25.png" ContentType="image/png"/>
  <Override PartName="/ppt/media/image19.jpeg" ContentType="image/jpeg"/>
  <Override PartName="/ppt/media/%E5%9F%99%E6%9B%B2%E5%A6%86%E5%8F%B0%E7%A7%8B%E6%80%9D.wav" ContentType="audio/x-wav"/>
  <Override PartName="/ppt/media/image11.jpeg" ContentType="image/jpeg"/>
  <Override PartName="/ppt/media/image24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3080-B8EC-4B5E-BDC3-E63B6DE6143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34A7-7F17-4861-9E54-B66680EC9E1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EBFC-FC25-4382-A599-AFD4E3E9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8F3-4DFE-4240-BE16-80C48C12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F27-7776-4C9D-A6B0-6FD1D2D0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7AE-FD75-440F-BA69-4AC62C36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D43C-E6EF-465B-9557-0C934309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A8C-6338-4C5B-B329-4F2B5F5C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56E-2500-44A7-9187-EC68473B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A07-2271-43A8-89F0-A3D8B0A4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516-B4E5-4717-B7DE-A3BB5BA5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F35-6D93-4E91-86C5-2767F16E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F21-5873-4207-BB13-A6EA7841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5069-4F9D-4047-8CD1-0D0A70D4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5863-6F66-4749-9F06-0C2A666E30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6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8.jpeg"/><Relationship Id="rId14" Type="http://schemas.openxmlformats.org/officeDocument/2006/relationships/image" Target="../media/image11.jpeg"/><Relationship Id="rId15" Type="http://schemas.openxmlformats.org/officeDocument/2006/relationships/image" Target="../media/image9.jpeg"/><Relationship Id="rId16" Type="http://schemas.openxmlformats.org/officeDocument/2006/relationships/image" Target="../media/image12.jpeg"/><Relationship Id="rId17" Type="http://schemas.openxmlformats.org/officeDocument/2006/relationships/image" Target="../media/image4.jpeg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image" Target="../media/image16.jpeg"/><Relationship Id="rId23" Type="http://schemas.openxmlformats.org/officeDocument/2006/relationships/image" Target="../media/image17.png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&#22489;&#26354;&#22918;&#21488;&#31179;&#24605;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3492360" y="2492280"/>
            <a:ext cx="2151000" cy="1828800"/>
            <a:chOff x="3492360" y="2492280"/>
            <a:chExt cx="2151000" cy="1828800"/>
          </a:xfrm>
        </p:grpSpPr>
        <p:pic>
          <p:nvPicPr>
            <p:cNvPr id="49" name="Picture 8" descr="20070712_b350ab6b3c829e31975eOQCBmRUQXYKZ"/>
            <p:cNvPicPr/>
            <p:nvPr/>
          </p:nvPicPr>
          <p:blipFill>
            <a:blip r:embed="rId2"/>
            <a:stretch/>
          </p:blipFill>
          <p:spPr>
            <a:xfrm>
              <a:off x="3635280" y="3789360"/>
              <a:ext cx="117360" cy="17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9" descr="20070712_b350ab6b3c829e31975eOQCBmRUQXYKZ"/>
            <p:cNvPicPr/>
            <p:nvPr/>
          </p:nvPicPr>
          <p:blipFill>
            <a:blip r:embed="rId3"/>
            <a:stretch/>
          </p:blipFill>
          <p:spPr>
            <a:xfrm>
              <a:off x="3924000" y="3500280"/>
              <a:ext cx="21600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0" descr="20070712_b350ab6b3c829e31975eOQCBmRUQXYKZ"/>
            <p:cNvPicPr/>
            <p:nvPr/>
          </p:nvPicPr>
          <p:blipFill>
            <a:blip r:embed="rId4"/>
            <a:stretch/>
          </p:blipFill>
          <p:spPr>
            <a:xfrm>
              <a:off x="3492360" y="4076640"/>
              <a:ext cx="13500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1" descr="20070712_b350ab6b3c829e31975eOQCBmRUQXYKZ"/>
            <p:cNvPicPr/>
            <p:nvPr/>
          </p:nvPicPr>
          <p:blipFill>
            <a:blip r:embed="rId5"/>
            <a:stretch/>
          </p:blipFill>
          <p:spPr>
            <a:xfrm>
              <a:off x="3708360" y="3933720"/>
              <a:ext cx="13500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2" descr="20070712_b350ab6b3c829e31975eOQCBmRUQXYKZ"/>
            <p:cNvPicPr/>
            <p:nvPr/>
          </p:nvPicPr>
          <p:blipFill>
            <a:blip r:embed="rId6"/>
            <a:stretch/>
          </p:blipFill>
          <p:spPr>
            <a:xfrm>
              <a:off x="5364000" y="2565360"/>
              <a:ext cx="10944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3" descr="20070712_b350ab6b3c829e31975eOQCBmRUQXYKZ"/>
            <p:cNvPicPr/>
            <p:nvPr/>
          </p:nvPicPr>
          <p:blipFill>
            <a:blip r:embed="rId7"/>
            <a:stretch/>
          </p:blipFill>
          <p:spPr>
            <a:xfrm>
              <a:off x="5508360" y="2492280"/>
              <a:ext cx="954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20070712_b350ab6b3c829e31975eOQCBmRUQXYKZ"/>
            <p:cNvPicPr/>
            <p:nvPr/>
          </p:nvPicPr>
          <p:blipFill>
            <a:blip r:embed="rId8"/>
            <a:stretch/>
          </p:blipFill>
          <p:spPr>
            <a:xfrm>
              <a:off x="4427280" y="3141720"/>
              <a:ext cx="2160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5" descr="20070712_b350ab6b3c829e31975eOQCBmRUQXYKZ"/>
            <p:cNvPicPr/>
            <p:nvPr/>
          </p:nvPicPr>
          <p:blipFill>
            <a:blip r:embed="rId9"/>
            <a:stretch/>
          </p:blipFill>
          <p:spPr>
            <a:xfrm>
              <a:off x="4211640" y="3284280"/>
              <a:ext cx="13464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6" descr="20070712_b350ab6b3c829e31975eOQCBmRUQXYKZ"/>
            <p:cNvPicPr/>
            <p:nvPr/>
          </p:nvPicPr>
          <p:blipFill>
            <a:blip r:embed="rId10"/>
            <a:stretch/>
          </p:blipFill>
          <p:spPr>
            <a:xfrm>
              <a:off x="4356000" y="3500280"/>
              <a:ext cx="9504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7" descr="20070712_b350ab6b3c829e31975eOQCBmRUQXYKZ"/>
            <p:cNvPicPr/>
            <p:nvPr/>
          </p:nvPicPr>
          <p:blipFill>
            <a:blip r:embed="rId11"/>
            <a:stretch/>
          </p:blipFill>
          <p:spPr>
            <a:xfrm>
              <a:off x="4716360" y="2997000"/>
              <a:ext cx="13500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8" descr="20070712_b350ab6b3c829e31975eOQCBmRUQXYKZ"/>
            <p:cNvPicPr/>
            <p:nvPr/>
          </p:nvPicPr>
          <p:blipFill>
            <a:blip r:embed="rId12"/>
            <a:stretch/>
          </p:blipFill>
          <p:spPr>
            <a:xfrm>
              <a:off x="3924000" y="3860640"/>
              <a:ext cx="954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9" descr="20070712_b350ab6b3c829e31975eOQCBmRUQXYKZ"/>
            <p:cNvPicPr/>
            <p:nvPr/>
          </p:nvPicPr>
          <p:blipFill>
            <a:blip r:embed="rId13"/>
            <a:stretch/>
          </p:blipFill>
          <p:spPr>
            <a:xfrm>
              <a:off x="4643280" y="3213000"/>
              <a:ext cx="13500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0" descr="20070712_b350ab6b3c829e31975eOQCBmRUQXYKZ"/>
            <p:cNvPicPr/>
            <p:nvPr/>
          </p:nvPicPr>
          <p:blipFill>
            <a:blip r:embed="rId14"/>
            <a:stretch/>
          </p:blipFill>
          <p:spPr>
            <a:xfrm>
              <a:off x="3708360" y="3573360"/>
              <a:ext cx="17460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21" descr="20070712_b350ab6b3c829e31975eOQCBmRUQXYKZ"/>
            <p:cNvPicPr/>
            <p:nvPr/>
          </p:nvPicPr>
          <p:blipFill>
            <a:blip r:embed="rId15"/>
            <a:stretch/>
          </p:blipFill>
          <p:spPr>
            <a:xfrm>
              <a:off x="5508360" y="2636640"/>
              <a:ext cx="13500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2" descr="20070712_b350ab6b3c829e31975eOQCBmRUQXYKZ"/>
            <p:cNvPicPr/>
            <p:nvPr/>
          </p:nvPicPr>
          <p:blipFill>
            <a:blip r:embed="rId16"/>
            <a:stretch/>
          </p:blipFill>
          <p:spPr>
            <a:xfrm>
              <a:off x="5292720" y="2708280"/>
              <a:ext cx="15876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23" descr="20070712_b350ab6b3c829e31975eOQCBmRUQXYKZ"/>
            <p:cNvPicPr/>
            <p:nvPr/>
          </p:nvPicPr>
          <p:blipFill>
            <a:blip r:embed="rId17"/>
            <a:stretch/>
          </p:blipFill>
          <p:spPr>
            <a:xfrm>
              <a:off x="4140000" y="3573360"/>
              <a:ext cx="13644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4" descr="20070712_b350ab6b3c829e31975eOQCBmRUQXYKZ"/>
            <p:cNvPicPr/>
            <p:nvPr/>
          </p:nvPicPr>
          <p:blipFill>
            <a:blip r:embed="rId18"/>
            <a:stretch/>
          </p:blipFill>
          <p:spPr>
            <a:xfrm>
              <a:off x="3492360" y="3716280"/>
              <a:ext cx="1746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5" descr="20070712_b350ab6b3c829e31975eOQCBmRUQXYKZ"/>
            <p:cNvPicPr/>
            <p:nvPr/>
          </p:nvPicPr>
          <p:blipFill>
            <a:blip r:embed="rId19"/>
            <a:stretch/>
          </p:blipFill>
          <p:spPr>
            <a:xfrm>
              <a:off x="5076720" y="2708280"/>
              <a:ext cx="2030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6" descr="20070712_b350ab6b3c829e31975eOQCBmRUQXYKZ"/>
            <p:cNvPicPr/>
            <p:nvPr/>
          </p:nvPicPr>
          <p:blipFill>
            <a:blip r:embed="rId20"/>
            <a:stretch/>
          </p:blipFill>
          <p:spPr>
            <a:xfrm>
              <a:off x="4859280" y="3141720"/>
              <a:ext cx="15228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7" descr="20070712_b350ab6b3c829e31975eOQCBmRUQXYKZ"/>
            <p:cNvPicPr/>
            <p:nvPr/>
          </p:nvPicPr>
          <p:blipFill>
            <a:blip r:embed="rId21"/>
            <a:stretch/>
          </p:blipFill>
          <p:spPr>
            <a:xfrm>
              <a:off x="5076720" y="2923920"/>
              <a:ext cx="15228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28" descr="20070712_b350ab6b3c829e31975eOQCBmRUQXYKZ"/>
            <p:cNvPicPr/>
            <p:nvPr/>
          </p:nvPicPr>
          <p:blipFill>
            <a:blip r:embed="rId22"/>
            <a:stretch/>
          </p:blipFill>
          <p:spPr>
            <a:xfrm>
              <a:off x="4859280" y="2852640"/>
              <a:ext cx="20304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WordArt 29"/>
          <p:cNvSpPr txBox="1"/>
          <p:nvPr/>
        </p:nvSpPr>
        <p:spPr>
          <a:xfrm>
            <a:off x="687240" y="549360"/>
            <a:ext cx="4365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燕子专列</a:t>
            </a:r>
            <a:endParaRPr b="1" lang="en-US" sz="3600" spc="-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71" name="星-金雅中.mp3" descr=""/>
          <p:cNvPicPr/>
          <p:nvPr/>
        </p:nvPicPr>
        <p:blipFill>
          <a:blip r:embed="rId2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" name="矩形 37"/>
          <p:cNvSpPr/>
          <p:nvPr/>
        </p:nvSpPr>
        <p:spPr>
          <a:xfrm>
            <a:off x="2831760" y="60134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474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0760" y="407664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3280" y="407664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kk"/>
          <p:cNvPicPr/>
          <p:nvPr/>
        </p:nvPicPr>
        <p:blipFill>
          <a:blip r:embed="rId1"/>
          <a:stretch/>
        </p:blipFill>
        <p:spPr>
          <a:xfrm>
            <a:off x="0" y="0"/>
            <a:ext cx="8964720" cy="68756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3"/>
          <p:cNvSpPr txBox="1"/>
          <p:nvPr/>
        </p:nvSpPr>
        <p:spPr>
          <a:xfrm>
            <a:off x="1547640" y="2349360"/>
            <a:ext cx="3456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>
                    <a:alpha val="49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呼吁</a:t>
            </a:r>
            <a:endParaRPr b="0" i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>
                  <a:alpha val="49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h"/>
          <p:cNvPicPr/>
          <p:nvPr/>
        </p:nvPicPr>
        <p:blipFill>
          <a:blip r:embed="rId1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baobao"/>
          <p:cNvPicPr/>
          <p:nvPr/>
        </p:nvPicPr>
        <p:blipFill>
          <a:blip r:embed="rId1"/>
          <a:stretch/>
        </p:blipFill>
        <p:spPr>
          <a:xfrm>
            <a:off x="0" y="0"/>
            <a:ext cx="962028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3040" y="1196640"/>
            <a:ext cx="813132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天下来，她一个人就救护了十几只燕子。她的脸冻得通红，手冻得僵硬，但她一点也不在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8ddd72fab76887849f5146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听到消息后，居民们纷纷走出家门，冒着料峭的春寒，顶着满天飞舞的大雪，踏着冻得坚硬的山路，四处寻找冻僵的燕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8ddd72fab76887849f5146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听到消息后，居民们纷纷走出家门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冒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料峭的春寒，顶着满天飞舞的大雪，踏着冻得坚硬的山路，四处寻找冻僵的燕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8ddd72fab76887849f5146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听到消息后，居民们纷纷走出家门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冒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料峭的春寒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顶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满天飞舞的大雪，踏着冻得坚硬的山路，四处寻找冻僵的燕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1010_610_272e4923e8cf98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58920" y="260280"/>
            <a:ext cx="6696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60165"/>
                </a:solidFill>
                <a:latin typeface="新宋体"/>
                <a:ea typeface="新宋体"/>
              </a:rPr>
              <a:t>专列  </a:t>
            </a:r>
            <a:r>
              <a:rPr b="1" lang="zh-CN" sz="4800" spc="-1" strike="noStrike">
                <a:solidFill>
                  <a:srgbClr val="160165"/>
                </a:solidFill>
                <a:latin typeface="新宋体"/>
                <a:ea typeface="新宋体"/>
              </a:rPr>
              <a:t>欧洲  瑞士 舒适空调  列车  启程 站台特殊  麻烦  气温 骤降风雪  疲劳  温暖 政府纷纷  救护  开动 友情致谢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60165"/>
                </a:solidFill>
                <a:latin typeface="新宋体"/>
                <a:ea typeface="新宋体"/>
              </a:rPr>
              <a:t>成千上万    饥寒交迫长途跋涉    满天飞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8ddd72fab76887849f5146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听到消息后，居民们纷纷走出家门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冒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料峭的春寒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顶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满天飞舞的大雪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踏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冻得坚硬的山路，四处寻找冻僵的燕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8ddd72fab76887849f5146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听到消息后，居民们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纷纷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走出家门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冒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料峭的春寒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顶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满天飞舞的大雪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踏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冻得坚硬的山路，四处寻找冻僵的燕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8ddd72fab76887849f5146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听到消息后，居民们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纷纷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走出家门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冒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料峭的春寒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顶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满天飞舞的大雪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踏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冻得坚硬的山路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四处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寻找冻僵的燕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d9f3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6000" y="1196640"/>
            <a:ext cx="8820000" cy="56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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个美丽的女大学生，名叫徐秀娟，她的父亲是扎龙自然保护区的一位鹤类保护工程师。徐秀娟小时候常帮着父亲喂小鹤，潜移默化中也爱上了丹顶鹤。徐秀娟常年累月地与丹顶鹤生活在一起，许多的丹顶鹤都成了她的朋友。徐秀娟大学毕业后，留在了盐城自然保护区工作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有一天，平常规律性很强的这两只丹顶鹤在天黑之时没有按时归巢，因为害怕它们发生意外，不敢大意的徐秀娟找了它们两天两夜。可谁又能想到，她却在寻找它们的过程中，滑进了沼泽地，再也没上来过。生命的脆弱总是让人很是无奈，一瞬间的别离，也许就是一世。当这两只贪玩的丹顶鹤飞回时，它们再也没见到曾挽救过它们生命的徐秀娟了，它们只能在她的身边徘徊，不停地低下带着红冠的头，用长长的喙整理着她湿淋淋的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也许因为失去了这么好的一位朋友而感到难受且自责，从此以后，这两只丹顶鹤再也不夜不归宿了。当徐秀娟的遗体下葬在保护区的滩涂上后，它们至今仍是喜欢站在徐秀娟的坟头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嗝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嗝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地叫着，似乎向她倾诉着心中的思念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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1361.mp3" descr=""/>
          <p:cNvPicPr/>
          <p:nvPr/>
        </p:nvPicPr>
        <p:blipFill>
          <a:blip r:embed="rId1"/>
          <a:stretch/>
        </p:blipFill>
        <p:spPr>
          <a:xfrm>
            <a:off x="845964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755640" y="-241200"/>
            <a:ext cx="77724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丹顶鹤的故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5997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2007101305164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2262240" y="2773440"/>
            <a:ext cx="46148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>
                <a:solidFill>
                  <a:srgbClr val="0000ff"/>
                </a:solidFill>
                <a:latin typeface="Times New Roman"/>
              </a:rPr>
              <a:t>保 护 动 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班德瑞 - 初雪.mp3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1"/>
          <p:cNvSpPr/>
          <p:nvPr/>
        </p:nvSpPr>
        <p:spPr>
          <a:xfrm>
            <a:off x="-203040" y="5668920"/>
            <a:ext cx="82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95264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20057188524192105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108000" y="1574640"/>
            <a:ext cx="239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拓展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990440" y="3141720"/>
            <a:ext cx="2029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ff"/>
                </a:solidFill>
                <a:latin typeface="仿宋_GB2312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cc66ff"/>
                </a:solidFill>
                <a:latin typeface="仿宋_GB2312"/>
                <a:ea typeface="仿宋_GB2312"/>
              </a:rPr>
              <a:t>在课外找一些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ff"/>
                </a:solidFill>
                <a:latin typeface="仿宋_GB2312"/>
                <a:ea typeface="仿宋_GB2312"/>
              </a:rPr>
              <a:t>于保护动物的资料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动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免费完整版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毕业设计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月总结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精美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课件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13EC-421C-44FD-AF7C-B973DA5962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010_610_272e4923e8cf98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8920" y="1412640"/>
            <a:ext cx="6696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60165"/>
                </a:solidFill>
                <a:latin typeface="新宋体"/>
                <a:ea typeface="新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这年春天，成千上万只燕子从南方飞回北方时，在瑞士境内遇到了麻烦。当地气温骤降，风雪不止，几乎所有昆虫都被冻死了。燕子经过长途跋涉，已经非常疲劳，再加上找不到食物，饥寒交迫，濒临死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010_610_272e4923e8cf98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258920" y="1412640"/>
            <a:ext cx="6696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60165"/>
                </a:solidFill>
                <a:latin typeface="新宋体"/>
                <a:ea typeface="新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这年春天，成千上万只燕子从南方飞回北方时，在瑞士境内遇到了麻烦。当地</a:t>
            </a:r>
            <a:r>
              <a:rPr b="0" lang="zh-CN" sz="3600" spc="-1" strike="noStrike">
                <a:solidFill>
                  <a:srgbClr val="ff0000"/>
                </a:solidFill>
                <a:latin typeface="新宋体"/>
                <a:ea typeface="新宋体"/>
              </a:rPr>
              <a:t>气温骤降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，风雪不止，几乎所有昆虫都被冻死了。燕子经过长途跋涉，已经非常疲劳，再加上找不到食物，饥寒交迫，濒临死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6"/>
          <p:cNvSpPr/>
          <p:nvPr/>
        </p:nvSpPr>
        <p:spPr>
          <a:xfrm>
            <a:off x="3492360" y="5877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1010_610_272e4923e8cf98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224000" y="1197000"/>
            <a:ext cx="6696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60165"/>
                </a:solidFill>
                <a:latin typeface="新宋体"/>
                <a:ea typeface="新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这年春天，成千上万只燕子从南方飞回北方时，在瑞士境内遇到了麻烦。当地</a:t>
            </a:r>
            <a:r>
              <a:rPr b="0" lang="zh-CN" sz="3600" spc="-1" strike="noStrike">
                <a:solidFill>
                  <a:srgbClr val="ff0000"/>
                </a:solidFill>
                <a:latin typeface="新宋体"/>
                <a:ea typeface="新宋体"/>
              </a:rPr>
              <a:t>气温骤降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，</a:t>
            </a:r>
            <a:r>
              <a:rPr b="0" lang="zh-CN" sz="3600" spc="-1" strike="noStrike">
                <a:solidFill>
                  <a:srgbClr val="ff0000"/>
                </a:solidFill>
                <a:latin typeface="新宋体"/>
                <a:ea typeface="新宋体"/>
              </a:rPr>
              <a:t>风雪不止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，几乎所有昆虫都被冻死了。燕子经过长途跋涉，已经非常疲劳，再加上找不到食物，饥寒交迫，濒临死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010_610_272e4923e8cf98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58920" y="1412640"/>
            <a:ext cx="6696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60165"/>
                </a:solidFill>
                <a:latin typeface="新宋体"/>
                <a:ea typeface="新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这年春天，成千上万只燕子从南方飞回北方时，在瑞士境内遇到了麻烦。当地</a:t>
            </a:r>
            <a:r>
              <a:rPr b="0" lang="zh-CN" sz="3600" spc="-1" strike="noStrike">
                <a:solidFill>
                  <a:srgbClr val="ff0000"/>
                </a:solidFill>
                <a:latin typeface="新宋体"/>
                <a:ea typeface="新宋体"/>
              </a:rPr>
              <a:t>气温骤降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，</a:t>
            </a:r>
            <a:r>
              <a:rPr b="0" lang="zh-CN" sz="3600" spc="-1" strike="noStrike">
                <a:solidFill>
                  <a:srgbClr val="ff0000"/>
                </a:solidFill>
                <a:latin typeface="新宋体"/>
                <a:ea typeface="新宋体"/>
              </a:rPr>
              <a:t>风雪不止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，几乎所有昆虫都被冻死了。燕子经过</a:t>
            </a:r>
            <a:r>
              <a:rPr b="0" lang="zh-CN" sz="3600" spc="-1" strike="noStrike">
                <a:solidFill>
                  <a:srgbClr val="ff0000"/>
                </a:solidFill>
                <a:latin typeface="新宋体"/>
                <a:ea typeface="新宋体"/>
              </a:rPr>
              <a:t>长途跋涉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，已经非常疲劳，再加上找不到食物，饥寒交迫，濒临死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1010_610_272e4923e8cf98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58920" y="1412640"/>
            <a:ext cx="6696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60165"/>
                </a:solidFill>
                <a:latin typeface="新宋体"/>
                <a:ea typeface="新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这年春天，成千上万只燕子从南方飞回北方时，在瑞士境内遇到了麻烦。当地</a:t>
            </a:r>
            <a:r>
              <a:rPr b="0" lang="zh-CN" sz="3600" spc="-1" strike="noStrike">
                <a:solidFill>
                  <a:srgbClr val="ff0000"/>
                </a:solidFill>
                <a:latin typeface="新宋体"/>
                <a:ea typeface="新宋体"/>
              </a:rPr>
              <a:t>气温骤降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，</a:t>
            </a:r>
            <a:r>
              <a:rPr b="0" lang="zh-CN" sz="3600" spc="-1" strike="noStrike">
                <a:solidFill>
                  <a:srgbClr val="ff0000"/>
                </a:solidFill>
                <a:latin typeface="新宋体"/>
                <a:ea typeface="新宋体"/>
              </a:rPr>
              <a:t>风雪不止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，几乎所有昆虫都被冻死了。燕子经过</a:t>
            </a:r>
            <a:r>
              <a:rPr b="0" lang="zh-CN" sz="3600" spc="-1" strike="noStrike">
                <a:solidFill>
                  <a:srgbClr val="ff0000"/>
                </a:solidFill>
                <a:latin typeface="新宋体"/>
                <a:ea typeface="新宋体"/>
              </a:rPr>
              <a:t>长途跋涉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，已经非常疲劳，再加上找不到食物，</a:t>
            </a:r>
            <a:r>
              <a:rPr b="0" lang="zh-CN" sz="3600" spc="-1" strike="noStrike">
                <a:solidFill>
                  <a:srgbClr val="ff0000"/>
                </a:solidFill>
                <a:latin typeface="新宋体"/>
                <a:ea typeface="新宋体"/>
              </a:rPr>
              <a:t>饥寒交迫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，濒临死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010_610_272e4923e8cf98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58920" y="1412640"/>
            <a:ext cx="6696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60165"/>
                </a:solidFill>
                <a:latin typeface="新宋体"/>
                <a:ea typeface="新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这年春天，成千上万只燕子从南方飞回北方时，在瑞士境内遇到了麻烦。当地</a:t>
            </a:r>
            <a:r>
              <a:rPr b="0" lang="zh-CN" sz="3600" spc="-1" strike="noStrike">
                <a:solidFill>
                  <a:srgbClr val="ff0000"/>
                </a:solidFill>
                <a:latin typeface="新宋体"/>
                <a:ea typeface="新宋体"/>
              </a:rPr>
              <a:t>气温骤降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，</a:t>
            </a:r>
            <a:r>
              <a:rPr b="0" lang="zh-CN" sz="3600" spc="-1" strike="noStrike">
                <a:solidFill>
                  <a:srgbClr val="ff0000"/>
                </a:solidFill>
                <a:latin typeface="新宋体"/>
                <a:ea typeface="新宋体"/>
              </a:rPr>
              <a:t>风雪不止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，几乎所有昆虫都被冻死了。燕子经过</a:t>
            </a:r>
            <a:r>
              <a:rPr b="0" lang="zh-CN" sz="3600" spc="-1" strike="noStrike">
                <a:solidFill>
                  <a:srgbClr val="ff0000"/>
                </a:solidFill>
                <a:latin typeface="新宋体"/>
                <a:ea typeface="新宋体"/>
              </a:rPr>
              <a:t>长途跋涉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，已经非常疲劳，再加上找不到食物，</a:t>
            </a:r>
            <a:r>
              <a:rPr b="0" lang="zh-CN" sz="3600" spc="-1" strike="noStrike">
                <a:solidFill>
                  <a:srgbClr val="ff0000"/>
                </a:solidFill>
                <a:latin typeface="新宋体"/>
                <a:ea typeface="新宋体"/>
              </a:rPr>
              <a:t>饥寒交迫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，</a:t>
            </a:r>
            <a:r>
              <a:rPr b="0" lang="zh-CN" sz="3600" spc="-1" strike="noStrike">
                <a:solidFill>
                  <a:srgbClr val="ff0000"/>
                </a:solidFill>
                <a:latin typeface="新宋体"/>
                <a:ea typeface="新宋体"/>
              </a:rPr>
              <a:t>濒临死亡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diamond/>
    <p:sndAc>
      <p:stSnd>
        <p:snd r:embed="rId2" name="%E5%9F%99%E6%9B%B2%E5%A6%86%E5%8F%B0%E7%A7%8B%E6%80%9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7:07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2:51Z</dcterms:modified>
  <cp:revision>3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