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DDF1-2BA6-4A65-9092-25B9D67015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EB5D-309B-4C9C-8045-66DE81D35E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BE1-0BB4-47D8-809A-3AEC4E2F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139-5BCD-46F4-9F77-661B143B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ACD-3A17-4057-B633-62998641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6D1-5E6A-401F-BF7E-C244C1E2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0FD-A6E5-4B6D-A390-61C935AD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C3A-009B-4863-80C3-CAC6DC92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A0E-A413-4346-9726-4461383A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365-FC1A-44FF-8109-D4B62F94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7D4-4A4A-4FC0-9776-B2153827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DF1-3647-4129-8249-4E9C92A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7F8-788E-459C-8B1E-AE00F636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5B6-8A4E-49C6-A327-747D337F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1FEC-EB4C-4815-8605-81877BA6E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901880" y="2693880"/>
            <a:ext cx="5556240" cy="3203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03280" y="112536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己的小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93464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684360" y="1339920"/>
            <a:ext cx="67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走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天的原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走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夏天的雷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走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五彩斑斓的人生风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900000" y="486900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，理想的星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照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我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照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我们欢乐的童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28720" y="2995560"/>
            <a:ext cx="5545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伸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方的高山、草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伸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梦中蔚蓝的海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684360" y="1197000"/>
            <a:ext cx="748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，理想的星光照耀着我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耀着我们欢乐的童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启明星升起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胆地跨出童年的门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上自己的小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蒲公英一样飞向遥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着无数个憧憬和梦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悄悄去追寻岁月的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相信，不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心灵的明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化成片片绚丽的朝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成首首未来的诗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435640" y="4076640"/>
            <a:ext cx="3313080" cy="2044800"/>
          </a:xfrm>
          <a:prstGeom prst="cloudCallout">
            <a:avLst>
              <a:gd name="adj1" fmla="val -44731"/>
              <a:gd name="adj2" fmla="val 6513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这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心灵的明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指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1628640" y="765000"/>
            <a:ext cx="5472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每个孩子都有一条自己的小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从我们小小的校园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一直伸向远方的高山、草原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伸向梦中蔚蓝的海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每个路口都有希望和友谊站立着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等待着携上我们的手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一同走向春天的原野，走向夏天的雷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走向那五彩斑斓的人生风景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今天，理想的星光照耀着我们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照耀着我们欢乐的童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在启明星升起的时候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大胆地跨出童年的门槛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踏上自己的小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蒲公英一样飞向遥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带着无数个憧憬和梦幻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悄悄去追寻岁月的温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我相信，不久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这心灵的明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将化成片片绚丽的朝霞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化成首首未来的诗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932360" y="4005360"/>
            <a:ext cx="3429000" cy="2133360"/>
          </a:xfrm>
          <a:prstGeom prst="cloudCallout">
            <a:avLst>
              <a:gd name="adj1" fmla="val -50972"/>
              <a:gd name="adj2" fmla="val 7462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学了这首诗你有什么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5"/>
          <p:cNvSpPr/>
          <p:nvPr/>
        </p:nvSpPr>
        <p:spPr>
          <a:xfrm>
            <a:off x="1066680" y="609480"/>
            <a:ext cx="3429000" cy="2133720"/>
          </a:xfrm>
          <a:prstGeom prst="cloudCallout">
            <a:avLst>
              <a:gd name="adj1" fmla="val -50972"/>
              <a:gd name="adj2" fmla="val 7462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结合自身实际，你自己的小路是什么样子的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1066680" y="5934240"/>
            <a:ext cx="62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5C3A-B211-46BD-8CF5-890D2CB8A8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fb4015532685835e853524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304040" y="600696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小 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900000" y="1700280"/>
            <a:ext cx="7201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蔚蓝    携手    跨出    门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憧憬    绚丽    照耀    梦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启明星           五彩斑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20720" y="765000"/>
            <a:ext cx="6264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每个孩子都有一条自己的小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从我们小小的校园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一直伸向远方的高山、草原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伸向梦中蔚蓝的海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每个路口都有希望和友谊站立着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等待着携上我们的手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一同走向春天的原野，走向夏天的雷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走向那五彩斑斓的人生风景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今天，理想的星光照耀着我们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照耀着我们欢乐的童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在启明星升起的时候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大胆地跨出童年的门槛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踏上自己的小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蒲公英一样飞向遥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带着无数个憧憬和梦幻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悄悄去追寻岁月的温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我相信，不久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这心灵的明灯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将化成片片绚丽的朝霞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化成首首未来的诗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908000" y="21542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68360" y="1413000"/>
            <a:ext cx="69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孩子都有一条自己的小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我们小小的校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直伸向远方的高山、草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伸向梦中蔚蓝的海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5219640" y="3716280"/>
            <a:ext cx="3313080" cy="2230560"/>
          </a:xfrm>
          <a:prstGeom prst="cloudCallout">
            <a:avLst>
              <a:gd name="adj1" fmla="val -40226"/>
              <a:gd name="adj2" fmla="val 67296"/>
            </a:avLst>
          </a:prstGeom>
          <a:solidFill>
            <a:srgbClr val="a4fa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小路会伸向梦中蔚蓝的海岸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8"/>
          <p:cNvSpPr/>
          <p:nvPr/>
        </p:nvSpPr>
        <p:spPr>
          <a:xfrm>
            <a:off x="611280" y="1484280"/>
            <a:ext cx="75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路口都有希望和友谊站立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待着携上我们的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同走向春天的原野，走向夏天的雷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向那五彩斑斓的人生风景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5003640" y="3716280"/>
            <a:ext cx="3456000" cy="2303640"/>
          </a:xfrm>
          <a:prstGeom prst="cloudCallout">
            <a:avLst>
              <a:gd name="adj1" fmla="val -32314"/>
              <a:gd name="adj2" fmla="val 69847"/>
            </a:avLst>
          </a:prstGeom>
          <a:solidFill>
            <a:srgbClr val="a4fa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沿着小路往前走，我们会有什么收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4000" y="836640"/>
            <a:ext cx="777708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路口都有希望和友谊站立着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待着携上我们的手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同走向春天的原野，走向夏天的雷雨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向那五彩斑斓的人生风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3059280" y="141300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3419640" y="141300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4211640" y="141300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4572000" y="141300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4211640" y="20606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4572000" y="20606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4932360" y="20606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5292720" y="20606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5651640" y="206064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>
            <a:off x="7093080" y="206064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0"/>
          <p:cNvSpPr/>
          <p:nvPr/>
        </p:nvSpPr>
        <p:spPr>
          <a:xfrm>
            <a:off x="7451640" y="20606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7812000" y="20606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2"/>
          <p:cNvSpPr/>
          <p:nvPr/>
        </p:nvSpPr>
        <p:spPr>
          <a:xfrm>
            <a:off x="611280" y="270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3"/>
          <p:cNvSpPr/>
          <p:nvPr/>
        </p:nvSpPr>
        <p:spPr>
          <a:xfrm>
            <a:off x="90000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4"/>
          <p:cNvSpPr/>
          <p:nvPr/>
        </p:nvSpPr>
        <p:spPr>
          <a:xfrm>
            <a:off x="277164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5"/>
          <p:cNvSpPr/>
          <p:nvPr/>
        </p:nvSpPr>
        <p:spPr>
          <a:xfrm>
            <a:off x="313200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6"/>
          <p:cNvSpPr/>
          <p:nvPr/>
        </p:nvSpPr>
        <p:spPr>
          <a:xfrm>
            <a:off x="349236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7"/>
          <p:cNvSpPr/>
          <p:nvPr/>
        </p:nvSpPr>
        <p:spPr>
          <a:xfrm>
            <a:off x="385128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8"/>
          <p:cNvSpPr/>
          <p:nvPr/>
        </p:nvSpPr>
        <p:spPr>
          <a:xfrm>
            <a:off x="421164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9"/>
          <p:cNvSpPr/>
          <p:nvPr/>
        </p:nvSpPr>
        <p:spPr>
          <a:xfrm>
            <a:off x="457200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0"/>
          <p:cNvSpPr/>
          <p:nvPr/>
        </p:nvSpPr>
        <p:spPr>
          <a:xfrm>
            <a:off x="493236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1"/>
          <p:cNvSpPr/>
          <p:nvPr/>
        </p:nvSpPr>
        <p:spPr>
          <a:xfrm>
            <a:off x="529272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2"/>
          <p:cNvSpPr/>
          <p:nvPr/>
        </p:nvSpPr>
        <p:spPr>
          <a:xfrm>
            <a:off x="5651640" y="270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3"/>
          <p:cNvSpPr/>
          <p:nvPr/>
        </p:nvSpPr>
        <p:spPr>
          <a:xfrm>
            <a:off x="6084720" y="270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7"/>
          <p:cNvSpPr/>
          <p:nvPr/>
        </p:nvSpPr>
        <p:spPr>
          <a:xfrm>
            <a:off x="4500720" y="4149720"/>
            <a:ext cx="3887640" cy="1920960"/>
          </a:xfrm>
          <a:prstGeom prst="cloudCallout">
            <a:avLst>
              <a:gd name="adj1" fmla="val -48203"/>
              <a:gd name="adj2" fmla="val 7677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彩斑斓的人生风景线指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684360" y="242100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走向春天的原野，走向夏天的雷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向那五彩斑斓的人生风景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4005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一同走向春天的原野，夏天的雷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还有那五彩斑斓的人生风景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112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5"/>
          <p:cNvSpPr/>
          <p:nvPr/>
        </p:nvSpPr>
        <p:spPr>
          <a:xfrm>
            <a:off x="4067280" y="3860640"/>
            <a:ext cx="4716360" cy="2210040"/>
          </a:xfrm>
          <a:prstGeom prst="cloudCallout">
            <a:avLst>
              <a:gd name="adj1" fmla="val -11865"/>
              <a:gd name="adj2" fmla="val 7643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反复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手法的运用，增强了语言的感染力，增添了韵律美，读起来朗朗上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1:36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6:53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