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D5A51-08D6-4707-A1B5-0C7DE60ECE3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11FAA-0F99-4AEF-976B-6BD5F30DCF6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4BC8-8E76-42C6-A424-2FCF29F66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893F-A69E-44C0-AF07-6E7ED56F1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3946-AE97-435C-8F56-983746133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4EF9-542C-4FC6-AB45-24AAB8095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7AE6-9A45-4AA3-80A2-D3AFE3E5C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91FC-675F-4ADD-86F3-00B899C1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54EA-22BD-49C5-B102-BD82878DE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4CBD-52F3-4925-AEEE-7EB62EB19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5082-C0B1-4907-8C58-09457DA94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7B9D-E5DB-49F9-97D0-6533BD09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706F-F405-43EC-B2F8-27D8B78D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072D-24D6-4330-9614-89B46EA2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DD9A8-D865-429C-AAE0-C60AA89A7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>
            <a:off x="1122480" y="2205000"/>
            <a:ext cx="3240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黑体"/>
              </a:rPr>
              <a:t>醉麂</a:t>
            </a:r>
            <a:endParaRPr b="1" lang="en-US" sz="18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49" name="Picture 6" descr="麂"/>
          <p:cNvPicPr/>
          <p:nvPr/>
        </p:nvPicPr>
        <p:blipFill>
          <a:blip r:embed="rId3"/>
          <a:stretch/>
        </p:blipFill>
        <p:spPr>
          <a:xfrm>
            <a:off x="5148360" y="1844640"/>
            <a:ext cx="3557520" cy="3456000"/>
          </a:xfrm>
          <a:prstGeom prst="rect">
            <a:avLst/>
          </a:prstGeom>
          <a:ln w="0">
            <a:noFill/>
          </a:ln>
        </p:spPr>
      </p:pic>
      <p:sp>
        <p:nvSpPr>
          <p:cNvPr id="50" name="矩形 6"/>
          <p:cNvSpPr/>
          <p:nvPr/>
        </p:nvSpPr>
        <p:spPr>
          <a:xfrm>
            <a:off x="407880" y="5732640"/>
            <a:ext cx="4852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微软雅黑"/>
                <a:ea typeface="微软雅黑"/>
              </a:rPr>
              <a:t> </a:t>
            </a:r>
            <a:r>
              <a:rPr b="1" lang="zh-CN" sz="2000" spc="-1" strike="noStrike">
                <a:solidFill>
                  <a:srgbClr val="008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8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细读感悟"/>
          <p:cNvPicPr/>
          <p:nvPr/>
        </p:nvPicPr>
        <p:blipFill>
          <a:blip r:embed="rId1"/>
          <a:stretch/>
        </p:blipFill>
        <p:spPr>
          <a:xfrm>
            <a:off x="468360" y="1125360"/>
            <a:ext cx="2104920" cy="5637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971640" y="177336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品读课文第三部分（</a:t>
            </a: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9-11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自然段）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1187280" y="2492280"/>
            <a:ext cx="7632720" cy="20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在这所小学里，小黄麂每天是怎样生活的？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小黄麂满足现在的生活吗？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9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5"/>
          <p:cNvSpPr/>
          <p:nvPr/>
        </p:nvSpPr>
        <p:spPr>
          <a:xfrm>
            <a:off x="395280" y="1125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整体感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1042920" y="1989000"/>
            <a:ext cx="65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这篇文章语言优美，描写细致，向我们展示了小黄麂的两种醉态，是哪两种呢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1187280" y="3068640"/>
            <a:ext cx="7705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一种是喝醉后的神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一种是它陶醉于和同学们和平相处、受到同学爱护的生活状态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1"/>
          <p:cNvSpPr/>
          <p:nvPr/>
        </p:nvSpPr>
        <p:spPr>
          <a:xfrm>
            <a:off x="852480" y="5792760"/>
            <a:ext cx="62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拓展学习"/>
          <p:cNvPicPr/>
          <p:nvPr/>
        </p:nvPicPr>
        <p:blipFill>
          <a:blip r:embed="rId1"/>
          <a:stretch/>
        </p:blipFill>
        <p:spPr>
          <a:xfrm>
            <a:off x="395280" y="1052640"/>
            <a:ext cx="2160720" cy="5331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1042920" y="2276640"/>
            <a:ext cx="756144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假如你是这群学生中的一员，你还会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小黄麂做些什么？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假如你是小黄麂你会对同学们说些什么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0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3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4"/>
          <p:cNvSpPr txBox="1"/>
          <p:nvPr/>
        </p:nvSpPr>
        <p:spPr>
          <a:xfrm>
            <a:off x="2987640" y="2637000"/>
            <a:ext cx="3292560" cy="193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47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黑体"/>
              </a:rPr>
              <a:t>再见！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5E805-0D11-4C7F-9551-92DCAD7423F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900000" y="2276640"/>
            <a:ext cx="7705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认识会写本课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缸、诱、腥、枕、脂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稍、矩、坪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个生字，理解本课新词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通过理解课文，培养关爱动物的思想感情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1175760" y="126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黑体"/>
              </a:rPr>
              <a:t>学习要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684360" y="2133720"/>
            <a:ext cx="5616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重点难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懂得人与动物应和睦相处的道理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1619280" y="2708280"/>
            <a:ext cx="5761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缸   诱   腥   枕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脂   稍   矩   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619280" y="2349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ā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3203640" y="23493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yò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6156360" y="2349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zhě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1692360" y="3860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zh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3132000" y="386064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hā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485928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j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6227640" y="386064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í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4716360" y="234936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ī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468360" y="105264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黑体"/>
              </a:rPr>
              <a:t>生字学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7"/>
          <p:cNvSpPr/>
          <p:nvPr/>
        </p:nvSpPr>
        <p:spPr>
          <a:xfrm>
            <a:off x="1900080" y="47973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4"/>
          <p:cNvSpPr txBox="1"/>
          <p:nvPr/>
        </p:nvSpPr>
        <p:spPr>
          <a:xfrm>
            <a:off x="1187280" y="1557360"/>
            <a:ext cx="13129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麂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pic>
        <p:nvPicPr>
          <p:cNvPr id="66" name="Picture 5" descr="麂1"/>
          <p:cNvPicPr/>
          <p:nvPr/>
        </p:nvPicPr>
        <p:blipFill>
          <a:blip r:embed="rId1"/>
          <a:stretch/>
        </p:blipFill>
        <p:spPr>
          <a:xfrm>
            <a:off x="826920" y="3357720"/>
            <a:ext cx="2881440" cy="24717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"/>
          <p:cNvSpPr/>
          <p:nvPr/>
        </p:nvSpPr>
        <p:spPr>
          <a:xfrm>
            <a:off x="4716360" y="1484280"/>
            <a:ext cx="36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鹿科的</a:t>
            </a: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属，仅雄麂具短角，角干向后伸展，角尖内弯，不分杈或仅分一小杈，角基部在脸上形成纵棱脊；被毛较其他鹿科动物短而细；四肢细长、蹄狭尖；有大的上犬齿弯曲呈獠牙状，但较麝、獐的獠牙小；头骨略呈三角形，泪窝显著。本属共</a:t>
            </a: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种。中国分布有</a:t>
            </a: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种：黑麂、赤麂和小麂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1042920" y="2924280"/>
            <a:ext cx="73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  <a:ea typeface="楷体_GB2312"/>
              </a:rPr>
              <a:t>读了课题，你有什么疑问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468360" y="112536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黑体"/>
              </a:rPr>
              <a:t>阅读思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细读感悟"/>
          <p:cNvPicPr/>
          <p:nvPr/>
        </p:nvPicPr>
        <p:blipFill>
          <a:blip r:embed="rId1"/>
          <a:stretch/>
        </p:blipFill>
        <p:spPr>
          <a:xfrm>
            <a:off x="468360" y="1125360"/>
            <a:ext cx="2104920" cy="5637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1116000" y="2276640"/>
            <a:ext cx="741672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你们见过喝醉酒的人吗？他们有什么样的举止？课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文是怎样描写小黄麂喝醉酒的感觉？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从小黄麂喝醉酒的程度来看，你觉得这酒的味道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么样？它喝得多吗？你是从哪些句子里看出来的？</a:t>
            </a:r>
            <a:br>
              <a:rPr sz="2400"/>
            </a:b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　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1187280" y="2133720"/>
            <a:ext cx="41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品读第一部分（</a:t>
            </a: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-5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自然段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细读感悟"/>
          <p:cNvPicPr/>
          <p:nvPr/>
        </p:nvPicPr>
        <p:blipFill>
          <a:blip r:embed="rId1"/>
          <a:stretch/>
        </p:blipFill>
        <p:spPr>
          <a:xfrm>
            <a:off x="468360" y="1125360"/>
            <a:ext cx="2104920" cy="5637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1187280" y="2924280"/>
            <a:ext cx="756144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我们知道，酒是人工酿造出来的。这么美味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酒是谁送给它喝的，酒是怎么来的呢？</a:t>
            </a:r>
            <a:br>
              <a:rPr sz="2400"/>
            </a:b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　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这只贪吃的小黄麂是怎样来到这个大酒缸边的？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1187280" y="2133720"/>
            <a:ext cx="410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品读第一部分（</a:t>
            </a: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-5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自然段）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细读感悟"/>
          <p:cNvPicPr/>
          <p:nvPr/>
        </p:nvPicPr>
        <p:blipFill>
          <a:blip r:embed="rId1"/>
          <a:stretch/>
        </p:blipFill>
        <p:spPr>
          <a:xfrm>
            <a:off x="468360" y="1125360"/>
            <a:ext cx="2104920" cy="5637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1042920" y="198900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品读第二部分（</a:t>
            </a: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6-8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自然段）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900000" y="2781360"/>
            <a:ext cx="7920000" cy="35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猜想：小黄麂喝醉之后，有可能会发生什么事情呢？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课文里的小黄麂发现自己来到了一所学校。同学们是怎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么样对待小黄麂的？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面对同学们的关心，小黄麂有怎样的反应呢？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9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9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06:51:0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45:25Z</dcterms:modified>
  <cp:revision>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