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7F9B-EED6-405E-AFF6-E36E79FE78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3DD-16F5-45E0-BC9D-881535D580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B55-D166-43FD-B577-88CC103D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402-89C1-4DB7-AE9F-3DFACF45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17A-2DCD-4EFE-B142-FF18235B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3AC-46BD-4A9E-B362-9BAADA42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38D-2FD5-41B5-BAC1-BEAC02D6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1C6-6091-443B-9D42-71852EC4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9A7-6F16-47D8-A91D-CF54113C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879-B536-4B03-B09C-B4019457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E7A-BDA1-434A-8FF4-9338AB11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474-BCC4-4AD6-9FE2-3566F191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A07-CC92-4BE4-BF9A-F31448E5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0AB-527A-475B-8BE8-83EB7E9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55E3-34B5-4AC1-8A97-784655AE81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10726131256134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麂"/>
          <p:cNvPicPr/>
          <p:nvPr/>
        </p:nvPicPr>
        <p:blipFill>
          <a:blip r:embed="rId2"/>
          <a:stretch/>
        </p:blipFill>
        <p:spPr>
          <a:xfrm>
            <a:off x="2089080" y="2997360"/>
            <a:ext cx="4967280" cy="312228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2089080" y="1268280"/>
            <a:ext cx="4967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华文中宋"/>
              </a:rPr>
              <a:t>醉麂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751400" y="61196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细读感悟"/>
          <p:cNvPicPr/>
          <p:nvPr/>
        </p:nvPicPr>
        <p:blipFill>
          <a:blip r:embed="rId2"/>
          <a:stretch/>
        </p:blipFill>
        <p:spPr>
          <a:xfrm>
            <a:off x="6012000" y="692280"/>
            <a:ext cx="2104920" cy="563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0" y="62064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品读课文第三部分（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-1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11280" y="2205000"/>
            <a:ext cx="7632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在这所小学里，小黄麂每天是怎样生活的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小黄麂满足现在的生活吗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556000" y="6922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整体感悟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557360"/>
            <a:ext cx="7775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篇文章语言优美，描写细致，向我们展示了小黄麂的两种醉态，是哪两种呢？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3500280"/>
            <a:ext cx="7705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种是喝醉后的神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种是它陶醉于和同学们和平相处、受到同学爱护的生活状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拓展学习"/>
          <p:cNvPicPr/>
          <p:nvPr/>
        </p:nvPicPr>
        <p:blipFill>
          <a:blip r:embed="rId2"/>
          <a:stretch/>
        </p:blipFill>
        <p:spPr>
          <a:xfrm>
            <a:off x="324000" y="409680"/>
            <a:ext cx="4176720" cy="1031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611280" y="2193840"/>
            <a:ext cx="8064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假如你是这群学生中的一员，你还会对小黄麂做些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假如你是小黄麂你会对同学们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2008080" y="6183360"/>
            <a:ext cx="49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3"/>
          <p:cNvSpPr txBox="1"/>
          <p:nvPr/>
        </p:nvSpPr>
        <p:spPr>
          <a:xfrm>
            <a:off x="3276720" y="476280"/>
            <a:ext cx="1828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主题思想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42920" y="1484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记叙了小黄麂离开妈妈后，进入大自然里发生的一系列事情，反映了人与动物和睦相处、其乐融融的美好情景。表达了作者爱动物、爱自然地美好情感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010726131256134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3"/>
          <p:cNvSpPr txBox="1"/>
          <p:nvPr/>
        </p:nvSpPr>
        <p:spPr>
          <a:xfrm>
            <a:off x="2700360" y="3141720"/>
            <a:ext cx="388764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ff66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BE13-BCBA-4E23-8DCA-2944405C75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619280" y="2708280"/>
            <a:ext cx="57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缸   诱   腥   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脂   稍   矩   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619280" y="23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g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03640" y="234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y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56360" y="2349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zhě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9236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zh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132000" y="3860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h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8592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j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227640" y="3860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716360" y="2349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xī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39640" y="69228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读读记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0" y="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记一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3851280" y="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近义词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549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覆盖（遮盖） 干脆（利索） 嬉闹（嬉戏）注视（凝视） 撒野（撒泼）规规矩矩（老老实实）  欢蹦乱跳（活蹦乱跳）淘气（调皮）安静（宁静）暖融融（暖洋洋）诱人（迷人）贪馋（贪婪）摇落（刮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3780000" y="3429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反义词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93372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淘气（安静）覆盖（裸露）成熟（稚嫩）天然（人工）干脆（啰嗦） 模糊（清楚）欢蹦乱跳（无精打采）甜（苦）敞开（关闭）犹豫（果断）高兴（悲伤）暖融融（冷飕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3203640" y="47628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读准多音字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9640" y="1052640"/>
            <a:ext cx="237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熨熨帖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熨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203640" y="1125360"/>
            <a:ext cx="158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瓦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缝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932360" y="1125360"/>
            <a:ext cx="1511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77080" y="1197000"/>
            <a:ext cx="151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11280" y="3141720"/>
            <a:ext cx="158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切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亲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411280" y="3068640"/>
            <a:ext cx="158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211640" y="3068640"/>
            <a:ext cx="237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待会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767640" y="3141720"/>
            <a:ext cx="237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仿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佛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39640" y="4869000"/>
            <a:ext cx="237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行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268360" y="4869000"/>
            <a:ext cx="151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埋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67280" y="4797360"/>
            <a:ext cx="237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埋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埋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940360" y="4797360"/>
            <a:ext cx="237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满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年五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1763640" y="1413000"/>
            <a:ext cx="1312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麂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85" name="Picture 4" descr="麂1"/>
          <p:cNvPicPr/>
          <p:nvPr/>
        </p:nvPicPr>
        <p:blipFill>
          <a:blip r:embed="rId2"/>
          <a:stretch/>
        </p:blipFill>
        <p:spPr>
          <a:xfrm>
            <a:off x="971640" y="3213000"/>
            <a:ext cx="2881080" cy="2471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284720" y="549360"/>
            <a:ext cx="431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鹿科的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属，仅雄麂具短角，角干向后伸展，角尖内弯，不分杈或仅分一小杈，角基部在脸上形成纵棱脊；被毛较其他鹿科动物短而细；四肢细长、蹄狭尖；有大的上犬齿弯曲呈獠牙状，但较麝、獐的獠牙小；头骨略呈三角形，泪窝显著。本属共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种。中国分布有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种：黑麂、赤麂和小麂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124000" y="549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3348000" y="44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971640" y="270828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读了课题，你有什么疑问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755640" y="260280"/>
            <a:ext cx="14400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思考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细读感悟"/>
          <p:cNvPicPr/>
          <p:nvPr/>
        </p:nvPicPr>
        <p:blipFill>
          <a:blip r:embed="rId2"/>
          <a:stretch/>
        </p:blipFill>
        <p:spPr>
          <a:xfrm>
            <a:off x="6156360" y="765000"/>
            <a:ext cx="2104920" cy="563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395280" y="1268280"/>
            <a:ext cx="784872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们见过喝醉酒的人吗？他们有什么样的举止？课文是怎样描写小黄麂喝醉酒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从小黄麂喝醉酒的程度来看，你觉得这酒的味道怎么样？它喝得多吗？你是从哪些句子里看出来的？</a:t>
            </a: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73188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品读第一部分（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-5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细读感悟"/>
          <p:cNvPicPr/>
          <p:nvPr/>
        </p:nvPicPr>
        <p:blipFill>
          <a:blip r:embed="rId2"/>
          <a:stretch/>
        </p:blipFill>
        <p:spPr>
          <a:xfrm>
            <a:off x="5867280" y="692280"/>
            <a:ext cx="2105280" cy="563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84360" y="1844640"/>
            <a:ext cx="7561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们知道，酒是人工酿造出来的。这么美味的酒是谁送给它喝的，酒是怎么来的呢？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只贪吃的小黄麂是怎样来到这个大酒缸边的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87280" y="40464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品读第一部分（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-5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010726131256134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细读感悟"/>
          <p:cNvPicPr/>
          <p:nvPr/>
        </p:nvPicPr>
        <p:blipFill>
          <a:blip r:embed="rId2"/>
          <a:stretch/>
        </p:blipFill>
        <p:spPr>
          <a:xfrm>
            <a:off x="5867280" y="620640"/>
            <a:ext cx="2105280" cy="563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539640" y="40464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品读第二部分（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-8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然段）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11280" y="1844640"/>
            <a:ext cx="79200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猜想：小黄麂喝醉之后，有可能会发生什么事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里的小黄麂发现自己来到了一所学校。同学们是怎么样对待小黄麂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面对同学们的关心，小黄麂有怎样的反应呢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6:51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5:20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