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46.jpeg" ContentType="image/jpeg"/>
  <Override PartName="/ppt/media/image6.jpeg" ContentType="image/jpeg"/>
  <Override PartName="/ppt/media/image5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3.png" ContentType="image/png"/>
  <Override PartName="/ppt/media/image17.jpeg" ContentType="image/jpeg"/>
  <Override PartName="/ppt/media/chimes.wav" ContentType="audio/x-wav"/>
  <Override PartName="/ppt/media/image21.jpeg" ContentType="image/jpeg"/>
  <Override PartName="/ppt/media/image29.png" ContentType="image/png"/>
  <Override PartName="/ppt/media/image1.jpeg" ContentType="image/jpeg"/>
  <Override PartName="/ppt/media/image47.png" ContentType="image/png"/>
  <Override PartName="/ppt/media/image22.jpeg" ContentType="image/jpeg"/>
  <Override PartName="/ppt/media/image50.jpeg" ContentType="image/jpeg"/>
  <Override PartName="/ppt/media/image27.jpeg" ContentType="image/jpeg"/>
  <Override PartName="/ppt/media/image23.jpeg" ContentType="image/jpeg"/>
  <Override PartName="/ppt/media/image49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projctor.wav" ContentType="audio/x-wav"/>
  <Override PartName="/ppt/media/image24.jpeg" ContentType="image/jpeg"/>
  <Override PartName="/ppt/media/image19.jpeg" ContentType="image/jpeg"/>
  <Override PartName="/ppt/media/image42.jpeg" ContentType="image/jpeg"/>
  <Override PartName="/ppt/media/image2.png" ContentType="image/png"/>
  <Override PartName="/ppt/media/image14.png" ContentType="image/png"/>
  <Override PartName="/ppt/media/image20.jpeg" ContentType="image/jpeg"/>
  <Override PartName="/ppt/media/image13.jpeg" ContentType="image/jpeg"/>
  <Override PartName="/ppt/media/image44.png" ContentType="image/png"/>
  <Override PartName="/ppt/media/type.wav" ContentType="audio/x-wav"/>
  <Override PartName="/ppt/media/suction.wav" ContentType="audio/x-wav"/>
  <Override PartName="/ppt/media/laser.wav" ContentType="audio/x-wav"/>
  <Override PartName="/ppt/media/image11.jpeg" ContentType="image/jpeg"/>
  <Override PartName="/ppt/media/image7.jpeg" ContentType="image/jpeg"/>
  <Override PartName="/ppt/media/image2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12.jpeg" ContentType="image/jpeg"/>
  <Override PartName="/ppt/media/image34.png" ContentType="image/png"/>
  <Override PartName="/ppt/media/image10.gif" ContentType="image/gif"/>
  <Override PartName="/ppt/media/image30.png" ContentType="image/png"/>
  <Override PartName="/ppt/media/voltage.wav" ContentType="audio/x-wav"/>
  <Override PartName="/ppt/media/image37.jpeg" ContentType="image/jpeg"/>
  <Override PartName="/ppt/media/image31.png" ContentType="image/png"/>
  <Override PartName="/ppt/media/image35.png" ContentType="image/png"/>
  <Override PartName="/ppt/media/applause.wav" ContentType="audio/x-wav"/>
  <Override PartName="/ppt/media/image9.jpeg" ContentType="image/jpeg"/>
  <Override PartName="/ppt/media/image36.png" ContentType="image/png"/>
  <Override PartName="/ppt/media/whoosh.wav" ContentType="audio/x-wav"/>
  <Override PartName="/ppt/media/image16.jpeg" ContentType="image/jpeg"/>
  <Override PartName="/ppt/media/hammer.wav" ContentType="audio/x-wav"/>
  <Override PartName="/ppt/media/click.wav" ContentType="audio/x-wav"/>
  <Override PartName="/ppt/media/image41.jpeg" ContentType="image/jpeg"/>
  <Override PartName="/ppt/media/image43.png" ContentType="image/png"/>
  <Override PartName="/ppt/media/image48.png" ContentType="image/png"/>
  <Override PartName="/ppt/media/image4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68EC-8AC2-4EF5-A388-5D1F594170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0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5CE6-E330-4896-81DA-FFC70AA5D7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F66-7D11-4557-BD26-6B27FD73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CBB-B458-43F8-9886-344716D2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4F2-BB39-4BF6-9E67-4DDFE921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820-D9F5-440D-B6C9-95AB3297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2FA-B115-4F3B-AF9A-5AD79981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3AD-A937-4F11-88D5-ECC3EEC4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388-95AC-4C5D-8378-E4A47BA7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932-50CE-483B-9FDF-8EC30E4C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510-3118-492E-81A3-7F72DD6C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D71-B4C3-438A-8AB5-908BB71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09B-026F-486B-B13E-7323B99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284-27C3-4184-B2DF-A4E49550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40FD-8675-4F89-BC13-8C7AC3438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5.xml"/><Relationship Id="rId3" Type="http://schemas.openxmlformats.org/officeDocument/2006/relationships/image" Target="../media/image29.pn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5.xml"/><Relationship Id="rId3" Type="http://schemas.openxmlformats.org/officeDocument/2006/relationships/image" Target="../media/image31.png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35.xml"/><Relationship Id="rId3" Type="http://schemas.openxmlformats.org/officeDocument/2006/relationships/image" Target="../media/image33.png"/><Relationship Id="rId4" Type="http://schemas.openxmlformats.org/officeDocument/2006/relationships/slide" Target="slide14.xml"/><Relationship Id="rId5" Type="http://schemas.openxmlformats.org/officeDocument/2006/relationships/image" Target="../media/image34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2.png"/><Relationship Id="rId3" Type="http://schemas.openxmlformats.org/officeDocument/2006/relationships/slide" Target="slide14.xml"/><Relationship Id="rId4" Type="http://schemas.openxmlformats.org/officeDocument/2006/relationships/image" Target="../media/image36.png"/><Relationship Id="rId5" Type="http://schemas.openxmlformats.org/officeDocument/2006/relationships/audio" Target="../media/whoosh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voltage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241052.htm" TargetMode="External"/><Relationship Id="rId2" Type="http://schemas.openxmlformats.org/officeDocument/2006/relationships/hyperlink" Target="http://baike.baidu.com/view/1099122.htm" TargetMode="External"/><Relationship Id="rId3" Type="http://schemas.openxmlformats.org/officeDocument/2006/relationships/hyperlink" Target="http://baike.baidu.com/view/27728.htm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audio" Target="../media/hammer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51yuwen.cn/Photo/" TargetMode="External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51yuwen.cn/Photo/" TargetMode="External"/><Relationship Id="rId2" Type="http://schemas.openxmlformats.org/officeDocument/2006/relationships/image" Target="../media/image41.jpeg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51yuwen.cn/Photo/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51yuwen.cn/Photo/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rcRect l="0" t="0" r="7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826920" y="765000"/>
            <a:ext cx="4969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找骆驼</a:t>
            </a:r>
            <a:endParaRPr b="1" i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2" name="矩形 7" descr=""/>
          <p:cNvPicPr/>
          <p:nvPr/>
        </p:nvPicPr>
        <p:blipFill>
          <a:blip r:embed="rId2"/>
          <a:stretch/>
        </p:blipFill>
        <p:spPr>
          <a:xfrm>
            <a:off x="1865160" y="5732640"/>
            <a:ext cx="5500800" cy="493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G88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62120" y="33526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5800" y="762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骆驼：有双峰驼和单峰驼两种。双峰驼曾在我国北方广泛驯养，至今在内蒙古和西北地区仍然能够见到。素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京华之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美誉。单峰驼有人认为也曾分布于我国的新疆一带，但现在仅见于阿拉伯半岛、印度和非洲北部等地。它的体毛较短，寿命可达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62120" y="33526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85800" y="914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骆驼的胃里有水囊，能贮存很多水；驼峰里储存有一百多千克脂肪，必要时可以转变成水的能量，维持骆驼的生命活动。因此，在沙漠里，可以一连三四十天不吃不喝，适于长途跋涉。骆驼成为人类在沙漠中的主要交通工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GG88"/>
          <p:cNvPicPr/>
          <p:nvPr/>
        </p:nvPicPr>
        <p:blipFill>
          <a:blip r:embed="rId2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RAM1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58720" y="2609640"/>
            <a:ext cx="82296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隶书"/>
              </a:rPr>
              <a:t>沙漠里的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908000" y="1628640"/>
            <a:ext cx="511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图片欣赏</a:t>
            </a:r>
            <a:endParaRPr b="0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8" name="16.Wma" descr=""/>
          <p:cNvPicPr/>
          <p:nvPr/>
        </p:nvPicPr>
        <p:blipFill>
          <a:blip r:embed="rId2"/>
          <a:stretch/>
        </p:blipFill>
        <p:spPr>
          <a:xfrm>
            <a:off x="7956720" y="5732640"/>
            <a:ext cx="664920" cy="66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骆驼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骆驼1"/>
          <p:cNvPicPr/>
          <p:nvPr/>
        </p:nvPicPr>
        <p:blipFill>
          <a:blip r:embed="rId3"/>
          <a:stretch/>
        </p:blipFill>
        <p:spPr>
          <a:xfrm>
            <a:off x="0" y="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骆驼5"/>
          <p:cNvPicPr/>
          <p:nvPr/>
        </p:nvPicPr>
        <p:blipFill>
          <a:blip r:embed="rId4"/>
          <a:stretch/>
        </p:blipFill>
        <p:spPr>
          <a:xfrm>
            <a:off x="0" y="3429000"/>
            <a:ext cx="289548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骆驼6"/>
          <p:cNvPicPr/>
          <p:nvPr/>
        </p:nvPicPr>
        <p:blipFill>
          <a:blip r:embed="rId5"/>
          <a:stretch/>
        </p:blipFill>
        <p:spPr>
          <a:xfrm>
            <a:off x="3048120" y="0"/>
            <a:ext cx="3124080" cy="32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美丽的沙漠"/>
          <p:cNvPicPr/>
          <p:nvPr/>
        </p:nvPicPr>
        <p:blipFill>
          <a:blip r:embed="rId6"/>
          <a:stretch/>
        </p:blipFill>
        <p:spPr>
          <a:xfrm>
            <a:off x="3048120" y="3429000"/>
            <a:ext cx="312408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骆驼队"/>
          <p:cNvPicPr/>
          <p:nvPr/>
        </p:nvPicPr>
        <p:blipFill>
          <a:blip r:embed="rId7"/>
          <a:stretch/>
        </p:blipFill>
        <p:spPr>
          <a:xfrm>
            <a:off x="6324480" y="342900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17520" y="1268280"/>
            <a:ext cx="86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自 学 提 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自由朗读课文，边读边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课文主要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商人丢失的骆驼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老人怎么知道这只驼的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夹板"/>
          <p:cNvPicPr/>
          <p:nvPr/>
        </p:nvPicPr>
        <p:blipFill>
          <a:blip r:embed="rId1"/>
          <a:stretch/>
        </p:blipFill>
        <p:spPr>
          <a:xfrm>
            <a:off x="-393840" y="-1031760"/>
            <a:ext cx="10258560" cy="8421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野骆驼1"/>
          <p:cNvPicPr/>
          <p:nvPr/>
        </p:nvPicPr>
        <p:blipFill>
          <a:blip r:embed="rId2"/>
          <a:stretch/>
        </p:blipFill>
        <p:spPr>
          <a:xfrm>
            <a:off x="7561440" y="4724280"/>
            <a:ext cx="1582560" cy="1727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39640" y="162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请同学们用你喜欢的方式读课文，然后思考课文中的商人、老人、和骆驼是怎样联系在一起的，从书上找出答案。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6112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读读    认认</a:t>
            </a:r>
            <a:br>
              <a:rPr sz="7200"/>
            </a:b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骆驼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跛脚     驮蜜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忿忿       啃吃     究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不紧不慢    至于     果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26" descr="A:\asd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6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My Documents\骆驼和脚印.tif"/>
          <p:cNvPicPr/>
          <p:nvPr/>
        </p:nvPicPr>
        <p:blipFill>
          <a:blip r:embed="rId2"/>
          <a:stretch/>
        </p:blipFill>
        <p:spPr>
          <a:xfrm>
            <a:off x="7394400" y="0"/>
            <a:ext cx="1749600" cy="1500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1428840" y="5143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老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786200" y="58579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商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7000920" y="139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"/>
                            </p:stCondLst>
                            <p:childTnLst>
                              <p:par>
                                <p:cTn id="1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6" descr="A:\asd.JPG"/>
          <p:cNvPicPr/>
          <p:nvPr/>
        </p:nvPicPr>
        <p:blipFill>
          <a:blip r:embed="rId1"/>
          <a:stretch/>
        </p:blipFill>
        <p:spPr>
          <a:xfrm>
            <a:off x="0" y="4538520"/>
            <a:ext cx="3071880" cy="2297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447920" y="10666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      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《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找骆驼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》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这个故事讲了商人（               ）一只骆驼，向老人（          ），经老人（          ），（          ）骆驼的事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304920" y="0"/>
            <a:ext cx="17143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填一填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506480" y="180648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走  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004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617800" y="256860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打 听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715920" y="333072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指 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084440" y="333072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找 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4500000" y="182880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</a:rPr>
              <a:t>走  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84360" y="1989000"/>
            <a:ext cx="87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老人为什么能在没有见过骆驼的情况下，就能指导商人找到骆驼。老人对骆驼特点的判断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187280" y="620640"/>
            <a:ext cx="331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同桌讨论：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76321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3"/>
          <p:cNvSpPr txBox="1"/>
          <p:nvPr/>
        </p:nvSpPr>
        <p:spPr>
          <a:xfrm>
            <a:off x="3924360" y="0"/>
            <a:ext cx="4968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骆驼简介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924360" y="14842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骆驼的胃里有水囊，能贮存很多水；驼峰里储存有一百多千克脂肪，必要时可以转变成水的能量，维持骆驼的生命活动。因此，在沙漠里，可以一连三四十天不吃不喝，适于长途跋涉。家骆驼成为人类在沙漠中的主要交通工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6" descr="A:\asd.JPG"/>
          <p:cNvPicPr/>
          <p:nvPr/>
        </p:nvPicPr>
        <p:blipFill>
          <a:blip r:embed="rId1"/>
          <a:stretch/>
        </p:blipFill>
        <p:spPr>
          <a:xfrm>
            <a:off x="0" y="3921120"/>
            <a:ext cx="3929040" cy="293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My Documents\骆驼和脚印.tif"/>
          <p:cNvPicPr/>
          <p:nvPr/>
        </p:nvPicPr>
        <p:blipFill>
          <a:blip r:embed="rId2"/>
          <a:stretch/>
        </p:blipFill>
        <p:spPr>
          <a:xfrm>
            <a:off x="5388120" y="914400"/>
            <a:ext cx="3733560" cy="3200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1641600" y="76320"/>
            <a:ext cx="85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89080" y="-355680"/>
            <a:ext cx="183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4136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19120" y="990720"/>
            <a:ext cx="43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老人说出了这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骆驼的哪些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C:\My Documents\My Pictures\思考符号.gif"/>
          <p:cNvPicPr/>
          <p:nvPr/>
        </p:nvPicPr>
        <p:blipFill>
          <a:blip r:embed="rId3"/>
          <a:stretch/>
        </p:blipFill>
        <p:spPr>
          <a:xfrm>
            <a:off x="1600200" y="25909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1" descr="C:\My Documents\My Pictures\骆驼脚印.tif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2"/>
          <p:cNvSpPr/>
          <p:nvPr/>
        </p:nvSpPr>
        <p:spPr>
          <a:xfrm>
            <a:off x="3882960" y="304920"/>
            <a:ext cx="402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刚才我看见路上有骆驼的脚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右边深，左边浅，就知道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的左脚有点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5049720" y="362592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老人看见路上有骆驼的脚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右边深，左边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2522520" y="3701880"/>
            <a:ext cx="6663600" cy="2242080"/>
            <a:chOff x="2522520" y="3701880"/>
            <a:chExt cx="6663600" cy="2242080"/>
          </a:xfrm>
        </p:grpSpPr>
        <p:sp>
          <p:nvSpPr>
            <p:cNvPr id="118" name="Text Box 23"/>
            <p:cNvSpPr/>
            <p:nvPr/>
          </p:nvSpPr>
          <p:spPr>
            <a:xfrm>
              <a:off x="2522520" y="3701880"/>
              <a:ext cx="6663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因为（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                </a:t>
              </a: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）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8"/>
            <p:cNvSpPr/>
            <p:nvPr/>
          </p:nvSpPr>
          <p:spPr>
            <a:xfrm>
              <a:off x="3348720" y="4752720"/>
              <a:ext cx="534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所以（                                     ）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32" descr="C:\My Documents\背景按钮\an2\an2-7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35920" y="5978520"/>
            <a:ext cx="42228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3"/>
          <p:cNvSpPr/>
          <p:nvPr/>
        </p:nvSpPr>
        <p:spPr>
          <a:xfrm>
            <a:off x="6102720" y="4854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知道骆驼的左脚有点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5" descr="C:\My Documents\My Pictures\米和蜜.tif"/>
          <p:cNvPicPr/>
          <p:nvPr/>
        </p:nvPicPr>
        <p:blipFill>
          <a:blip r:embed="rId1"/>
          <a:stretch/>
        </p:blipFill>
        <p:spPr>
          <a:xfrm>
            <a:off x="-103320" y="-22320"/>
            <a:ext cx="9213840" cy="6853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457200" y="30492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又看见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左边有一些蜜，右边有一些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想骆驼驮的一定是这两样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8309880" y="176832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5236200" y="13248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1"/>
          <p:cNvSpPr/>
          <p:nvPr/>
        </p:nvSpPr>
        <p:spPr>
          <a:xfrm>
            <a:off x="441360" y="3657600"/>
            <a:ext cx="81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因为（ </a:t>
            </a: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所以（ </a:t>
            </a: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2" descr="C:\My Documents\背景按钮\an2\an2-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172200"/>
            <a:ext cx="42228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4"/>
          <p:cNvSpPr/>
          <p:nvPr/>
        </p:nvSpPr>
        <p:spPr>
          <a:xfrm>
            <a:off x="1828800" y="3581280"/>
            <a:ext cx="5838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老人看见路的左边有一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蜜，右边有一些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4392720" y="5805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骆驼驮的一定是这两样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My Documents\My Pictures\米和蜜-骆驼.t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1126080" y="35712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我还看见骆驼啃过的树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上面留下了牙齿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所以知道它缺了一颗牙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28600" y="312408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因为（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                                        </a:t>
            </a: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所以（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70000" y="3094200"/>
            <a:ext cx="65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157d7"/>
                </a:solidFill>
                <a:latin typeface="Tahoma"/>
              </a:rPr>
              <a:t>老人</a:t>
            </a:r>
            <a:r>
              <a:rPr b="1" lang="zh-CN" sz="3200" spc="-1" strike="noStrike">
                <a:solidFill>
                  <a:srgbClr val="f157d7"/>
                </a:solidFill>
                <a:latin typeface="Times New Roman"/>
              </a:rPr>
              <a:t>看见骆驼啃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57d7"/>
                </a:solidFill>
                <a:latin typeface="Times New Roman"/>
              </a:rPr>
              <a:t>树叶，上面留下了</a:t>
            </a: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牙齿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988360" y="5081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知道它缺了一颗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" descr="C:\My Documents\背景按钮\an2\an2-8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9436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C:\My Documents\背景按钮\an14\an14-1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29600" y="380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My Documents\My Pictures\树叶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7420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3"/>
          <p:cNvGrpSpPr/>
          <p:nvPr/>
        </p:nvGrpSpPr>
        <p:grpSpPr>
          <a:xfrm>
            <a:off x="428760" y="2768760"/>
            <a:ext cx="1476360" cy="1422000"/>
            <a:chOff x="428760" y="2768760"/>
            <a:chExt cx="1476360" cy="1422000"/>
          </a:xfrm>
        </p:grpSpPr>
        <p:sp>
          <p:nvSpPr>
            <p:cNvPr id="139" name="Freeform 11"/>
            <p:cNvSpPr/>
            <p:nvPr/>
          </p:nvSpPr>
          <p:spPr>
            <a:xfrm>
              <a:off x="428760" y="2957040"/>
              <a:ext cx="1476360" cy="1233720"/>
            </a:xfrm>
            <a:custGeom>
              <a:avLst/>
              <a:gdLst/>
              <a:ahLst/>
              <a:rect l="l" t="t" r="r" b="b"/>
              <a:pathLst>
                <a:path w="1026" h="1152">
                  <a:moveTo>
                    <a:pt x="573" y="0"/>
                  </a:moveTo>
                  <a:cubicBezTo>
                    <a:pt x="596" y="8"/>
                    <a:pt x="620" y="16"/>
                    <a:pt x="643" y="24"/>
                  </a:cubicBezTo>
                  <a:cubicBezTo>
                    <a:pt x="707" y="46"/>
                    <a:pt x="753" y="107"/>
                    <a:pt x="819" y="130"/>
                  </a:cubicBezTo>
                  <a:cubicBezTo>
                    <a:pt x="862" y="192"/>
                    <a:pt x="918" y="243"/>
                    <a:pt x="961" y="306"/>
                  </a:cubicBezTo>
                  <a:cubicBezTo>
                    <a:pt x="988" y="389"/>
                    <a:pt x="976" y="353"/>
                    <a:pt x="996" y="412"/>
                  </a:cubicBezTo>
                  <a:cubicBezTo>
                    <a:pt x="1000" y="424"/>
                    <a:pt x="1008" y="447"/>
                    <a:pt x="1008" y="447"/>
                  </a:cubicBezTo>
                  <a:cubicBezTo>
                    <a:pt x="1026" y="582"/>
                    <a:pt x="1001" y="685"/>
                    <a:pt x="961" y="811"/>
                  </a:cubicBezTo>
                  <a:cubicBezTo>
                    <a:pt x="957" y="825"/>
                    <a:pt x="943" y="834"/>
                    <a:pt x="937" y="847"/>
                  </a:cubicBezTo>
                  <a:cubicBezTo>
                    <a:pt x="910" y="908"/>
                    <a:pt x="903" y="967"/>
                    <a:pt x="867" y="1023"/>
                  </a:cubicBezTo>
                  <a:cubicBezTo>
                    <a:pt x="855" y="1068"/>
                    <a:pt x="833" y="1098"/>
                    <a:pt x="819" y="1141"/>
                  </a:cubicBezTo>
                  <a:cubicBezTo>
                    <a:pt x="774" y="1071"/>
                    <a:pt x="822" y="1119"/>
                    <a:pt x="761" y="1129"/>
                  </a:cubicBezTo>
                  <a:cubicBezTo>
                    <a:pt x="749" y="1131"/>
                    <a:pt x="737" y="1121"/>
                    <a:pt x="725" y="1117"/>
                  </a:cubicBezTo>
                  <a:cubicBezTo>
                    <a:pt x="721" y="1105"/>
                    <a:pt x="725" y="1087"/>
                    <a:pt x="714" y="1082"/>
                  </a:cubicBezTo>
                  <a:cubicBezTo>
                    <a:pt x="685" y="1068"/>
                    <a:pt x="663" y="1117"/>
                    <a:pt x="655" y="1129"/>
                  </a:cubicBezTo>
                  <a:cubicBezTo>
                    <a:pt x="635" y="1070"/>
                    <a:pt x="616" y="1012"/>
                    <a:pt x="596" y="953"/>
                  </a:cubicBezTo>
                  <a:cubicBezTo>
                    <a:pt x="592" y="941"/>
                    <a:pt x="573" y="945"/>
                    <a:pt x="561" y="941"/>
                  </a:cubicBezTo>
                  <a:cubicBezTo>
                    <a:pt x="526" y="945"/>
                    <a:pt x="488" y="941"/>
                    <a:pt x="455" y="953"/>
                  </a:cubicBezTo>
                  <a:cubicBezTo>
                    <a:pt x="442" y="958"/>
                    <a:pt x="438" y="975"/>
                    <a:pt x="432" y="988"/>
                  </a:cubicBezTo>
                  <a:cubicBezTo>
                    <a:pt x="403" y="1053"/>
                    <a:pt x="414" y="1128"/>
                    <a:pt x="338" y="1152"/>
                  </a:cubicBezTo>
                  <a:cubicBezTo>
                    <a:pt x="274" y="1137"/>
                    <a:pt x="212" y="1113"/>
                    <a:pt x="149" y="1094"/>
                  </a:cubicBezTo>
                  <a:cubicBezTo>
                    <a:pt x="67" y="965"/>
                    <a:pt x="65" y="806"/>
                    <a:pt x="44" y="659"/>
                  </a:cubicBezTo>
                  <a:cubicBezTo>
                    <a:pt x="37" y="612"/>
                    <a:pt x="28" y="565"/>
                    <a:pt x="20" y="518"/>
                  </a:cubicBezTo>
                  <a:cubicBezTo>
                    <a:pt x="16" y="494"/>
                    <a:pt x="8" y="447"/>
                    <a:pt x="8" y="447"/>
                  </a:cubicBezTo>
                  <a:cubicBezTo>
                    <a:pt x="9" y="425"/>
                    <a:pt x="0" y="275"/>
                    <a:pt x="32" y="212"/>
                  </a:cubicBezTo>
                  <a:cubicBezTo>
                    <a:pt x="62" y="153"/>
                    <a:pt x="119" y="133"/>
                    <a:pt x="173" y="106"/>
                  </a:cubicBezTo>
                  <a:cubicBezTo>
                    <a:pt x="320" y="33"/>
                    <a:pt x="408" y="17"/>
                    <a:pt x="57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d9fdd3"/>
                </a:gs>
                <a:gs pos="100000">
                  <a:srgbClr val="8ff97d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1011600" y="2768760"/>
              <a:ext cx="427320" cy="974520"/>
            </a:xfrm>
            <a:custGeom>
              <a:avLst/>
              <a:gdLst/>
              <a:ahLst/>
              <a:rect l="l" t="t" r="r" b="b"/>
              <a:pathLst>
                <a:path w="297" h="910">
                  <a:moveTo>
                    <a:pt x="297" y="0"/>
                  </a:moveTo>
                  <a:cubicBezTo>
                    <a:pt x="285" y="8"/>
                    <a:pt x="270" y="12"/>
                    <a:pt x="262" y="24"/>
                  </a:cubicBezTo>
                  <a:cubicBezTo>
                    <a:pt x="242" y="53"/>
                    <a:pt x="240" y="93"/>
                    <a:pt x="215" y="118"/>
                  </a:cubicBezTo>
                  <a:cubicBezTo>
                    <a:pt x="197" y="136"/>
                    <a:pt x="168" y="133"/>
                    <a:pt x="144" y="141"/>
                  </a:cubicBezTo>
                  <a:cubicBezTo>
                    <a:pt x="117" y="223"/>
                    <a:pt x="100" y="316"/>
                    <a:pt x="50" y="388"/>
                  </a:cubicBezTo>
                  <a:cubicBezTo>
                    <a:pt x="42" y="419"/>
                    <a:pt x="38" y="452"/>
                    <a:pt x="27" y="482"/>
                  </a:cubicBezTo>
                  <a:cubicBezTo>
                    <a:pt x="22" y="495"/>
                    <a:pt x="4" y="503"/>
                    <a:pt x="3" y="517"/>
                  </a:cubicBezTo>
                  <a:cubicBezTo>
                    <a:pt x="0" y="592"/>
                    <a:pt x="8" y="667"/>
                    <a:pt x="15" y="741"/>
                  </a:cubicBezTo>
                  <a:cubicBezTo>
                    <a:pt x="19" y="784"/>
                    <a:pt x="40" y="871"/>
                    <a:pt x="74" y="905"/>
                  </a:cubicBezTo>
                  <a:cubicBezTo>
                    <a:pt x="79" y="910"/>
                    <a:pt x="74" y="890"/>
                    <a:pt x="74" y="882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b7fbac"/>
                </a:gs>
                <a:gs pos="100000">
                  <a:srgbClr val="8ff97d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660240" y="3033000"/>
              <a:ext cx="490680" cy="188280"/>
            </a:xfrm>
            <a:custGeom>
              <a:avLst/>
              <a:gdLst/>
              <a:ahLst/>
              <a:rect l="l" t="t" r="r" b="b"/>
              <a:pathLst>
                <a:path w="341" h="176">
                  <a:moveTo>
                    <a:pt x="341" y="0"/>
                  </a:moveTo>
                  <a:cubicBezTo>
                    <a:pt x="282" y="9"/>
                    <a:pt x="221" y="3"/>
                    <a:pt x="165" y="23"/>
                  </a:cubicBezTo>
                  <a:cubicBezTo>
                    <a:pt x="138" y="32"/>
                    <a:pt x="118" y="54"/>
                    <a:pt x="94" y="70"/>
                  </a:cubicBezTo>
                  <a:cubicBezTo>
                    <a:pt x="55" y="96"/>
                    <a:pt x="45" y="176"/>
                    <a:pt x="0" y="176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b7fbac"/>
                </a:gs>
                <a:gs pos="100000">
                  <a:srgbClr val="8ff97d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1253160" y="3108240"/>
              <a:ext cx="456120" cy="264240"/>
            </a:xfrm>
            <a:custGeom>
              <a:avLst/>
              <a:gdLst/>
              <a:ahLst/>
              <a:rect l="l" t="t" r="r" b="b"/>
              <a:pathLst>
                <a:path w="317" h="247">
                  <a:moveTo>
                    <a:pt x="0" y="0"/>
                  </a:moveTo>
                  <a:cubicBezTo>
                    <a:pt x="47" y="16"/>
                    <a:pt x="94" y="33"/>
                    <a:pt x="141" y="47"/>
                  </a:cubicBezTo>
                  <a:cubicBezTo>
                    <a:pt x="178" y="75"/>
                    <a:pt x="205" y="93"/>
                    <a:pt x="235" y="130"/>
                  </a:cubicBezTo>
                  <a:cubicBezTo>
                    <a:pt x="264" y="166"/>
                    <a:pt x="282" y="215"/>
                    <a:pt x="317" y="247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b7fbac"/>
                </a:gs>
                <a:gs pos="100000">
                  <a:srgbClr val="8ff97d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710640" y="3360960"/>
              <a:ext cx="287640" cy="288720"/>
            </a:xfrm>
            <a:custGeom>
              <a:avLst/>
              <a:gdLst/>
              <a:ahLst/>
              <a:rect l="l" t="t" r="r" b="b"/>
              <a:pathLst>
                <a:path w="200" h="270">
                  <a:moveTo>
                    <a:pt x="200" y="0"/>
                  </a:moveTo>
                  <a:cubicBezTo>
                    <a:pt x="184" y="4"/>
                    <a:pt x="167" y="3"/>
                    <a:pt x="153" y="11"/>
                  </a:cubicBezTo>
                  <a:cubicBezTo>
                    <a:pt x="100" y="41"/>
                    <a:pt x="69" y="114"/>
                    <a:pt x="36" y="164"/>
                  </a:cubicBezTo>
                  <a:cubicBezTo>
                    <a:pt x="22" y="185"/>
                    <a:pt x="20" y="211"/>
                    <a:pt x="12" y="235"/>
                  </a:cubicBezTo>
                  <a:cubicBezTo>
                    <a:pt x="8" y="247"/>
                    <a:pt x="0" y="270"/>
                    <a:pt x="0" y="270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b7fbac"/>
                </a:gs>
                <a:gs pos="100000">
                  <a:srgbClr val="8ff97d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050120" y="3486240"/>
              <a:ext cx="270360" cy="18828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0"/>
                  </a:moveTo>
                  <a:cubicBezTo>
                    <a:pt x="72" y="25"/>
                    <a:pt x="72" y="56"/>
                    <a:pt x="129" y="94"/>
                  </a:cubicBezTo>
                  <a:cubicBezTo>
                    <a:pt x="142" y="132"/>
                    <a:pt x="150" y="159"/>
                    <a:pt x="188" y="176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b7fbac"/>
                </a:gs>
                <a:gs pos="100000">
                  <a:srgbClr val="8ff97d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17" descr="C:\My Documents\My Pictures\米和蜜-骆驼.tif"/>
          <p:cNvPicPr/>
          <p:nvPr/>
        </p:nvPicPr>
        <p:blipFill>
          <a:blip r:embed="rId2"/>
          <a:stretch/>
        </p:blipFill>
        <p:spPr>
          <a:xfrm>
            <a:off x="2743200" y="0"/>
            <a:ext cx="52578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11"/>
          <p:cNvGrpSpPr/>
          <p:nvPr/>
        </p:nvGrpSpPr>
        <p:grpSpPr>
          <a:xfrm>
            <a:off x="1312920" y="762120"/>
            <a:ext cx="1430280" cy="1523880"/>
            <a:chOff x="1312920" y="762120"/>
            <a:chExt cx="1430280" cy="1523880"/>
          </a:xfrm>
        </p:grpSpPr>
        <p:sp>
          <p:nvSpPr>
            <p:cNvPr id="147" name="Freeform 4"/>
            <p:cNvSpPr/>
            <p:nvPr/>
          </p:nvSpPr>
          <p:spPr>
            <a:xfrm>
              <a:off x="1312920" y="944640"/>
              <a:ext cx="1430280" cy="1341360"/>
            </a:xfrm>
            <a:custGeom>
              <a:avLst/>
              <a:gdLst/>
              <a:ahLst/>
              <a:rect l="l" t="t" r="r" b="b"/>
              <a:pathLst>
                <a:path w="901" h="1252">
                  <a:moveTo>
                    <a:pt x="477" y="30"/>
                  </a:moveTo>
                  <a:cubicBezTo>
                    <a:pt x="418" y="10"/>
                    <a:pt x="371" y="34"/>
                    <a:pt x="313" y="53"/>
                  </a:cubicBezTo>
                  <a:cubicBezTo>
                    <a:pt x="265" y="69"/>
                    <a:pt x="212" y="79"/>
                    <a:pt x="172" y="112"/>
                  </a:cubicBezTo>
                  <a:cubicBezTo>
                    <a:pt x="85" y="184"/>
                    <a:pt x="66" y="305"/>
                    <a:pt x="31" y="406"/>
                  </a:cubicBezTo>
                  <a:cubicBezTo>
                    <a:pt x="24" y="579"/>
                    <a:pt x="0" y="736"/>
                    <a:pt x="54" y="900"/>
                  </a:cubicBezTo>
                  <a:cubicBezTo>
                    <a:pt x="60" y="917"/>
                    <a:pt x="78" y="988"/>
                    <a:pt x="101" y="1006"/>
                  </a:cubicBezTo>
                  <a:cubicBezTo>
                    <a:pt x="125" y="1025"/>
                    <a:pt x="191" y="1039"/>
                    <a:pt x="219" y="1053"/>
                  </a:cubicBezTo>
                  <a:cubicBezTo>
                    <a:pt x="227" y="1065"/>
                    <a:pt x="228" y="1085"/>
                    <a:pt x="242" y="1088"/>
                  </a:cubicBezTo>
                  <a:cubicBezTo>
                    <a:pt x="257" y="1092"/>
                    <a:pt x="338" y="1070"/>
                    <a:pt x="360" y="1064"/>
                  </a:cubicBezTo>
                  <a:cubicBezTo>
                    <a:pt x="416" y="1027"/>
                    <a:pt x="374" y="1039"/>
                    <a:pt x="430" y="1064"/>
                  </a:cubicBezTo>
                  <a:cubicBezTo>
                    <a:pt x="453" y="1074"/>
                    <a:pt x="501" y="1088"/>
                    <a:pt x="501" y="1088"/>
                  </a:cubicBezTo>
                  <a:cubicBezTo>
                    <a:pt x="517" y="1111"/>
                    <a:pt x="539" y="1131"/>
                    <a:pt x="548" y="1158"/>
                  </a:cubicBezTo>
                  <a:cubicBezTo>
                    <a:pt x="552" y="1170"/>
                    <a:pt x="554" y="1183"/>
                    <a:pt x="560" y="1194"/>
                  </a:cubicBezTo>
                  <a:cubicBezTo>
                    <a:pt x="566" y="1207"/>
                    <a:pt x="571" y="1222"/>
                    <a:pt x="583" y="1229"/>
                  </a:cubicBezTo>
                  <a:cubicBezTo>
                    <a:pt x="604" y="1242"/>
                    <a:pt x="654" y="1252"/>
                    <a:pt x="654" y="1252"/>
                  </a:cubicBezTo>
                  <a:cubicBezTo>
                    <a:pt x="670" y="1244"/>
                    <a:pt x="689" y="1241"/>
                    <a:pt x="701" y="1229"/>
                  </a:cubicBezTo>
                  <a:cubicBezTo>
                    <a:pt x="710" y="1220"/>
                    <a:pt x="705" y="1204"/>
                    <a:pt x="713" y="1194"/>
                  </a:cubicBezTo>
                  <a:cubicBezTo>
                    <a:pt x="722" y="1183"/>
                    <a:pt x="736" y="1178"/>
                    <a:pt x="748" y="1170"/>
                  </a:cubicBezTo>
                  <a:cubicBezTo>
                    <a:pt x="752" y="1158"/>
                    <a:pt x="766" y="1146"/>
                    <a:pt x="760" y="1135"/>
                  </a:cubicBezTo>
                  <a:cubicBezTo>
                    <a:pt x="754" y="1124"/>
                    <a:pt x="734" y="1131"/>
                    <a:pt x="724" y="1123"/>
                  </a:cubicBezTo>
                  <a:cubicBezTo>
                    <a:pt x="704" y="1107"/>
                    <a:pt x="697" y="1075"/>
                    <a:pt x="689" y="1053"/>
                  </a:cubicBezTo>
                  <a:cubicBezTo>
                    <a:pt x="701" y="1049"/>
                    <a:pt x="712" y="1039"/>
                    <a:pt x="724" y="1041"/>
                  </a:cubicBezTo>
                  <a:cubicBezTo>
                    <a:pt x="738" y="1043"/>
                    <a:pt x="746" y="1064"/>
                    <a:pt x="760" y="1064"/>
                  </a:cubicBezTo>
                  <a:cubicBezTo>
                    <a:pt x="774" y="1064"/>
                    <a:pt x="783" y="1049"/>
                    <a:pt x="795" y="1041"/>
                  </a:cubicBezTo>
                  <a:cubicBezTo>
                    <a:pt x="832" y="985"/>
                    <a:pt x="813" y="1020"/>
                    <a:pt x="842" y="935"/>
                  </a:cubicBezTo>
                  <a:cubicBezTo>
                    <a:pt x="846" y="923"/>
                    <a:pt x="854" y="900"/>
                    <a:pt x="854" y="900"/>
                  </a:cubicBezTo>
                  <a:cubicBezTo>
                    <a:pt x="870" y="778"/>
                    <a:pt x="881" y="656"/>
                    <a:pt x="901" y="535"/>
                  </a:cubicBezTo>
                  <a:cubicBezTo>
                    <a:pt x="897" y="496"/>
                    <a:pt x="896" y="457"/>
                    <a:pt x="889" y="418"/>
                  </a:cubicBezTo>
                  <a:cubicBezTo>
                    <a:pt x="866" y="298"/>
                    <a:pt x="876" y="388"/>
                    <a:pt x="842" y="312"/>
                  </a:cubicBezTo>
                  <a:cubicBezTo>
                    <a:pt x="832" y="289"/>
                    <a:pt x="826" y="265"/>
                    <a:pt x="818" y="241"/>
                  </a:cubicBezTo>
                  <a:cubicBezTo>
                    <a:pt x="805" y="203"/>
                    <a:pt x="727" y="97"/>
                    <a:pt x="689" y="65"/>
                  </a:cubicBezTo>
                  <a:cubicBezTo>
                    <a:pt x="648" y="31"/>
                    <a:pt x="556" y="0"/>
                    <a:pt x="501" y="6"/>
                  </a:cubicBezTo>
                  <a:cubicBezTo>
                    <a:pt x="490" y="7"/>
                    <a:pt x="485" y="22"/>
                    <a:pt x="477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2032200" y="762120"/>
              <a:ext cx="285480" cy="993600"/>
            </a:xfrm>
            <a:custGeom>
              <a:avLst/>
              <a:gdLst/>
              <a:ahLst/>
              <a:rect l="l" t="t" r="r" b="b"/>
              <a:pathLst>
                <a:path w="180" h="928">
                  <a:moveTo>
                    <a:pt x="180" y="0"/>
                  </a:moveTo>
                  <a:cubicBezTo>
                    <a:pt x="102" y="26"/>
                    <a:pt x="84" y="81"/>
                    <a:pt x="62" y="153"/>
                  </a:cubicBezTo>
                  <a:cubicBezTo>
                    <a:pt x="55" y="177"/>
                    <a:pt x="38" y="223"/>
                    <a:pt x="38" y="223"/>
                  </a:cubicBezTo>
                  <a:cubicBezTo>
                    <a:pt x="0" y="457"/>
                    <a:pt x="17" y="316"/>
                    <a:pt x="3" y="646"/>
                  </a:cubicBezTo>
                  <a:cubicBezTo>
                    <a:pt x="7" y="677"/>
                    <a:pt x="9" y="709"/>
                    <a:pt x="15" y="740"/>
                  </a:cubicBezTo>
                  <a:cubicBezTo>
                    <a:pt x="26" y="801"/>
                    <a:pt x="62" y="866"/>
                    <a:pt x="62" y="928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2127240" y="1430280"/>
              <a:ext cx="279360" cy="301680"/>
            </a:xfrm>
            <a:custGeom>
              <a:avLst/>
              <a:gdLst/>
              <a:ahLst/>
              <a:rect l="l" t="t" r="r" b="b"/>
              <a:pathLst>
                <a:path w="176" h="282">
                  <a:moveTo>
                    <a:pt x="0" y="0"/>
                  </a:moveTo>
                  <a:cubicBezTo>
                    <a:pt x="49" y="34"/>
                    <a:pt x="68" y="84"/>
                    <a:pt x="117" y="118"/>
                  </a:cubicBezTo>
                  <a:cubicBezTo>
                    <a:pt x="133" y="164"/>
                    <a:pt x="176" y="238"/>
                    <a:pt x="176" y="282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1754280" y="1555920"/>
              <a:ext cx="204840" cy="252360"/>
            </a:xfrm>
            <a:custGeom>
              <a:avLst/>
              <a:gdLst/>
              <a:ahLst/>
              <a:rect l="l" t="t" r="r" b="b"/>
              <a:pathLst>
                <a:path w="129" h="235">
                  <a:moveTo>
                    <a:pt x="129" y="0"/>
                  </a:moveTo>
                  <a:cubicBezTo>
                    <a:pt x="129" y="0"/>
                    <a:pt x="60" y="56"/>
                    <a:pt x="58" y="58"/>
                  </a:cubicBezTo>
                  <a:cubicBezTo>
                    <a:pt x="16" y="100"/>
                    <a:pt x="0" y="177"/>
                    <a:pt x="0" y="235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3"/>
            <p:cNvSpPr/>
            <p:nvPr/>
          </p:nvSpPr>
          <p:spPr>
            <a:xfrm>
              <a:off x="1550880" y="1184400"/>
              <a:ext cx="447840" cy="339840"/>
            </a:xfrm>
            <a:custGeom>
              <a:avLst/>
              <a:gdLst/>
              <a:ahLst/>
              <a:rect l="l" t="t" r="r" b="b"/>
              <a:pathLst>
                <a:path w="282" h="317">
                  <a:moveTo>
                    <a:pt x="282" y="0"/>
                  </a:moveTo>
                  <a:cubicBezTo>
                    <a:pt x="232" y="15"/>
                    <a:pt x="216" y="39"/>
                    <a:pt x="176" y="70"/>
                  </a:cubicBezTo>
                  <a:cubicBezTo>
                    <a:pt x="154" y="87"/>
                    <a:pt x="105" y="117"/>
                    <a:pt x="105" y="117"/>
                  </a:cubicBezTo>
                  <a:cubicBezTo>
                    <a:pt x="83" y="187"/>
                    <a:pt x="32" y="250"/>
                    <a:pt x="0" y="317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2151000" y="1195560"/>
              <a:ext cx="503280" cy="328680"/>
            </a:xfrm>
            <a:custGeom>
              <a:avLst/>
              <a:gdLst/>
              <a:ahLst/>
              <a:rect l="l" t="t" r="r" b="b"/>
              <a:pathLst>
                <a:path w="317" h="306">
                  <a:moveTo>
                    <a:pt x="0" y="0"/>
                  </a:moveTo>
                  <a:cubicBezTo>
                    <a:pt x="57" y="38"/>
                    <a:pt x="111" y="84"/>
                    <a:pt x="176" y="106"/>
                  </a:cubicBezTo>
                  <a:cubicBezTo>
                    <a:pt x="184" y="118"/>
                    <a:pt x="190" y="131"/>
                    <a:pt x="200" y="141"/>
                  </a:cubicBezTo>
                  <a:cubicBezTo>
                    <a:pt x="214" y="155"/>
                    <a:pt x="234" y="161"/>
                    <a:pt x="247" y="176"/>
                  </a:cubicBezTo>
                  <a:cubicBezTo>
                    <a:pt x="289" y="223"/>
                    <a:pt x="293" y="255"/>
                    <a:pt x="317" y="306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1351440" y="351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20d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14812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20d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0"/>
          <p:cNvGrpSpPr/>
          <p:nvPr/>
        </p:nvGrpSpPr>
        <p:grpSpPr>
          <a:xfrm>
            <a:off x="1312920" y="762120"/>
            <a:ext cx="1430280" cy="1523880"/>
            <a:chOff x="1312920" y="762120"/>
            <a:chExt cx="1430280" cy="1523880"/>
          </a:xfrm>
        </p:grpSpPr>
        <p:sp>
          <p:nvSpPr>
            <p:cNvPr id="156" name="Freeform 50"/>
            <p:cNvSpPr/>
            <p:nvPr/>
          </p:nvSpPr>
          <p:spPr>
            <a:xfrm>
              <a:off x="1312920" y="944640"/>
              <a:ext cx="1430280" cy="1341360"/>
            </a:xfrm>
            <a:custGeom>
              <a:avLst/>
              <a:gdLst/>
              <a:ahLst/>
              <a:rect l="l" t="t" r="r" b="b"/>
              <a:pathLst>
                <a:path w="901" h="1252">
                  <a:moveTo>
                    <a:pt x="477" y="30"/>
                  </a:moveTo>
                  <a:cubicBezTo>
                    <a:pt x="418" y="10"/>
                    <a:pt x="371" y="34"/>
                    <a:pt x="313" y="53"/>
                  </a:cubicBezTo>
                  <a:cubicBezTo>
                    <a:pt x="265" y="69"/>
                    <a:pt x="212" y="79"/>
                    <a:pt x="172" y="112"/>
                  </a:cubicBezTo>
                  <a:cubicBezTo>
                    <a:pt x="85" y="184"/>
                    <a:pt x="66" y="305"/>
                    <a:pt x="31" y="406"/>
                  </a:cubicBezTo>
                  <a:cubicBezTo>
                    <a:pt x="24" y="579"/>
                    <a:pt x="0" y="736"/>
                    <a:pt x="54" y="900"/>
                  </a:cubicBezTo>
                  <a:cubicBezTo>
                    <a:pt x="60" y="917"/>
                    <a:pt x="78" y="988"/>
                    <a:pt x="101" y="1006"/>
                  </a:cubicBezTo>
                  <a:cubicBezTo>
                    <a:pt x="125" y="1025"/>
                    <a:pt x="191" y="1039"/>
                    <a:pt x="219" y="1053"/>
                  </a:cubicBezTo>
                  <a:cubicBezTo>
                    <a:pt x="227" y="1065"/>
                    <a:pt x="228" y="1085"/>
                    <a:pt x="242" y="1088"/>
                  </a:cubicBezTo>
                  <a:cubicBezTo>
                    <a:pt x="257" y="1092"/>
                    <a:pt x="338" y="1070"/>
                    <a:pt x="360" y="1064"/>
                  </a:cubicBezTo>
                  <a:cubicBezTo>
                    <a:pt x="416" y="1027"/>
                    <a:pt x="374" y="1039"/>
                    <a:pt x="430" y="1064"/>
                  </a:cubicBezTo>
                  <a:cubicBezTo>
                    <a:pt x="453" y="1074"/>
                    <a:pt x="501" y="1088"/>
                    <a:pt x="501" y="1088"/>
                  </a:cubicBezTo>
                  <a:cubicBezTo>
                    <a:pt x="517" y="1111"/>
                    <a:pt x="539" y="1131"/>
                    <a:pt x="548" y="1158"/>
                  </a:cubicBezTo>
                  <a:cubicBezTo>
                    <a:pt x="552" y="1170"/>
                    <a:pt x="554" y="1183"/>
                    <a:pt x="560" y="1194"/>
                  </a:cubicBezTo>
                  <a:cubicBezTo>
                    <a:pt x="566" y="1207"/>
                    <a:pt x="571" y="1222"/>
                    <a:pt x="583" y="1229"/>
                  </a:cubicBezTo>
                  <a:cubicBezTo>
                    <a:pt x="604" y="1242"/>
                    <a:pt x="654" y="1252"/>
                    <a:pt x="654" y="1252"/>
                  </a:cubicBezTo>
                  <a:cubicBezTo>
                    <a:pt x="670" y="1244"/>
                    <a:pt x="689" y="1241"/>
                    <a:pt x="701" y="1229"/>
                  </a:cubicBezTo>
                  <a:cubicBezTo>
                    <a:pt x="710" y="1220"/>
                    <a:pt x="705" y="1204"/>
                    <a:pt x="713" y="1194"/>
                  </a:cubicBezTo>
                  <a:cubicBezTo>
                    <a:pt x="722" y="1183"/>
                    <a:pt x="736" y="1178"/>
                    <a:pt x="748" y="1170"/>
                  </a:cubicBezTo>
                  <a:cubicBezTo>
                    <a:pt x="752" y="1158"/>
                    <a:pt x="766" y="1146"/>
                    <a:pt x="760" y="1135"/>
                  </a:cubicBezTo>
                  <a:cubicBezTo>
                    <a:pt x="754" y="1124"/>
                    <a:pt x="734" y="1131"/>
                    <a:pt x="724" y="1123"/>
                  </a:cubicBezTo>
                  <a:cubicBezTo>
                    <a:pt x="704" y="1107"/>
                    <a:pt x="697" y="1075"/>
                    <a:pt x="689" y="1053"/>
                  </a:cubicBezTo>
                  <a:cubicBezTo>
                    <a:pt x="701" y="1049"/>
                    <a:pt x="712" y="1039"/>
                    <a:pt x="724" y="1041"/>
                  </a:cubicBezTo>
                  <a:cubicBezTo>
                    <a:pt x="738" y="1043"/>
                    <a:pt x="746" y="1064"/>
                    <a:pt x="760" y="1064"/>
                  </a:cubicBezTo>
                  <a:cubicBezTo>
                    <a:pt x="774" y="1064"/>
                    <a:pt x="783" y="1049"/>
                    <a:pt x="795" y="1041"/>
                  </a:cubicBezTo>
                  <a:cubicBezTo>
                    <a:pt x="832" y="985"/>
                    <a:pt x="813" y="1020"/>
                    <a:pt x="842" y="935"/>
                  </a:cubicBezTo>
                  <a:cubicBezTo>
                    <a:pt x="846" y="923"/>
                    <a:pt x="854" y="900"/>
                    <a:pt x="854" y="900"/>
                  </a:cubicBezTo>
                  <a:cubicBezTo>
                    <a:pt x="870" y="778"/>
                    <a:pt x="881" y="656"/>
                    <a:pt x="901" y="535"/>
                  </a:cubicBezTo>
                  <a:cubicBezTo>
                    <a:pt x="897" y="496"/>
                    <a:pt x="896" y="457"/>
                    <a:pt x="889" y="418"/>
                  </a:cubicBezTo>
                  <a:cubicBezTo>
                    <a:pt x="866" y="298"/>
                    <a:pt x="876" y="388"/>
                    <a:pt x="842" y="312"/>
                  </a:cubicBezTo>
                  <a:cubicBezTo>
                    <a:pt x="832" y="289"/>
                    <a:pt x="826" y="265"/>
                    <a:pt x="818" y="241"/>
                  </a:cubicBezTo>
                  <a:cubicBezTo>
                    <a:pt x="805" y="203"/>
                    <a:pt x="727" y="97"/>
                    <a:pt x="689" y="65"/>
                  </a:cubicBezTo>
                  <a:cubicBezTo>
                    <a:pt x="648" y="31"/>
                    <a:pt x="556" y="0"/>
                    <a:pt x="501" y="6"/>
                  </a:cubicBezTo>
                  <a:cubicBezTo>
                    <a:pt x="490" y="7"/>
                    <a:pt x="485" y="22"/>
                    <a:pt x="477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1"/>
            <p:cNvSpPr/>
            <p:nvPr/>
          </p:nvSpPr>
          <p:spPr>
            <a:xfrm>
              <a:off x="2032200" y="762120"/>
              <a:ext cx="285480" cy="993600"/>
            </a:xfrm>
            <a:custGeom>
              <a:avLst/>
              <a:gdLst/>
              <a:ahLst/>
              <a:rect l="l" t="t" r="r" b="b"/>
              <a:pathLst>
                <a:path w="180" h="928">
                  <a:moveTo>
                    <a:pt x="180" y="0"/>
                  </a:moveTo>
                  <a:cubicBezTo>
                    <a:pt x="102" y="26"/>
                    <a:pt x="84" y="81"/>
                    <a:pt x="62" y="153"/>
                  </a:cubicBezTo>
                  <a:cubicBezTo>
                    <a:pt x="55" y="177"/>
                    <a:pt x="38" y="223"/>
                    <a:pt x="38" y="223"/>
                  </a:cubicBezTo>
                  <a:cubicBezTo>
                    <a:pt x="0" y="457"/>
                    <a:pt x="17" y="316"/>
                    <a:pt x="3" y="646"/>
                  </a:cubicBezTo>
                  <a:cubicBezTo>
                    <a:pt x="7" y="677"/>
                    <a:pt x="9" y="709"/>
                    <a:pt x="15" y="740"/>
                  </a:cubicBezTo>
                  <a:cubicBezTo>
                    <a:pt x="26" y="801"/>
                    <a:pt x="62" y="866"/>
                    <a:pt x="62" y="928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2"/>
            <p:cNvSpPr/>
            <p:nvPr/>
          </p:nvSpPr>
          <p:spPr>
            <a:xfrm>
              <a:off x="2127240" y="1430280"/>
              <a:ext cx="279360" cy="301680"/>
            </a:xfrm>
            <a:custGeom>
              <a:avLst/>
              <a:gdLst/>
              <a:ahLst/>
              <a:rect l="l" t="t" r="r" b="b"/>
              <a:pathLst>
                <a:path w="176" h="282">
                  <a:moveTo>
                    <a:pt x="0" y="0"/>
                  </a:moveTo>
                  <a:cubicBezTo>
                    <a:pt x="49" y="34"/>
                    <a:pt x="68" y="84"/>
                    <a:pt x="117" y="118"/>
                  </a:cubicBezTo>
                  <a:cubicBezTo>
                    <a:pt x="133" y="164"/>
                    <a:pt x="176" y="238"/>
                    <a:pt x="176" y="282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3"/>
            <p:cNvSpPr/>
            <p:nvPr/>
          </p:nvSpPr>
          <p:spPr>
            <a:xfrm>
              <a:off x="1754280" y="1555920"/>
              <a:ext cx="204840" cy="252360"/>
            </a:xfrm>
            <a:custGeom>
              <a:avLst/>
              <a:gdLst/>
              <a:ahLst/>
              <a:rect l="l" t="t" r="r" b="b"/>
              <a:pathLst>
                <a:path w="129" h="235">
                  <a:moveTo>
                    <a:pt x="129" y="0"/>
                  </a:moveTo>
                  <a:cubicBezTo>
                    <a:pt x="129" y="0"/>
                    <a:pt x="60" y="56"/>
                    <a:pt x="58" y="58"/>
                  </a:cubicBezTo>
                  <a:cubicBezTo>
                    <a:pt x="16" y="100"/>
                    <a:pt x="0" y="177"/>
                    <a:pt x="0" y="235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4"/>
            <p:cNvSpPr/>
            <p:nvPr/>
          </p:nvSpPr>
          <p:spPr>
            <a:xfrm>
              <a:off x="2162520" y="1676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220d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5"/>
            <p:cNvSpPr/>
            <p:nvPr/>
          </p:nvSpPr>
          <p:spPr>
            <a:xfrm>
              <a:off x="1550880" y="1184400"/>
              <a:ext cx="447840" cy="339840"/>
            </a:xfrm>
            <a:custGeom>
              <a:avLst/>
              <a:gdLst/>
              <a:ahLst/>
              <a:rect l="l" t="t" r="r" b="b"/>
              <a:pathLst>
                <a:path w="282" h="317">
                  <a:moveTo>
                    <a:pt x="282" y="0"/>
                  </a:moveTo>
                  <a:cubicBezTo>
                    <a:pt x="232" y="15"/>
                    <a:pt x="216" y="39"/>
                    <a:pt x="176" y="70"/>
                  </a:cubicBezTo>
                  <a:cubicBezTo>
                    <a:pt x="154" y="87"/>
                    <a:pt x="105" y="117"/>
                    <a:pt x="105" y="117"/>
                  </a:cubicBezTo>
                  <a:cubicBezTo>
                    <a:pt x="83" y="187"/>
                    <a:pt x="32" y="250"/>
                    <a:pt x="0" y="317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2151000" y="1195560"/>
              <a:ext cx="503280" cy="328680"/>
            </a:xfrm>
            <a:custGeom>
              <a:avLst/>
              <a:gdLst/>
              <a:ahLst/>
              <a:rect l="l" t="t" r="r" b="b"/>
              <a:pathLst>
                <a:path w="317" h="306">
                  <a:moveTo>
                    <a:pt x="0" y="0"/>
                  </a:moveTo>
                  <a:cubicBezTo>
                    <a:pt x="57" y="38"/>
                    <a:pt x="111" y="84"/>
                    <a:pt x="176" y="106"/>
                  </a:cubicBezTo>
                  <a:cubicBezTo>
                    <a:pt x="184" y="118"/>
                    <a:pt x="190" y="131"/>
                    <a:pt x="200" y="141"/>
                  </a:cubicBezTo>
                  <a:cubicBezTo>
                    <a:pt x="214" y="155"/>
                    <a:pt x="234" y="161"/>
                    <a:pt x="247" y="176"/>
                  </a:cubicBezTo>
                  <a:cubicBezTo>
                    <a:pt x="289" y="223"/>
                    <a:pt x="293" y="255"/>
                    <a:pt x="317" y="306"/>
                  </a:cubicBezTo>
                </a:path>
              </a:pathLst>
            </a:custGeom>
            <a:gradFill rotWithShape="0">
              <a:gsLst>
                <a:gs pos="0">
                  <a:srgbClr val="8ff97d"/>
                </a:gs>
                <a:gs pos="50000">
                  <a:srgbClr val="edfeea"/>
                </a:gs>
                <a:gs pos="100000">
                  <a:srgbClr val="8ff97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59" descr="C:\My Documents\背景按钮\an14\an14-19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68403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隶书"/>
              </a:rPr>
              <a:t>思 考 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125360"/>
            <a:ext cx="87120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商人丢失的骆驼有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人是怎么知道骆驼的这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商人找到骆驼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755640" y="1270080"/>
          <a:ext cx="7572240" cy="460692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116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老人观察到了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老人知道了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2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2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7" name="TextBox 3"/>
          <p:cNvSpPr/>
          <p:nvPr/>
        </p:nvSpPr>
        <p:spPr>
          <a:xfrm>
            <a:off x="1619280" y="27115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印右深左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5460840" y="26892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脚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26920" y="386064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左边有蜜右边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4861080" y="508788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4861080" y="3470400"/>
            <a:ext cx="3100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驮蜜右驮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826920" y="4437000"/>
            <a:ext cx="40449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啃过的树叶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下的牙齿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539640" y="762120"/>
          <a:ext cx="8147160" cy="5715000"/>
        </p:xfrm>
        <a:graphic>
          <a:graphicData uri="http://schemas.openxmlformats.org/drawingml/2006/table">
            <a:tbl>
              <a:tblPr/>
              <a:tblGrid>
                <a:gridCol w="3638520"/>
                <a:gridCol w="450864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老人的判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（判断的结果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观察到的想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判断原因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19"/>
          <p:cNvSpPr/>
          <p:nvPr/>
        </p:nvSpPr>
        <p:spPr>
          <a:xfrm>
            <a:off x="1810800" y="220356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333800" y="393048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左边驮蜜，右边驮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1987920" y="5429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4206960" y="1776240"/>
            <a:ext cx="46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老人说：“你问的那只骆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左脚有点跛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5069520" y="3503520"/>
            <a:ext cx="282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左边驼着蜜，右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驼着米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5060520" y="5081760"/>
            <a:ext cx="282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缺了一颗牙齿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极了！您看见它往哪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了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76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老人在没有见过骆驼的情况就能做出这样的判断，大家说说商人听了会信吗？那商人会说些什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55640" y="501336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99"/>
                </a:solidFill>
                <a:latin typeface="Times New Roman"/>
              </a:rPr>
              <a:t>忿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2987640" y="5084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</a:rPr>
              <a:t>很生气的样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26" descr="A:\asd.JPG"/>
          <p:cNvPicPr/>
          <p:nvPr/>
        </p:nvPicPr>
        <p:blipFill>
          <a:blip r:embed="rId1"/>
          <a:stretch/>
        </p:blipFill>
        <p:spPr>
          <a:xfrm>
            <a:off x="0" y="4081320"/>
            <a:ext cx="3714840" cy="2776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"/>
          <p:cNvSpPr/>
          <p:nvPr/>
        </p:nvSpPr>
        <p:spPr>
          <a:xfrm>
            <a:off x="1066680" y="1460520"/>
            <a:ext cx="76201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老人能详细知道走失骆驼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特点，那是</a:t>
            </a:r>
            <a:r>
              <a:rPr b="1" lang="zh-CN" sz="3600" spc="-1" strike="noStrike">
                <a:solidFill>
                  <a:srgbClr val="00d447"/>
                </a:solidFill>
                <a:latin typeface="Times New Roman"/>
              </a:rPr>
              <a:t>因为</a:t>
            </a:r>
            <a:r>
              <a:rPr b="1" lang="en-US" sz="3600" spc="-1" strike="noStrike">
                <a:solidFill>
                  <a:srgbClr val="00d447"/>
                </a:solidFill>
                <a:latin typeface="Times New Roman"/>
              </a:rPr>
              <a:t>﹙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</a:rPr>
              <a:t>﹚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2276640"/>
            <a:ext cx="7956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                    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他仔细看，认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想，才得出正确结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78920" y="981000"/>
            <a:ext cx="8364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骆驼有两种，有骆驼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驼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单峰骆驼和两个驼峰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双峰骆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单峰骆驼比较高大，在沙漠中能走能跑，可以运货，也能驮人。双峰骆驼四肢粗短，更适合在沙砾和雪地上行走。骆驼也是黑客的代名词。骆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其他动物不一样，特别耐饥耐渴，人们能骑着骆驼横穿沙漠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骆驼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着“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沙漠之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的美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骆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驼峰里贮存着脂肪，这些脂肪在骆驼得不到食物的时候，能够分解成骆驼身体所需要的养分，供骆驼生存需要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骆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连续四五天不进食，就是靠驼峰里的脂肪。另外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骆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胃里有许多瓶子形状的小泡泡，那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骆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贮存水的地方，这些“瓶子”里的水使骆驼即使几天不喝水，也不会有生命危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两只骆驼"/>
          <p:cNvPicPr/>
          <p:nvPr/>
        </p:nvPicPr>
        <p:blipFill>
          <a:blip r:embed="rId2"/>
          <a:stretch/>
        </p:blipFill>
        <p:spPr>
          <a:xfrm>
            <a:off x="4859280" y="4365720"/>
            <a:ext cx="4284720" cy="2492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539640" y="549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果然一词说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826920" y="19177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</a:rPr>
              <a:t>学到这里，你觉得老人是个什么样的人，你从他的身上学到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未命名"/>
          <p:cNvPicPr/>
          <p:nvPr/>
        </p:nvPicPr>
        <p:blipFill>
          <a:blip r:embed="rId1"/>
          <a:stretch/>
        </p:blipFill>
        <p:spPr>
          <a:xfrm>
            <a:off x="0" y="3330720"/>
            <a:ext cx="9144000" cy="35272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324000" y="0"/>
            <a:ext cx="6769080" cy="2421000"/>
          </a:xfrm>
          <a:prstGeom prst="cloudCallout">
            <a:avLst>
              <a:gd name="adj1" fmla="val 24810"/>
              <a:gd name="adj2" fmla="val 80884"/>
            </a:avLst>
          </a:prstGeom>
          <a:solidFill>
            <a:srgbClr val="bbe0e3"/>
          </a:solidFill>
          <a:ln w="9360">
            <a:solidFill>
              <a:srgbClr val="1407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老 人 与 商人</a:t>
            </a:r>
            <a:br>
              <a:rPr sz="5400"/>
            </a:b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的对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609480" y="457200"/>
            <a:ext cx="3276720" cy="1066680"/>
          </a:xfrm>
          <a:prstGeom prst="cloudCallout">
            <a:avLst>
              <a:gd name="adj1" fmla="val -43750"/>
              <a:gd name="adj2" fmla="val 6860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依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533520" y="2286000"/>
            <a:ext cx="350496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脚印右深左浅</a:t>
            </a:r>
            <a:endParaRPr b="0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685800" y="3733920"/>
            <a:ext cx="304812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左有蜜右有米</a:t>
            </a:r>
            <a:endParaRPr b="0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685800" y="5181480"/>
            <a:ext cx="327672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树叶的牙齿印</a:t>
            </a:r>
            <a:endParaRPr b="0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4572000" y="28195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4572000" y="4191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4572000" y="55627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5715000" y="2362320"/>
            <a:ext cx="243828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左脚跛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5486400" y="373392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驮着蜜和米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WordArt 11"/>
          <p:cNvSpPr txBox="1"/>
          <p:nvPr/>
        </p:nvSpPr>
        <p:spPr>
          <a:xfrm>
            <a:off x="5867280" y="5105520"/>
            <a:ext cx="2514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缺牙齿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out" orient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20061211235412318">
            <a:hlinkClick r:id="rId1"/>
          </p:cNvPr>
          <p:cNvPicPr/>
          <p:nvPr/>
        </p:nvPicPr>
        <p:blipFill>
          <a:blip r:embed="rId2"/>
          <a:srcRect l="0" t="0" r="-1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u=3653974449,1444256059&amp;gp=48"/>
          <p:cNvPicPr/>
          <p:nvPr/>
        </p:nvPicPr>
        <p:blipFill>
          <a:blip r:embed="rId3"/>
          <a:stretch/>
        </p:blipFill>
        <p:spPr>
          <a:xfrm>
            <a:off x="7020000" y="260280"/>
            <a:ext cx="1778040" cy="1765440"/>
          </a:xfrm>
          <a:prstGeom prst="rect">
            <a:avLst/>
          </a:prstGeom>
          <a:ln w="0">
            <a:noFill/>
          </a:ln>
        </p:spPr>
      </p:pic>
      <p:sp>
        <p:nvSpPr>
          <p:cNvPr id="204" name="WordArt 4"/>
          <p:cNvSpPr txBox="1"/>
          <p:nvPr/>
        </p:nvSpPr>
        <p:spPr>
          <a:xfrm>
            <a:off x="900000" y="404640"/>
            <a:ext cx="316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思考：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825480" y="2714760"/>
            <a:ext cx="806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</a:rPr>
              <a:t>老人为什么不让商人顺着树叶，米、蜜的方向去找，而是让商人顺着骆驼的脚印去找，这是为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000" y="201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隶书"/>
              </a:rPr>
              <a:t>填一填，说一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1197000"/>
            <a:ext cx="9144000" cy="50007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又看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（                                  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还看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（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276720" y="15573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骆驼的脚印右边深，左边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56000" y="2133720"/>
            <a:ext cx="49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骆驼的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564000" y="515772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627280" y="5589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708360" y="3357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路的左边有蜜，右边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564000" y="3429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419640" y="3429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3492360" y="350028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3059280" y="393372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驮的是蜜和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3851280" y="5013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啃过的树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5651640" y="6237360"/>
            <a:ext cx="2881080" cy="36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3851280" cy="6885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1520" y="-100080"/>
            <a:ext cx="867564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说一说  议一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140000" y="1125360"/>
            <a:ext cx="50036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一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同学们故事中的老人，你觉得他是一位怎样的老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二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学了这篇课文后，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有收获吗？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20061211235412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4160" y="1752480"/>
            <a:ext cx="90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一说：在老人的指点下，商人终于找回了骆驼。第二次，商人再见到老人，心情会怎样，心里会又怎样想，又会说些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？</a:t>
            </a:r>
            <a:r>
              <a:rPr b="0" lang="zh-CN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一天，商人牵着骆驼走，又碰到了老人，他又会怎么做？怎么说？以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再遇老人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为题，发挥想象，写一段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95280" y="50864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一说：在实际生活中有没有遇到像找骆驼这样类似的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611280" y="333360"/>
            <a:ext cx="367344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拓展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74185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1981080" y="19051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思考：想想课文讲了一件什么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0" y="5334120"/>
            <a:ext cx="7162920" cy="1828800"/>
          </a:xfrm>
          <a:prstGeom prst="cloudCallout">
            <a:avLst>
              <a:gd name="adj1" fmla="val 51175"/>
              <a:gd name="adj2" fmla="val 1962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提示：谁找骆驼？找到了没有？怎样找到骆驼的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026" descr="A:\asd.JPG"/>
          <p:cNvPicPr/>
          <p:nvPr/>
        </p:nvPicPr>
        <p:blipFill>
          <a:blip r:embed="rId1"/>
          <a:stretch/>
        </p:blipFill>
        <p:spPr>
          <a:xfrm>
            <a:off x="0" y="4179960"/>
            <a:ext cx="3581280" cy="26780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219320" y="12952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文讲了商人（    ）了一只骆驼，向老人（    ），经老人（    ），找到了（    ）的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791320" y="12952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走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257800" y="1905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询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209680" y="2514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指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324480" y="2514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骆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生活中，只要我们用心观察，认真思考，就会有所发现。下面这个故事里的老人，通过观察，发现了什么呢？读读课文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想一想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①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商人丢失的骆驼有哪些特点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②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老人是怎么知道骆驼的这些特点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骆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68360" y="90756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人家，您看见一只骆驼了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问的那只骆驼，是不是左脚有点跛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不是左边驮着蜜，右边驮着米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不是缺了一颗牙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极了！您看见它往哪儿去了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我可不知道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20061211235412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402920" y="155736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脚有点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边驮着蜜，右边驮着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缺了一颗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095480" y="15620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7920" y="1052640"/>
            <a:ext cx="916632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愤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说：“别哄我了，一定是你把我的骆驼藏起来了。要不你怎么会知道得这样详细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紧不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说：“干吗生气呢，听我说嘛。刚才我看见路上有骆驼的脚印，右边深，左边浅，就知道骆驼的左脚有点跛。我又看见路的左边有一些蜜，右边有一些米，我想骆驼驮的一定是这两样东西。我还看见骆驼啃过的树叶，上面留下了牙齿印，所以知道它缺了一颗牙齿。至于骆驼究竟往哪儿去了，应该顺着它的脚印去找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0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324000" y="40464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刚才我看见路上有骆驼的脚印，右边深，左边浅，就知道骆驼的左脚有点跛。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11"/>
          <p:cNvPicPr/>
          <p:nvPr/>
        </p:nvPicPr>
        <p:blipFill>
          <a:blip r:embed="rId1"/>
          <a:stretch/>
        </p:blipFill>
        <p:spPr>
          <a:xfrm>
            <a:off x="-304920" y="1440"/>
            <a:ext cx="9753840" cy="68551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95280" y="476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我又看见路的左边有一些蜜，右边有一些米，我想骆驼驮的一定是这两样东西。</a:t>
            </a:r>
            <a:r>
              <a:rPr b="0" lang="zh-CN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12"/>
          <p:cNvPicPr/>
          <p:nvPr/>
        </p:nvPicPr>
        <p:blipFill>
          <a:blip r:embed="rId1"/>
          <a:stretch/>
        </p:blipFill>
        <p:spPr>
          <a:xfrm>
            <a:off x="914400" y="-636480"/>
            <a:ext cx="6705720" cy="37321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50920" y="3213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669900"/>
                </a:solidFill>
                <a:latin typeface="Times New Roman"/>
              </a:rPr>
              <a:t>我还看见骆驼啃过的树叶，上面留下了牙齿印，所以知道它缺了一颗牙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2438280"/>
          <a:ext cx="8280360" cy="3432240"/>
        </p:xfrm>
        <a:graphic>
          <a:graphicData uri="http://schemas.openxmlformats.org/drawingml/2006/table">
            <a:tbl>
              <a:tblPr/>
              <a:tblGrid>
                <a:gridCol w="4451400"/>
                <a:gridCol w="382896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人看到了什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知道了什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Text Box 19"/>
          <p:cNvSpPr/>
          <p:nvPr/>
        </p:nvSpPr>
        <p:spPr>
          <a:xfrm>
            <a:off x="457200" y="476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小组合作，把“老人看到的”用“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——”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画出来，“知道的”用“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~~~~”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609480" y="33526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脚印右深左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5818320" y="3429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左脚有点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1281960" y="4191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路边左有蜜右边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5701320" y="4191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左驮蜜右驮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1449360" y="50292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树叶上有齿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6528960" y="49528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缺了一颗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200612112354123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684360" y="2349360"/>
            <a:ext cx="7920000" cy="32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不是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脚有点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不是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边驮着蜜，右边驮着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不是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缺了一颗牙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84360" y="105264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问的那只骆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人不紧不慢地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吗生气呢，听我说吧。刚才我看见路上有骆驼的脚印，右边深，左边浅，就知道骆驼的左脚有点跛。我又看见路的左边有一些蜜，右边有一点米，我想骆驼驮的一定是这两样东西。我还看见骆驼啃过的树叶，上面留下了牙齿印，所以知道它缺了一颗牙齿。至于骆驼究竟往哪儿去了，应该顺着它的脚印去找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971640" y="558972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是不是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457200" y="2438280"/>
          <a:ext cx="8280360" cy="3432240"/>
        </p:xfrm>
        <a:graphic>
          <a:graphicData uri="http://schemas.openxmlformats.org/drawingml/2006/table">
            <a:tbl>
              <a:tblPr/>
              <a:tblGrid>
                <a:gridCol w="4451400"/>
                <a:gridCol w="382896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人看到了什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知道了什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 Box 19"/>
          <p:cNvSpPr/>
          <p:nvPr/>
        </p:nvSpPr>
        <p:spPr>
          <a:xfrm>
            <a:off x="457200" y="476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小组合作，把“老人看到的”用“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——”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画出来，“知道的”用“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~~~~”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609480" y="33526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脚印右深左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5818320" y="3429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左脚有点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281960" y="4191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路边左有蜜右边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5701320" y="4191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左驮蜜右驮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1449360" y="50292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树叶上有齿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6528960" y="49528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缺了一颗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路旁的骆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-360" y="836640"/>
            <a:ext cx="9156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老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不紧不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说：“干吗生气呢，听我说嘛。刚才我看见路上有骆驼的脚印，右边深，左边浅，就知道骆驼的左脚有点跛。我又看见路的左边有一些蜜，右边有一些米，我想骆驼驮的一定是这两样东西。我还看见骆驼啃过的树叶，上面留下了牙齿印，所以知道它缺了一颗牙齿。至于骆驼究竟往哪儿去了，应该顺着它的脚印去找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468360" y="1397160"/>
          <a:ext cx="8280360" cy="4122720"/>
        </p:xfrm>
        <a:graphic>
          <a:graphicData uri="http://schemas.openxmlformats.org/drawingml/2006/table">
            <a:tbl>
              <a:tblPr/>
              <a:tblGrid>
                <a:gridCol w="4451400"/>
                <a:gridCol w="3828960"/>
              </a:tblGrid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人看到了什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知道了什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脚印右深左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左脚有点跛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路边左有蜜右边有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左驮蜜右驮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树叶上有齿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缺了一颗牙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Text Box 19"/>
          <p:cNvSpPr/>
          <p:nvPr/>
        </p:nvSpPr>
        <p:spPr>
          <a:xfrm>
            <a:off x="971640" y="476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根据课文内容完成表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20061211235412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的脚印右边深左边浅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的左脚有点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路的左边有一些蜜，右边有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米，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骆驼左边驮着蜜，右边驮着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啃过的树叶上留下的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印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缺了一颗牙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6920" y="162864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老人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826920" y="2060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老人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826920" y="2997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老人又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1403280" y="3500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老人知道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619280" y="522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老人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826920" y="47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老人还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4876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句式比较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1920" y="4149720"/>
            <a:ext cx="848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商人听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按照老人的指点一路找去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找到了走失的骆驼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24000" y="1700280"/>
            <a:ext cx="871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商人听了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按照老人的指点一路找去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果然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找到了走失的骆驼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遇到问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用心观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认真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66680" y="44197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能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所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或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句式说说老人的判断过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9907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刚才我看见路上有骆驼的脚印，右边深，左边浅，就知道骆驼的左脚有点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990720" y="1676520"/>
            <a:ext cx="75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又看见路的左边有一些蜜，右边有一些米，我想骆驼驮的一定是这两样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1066680" y="2895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还看见骆驼啃过的树叶，上面留下了牙齿印。所以知道它缺了一颗牙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60948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刚才我看见路上有骆驼的脚印，右边深，左边浅，就知道骆驼的左脚有点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685800" y="2590920"/>
            <a:ext cx="787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为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见（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所以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他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572000" y="23623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路上有骆驼的脚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右边深，左边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4385520" y="3581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骆驼的左脚有点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840240" y="4724280"/>
            <a:ext cx="81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      )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因为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62120" y="464832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老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知道骆驼的左脚有点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410080" y="457200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看见路上有骆驼的脚印，右边深，左边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371600" y="22096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685800" y="2819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为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看见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所以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他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（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762120" y="114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还看见骆驼啃过的树叶，上面留下了牙齿印，所以知道它缺了一颗牙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5604840" y="251460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骆驼啃过的树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上面留下了牙齿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5335560" y="3733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缺了一颗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62640" y="5029200"/>
            <a:ext cx="92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）是因为（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68580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老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道骆驼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4952880" y="50292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看见骆驼啃过的树叶，上面留下了牙齿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GG88"/>
          <p:cNvPicPr/>
          <p:nvPr/>
        </p:nvPicPr>
        <p:blipFill>
          <a:blip r:embed="rId1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762120" y="33526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324000" y="9158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骆驼：有双峰驼和单峰驼两种。双峰驼曾在我国北方广泛驯养，至今在内蒙古和西北地区仍然能够见到。素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京华之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美誉。单峰驼有人认为也曾分布于我国的新疆一带，但现在仅见于阿拉伯半岛、印度和非洲北部等地。它的体毛较短，寿命可达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762120" y="33526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324000" y="1197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骆驼的胃里有水囊，能贮存很多水；驼峰里储存有一百多千克脂肪，必要时可以转变成水的能量，维持骆驼的生命活动。因此，在沙漠里，可以一连三四十天不吃不喝，适于长途跋涉。骆驼成为人类在沙漠中的主要交通工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GG88"/>
          <p:cNvPicPr/>
          <p:nvPr/>
        </p:nvPicPr>
        <p:blipFill>
          <a:blip r:embed="rId1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1"/>
          <p:cNvSpPr/>
          <p:nvPr/>
        </p:nvSpPr>
        <p:spPr>
          <a:xfrm>
            <a:off x="158760" y="628020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3"/>
          <p:cNvPicPr/>
          <p:nvPr/>
        </p:nvPicPr>
        <p:blipFill>
          <a:blip r:embed="rId1"/>
          <a:stretch/>
        </p:blipFill>
        <p:spPr>
          <a:xfrm>
            <a:off x="1720800" y="304920"/>
            <a:ext cx="5450040" cy="65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324000" y="762120"/>
          <a:ext cx="8362800" cy="5486400"/>
        </p:xfrm>
        <a:graphic>
          <a:graphicData uri="http://schemas.openxmlformats.org/drawingml/2006/table">
            <a:tbl>
              <a:tblPr/>
              <a:tblGrid>
                <a:gridCol w="3735360"/>
                <a:gridCol w="4627440"/>
              </a:tblGrid>
              <a:tr h="71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文中的句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9"/>
          <p:cNvSpPr/>
          <p:nvPr/>
        </p:nvSpPr>
        <p:spPr>
          <a:xfrm>
            <a:off x="1428120" y="16002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1117080" y="335772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左边驮蜜，右边驮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1810080" y="487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4140360" y="1523880"/>
            <a:ext cx="477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老人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问的那只骆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左脚有点跛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4140360" y="3200400"/>
            <a:ext cx="449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左边驼着蜜，右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驼着米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错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4140360" y="4800600"/>
            <a:ext cx="449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缺了一颗牙齿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极了！您看见它往哪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了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2"/>
          <p:cNvSpPr/>
          <p:nvPr/>
        </p:nvSpPr>
        <p:spPr>
          <a:xfrm>
            <a:off x="0" y="-237960"/>
            <a:ext cx="8748720" cy="7392960"/>
          </a:xfrm>
          <a:prstGeom prst="horizontalScroll">
            <a:avLst>
              <a:gd name="adj" fmla="val 12500"/>
            </a:avLst>
          </a:prstGeom>
          <a:solidFill>
            <a:srgbClr val="edfcfd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3673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99"/>
                </a:solidFill>
                <a:latin typeface="隶书"/>
                <a:ea typeface="隶书"/>
              </a:rPr>
              <a:t>作 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15920" y="2276640"/>
            <a:ext cx="772488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今天学的这个故事讲给父母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身边的事物，你会有哪些新的发现？把你的新发现，准备在口语交际课上与大家共同分享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5724360" y="6237360"/>
            <a:ext cx="3024360" cy="366480"/>
          </a:xfrm>
          <a:prstGeom prst="rect">
            <a:avLst/>
          </a:prstGeom>
          <a:solidFill>
            <a:srgbClr val="303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826920" y="134136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你想对老人和商人说什么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78ED-BF1E-40EA-BCD6-575169F23A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4"/>
          <p:cNvPicPr/>
          <p:nvPr/>
        </p:nvPicPr>
        <p:blipFill>
          <a:blip r:embed="rId1"/>
          <a:stretch/>
        </p:blipFill>
        <p:spPr>
          <a:xfrm>
            <a:off x="609480" y="514440"/>
            <a:ext cx="7696440" cy="566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野骆驼1"/>
          <p:cNvPicPr/>
          <p:nvPr/>
        </p:nvPicPr>
        <p:blipFill>
          <a:blip r:embed="rId1"/>
          <a:stretch/>
        </p:blipFill>
        <p:spPr>
          <a:xfrm>
            <a:off x="1523880" y="304920"/>
            <a:ext cx="5751720" cy="632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771640" y="1197000"/>
            <a:ext cx="56390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脊背突起像山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沙漠之舟能载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风沙干旱都不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戈壁滩上逞英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452520" y="1004760"/>
            <a:ext cx="182880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谜语</a:t>
            </a:r>
            <a:endParaRPr b="1" lang="en-US" sz="7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" name="Picture 11" descr="C:\My Documents\My Pictures\思考符号.gif"/>
          <p:cNvPicPr/>
          <p:nvPr/>
        </p:nvPicPr>
        <p:blipFill>
          <a:blip r:embed="rId1"/>
          <a:stretch/>
        </p:blipFill>
        <p:spPr>
          <a:xfrm>
            <a:off x="1935000" y="174600"/>
            <a:ext cx="731880" cy="434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19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2:35Z</dcterms:modified>
  <cp:revision>3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