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D7F-68E3-464C-A38D-3DBADD7314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13D-9F64-425E-AD2E-0743EDE9F2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A67-1C46-4C56-919B-7971599C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21F-1140-4F35-9F5F-1B2ACEE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074-500B-4488-B85F-78C3AF3E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3B6-30DE-4A7C-A864-1D78352A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220-F11B-46BE-AD01-78D90AD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EAA-04C7-4C94-9D38-E190465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F47-2B66-4BFA-A2F0-E088BFC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74B-8045-4700-869B-2E2B612B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A7A-7A69-4AC1-8722-74B59FE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B55-D5DA-42A3-AAA4-E00BEE5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725-918B-4CD6-92FA-3D33005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8C8-B2E7-4BB3-94AF-033ED64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7083-A009-4D69-8EAF-6B5047382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2899440" y="18288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珍妮的帽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2204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568520" y="685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冀教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624F-964F-46F2-BBF6-4EEAC5B87B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珍妮的帽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的那些地方体现了老师和同学对珍妮的关爱？（段、句、词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疾病使珍妮发生了哪些变化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以前更瘦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如往常活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丽的金发也快掉光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14400" y="99072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珍妮快来上课时，海轮老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郑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宣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一个什么决定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下星期开始，学习认识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各式各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帽子。每位同学都要戴自己最喜欢的帽子到学校来，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新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越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2133720" y="16765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 珍妮来上学时，她的心情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、珍妮为什么戴帽子来上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、她戴了帽子后的心情为什么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忐忑不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４、课文 中是怎样描写她当时的样子的？找出相关句子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、这些描写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她非常担心别人注意她的帽子，发现帽子下的秘密。她压力很大，她又想进教室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不敢进教室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、当她进到教室时看到什么情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里每一个同学都戴着帽子，他们的帽子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五花八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、珍妮的帽子和其他同学的比起来有什么不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、这样的帽子是不会引起别人的注意的，所以她的心情一下子由刚才的忐忑不安变得怎么样了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想一想，海伦老师为什么让同学们都戴帽子，你明白了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伦老师不是真的让同学们学习认识各种帽子，而是让生病的珍妮能够心情愉快来上学。说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海伦老师非常的关爱同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80880" y="10666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戴 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 碍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妨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 患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990000"/>
                </a:solidFill>
                <a:latin typeface="Arial"/>
              </a:rPr>
              <a:t>郑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 疗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990000"/>
                </a:solidFill>
                <a:latin typeface="Arial"/>
              </a:rPr>
              <a:t>酷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瘦    宣       </a:t>
            </a:r>
            <a:r>
              <a:rPr b="0" lang="zh-CN" sz="6000" spc="-1" strike="noStrike">
                <a:solidFill>
                  <a:srgbClr val="660033"/>
                </a:solidFill>
                <a:latin typeface="Arial"/>
              </a:rPr>
              <a:t>何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cc6600"/>
                </a:solidFill>
                <a:latin typeface="Arial"/>
              </a:rPr>
              <a:t> 注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任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乎       迟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室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     式   班       </a:t>
            </a: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级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09480" y="3049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"/>
              </a:rPr>
              <a:t>你们还认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609480" y="5730840"/>
            <a:ext cx="55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43000" y="609480"/>
            <a:ext cx="67816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妨碍    忐忑不安  各式各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患病   五花八门     残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意外    迟迟     郑重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宣布   熟悉  陌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3808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黄金搭档</a:t>
            </a:r>
            <a:r>
              <a:rPr b="1" lang="en-US" sz="3200" spc="-1" strike="noStrike">
                <a:solidFill>
                  <a:srgbClr val="ff0066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05740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  ）的金发     （               ）的帽子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的教室        （              ）的宣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地见面       （               ）地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2:4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37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