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78B0-F114-4465-AD95-BFFA4CA4C6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A45F-DD47-4030-981D-1CA13AABDE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B214-04B5-4EBC-9962-4651C81F1D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BE37-3C58-45E3-A99E-04E5CA4358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A23-743B-4E98-80CF-1654350F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1AA-8A5E-45CA-942E-51F39A53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57A-AFF9-4A8D-90EB-E124FE43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E11-0090-45BA-B4A1-FC450003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6F8-BC15-4D8B-8113-60C355C6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89F-BC5B-4CD5-8254-BCDD1B68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48C-4CC5-4FD9-9635-E5F5EA79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CED-F8E9-4F44-B5D7-165D7868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150-EF7B-484E-9DBC-EC5C4319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537-7149-4D74-BFFE-82DC8366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E39A-4587-4500-818F-2F95AC7A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C3B-704B-4EB5-BEF7-61DF2DA9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95FD-9780-4C0E-AD38-DF757317C2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41440" y="198108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华文隶书"/>
                <a:ea typeface="华文隶书"/>
              </a:rPr>
              <a:t>这条小鱼在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576440" y="566100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这条小鱼在乎"/>
          <p:cNvPicPr/>
          <p:nvPr/>
        </p:nvPicPr>
        <p:blipFill>
          <a:blip r:embed="rId1"/>
          <a:srcRect l="-2870" t="0" r="-2049" b="-7808"/>
          <a:stretch/>
        </p:blipFill>
        <p:spPr>
          <a:xfrm>
            <a:off x="0" y="2736720"/>
            <a:ext cx="9144000" cy="4121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971640" y="907920"/>
            <a:ext cx="7345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“……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代表（　　），所有的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鱼都想（　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>
            <a:hlinkClick r:id="rId2" action="ppaction://hlinksldjump"/>
          </p:cNvPr>
          <p:cNvSpPr/>
          <p:nvPr/>
        </p:nvSpPr>
        <p:spPr>
          <a:xfrm>
            <a:off x="802800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284720" y="981000"/>
            <a:ext cx="7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314960" y="907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鱼很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090960" y="1700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活下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说一说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男孩儿是个什么样的孩子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979280" y="39337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非常有爱心，爱护幼小的生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673200" y="579420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20090423175511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通过这个故事你学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1989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生命无论大小贵贱，都应该珍惜。善良的事情也许很小，一个人能做到的也许很少。我们不在乎事情的大小，也不在乎能做到多少，我们在乎的是有没有去做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684360" y="2708280"/>
            <a:ext cx="822960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把这个关于爱的故事讲给爸爸妈妈听吧！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DB6F-052D-4595-BB72-74F313A240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79280" y="40464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楷体"/>
              </a:rPr>
              <a:t>想一想课文讲述了一个什么故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332000" y="1773360"/>
            <a:ext cx="71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ahoma"/>
                <a:ea typeface="楷体"/>
              </a:rPr>
              <a:t>男人跟着男孩儿一起（      ）小鱼的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72360" y="1773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拯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202U2H15-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826920" y="1773360"/>
            <a:ext cx="6840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甚至　　　手臂　　奄奄一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朝前走着　　　困在浅水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散步　挣扎　干净　朝前　卷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松散　挣钱　干活　朝阳　试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"/>
              </a:rPr>
              <a:t>　　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默读课文，想一想课文的哪些地方给你留下了深刻的印象。在这些语句下面画上线并写上自己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>
            <a:hlinkClick r:id="" action="ppaction://hlinkshowjump?jump=nextslide"/>
          </p:cNvPr>
          <p:cNvSpPr/>
          <p:nvPr/>
        </p:nvSpPr>
        <p:spPr>
          <a:xfrm>
            <a:off x="7451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>
            <a:hlinkClick r:id="rId2" action="ppaction://hlinksldjump"/>
          </p:cNvPr>
          <p:cNvSpPr/>
          <p:nvPr/>
        </p:nvSpPr>
        <p:spPr>
          <a:xfrm>
            <a:off x="831708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>
            <a:hlinkClick r:id="rId3" action="ppaction://hlinksldjump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>
            <a:hlinkClick r:id="rId4" action="ppaction://hlinksldjump"/>
          </p:cNvPr>
          <p:cNvSpPr/>
          <p:nvPr/>
        </p:nvSpPr>
        <p:spPr>
          <a:xfrm>
            <a:off x="7885080" y="6353280"/>
            <a:ext cx="432000" cy="50472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33">
                <a:moveTo>
                  <a:pt x="0" y="0"/>
                </a:moveTo>
                <a:lnTo>
                  <a:pt x="21600" y="0"/>
                </a:lnTo>
                <a:lnTo>
                  <a:pt x="21600" y="25233"/>
                </a:lnTo>
                <a:lnTo>
                  <a:pt x="0" y="25233"/>
                </a:lnTo>
                <a:close/>
              </a:path>
              <a:path fill="lightenLess" w="21600" h="252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33">
                <a:moveTo>
                  <a:pt x="21600" y="0"/>
                </a:moveTo>
                <a:lnTo>
                  <a:pt x="21600" y="25233"/>
                </a:lnTo>
                <a:lnTo>
                  <a:pt x="20200" y="23833"/>
                </a:lnTo>
                <a:lnTo>
                  <a:pt x="20200" y="1400"/>
                </a:lnTo>
                <a:close/>
              </a:path>
              <a:path fill="darkenLess" w="21600" h="25233">
                <a:moveTo>
                  <a:pt x="21600" y="25233"/>
                </a:moveTo>
                <a:lnTo>
                  <a:pt x="0" y="25233"/>
                </a:lnTo>
                <a:lnTo>
                  <a:pt x="1400" y="23833"/>
                </a:lnTo>
                <a:lnTo>
                  <a:pt x="20200" y="23833"/>
                </a:lnTo>
                <a:close/>
              </a:path>
              <a:path fill="lighten" w="21600" h="25233">
                <a:moveTo>
                  <a:pt x="0" y="252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这条小鱼在乎_02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0" y="1268280"/>
            <a:ext cx="7740720" cy="496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042920" y="2133720"/>
            <a:ext cx="59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它们被困在浅水洼里，回不了大海，有的在那少得可怜的水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挣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着，有的从水洼中跳到沙滩上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奄奄一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地等着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826920" y="220500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042920" y="2133720"/>
            <a:ext cx="59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它们被困在浅水洼里，回不了大海，有的在那少得可怜的水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挣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着，有的从水洼中跳到沙滩上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奄奄一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地等着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>
            <a:hlinkClick r:id="" action="ppaction://hlinkshowjump?jump=previousslide"/>
          </p:cNvPr>
          <p:cNvSpPr/>
          <p:nvPr/>
        </p:nvSpPr>
        <p:spPr>
          <a:xfrm>
            <a:off x="788508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10800"/>
                </a:moveTo>
                <a:lnTo>
                  <a:pt x="20074" y="3794"/>
                </a:lnTo>
                <a:lnTo>
                  <a:pt x="200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6489720" y="2421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826920" y="198108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被困的小鱼，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也许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几百条，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甚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几千条。用不了多久，浅水洼里的水就会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光，这些小鱼也会干死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u=208848706,1084950506&amp;fm=3&amp;gp=41"/>
          <p:cNvPicPr/>
          <p:nvPr/>
        </p:nvPicPr>
        <p:blipFill>
          <a:blip r:embed="rId1"/>
          <a:stretch/>
        </p:blipFill>
        <p:spPr>
          <a:xfrm>
            <a:off x="6443640" y="1844640"/>
            <a:ext cx="2411280" cy="29592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5">
            <a:hlinkClick r:id="rId2" action="ppaction://hlinksldjump"/>
          </p:cNvPr>
          <p:cNvSpPr/>
          <p:nvPr/>
        </p:nvSpPr>
        <p:spPr>
          <a:xfrm>
            <a:off x="795672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3794" y="11916"/>
                </a:moveTo>
                <a:lnTo>
                  <a:pt x="17806" y="4910"/>
                </a:lnTo>
                <a:lnTo>
                  <a:pt x="17806" y="189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>
            <a:hlinkClick r:id="rId3" action="ppaction://hlinksldjump"/>
          </p:cNvPr>
          <p:cNvSpPr/>
          <p:nvPr/>
        </p:nvSpPr>
        <p:spPr>
          <a:xfrm>
            <a:off x="8459640" y="6453360"/>
            <a:ext cx="433440" cy="404640"/>
          </a:xfrm>
          <a:custGeom>
            <a:avLst/>
            <a:gdLst>
              <a:gd name="textAreaLeft" fmla="*/ 25920 w 433440"/>
              <a:gd name="textAreaRight" fmla="*/ 407520 w 4334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136" h="21600">
                <a:moveTo>
                  <a:pt x="0" y="0"/>
                </a:moveTo>
                <a:lnTo>
                  <a:pt x="23136" y="0"/>
                </a:lnTo>
                <a:lnTo>
                  <a:pt x="23136" y="21600"/>
                </a:lnTo>
                <a:lnTo>
                  <a:pt x="0" y="21600"/>
                </a:lnTo>
                <a:close/>
              </a:path>
              <a:path fill="lightenLess" w="23136" h="21600">
                <a:moveTo>
                  <a:pt x="0" y="0"/>
                </a:moveTo>
                <a:lnTo>
                  <a:pt x="23136" y="0"/>
                </a:lnTo>
                <a:lnTo>
                  <a:pt x="21736" y="1400"/>
                </a:lnTo>
                <a:lnTo>
                  <a:pt x="1400" y="1400"/>
                </a:lnTo>
                <a:close/>
              </a:path>
              <a:path fill="darken" w="23136" h="21600">
                <a:moveTo>
                  <a:pt x="23136" y="0"/>
                </a:moveTo>
                <a:lnTo>
                  <a:pt x="23136" y="21600"/>
                </a:lnTo>
                <a:lnTo>
                  <a:pt x="21736" y="20200"/>
                </a:lnTo>
                <a:lnTo>
                  <a:pt x="21736" y="1400"/>
                </a:lnTo>
                <a:close/>
              </a:path>
              <a:path fill="darkenLess" w="23136" h="21600">
                <a:moveTo>
                  <a:pt x="231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6" y="20200"/>
                </a:lnTo>
                <a:close/>
              </a:path>
              <a:path fill="lighten" w="231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202U2H15-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692360" y="1700280"/>
            <a:ext cx="522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我是一条困在浅水洼里的小鱼，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曾经有过一个幸福的家，可是突然来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场暴风雨，它把我卷上了沙滩，我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困在了（　），小水洼的水真浅呀，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觉得我要（　　），我想我的（　　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我想（　　），可是它近在咫尺却远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天涯，谁来（　　），谁来（　　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2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24000" y="476280"/>
            <a:ext cx="30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他忽然看见前面有一个小男孩儿，每走到一个水洼旁都弯下腰去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他在不停地捡起水洼里的小鱼，用力地把它们扔回大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4000" y="476280"/>
            <a:ext cx="30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他忽然看见前面有一个小男孩儿，每走到一个水洼旁都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弯下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去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他在不停地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捡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水洼里的小鱼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用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地把它们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扔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大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>
            <a:hlinkClick r:id="rId2" action="ppaction://hlinksldjump"/>
          </p:cNvPr>
          <p:cNvSpPr/>
          <p:nvPr/>
        </p:nvSpPr>
        <p:spPr>
          <a:xfrm>
            <a:off x="788508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11788"/>
                </a:moveTo>
                <a:lnTo>
                  <a:pt x="17806" y="4782"/>
                </a:lnTo>
                <a:lnTo>
                  <a:pt x="17806" y="187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>
            <a:hlinkClick r:id="rId3" action="ppaction://hlinksldjump"/>
          </p:cNvPr>
          <p:cNvSpPr/>
          <p:nvPr/>
        </p:nvSpPr>
        <p:spPr>
          <a:xfrm>
            <a:off x="8459640" y="6308640"/>
            <a:ext cx="505080" cy="54936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492">
                <a:moveTo>
                  <a:pt x="0" y="0"/>
                </a:moveTo>
                <a:lnTo>
                  <a:pt x="21600" y="0"/>
                </a:lnTo>
                <a:lnTo>
                  <a:pt x="21600" y="23492"/>
                </a:lnTo>
                <a:lnTo>
                  <a:pt x="0" y="23492"/>
                </a:lnTo>
                <a:close/>
              </a:path>
              <a:path fill="lightenLess" w="21600" h="234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92">
                <a:moveTo>
                  <a:pt x="21600" y="0"/>
                </a:moveTo>
                <a:lnTo>
                  <a:pt x="21600" y="23492"/>
                </a:lnTo>
                <a:lnTo>
                  <a:pt x="20200" y="22092"/>
                </a:lnTo>
                <a:lnTo>
                  <a:pt x="20200" y="1400"/>
                </a:lnTo>
                <a:close/>
              </a:path>
              <a:path fill="darkenLess" w="21600" h="23492">
                <a:moveTo>
                  <a:pt x="21600" y="23492"/>
                </a:moveTo>
                <a:lnTo>
                  <a:pt x="0" y="23492"/>
                </a:lnTo>
                <a:lnTo>
                  <a:pt x="1400" y="22092"/>
                </a:lnTo>
                <a:lnTo>
                  <a:pt x="20200" y="22092"/>
                </a:lnTo>
                <a:close/>
              </a:path>
              <a:path fill="lighten" w="21600" h="23492">
                <a:moveTo>
                  <a:pt x="0" y="234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这条小鱼在乎"/>
          <p:cNvPicPr/>
          <p:nvPr/>
        </p:nvPicPr>
        <p:blipFill>
          <a:blip r:embed="rId1"/>
          <a:srcRect l="-2870" t="0" r="-2049" b="-7808"/>
          <a:stretch/>
        </p:blipFill>
        <p:spPr>
          <a:xfrm>
            <a:off x="0" y="2736720"/>
            <a:ext cx="9144000" cy="4121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971640" y="90792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这条小鱼在乎！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男孩儿一边回答，一边捡起一条小鱼扔进大海，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这条在乎！还有这一条，这一条，这一条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>
            <a:hlinkClick r:id="rId2" action="ppaction://hlinksldjump"/>
          </p:cNvPr>
          <p:cNvSpPr/>
          <p:nvPr/>
        </p:nvSpPr>
        <p:spPr>
          <a:xfrm>
            <a:off x="802800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5:32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3:04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