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18DF-434A-423B-A7A0-E39C4F4132E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1F8D-EB44-455E-92E1-2D383B2A07D2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1330-83E5-4A09-8F8B-A755CABD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F8B3-9E96-491A-B9C0-81EED1EC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0504-4027-413A-B513-EB40FEA2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CD5-AF6C-423E-9FEA-697B64AD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C1AB-0A3F-4F03-B72C-A6FCDDFA9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EE99-A32F-4AA0-B6DD-D3A8D6454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8D658-1EFF-4049-A812-7DE4B408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979FB-21A8-49DC-B9E2-0C257478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CCB6-B63B-4318-83E4-011809DC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60E8-13AC-4892-8238-E165B6EF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D892-7961-47B4-A7AE-395412EA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BF9-7E0E-4CDD-AEE5-8CC10298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1182-4D54-42FB-8CD2-4DBC8B9C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5314-C981-45E7-891C-ED1D3D78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7F0C-740D-4EF8-A736-2AE443A4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83C1-E48C-4649-91AD-C6E5378C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FBA9-B43D-4266-9DAD-7F1FE152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72D-832B-40C3-BAE0-56494ED0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5B2-C12A-4723-A0F3-0A00A9A6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3BC-8B8E-4FA8-86ED-0368DFF7E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D3B8-36D6-4075-A08B-DB55A1CA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B834-CE76-4AC3-974D-1FC7215B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8F2-C7BE-452F-B528-3FB7F877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CA1-5A45-4738-836A-01B02935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611D-67E3-422A-AE29-6B2DE7DA8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4B45-C21E-40F2-A65A-C646C29634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ldblog.voc.com.cn/sp1/huangchengde/001144507916/1221321503437_507916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200741893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6"/>
          <p:cNvSpPr txBox="1"/>
          <p:nvPr/>
        </p:nvSpPr>
        <p:spPr>
          <a:xfrm>
            <a:off x="1979640" y="1773360"/>
            <a:ext cx="5327640" cy="23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latin typeface="华文中宋"/>
              </a:rPr>
              <a:t>祖先的摇篮</a:t>
            </a:r>
            <a:endParaRPr b="1" lang="en-US" sz="6600" spc="1" strike="noStrike">
              <a:ln w="9360">
                <a:solidFill>
                  <a:srgbClr val="ffff00"/>
                </a:solidFill>
                <a:round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447920" y="557208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59ead379f48d636c0dd7da06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5">
            <a:hlinkClick r:id="rId2" action="ppaction://hlinksldjump"/>
          </p:cNvPr>
          <p:cNvSpPr/>
          <p:nvPr/>
        </p:nvSpPr>
        <p:spPr>
          <a:xfrm>
            <a:off x="7885080" y="5877000"/>
            <a:ext cx="1258920" cy="720720"/>
          </a:xfrm>
          <a:custGeom>
            <a:avLst/>
            <a:gdLst>
              <a:gd name="textAreaLeft" fmla="*/ 46440 w 1258920"/>
              <a:gd name="textAreaRight" fmla="*/ 1212480 w 1258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7722" h="21600">
                <a:moveTo>
                  <a:pt x="0" y="0"/>
                </a:moveTo>
                <a:lnTo>
                  <a:pt x="37722" y="0"/>
                </a:lnTo>
                <a:lnTo>
                  <a:pt x="37722" y="21600"/>
                </a:lnTo>
                <a:lnTo>
                  <a:pt x="0" y="21600"/>
                </a:lnTo>
                <a:close/>
              </a:path>
              <a:path fill="lightenLess" w="37722" h="21600">
                <a:moveTo>
                  <a:pt x="0" y="0"/>
                </a:moveTo>
                <a:lnTo>
                  <a:pt x="37722" y="0"/>
                </a:lnTo>
                <a:lnTo>
                  <a:pt x="36322" y="1400"/>
                </a:lnTo>
                <a:lnTo>
                  <a:pt x="1400" y="1400"/>
                </a:lnTo>
                <a:close/>
              </a:path>
              <a:path fill="darken" w="37722" h="21600">
                <a:moveTo>
                  <a:pt x="37722" y="0"/>
                </a:moveTo>
                <a:lnTo>
                  <a:pt x="37722" y="21600"/>
                </a:lnTo>
                <a:lnTo>
                  <a:pt x="36322" y="20200"/>
                </a:lnTo>
                <a:lnTo>
                  <a:pt x="36322" y="1400"/>
                </a:lnTo>
                <a:close/>
              </a:path>
              <a:path fill="darkenLess" w="37722" h="21600">
                <a:moveTo>
                  <a:pt x="37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22" y="20200"/>
                </a:lnTo>
                <a:close/>
              </a:path>
              <a:path fill="lighten" w="37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804000" y="2349360"/>
            <a:ext cx="216072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蔷薇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de64a48a1f5247f9fc1f10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84360" y="404640"/>
            <a:ext cx="2233440" cy="11912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蝈蝈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>
            <a:hlinkClick r:id="rId2" action="ppaction://hlinksldjump"/>
          </p:cNvPr>
          <p:cNvSpPr/>
          <p:nvPr/>
        </p:nvSpPr>
        <p:spPr>
          <a:xfrm>
            <a:off x="6948360" y="5445000"/>
            <a:ext cx="1871640" cy="863640"/>
          </a:xfrm>
          <a:custGeom>
            <a:avLst/>
            <a:gdLst>
              <a:gd name="textAreaLeft" fmla="*/ 55800 w 1871640"/>
              <a:gd name="textAreaRight" fmla="*/ 1815840 w 1871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46800" h="21600">
                <a:moveTo>
                  <a:pt x="0" y="0"/>
                </a:moveTo>
                <a:lnTo>
                  <a:pt x="46800" y="0"/>
                </a:lnTo>
                <a:lnTo>
                  <a:pt x="46800" y="21600"/>
                </a:lnTo>
                <a:lnTo>
                  <a:pt x="0" y="21600"/>
                </a:lnTo>
                <a:close/>
              </a:path>
              <a:path fill="lightenLess" w="46800" h="21600">
                <a:moveTo>
                  <a:pt x="0" y="0"/>
                </a:moveTo>
                <a:lnTo>
                  <a:pt x="46800" y="0"/>
                </a:lnTo>
                <a:lnTo>
                  <a:pt x="45400" y="1400"/>
                </a:lnTo>
                <a:lnTo>
                  <a:pt x="1400" y="1400"/>
                </a:lnTo>
                <a:close/>
              </a:path>
              <a:path fill="darken" w="46800" h="21600">
                <a:moveTo>
                  <a:pt x="46800" y="0"/>
                </a:moveTo>
                <a:lnTo>
                  <a:pt x="46800" y="21600"/>
                </a:lnTo>
                <a:lnTo>
                  <a:pt x="45400" y="20200"/>
                </a:lnTo>
                <a:lnTo>
                  <a:pt x="45400" y="1400"/>
                </a:lnTo>
                <a:close/>
              </a:path>
              <a:path fill="darkenLess" w="46800" h="21600">
                <a:moveTo>
                  <a:pt x="46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400" y="20200"/>
                </a:lnTo>
                <a:close/>
              </a:path>
              <a:path fill="lighten" w="46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468360" y="692280"/>
            <a:ext cx="8496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这些都是作者的想象，是对过去的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Arial"/>
              </a:rPr>
              <a:t>      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，这回忆美好而 </a:t>
            </a:r>
            <a:r>
              <a:rPr b="1" lang="zh-CN" sz="8000" spc="-1" strike="noStrike" u="sng">
                <a:solidFill>
                  <a:srgbClr val="ffffff"/>
                </a:solidFill>
                <a:uFillTx/>
                <a:latin typeface="Arial"/>
              </a:rPr>
              <a:t>         </a:t>
            </a: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924360" y="436572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遥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1835280" y="314172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cc"/>
                </a:solidFill>
                <a:latin typeface="Arial"/>
              </a:rPr>
              <a:t>回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250560" y="189000"/>
            <a:ext cx="84358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13040" indent="-113040">
              <a:lnSpc>
                <a:spcPct val="10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那（苍苍茫茫的原始森林）是（祖先）的摇篮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那（那蓝蓝的天空）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是（    ）的摇篮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那（                  ）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113040" indent="-113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是（    ）的摇篮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200705150718319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1"/>
          <p:cNvSpPr/>
          <p:nvPr/>
        </p:nvSpPr>
        <p:spPr>
          <a:xfrm>
            <a:off x="1824120" y="3108240"/>
            <a:ext cx="63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preview1221321503437_5079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"/>
          <p:cNvSpPr/>
          <p:nvPr/>
        </p:nvSpPr>
        <p:spPr>
          <a:xfrm>
            <a:off x="395280" y="1484280"/>
            <a:ext cx="842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让我们也展开想象，画一画美丽的摇篮吧！想想祖先在他们的摇篮中会干些什么？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0" y="26028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拓展延伸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】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</a:rPr>
              <a:t>使用规范说明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99ff66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9ff66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6798-DAA7-43E6-AEBF-7548D7AD90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826920" y="404640"/>
            <a:ext cx="73454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爷爷说，那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始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森林，是我们祖先的摇篮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那浓绿的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荫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，一望无边，遮住了蓝天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我想，我们的祖先，可曾在这些大树上摘野果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掏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雀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、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曾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在这里捉红蜻蜓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逮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绿蝈蝈儿吗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7" descr="c3c265500eb1331c42a75be3"/>
          <p:cNvPicPr/>
          <p:nvPr/>
        </p:nvPicPr>
        <p:blipFill>
          <a:blip r:embed="rId1"/>
          <a:stretch/>
        </p:blipFill>
        <p:spPr>
          <a:xfrm>
            <a:off x="5940360" y="2421000"/>
            <a:ext cx="1656000" cy="1592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c3c265500eb1331c42a75be3"/>
          <p:cNvPicPr/>
          <p:nvPr/>
        </p:nvPicPr>
        <p:blipFill>
          <a:blip r:embed="rId2"/>
          <a:stretch/>
        </p:blipFill>
        <p:spPr>
          <a:xfrm>
            <a:off x="1692360" y="2349360"/>
            <a:ext cx="1655640" cy="159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3c265500eb1331c42a75be3"/>
          <p:cNvPicPr/>
          <p:nvPr/>
        </p:nvPicPr>
        <p:blipFill>
          <a:blip r:embed="rId3"/>
          <a:stretch/>
        </p:blipFill>
        <p:spPr>
          <a:xfrm>
            <a:off x="611280" y="189000"/>
            <a:ext cx="1655640" cy="15922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5796000" y="2708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原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8" descr="c3c265500eb1331c42a75be3"/>
          <p:cNvPicPr/>
          <p:nvPr/>
        </p:nvPicPr>
        <p:blipFill>
          <a:blip r:embed="rId4"/>
          <a:stretch/>
        </p:blipFill>
        <p:spPr>
          <a:xfrm>
            <a:off x="0" y="4538520"/>
            <a:ext cx="2411280" cy="2319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c3c265500eb1331c42a75be3"/>
          <p:cNvPicPr/>
          <p:nvPr/>
        </p:nvPicPr>
        <p:blipFill>
          <a:blip r:embed="rId5"/>
          <a:stretch/>
        </p:blipFill>
        <p:spPr>
          <a:xfrm>
            <a:off x="3780000" y="2421000"/>
            <a:ext cx="1655640" cy="1592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c3c265500eb1331c42a75be3"/>
          <p:cNvPicPr/>
          <p:nvPr/>
        </p:nvPicPr>
        <p:blipFill>
          <a:blip r:embed="rId6"/>
          <a:stretch/>
        </p:blipFill>
        <p:spPr>
          <a:xfrm>
            <a:off x="6659640" y="4451400"/>
            <a:ext cx="2484360" cy="2387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c3c265500eb1331c42a75be3"/>
          <p:cNvPicPr/>
          <p:nvPr/>
        </p:nvPicPr>
        <p:blipFill>
          <a:blip r:embed="rId7"/>
          <a:stretch/>
        </p:blipFill>
        <p:spPr>
          <a:xfrm>
            <a:off x="6948360" y="260280"/>
            <a:ext cx="1656000" cy="1592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c3c265500eb1331c42a75be3"/>
          <p:cNvPicPr/>
          <p:nvPr/>
        </p:nvPicPr>
        <p:blipFill>
          <a:blip r:embed="rId8"/>
          <a:stretch/>
        </p:blipFill>
        <p:spPr>
          <a:xfrm>
            <a:off x="4859280" y="260280"/>
            <a:ext cx="1656000" cy="1592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4" descr="c3c265500eb1331c42a75be3"/>
          <p:cNvPicPr/>
          <p:nvPr/>
        </p:nvPicPr>
        <p:blipFill>
          <a:blip r:embed="rId9"/>
          <a:stretch/>
        </p:blipFill>
        <p:spPr>
          <a:xfrm>
            <a:off x="3348000" y="4435560"/>
            <a:ext cx="2519280" cy="2422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c3c265500eb1331c42a75be3"/>
          <p:cNvPicPr/>
          <p:nvPr/>
        </p:nvPicPr>
        <p:blipFill>
          <a:blip r:embed="rId10"/>
          <a:stretch/>
        </p:blipFill>
        <p:spPr>
          <a:xfrm>
            <a:off x="2843280" y="189000"/>
            <a:ext cx="1655640" cy="1592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8"/>
          <p:cNvSpPr/>
          <p:nvPr/>
        </p:nvSpPr>
        <p:spPr>
          <a:xfrm>
            <a:off x="2771640" y="476280"/>
            <a:ext cx="25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曾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9"/>
          <p:cNvSpPr/>
          <p:nvPr/>
        </p:nvSpPr>
        <p:spPr>
          <a:xfrm>
            <a:off x="6588000" y="5084640"/>
            <a:ext cx="273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摘野果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20"/>
          <p:cNvSpPr/>
          <p:nvPr/>
        </p:nvSpPr>
        <p:spPr>
          <a:xfrm>
            <a:off x="3348000" y="5157720"/>
            <a:ext cx="31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掏雀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1"/>
          <p:cNvSpPr/>
          <p:nvPr/>
        </p:nvSpPr>
        <p:spPr>
          <a:xfrm>
            <a:off x="0" y="5300640"/>
            <a:ext cx="331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逮蝈蝈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3780000" y="2637000"/>
            <a:ext cx="21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思想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3"/>
          <p:cNvSpPr/>
          <p:nvPr/>
        </p:nvSpPr>
        <p:spPr>
          <a:xfrm>
            <a:off x="6983280" y="549360"/>
            <a:ext cx="216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Arial"/>
              </a:rPr>
              <a:t>意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611280" y="476280"/>
            <a:ext cx="172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回忆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859280" y="476280"/>
            <a:ext cx="223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遥远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1692360" y="2637000"/>
            <a:ext cx="23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浓绿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539640" y="333360"/>
            <a:ext cx="838836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99"/>
                </a:solidFill>
                <a:latin typeface="Arial"/>
              </a:rPr>
              <a:t>想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7200" spc="-1" strike="noStrike">
                <a:solidFill>
                  <a:srgbClr val="990099"/>
                </a:solidFill>
                <a:latin typeface="Arial"/>
              </a:rPr>
              <a:t>曾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  逮    吗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0099"/>
                </a:solidFill>
                <a:latin typeface="Arial"/>
              </a:rPr>
              <a:t>远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zh-CN" sz="7200" spc="-1" strike="noStrike">
                <a:solidFill>
                  <a:srgbClr val="990099"/>
                </a:solidFill>
                <a:latin typeface="Arial"/>
              </a:rPr>
              <a:t>始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990099"/>
                </a:solidFill>
                <a:latin typeface="Arial"/>
              </a:rPr>
              <a:t> 浓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990099"/>
                </a:solidFill>
                <a:latin typeface="Arial"/>
              </a:rPr>
              <a:t>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蝈    </a:t>
            </a:r>
            <a:r>
              <a:rPr b="1" lang="zh-CN" sz="7200" spc="-1" strike="noStrike">
                <a:solidFill>
                  <a:srgbClr val="990099"/>
                </a:solidFill>
                <a:latin typeface="Arial"/>
              </a:rPr>
              <a:t>意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    掏   </a:t>
            </a:r>
            <a:r>
              <a:rPr b="1" lang="zh-CN" sz="7200" spc="-1" strike="noStrike">
                <a:solidFill>
                  <a:srgbClr val="990099"/>
                </a:solidFill>
                <a:latin typeface="Arial"/>
              </a:rPr>
              <a:t>思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荫    蝈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0"/>
            <a:ext cx="367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思考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】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95280" y="126828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5400" spc="-1" strike="noStrike" u="sng">
                <a:solidFill>
                  <a:srgbClr val="ffffff"/>
                </a:solidFill>
                <a:uFillTx/>
                <a:latin typeface="Arial"/>
              </a:rPr>
              <a:t>                 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 是祖先的          摇篮。 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763640" y="119700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原始森林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68360" y="3284640"/>
            <a:ext cx="8389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、默读课文，想一想，画一画，原始森林是什么样子？原始森林里都有什么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6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moban/                  PPT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背景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beijing/                   PPT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图表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xiazai/                     PPT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ziliao/                   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fanwen/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shiti/                     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jiaoan/       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课件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语文课件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kejian/yuwen/    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数学课件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kejian/shuxue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英语课件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kejian/yingyu/    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美术课件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kejian/meish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科学课件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kejian/kexue/     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物理课件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kejian/wuli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化学课件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kejian/huaxue/  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生物课件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kejian/shengwu/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地理课件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kejian/dili/          </a:t>
            </a:r>
            <a:r>
              <a:rPr b="0" lang="zh-CN" sz="100" spc="-1" strike="noStrike">
                <a:solidFill>
                  <a:srgbClr val="008000"/>
                </a:solidFill>
                <a:latin typeface="Arial"/>
              </a:rPr>
              <a:t>历史课件：</a:t>
            </a:r>
            <a:r>
              <a:rPr b="0" lang="en-US" sz="100" spc="-1" strike="noStrike">
                <a:solidFill>
                  <a:srgbClr val="008000"/>
                </a:solidFill>
                <a:latin typeface="Arial"/>
              </a:rPr>
              <a:t>www.1ppt.com/kejian/lishi/        </a:t>
            </a:r>
            <a:endParaRPr b="0" lang="en-US" sz="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01300000320438123238522461381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210_4425"/>
          <p:cNvPicPr/>
          <p:nvPr/>
        </p:nvPicPr>
        <p:blipFill>
          <a:blip r:embed="rId1"/>
          <a:stretch/>
        </p:blipFill>
        <p:spPr>
          <a:xfrm>
            <a:off x="-304920" y="-33480"/>
            <a:ext cx="9753840" cy="692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5" descr="1975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Picture 3" descr="20080717_ba4b6fb3444542aa27b8zMUzb6kbBTXn"/>
          <p:cNvPicPr/>
          <p:nvPr/>
        </p:nvPicPr>
        <p:blipFill>
          <a:blip r:embed="rId1"/>
          <a:stretch/>
        </p:blipFill>
        <p:spPr>
          <a:xfrm>
            <a:off x="-757080" y="0"/>
            <a:ext cx="10260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1:06:15Z</dcterms:modified>
  <cp:revision>1</cp:revision>
  <dc:subject/>
  <dc:title>幻灯片 1</dc:title>
</cp:coreProperties>
</file>