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camera.wav" ContentType="audio/x-wav"/>
  <Override PartName="/ppt/media/image7.jpeg" ContentType="image/jpeg"/>
  <Override PartName="/ppt/media/image28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2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type.wav" ContentType="audio/x-wav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2.jpeg" ContentType="image/jpeg"/>
  <Override PartName="/ppt/media/image20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8F99-2F24-4B6A-9CF5-81793D0471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8D2-29A7-49D2-8112-4AD8E9C29C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CEE-3686-48D0-B0E4-3E0BBB70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97E-5C12-456E-82BA-06BA27B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70A-A8A2-493D-9315-694A2DD0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859-FD8C-4D55-8094-81AF4E5A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ADE-2964-4E68-96E6-AFD9160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C44-DD23-4CBF-B2D1-42C548C0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A41-E1E3-4288-AFF6-4F39E72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DB9-1B3A-4CAD-81DB-34486CA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625-04E1-4D31-ABC1-FD37C7CE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2B0-E1DA-4758-9988-0BE576D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FEB-7C38-41DC-96CC-797436D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17A-A9A4-466E-AB79-E0BB1BB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6EA0-DDA0-4244-821D-6FE9D47ADD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走月亮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7164360" y="220500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lastslide"/>
          </p:cNvPr>
          <p:cNvSpPr/>
          <p:nvPr/>
        </p:nvSpPr>
        <p:spPr>
          <a:xfrm>
            <a:off x="1174680" y="3716280"/>
            <a:ext cx="576360" cy="57780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960 h 577800"/>
              <a:gd name="textAreaBottom" fmla="*/ 339840 h 57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>
            <a:hlinkClick r:id="rId3" action="ppaction://hlinksldjump"/>
          </p:cNvPr>
          <p:cNvSpPr/>
          <p:nvPr/>
        </p:nvSpPr>
        <p:spPr>
          <a:xfrm>
            <a:off x="3851280" y="417600"/>
            <a:ext cx="576360" cy="576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4" action="ppaction://hlinksldjump"/>
          </p:cNvPr>
          <p:cNvSpPr/>
          <p:nvPr/>
        </p:nvSpPr>
        <p:spPr>
          <a:xfrm>
            <a:off x="1116000" y="95400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矩形 10" descr=""/>
          <p:cNvPicPr/>
          <p:nvPr/>
        </p:nvPicPr>
        <p:blipFill>
          <a:blip r:embed="rId5"/>
          <a:stretch/>
        </p:blipFill>
        <p:spPr>
          <a:xfrm>
            <a:off x="1922400" y="6093000"/>
            <a:ext cx="5500800" cy="493560"/>
          </a:xfrm>
          <a:prstGeom prst="rect">
            <a:avLst/>
          </a:prstGeom>
          <a:ln w="0">
            <a:noFill/>
          </a:ln>
        </p:spPr>
      </p:pic>
      <p:pic>
        <p:nvPicPr>
          <p:cNvPr id="54" name="矩形 2" descr=""/>
          <p:cNvPicPr/>
          <p:nvPr/>
        </p:nvPicPr>
        <p:blipFill>
          <a:blip r:embed="rId6"/>
          <a:stretch/>
        </p:blipFill>
        <p:spPr>
          <a:xfrm>
            <a:off x="2016000" y="1190520"/>
            <a:ext cx="482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这时候，阿妈喜欢领着我，在洒满月光的小路上漫步。走啊走，我和阿妈走月亮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812000" y="580536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468360" y="2997360"/>
            <a:ext cx="6743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新魏"/>
              </a:rPr>
              <a:t>你体会到“我”怎样的心情？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32000" y="4076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快乐、幸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月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755640" y="1197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我和阿妈走月亮，走过哪些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我和阿妈看到了什么，想到了什么事情？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又听到了什么，闻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00000" y="115920"/>
            <a:ext cx="712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细细的溪水，流着山草和野花的香味，流着月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卵石间有多少可爱的小水塘啊，每个小水塘，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抱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着一个月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258920" y="2924280"/>
            <a:ext cx="2160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修辞？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田野 水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436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阿妈，白天你在溪里洗衣服，我用树叶坐小船，运载许多新鲜的花瓣。阿妈我们到溪边去吧，我们去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小水塘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水塘里的月亮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看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我采过野花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啊，我和阿妈走月亮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68360" y="2708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435640" y="270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203640" y="342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00852311851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想到：阿妈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白天在溪里洗衣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2007090101045938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0000" y="62784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想到：做小船、采野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45d44f429c6b4b3073f05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619280" y="47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想到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b5604f01e15e97f2267fb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81058j84zg6th3ne99gzj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735371_1220966155FVdA"/>
          <p:cNvPicPr/>
          <p:nvPr/>
        </p:nvPicPr>
        <p:blipFill>
          <a:blip r:embed="rId2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999787_17274100293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蓝色系列13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56" name="WordArt 11"/>
          <p:cNvSpPr txBox="1"/>
          <p:nvPr/>
        </p:nvSpPr>
        <p:spPr>
          <a:xfrm rot="5400000">
            <a:off x="5328720" y="260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走月亮</a:t>
            </a:r>
            <a:endParaRPr b="1" lang="en-US" sz="2400" spc="1" strike="noStrike">
              <a:ln w="9360">
                <a:solidFill>
                  <a:srgbClr val="3366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7" name="Picture 4" descr="63061_1284098510AXVU"/>
          <p:cNvPicPr/>
          <p:nvPr/>
        </p:nvPicPr>
        <p:blipFill>
          <a:blip r:embed="rId2"/>
          <a:stretch/>
        </p:blipFill>
        <p:spPr>
          <a:xfrm>
            <a:off x="1403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走月亮是中国南方带有地方特色的风俗，指在月光下散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u=2442419536,3647876186&amp;fm=3&amp;gp=37"/>
          <p:cNvPicPr/>
          <p:nvPr/>
        </p:nvPicPr>
        <p:blipFill>
          <a:blip r:embed="rId1"/>
          <a:stretch/>
        </p:blipFill>
        <p:spPr>
          <a:xfrm>
            <a:off x="0" y="0"/>
            <a:ext cx="414036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u=4108782085,3435401468&amp;fm=0&amp;gp=20"/>
          <p:cNvPicPr/>
          <p:nvPr/>
        </p:nvPicPr>
        <p:blipFill>
          <a:blip r:embed="rId2"/>
          <a:stretch/>
        </p:blipFill>
        <p:spPr>
          <a:xfrm>
            <a:off x="4572000" y="0"/>
            <a:ext cx="4248000" cy="306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u=4060944244,3147796644&amp;fm=0&amp;gp=38"/>
          <p:cNvPicPr/>
          <p:nvPr/>
        </p:nvPicPr>
        <p:blipFill>
          <a:blip r:embed="rId3"/>
          <a:stretch/>
        </p:blipFill>
        <p:spPr>
          <a:xfrm>
            <a:off x="179280" y="3068640"/>
            <a:ext cx="38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uoshu2_006"/>
          <p:cNvPicPr/>
          <p:nvPr/>
        </p:nvPicPr>
        <p:blipFill>
          <a:blip r:embed="rId4"/>
          <a:stretch/>
        </p:blipFill>
        <p:spPr>
          <a:xfrm>
            <a:off x="4427640" y="3284640"/>
            <a:ext cx="424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436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秋虫唱着，夜鸟拍打着翅膀，从果园那边飘来了果子的甜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8317080" y="5950080"/>
            <a:ext cx="576000" cy="576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3348000" y="3933720"/>
            <a:ext cx="247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楷体_GB2312"/>
              </a:rPr>
              <a:t>身临其境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0" y="0"/>
            <a:ext cx="30290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微软雅黑"/>
              </a:rPr>
              <a:t>哪个字用得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2008105233515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39640" y="26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稻穗低垂着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539640" y="2205000"/>
            <a:ext cx="631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们走过月光闪闪的溪岸，走过石拱桥；走过月影团团的果园，走过庄稼地和菜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95280" y="404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文中都写了她们走过了哪些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564000" y="3500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611280" y="3500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2556000" y="4149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走月亮02"/>
          <p:cNvPicPr/>
          <p:nvPr/>
        </p:nvPicPr>
        <p:blipFill>
          <a:blip r:embed="rId1"/>
          <a:stretch/>
        </p:blipFill>
        <p:spPr>
          <a:xfrm>
            <a:off x="0" y="0"/>
            <a:ext cx="9612360" cy="7461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>
            <a:hlinkClick r:id="rId2" action="ppaction://hlinksldjump"/>
          </p:cNvPr>
          <p:cNvSpPr/>
          <p:nvPr/>
        </p:nvSpPr>
        <p:spPr>
          <a:xfrm>
            <a:off x="7451640" y="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lastslide"/>
          </p:cNvPr>
          <p:cNvSpPr/>
          <p:nvPr/>
        </p:nvSpPr>
        <p:spPr>
          <a:xfrm>
            <a:off x="1763640" y="342900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>
            <a:hlinkClick r:id="rId3" action="ppaction://hlinksldjump"/>
          </p:cNvPr>
          <p:cNvSpPr/>
          <p:nvPr/>
        </p:nvSpPr>
        <p:spPr>
          <a:xfrm>
            <a:off x="4140360" y="1052640"/>
            <a:ext cx="576000" cy="576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>
            <a:hlinkClick r:id="rId4" action="ppaction://hlinksldjump"/>
          </p:cNvPr>
          <p:cNvSpPr/>
          <p:nvPr/>
        </p:nvSpPr>
        <p:spPr>
          <a:xfrm>
            <a:off x="1908000" y="98100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332000" y="20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900000" y="191628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阿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温暖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的手拉着我，我闻得见阿妈身上的气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924360" y="414972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阿妈在你一起“我”的内心是快乐、幸福、温暖的，我深深的体会到了母爱的深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08000" y="256536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2008103019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39640" y="256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美丽的月亮牵着那些闪闪烁烁的小星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979640" y="386064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人与自然和谐的融为一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蓝色系列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33200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丽的山村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400" y="324468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阿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走月亮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260360" y="1486080"/>
            <a:ext cx="216000" cy="50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1040 h 5040000"/>
              <a:gd name="textAreaBottom" fmla="*/ 4908960 h 50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332000" y="234936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溪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41128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33200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溪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2411280" y="3860640"/>
            <a:ext cx="216000" cy="20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48292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鹅卵石布满河床、小水塘、水塘抱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255600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溪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255600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山草和野花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55600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“我”和阿妈在溪边的情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627280" y="5373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种油菜、种蚕豆、找兔草、吹蒲公英、栽水稻的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55600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修补过的村道，果子挂满枝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556000" y="4221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秋虫唱歌、夜鸟拍翅、鱼儿跳跃、              沟水汩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556000" y="4976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果子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476360" y="6093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美的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7237440" y="1339920"/>
            <a:ext cx="287280" cy="5184720"/>
          </a:xfrm>
          <a:custGeom>
            <a:avLst/>
            <a:gdLst>
              <a:gd name="textAreaLeft" fmla="*/ 0 w 287280"/>
              <a:gd name="textAreaRight" fmla="*/ 103680 w 2872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53440" y="34704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丽景色浓浓亲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79517_1836737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363528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走月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835280" y="256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景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361200" y="2492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情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WordArt 8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395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79517_1836737_8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0" y="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走月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250920" y="765000"/>
            <a:ext cx="88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微软雅黑"/>
              </a:rPr>
              <a:t>你感受到作者表达了什么样的思想感情？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4360" y="26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热爱大自然，享受母爱的幸福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36720" y="5238720"/>
            <a:ext cx="61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20070317035011824[1]"/>
          <p:cNvPicPr/>
          <p:nvPr/>
        </p:nvPicPr>
        <p:blipFill>
          <a:blip r:embed="rId1"/>
          <a:stretch/>
        </p:blipFill>
        <p:spPr>
          <a:xfrm>
            <a:off x="0" y="0"/>
            <a:ext cx="10620360" cy="68864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468360" y="333360"/>
            <a:ext cx="82296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：课文一共出现了几次“我和阿妈走月亮”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要这样写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11280" y="170028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语言上，增强了文章诗一般的韵律美，使语言富有气势，又使描写更加细腻、生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情感上，表达了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与阿妈走月亮时幸福、快乐的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主题思想上，深化了母爱的主题，体会到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微软雅黑"/>
              </a:rPr>
              <a:t>与母亲浓浓的亲情，让人心中涌起融融的暖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116000" y="2205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042920" y="342900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116000" y="465300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955960" y="5445000"/>
            <a:ext cx="66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55640" y="56926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答：这样反复地写，充分表达了“我”和阿妈走月亮时的幸福和喜悦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蓝色系列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字练习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55640" y="177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拼音，写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4360" y="2637000"/>
            <a:ext cx="8208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   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q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    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)    (           )     (             )    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)       (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44680" y="2832840"/>
            <a:ext cx="118584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母 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484360" y="11592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当我初来人世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母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妈妈听见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一声啼哭时含泪的微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顽皮的孩提时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母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妈妈在夜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轻轻拉被角时美丽的身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少不经事的青春时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母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妈妈在耳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永无休止的甜蜜的唠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当我在人海中奔波的时候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母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妈妈在电话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传递来的满载牵挂的问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869080" y="103320"/>
            <a:ext cx="3274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许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许多年后的某一天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们在茫茫人海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再也看不到妈妈的身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再也听不见妈妈的声音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此时的母爱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清晨第一缕阳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傍晚柔美的夕阳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就是天空宁静的月亮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—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王帅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875-C045-4800-9ED9-925DB3FB6F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蓝色系列1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字巩固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圆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0036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柔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26920" y="2852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00720" y="171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牵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44364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627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银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50072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淘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37236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坑坑洼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826920" y="3933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浇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700360" y="387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0072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稻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51672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嗅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450072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泼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771640" y="501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洱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588000" y="501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沟水汩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516720" y="364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蓝色系列17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50920" y="1125360"/>
            <a:ext cx="4176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走月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作者：吴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这本书分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理石的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闹春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巷深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月光的香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四小辑。以神奇、美丽、富饶的云南的山和水、人和景为主要描述对象，从孩子的心灵感受出发，勾画出一幅幅活跃、灵动、充满纯真气息的美文。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走月亮书"/>
          <p:cNvPicPr/>
          <p:nvPr/>
        </p:nvPicPr>
        <p:blipFill>
          <a:blip r:embed="rId2"/>
          <a:stretch/>
        </p:blipFill>
        <p:spPr>
          <a:xfrm>
            <a:off x="4541760" y="0"/>
            <a:ext cx="460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090811_5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51128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云南第二大湖泊：洱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156504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云南点苍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781816727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云南点苍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蓝色系列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684360" y="1484280"/>
            <a:ext cx="8135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亮照亮了高高的点苍山，照亮了村头的大青树，也照亮了，照亮了村间的大道和小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4360" y="306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排比句的作用：不仅使描写细腻，形象生动，更增强了韵律感，使语言富有气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826920" y="2217600"/>
            <a:ext cx="7561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826920" y="2852640"/>
            <a:ext cx="640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23600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排比句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4365720"/>
            <a:ext cx="748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亮照亮了高高的点苍山，照亮了村头的大青树，也照亮了，照亮了村间的大道和小路，照亮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照亮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763640" y="5373360"/>
            <a:ext cx="237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爱的池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292720" y="537336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飘香的果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美句赏析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7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24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7e16000000000001024120</vt:lpwstr>
  </property>
</Properties>
</file>