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01391-F757-4FB6-AEB8-130CAC891E8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221EE-EB9E-413B-98AE-F00EFEC643E2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2914-A466-44A6-A59F-46CC71190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EE854-2A57-4372-AC97-04CA6D849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38A7-F663-44B2-B4D3-D5F6AD05F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4001-192B-4818-B011-FB61FDF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E4B-C517-4B31-8E87-85AF26B05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70FE-9FCD-4CBF-A761-ADFA818DB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8AEE-C0FE-444F-A9F4-48F1AFDD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7F84A-92E7-46C4-BF0F-1A523061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8987-7738-4553-8F53-9DD362797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9AC3-23D1-4F34-9C53-64355336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869C-B97E-4D85-BA3D-91218ED7C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2E14-DE91-4652-A746-89BAEDB6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E9CD3-C258-42C8-A27B-9C2720B4C9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2843280" y="2565360"/>
            <a:ext cx="377676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知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910160" y="566100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33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801720" y="1700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走近小树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730080" y="98100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明“知音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730080" y="2708280"/>
            <a:ext cx="7777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轻声朗读第一自然段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片小树林给你什么印象？你从哪儿感受到的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只被关在笼里的画眉看到这种情景会怎么想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826920" y="15699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走近鸟语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41320" y="9079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明“知音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826920" y="2360520"/>
            <a:ext cx="79218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朗读第二自然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而最招人耳目的，要算鸟语园了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这句话用在这里的作用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鸟语园有什么特点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WordArt 7"/>
          <p:cNvSpPr txBox="1"/>
          <p:nvPr/>
        </p:nvSpPr>
        <p:spPr>
          <a:xfrm>
            <a:off x="1547640" y="4089240"/>
            <a:ext cx="1116360" cy="6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过渡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0" name="WordArt 8"/>
          <p:cNvSpPr txBox="1"/>
          <p:nvPr/>
        </p:nvSpPr>
        <p:spPr>
          <a:xfrm>
            <a:off x="1258920" y="5889600"/>
            <a:ext cx="37339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园美、鸟多、人多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91" name="文本框 1"/>
          <p:cNvSpPr/>
          <p:nvPr/>
        </p:nvSpPr>
        <p:spPr>
          <a:xfrm>
            <a:off x="2995560" y="1467000"/>
            <a:ext cx="575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797040" y="2612880"/>
            <a:ext cx="7559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如果你此时就是笼里的这些鸟儿中的一只，看到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种情景你会有怎样的想法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797040" y="18939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走近鸟语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"/>
          <p:cNvSpPr/>
          <p:nvPr/>
        </p:nvSpPr>
        <p:spPr>
          <a:xfrm>
            <a:off x="149400" y="110160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明“知音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797040" y="3836880"/>
            <a:ext cx="65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谁最了解它的这种想法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1157400" y="4484520"/>
            <a:ext cx="75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看，这鸟在笼里惶恐不安，东张西望，生活再笼子里，是它最大的痛苦和不幸！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900000" y="2313000"/>
            <a:ext cx="64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听了少年的这番话，老人会怎么做呢？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826920" y="159372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走近鸟语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9280" y="801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明“知音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971640" y="3321000"/>
            <a:ext cx="7632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.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它是在悠然的叫呢，还是在忧郁地叫？也许，它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在告诉人们就是谁是自己的知音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谈谈你对这句话的理解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9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2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50920" y="333360"/>
            <a:ext cx="40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做“知音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84360" y="2060640"/>
            <a:ext cx="7705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你认为人和动物之间怎样才能和睦相处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读一读最感动你的一段文字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7CDD9-FA25-4468-B259-02E9659904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684360" y="249228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能正确、流利地朗读全文，有感情地朗读重点段落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习这种写法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用不同的方法理解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知音、密匝匝、行当、一唱一和、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互唤互答、应和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几个词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．组块阅读，感悟人、动物之间建立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知音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关系就能实现人和动物之间和睦相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5640" y="1187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32400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聊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知音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5"/>
          <p:cNvSpPr txBox="1"/>
          <p:nvPr/>
        </p:nvSpPr>
        <p:spPr>
          <a:xfrm>
            <a:off x="3492360" y="907920"/>
            <a:ext cx="108108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黑体"/>
              </a:rPr>
              <a:t>知音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684360" y="2205000"/>
            <a:ext cx="82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春秋时代，有个叫俞伯牙的人，精通音律，琴艺高超，是当时著名的琴师。俞伯牙年轻的时候聪颖好学，曾拜高人为师，琴技达到水平，但他总觉得自己还不能出神入化地表现对各种事物的感受。伯牙的老师知道他的想法后，就带他乘船到东海的蓬莱岛上，让他欣赏大自然的景色，倾听大海的波涛声。伯牙举目眺望，只见波浪汹涌，浪花激溅；海鸟翻飞，鸣声入耳；山林树木，郁郁葱葱，如入仙境一般。一种奇妙的感觉油然而生，耳边仿佛咯起了大自然那和谐动听的音乐。他情不自禁地取琴弹奏，音随意转，把大自然的美妙融进了琴声，伯牙体验到一种前所未有的境界。老师告诉他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你已经学了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84360" y="170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有哪位同学知道“知音”的故事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826920" y="1484280"/>
            <a:ext cx="74170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夜伯牙乘船游览。面对清风明月，他思绪万千，于是又弹起琴来，琴声悠扬，渐入佳境。忽听岸上有人叫绝。伯牙闻声走出船来，只见一个樵夫站在岸边，他知道此人是知音当即请樵夫上船，兴致勃勃地为他演奏。伯牙弹起赞美高山的曲调，樵夫说道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真好！雄伟而庄重，好像高耸入云的泰山一样！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当他弹奏表现奔腾澎湃的波涛时，樵夫又说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真好！宽广浩荡，好像看见滚滚的流水，无边的大海一般！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伯牙兴奋色了，激动地说：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知音！你真是我的知音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个樵夫就是钟子期。从此二人成了非常要好的朋友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"/>
          <p:cNvSpPr/>
          <p:nvPr/>
        </p:nvSpPr>
        <p:spPr>
          <a:xfrm>
            <a:off x="755640" y="863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聊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知音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826920" y="198900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若是人和鸟之间也形成了这种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知音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关系，你猜猜，这会是一个什么样的故事呢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826920" y="86184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聊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知音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6"/>
          <p:cNvSpPr txBox="1"/>
          <p:nvPr/>
        </p:nvSpPr>
        <p:spPr>
          <a:xfrm rot="5601600">
            <a:off x="1366560" y="3607920"/>
            <a:ext cx="100800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人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61" name="WordArt 8"/>
          <p:cNvSpPr txBox="1"/>
          <p:nvPr/>
        </p:nvSpPr>
        <p:spPr>
          <a:xfrm rot="5400000">
            <a:off x="6514560" y="3717720"/>
            <a:ext cx="1152720" cy="863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22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？</a:t>
            </a:r>
            <a:endParaRPr b="1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2" name="WordArt 10"/>
          <p:cNvSpPr txBox="1"/>
          <p:nvPr/>
        </p:nvSpPr>
        <p:spPr>
          <a:xfrm>
            <a:off x="3059280" y="3573360"/>
            <a:ext cx="1008000" cy="1236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鸟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63" name="WordArt 11"/>
          <p:cNvSpPr txBox="1"/>
          <p:nvPr/>
        </p:nvSpPr>
        <p:spPr>
          <a:xfrm>
            <a:off x="4643280" y="3645000"/>
            <a:ext cx="1729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黑体"/>
              </a:rPr>
              <a:t>知音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576360" y="47628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读“知音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258920" y="2421000"/>
            <a:ext cx="7561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鹦    鹉    惶    怔    匝    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187280" y="2060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ī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248436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3348000" y="206064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uá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4643280" y="206064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hē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608472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7236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y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258920" y="4149720"/>
            <a:ext cx="511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楷体_GB2312"/>
              </a:rPr>
              <a:t>密匝匝    行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684360" y="1197000"/>
            <a:ext cx="20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生字学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755640" y="1700280"/>
            <a:ext cx="806436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有人学着鸟叫，吹起了口哨，鸟声哨声一唱一和（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yī chàng yī hè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）。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这句话中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一唱一和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情景你见过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谁来表演一下你的生活中一唱一和的情景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611280" y="65556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读“知音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042920" y="206064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整体感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957240" y="105264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读“知音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971640" y="3068640"/>
            <a:ext cx="6912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请你认真地朗读课文并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这是一只什么样的鸟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鸟的知音你认为应该是谁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 Box 4"/>
          <p:cNvSpPr/>
          <p:nvPr/>
        </p:nvSpPr>
        <p:spPr>
          <a:xfrm>
            <a:off x="684360" y="10778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黑体"/>
              </a:rPr>
              <a:t>明“知音”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684360" y="17748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欣赏小画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6"/>
          <p:cNvSpPr/>
          <p:nvPr/>
        </p:nvSpPr>
        <p:spPr>
          <a:xfrm>
            <a:off x="684360" y="242244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默读课文，画出描写画眉的句子并相互交流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7"/>
          <p:cNvSpPr/>
          <p:nvPr/>
        </p:nvSpPr>
        <p:spPr>
          <a:xfrm>
            <a:off x="684360" y="3143160"/>
            <a:ext cx="820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尤其是那只画眉，不仅长得漂亮，叫得也最亮，音色也最动听，观众围了密匝匝一圈儿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老人将那鸟儿逗弄一番，那鸟叫得更欢更响了，并扑扇了几下翅膀，眼睛一眨不眨地望着笼外的世界。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6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7:35:18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05:19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