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B1F1-0BF2-4F16-B4AE-C77F02F33C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C4C4-8E5D-4FAF-9FE7-2CA02963F629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D78-89B5-4D23-8970-F779F3F7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723A-6BED-4B0E-BB0C-505FC923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4099-1540-4420-BDEA-D323EEF9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FB8-FB1D-4CDD-BF8C-3CE29EB8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7AE0-BD47-43E3-98E2-7F4A438A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A571-C645-4255-8FB5-F394110B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E7A7-2CDE-4733-8110-A4ED0E66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6597-9680-4F32-AD65-EB3AC06C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DC00-477F-4739-9DAA-9EB712DA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2E5F-83C6-49BF-820F-8BE2EF97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D1B6-D62F-41BA-9397-877553B6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1579-E6BB-4426-872F-7E82E681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71A7-F3E3-4379-BC74-A92610B9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8E93-A685-4D46-A0A4-29247D66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EBFF-F7EF-4F33-836A-DAD08473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3917-A9B6-4E8B-A2F9-3FD648E0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C7BA-4081-4A25-9B1F-C542C2A0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6ED-8BBB-4BC1-8DDF-18DBC554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4DB-617D-497F-80F5-AF9F9394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6AF-3056-40D4-879F-1916730E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B630-15FD-429D-A61B-2864A511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901-B59C-4EB3-BB5C-1DE86EC3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B463-11B3-4194-A069-6F1415F3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305-FB3B-4A9F-9FBE-82478B52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B897-F28C-4538-937F-930378E2E1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B823-BB3D-4BF7-B578-9647F36A36FC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8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240" y="2349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002060"/>
                </a:solidFill>
                <a:latin typeface="华文隶书"/>
                <a:ea typeface="华文隶书"/>
              </a:rPr>
              <a:t>鸬 鹚</a:t>
            </a:r>
            <a:br>
              <a:rPr sz="13800"/>
            </a:br>
            <a:endParaRPr b="0" lang="en-US" sz="13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1899720" y="573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课下作业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与伙伴比赛感情读文、背诵，预习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鹭鸶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一课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 rot="21189600">
            <a:off x="0" y="3789360"/>
            <a:ext cx="2556000" cy="285264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2411280" y="1989000"/>
            <a:ext cx="5904000" cy="2664000"/>
            <a:chOff x="2411280" y="1989000"/>
            <a:chExt cx="5904000" cy="2664000"/>
          </a:xfrm>
        </p:grpSpPr>
        <p:sp>
          <p:nvSpPr>
            <p:cNvPr id="114" name="AutoShape 5"/>
            <p:cNvSpPr/>
            <p:nvPr/>
          </p:nvSpPr>
          <p:spPr>
            <a:xfrm>
              <a:off x="2411280" y="1989000"/>
              <a:ext cx="5904000" cy="2664000"/>
            </a:xfrm>
            <a:prstGeom prst="wedgeRoundRectCallout">
              <a:avLst>
                <a:gd name="adj1" fmla="val -39379"/>
                <a:gd name="adj2" fmla="val 84328"/>
                <a:gd name="adj3" fmla="val 16667"/>
              </a:avLst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" name="WordArt 6"/>
            <p:cNvSpPr txBox="1"/>
            <p:nvPr/>
          </p:nvSpPr>
          <p:spPr>
            <a:xfrm>
              <a:off x="2842920" y="2565360"/>
              <a:ext cx="5185080" cy="17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solidFill>
                    <a:srgbClr val="ff0000">
                      <a:alpha val="99000"/>
                    </a:srgbClr>
                  </a:solidFill>
                  <a:latin typeface="华文行楷"/>
                </a:rPr>
                <a:t>再见！</a:t>
              </a:r>
              <a:endParaRPr b="0" lang="en-US" sz="4400" spc="-1" strike="noStrike">
                <a:ln w="0">
                  <a:noFill/>
                </a:ln>
                <a:solidFill>
                  <a:srgbClr val="ff0000">
                    <a:alpha val="99000"/>
                  </a:srgbClr>
                </a:solidFill>
                <a:latin typeface="华文行楷"/>
                <a:ea typeface="华文行楷"/>
              </a:endParaRPr>
            </a:p>
          </p:txBody>
        </p:sp>
      </p:grpSp>
      <p:sp>
        <p:nvSpPr>
          <p:cNvPr id="116" name="文本框 1"/>
          <p:cNvSpPr/>
          <p:nvPr/>
        </p:nvSpPr>
        <p:spPr>
          <a:xfrm>
            <a:off x="2784600" y="6280200"/>
            <a:ext cx="55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4047-B83D-4DA4-977F-2DF47704F4F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作者按照事情发展的顺序为我们展现了三幅画面：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1915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恬静优美的渔人闲憩图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活跃欢腾的捕鱼图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渔舟唱晚图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自学提示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自由读第一自然段：读后你有什么感觉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默读勾画你认为写的美的句子、词语，它们美在哪儿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0066"/>
                </a:solidFill>
                <a:uFillTx/>
                <a:latin typeface="Arial"/>
                <a:ea typeface="华文行楷"/>
                <a:hlinkClick r:id="rId2" action="ppaction://hlinksldjump"/>
              </a:rPr>
              <a:t>渔人闲憩图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71640" y="1483920"/>
            <a:ext cx="7632720" cy="24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夕阳照在小湖上，没有什么风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湖面平的像一面镜子。岸边几棵垂柳，垂柳那边是一望无垠的稻田。几只又窄又长的渔船浮在湖面上。近处的那只船上，渔人正坐在船尾，悠然地吸着烟。十来只会黑色的鸬鹚站在船舷上，好像列队的士兵在等待命令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7" name="动物二章背景音乐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3.0)">
                                      <p:cBhvr>
                                        <p:cTn id="52" dur="29887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4"/>
          <p:cNvSpPr/>
          <p:nvPr/>
        </p:nvSpPr>
        <p:spPr>
          <a:xfrm>
            <a:off x="108000" y="22924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自学思考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自由读第二至四自然段思考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你觉得渔人的哪个动作一下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子改变了这平静如水的画面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4120" y="188640"/>
            <a:ext cx="84549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cc"/>
                </a:solidFill>
                <a:latin typeface="Arial"/>
                <a:ea typeface="华文行楷"/>
              </a:rPr>
              <a:t>活跃欢腾的捕鱼图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渔人忽然站起来，拿起竹篙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āo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向船舷一抹，鸬鹚就都扑着翅膀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2" action="ppaction://hlinksldjump"/>
              </a:rPr>
              <a:t>钻进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水里去了。湖面立刻失去了平静，荡起一圈圈粼粼的波纹，无数浪花在夕阳的柔光中跳跃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不多一会儿，就有鸬鹚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3" action="ppaction://hlinksldjump"/>
              </a:rPr>
              <a:t>钻出水面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扑着翅膀跳上渔船，喉囔鼓鼓的。渔人一把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4" action="ppaction://hlinksldjump"/>
              </a:rPr>
              <a:t>抓住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它的脖子，把吞进喉囔的鱼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5" action="ppaction://hlinksldjump"/>
              </a:rPr>
              <a:t>挤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了出来，又把它甩进水里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鸬鹚不断地跳上渔船，渔人都要忙不过来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岸上炊烟四起，袅袅地升上天空。渔人不再赶鸬鹚下水了，让它们停在船舷上。他从舱里捡些小鱼，一条条地抛给鸬鹚吃。鸬鹚张开长长的嘴巴，接住抛来的鱼，一口吞了下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3" name="动物二章背景音乐.mp3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7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7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7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7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7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3.0)">
                                      <p:cBhvr>
                                        <p:cTn id="121" dur="28887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9916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691920"/>
            <a:ext cx="8540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ff"/>
                </a:solidFill>
                <a:latin typeface="Arial"/>
              </a:rPr>
              <a:t>渔人忽然站起来，拿起竹篙向船舷一抹，鸬鹚就都扑着翅膀钻进水里去了。湖面立刻失去了平静，荡起一圈圈粼粼的波纹，无数浪花在夕阳的柔光中跳跃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172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620640"/>
            <a:ext cx="854064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572"/>
                </a:solidFill>
                <a:latin typeface="Arial"/>
              </a:rPr>
              <a:t>钻出水面，扑着翅膀跳上渔船，喉囊鼓鼓的。渔人一把抓住它的脖子，把吞进喉囊的鱼挤了出来，又把他甩进水里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844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cc"/>
                </a:solidFill>
                <a:latin typeface="Arial"/>
                <a:ea typeface="华文行楷"/>
              </a:rPr>
              <a:t>渔舟唱晚图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98440" y="1699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ff"/>
                </a:solidFill>
                <a:latin typeface="Arial"/>
              </a:rPr>
              <a:t>                 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鸬鹚吃饱了，又像士兵似的，整齐地站在船舷上。渔渔人就荡起桨，划着小船回去了。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天色逐渐暗下来，湖面恢复了平静，只留下一条闪闪的水痕。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0" name="动物二章背景音乐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43.0)">
                                      <p:cBhvr>
                                        <p:cTn id="146" dur="27887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06:59:2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4:08Z</dcterms:modified>
  <cp:revision>3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