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1B54-5268-4748-B467-E05722B4E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7A3C-90E4-44AA-8743-ECC6DAB6C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9B1F-DE02-4246-9C34-D331ED5CC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E84C-8F37-4250-AB02-A97D128E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4E38-7756-4AB8-838E-EF71E7AE1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3EA3-32A1-474E-BE5C-42067608E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795D-5B11-4A18-831A-F9F0680F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9CA4-6AC1-4CCC-BAB7-069B69B1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EC12-4AD0-4C94-AD5C-EB56B775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FF87-28E8-49D6-9F6C-908C703B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E91F-63EB-46FA-B0AD-89937290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2922-EFE3-44CB-9A4F-BD3C6FFE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FADF-4808-419A-836F-79B78489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F8AB-2161-4CBC-948B-C0A0C255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9BB3-D858-49EC-AEB4-1C70439054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同侧圆角矩形 1"/>
          <p:cNvSpPr/>
          <p:nvPr/>
        </p:nvSpPr>
        <p:spPr>
          <a:xfrm>
            <a:off x="468360" y="333360"/>
            <a:ext cx="8207280" cy="6120000"/>
          </a:xfrm>
          <a:custGeom>
            <a:avLst/>
            <a:gdLst/>
            <a:ahLst/>
            <a:rect l="l" t="t" r="r" b="b"/>
            <a:pathLst>
              <a:path w="8207375" h="6119812">
                <a:moveTo>
                  <a:pt x="1019989" y="0"/>
                </a:moveTo>
                <a:lnTo>
                  <a:pt x="7187385" y="0"/>
                </a:lnTo>
                <a:cubicBezTo>
                  <a:pt x="7750709" y="0"/>
                  <a:pt x="8207374" y="456665"/>
                  <a:pt x="8207374" y="1019989"/>
                </a:cubicBezTo>
                <a:lnTo>
                  <a:pt x="8207375" y="6119812"/>
                </a:lnTo>
                <a:lnTo>
                  <a:pt x="8207375" y="6119812"/>
                </a:lnTo>
                <a:lnTo>
                  <a:pt x="0" y="6119812"/>
                </a:lnTo>
                <a:lnTo>
                  <a:pt x="0" y="6119812"/>
                </a:lnTo>
                <a:lnTo>
                  <a:pt x="0" y="1019989"/>
                </a:lnTo>
                <a:cubicBezTo>
                  <a:pt x="0" y="456665"/>
                  <a:pt x="456665" y="0"/>
                  <a:pt x="1019989" y="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25560">
            <a:solidFill>
              <a:srgbClr val="c00000">
                <a:alpha val="4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aike.baidu.com/image/faacb5645b18f0c0f73654ac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708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爱是什么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1814040" y="55101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cc"/>
                </a:solidFill>
                <a:latin typeface="Arial"/>
              </a:rPr>
              <a:t>9.</a:t>
            </a:r>
            <a:r>
              <a:rPr b="0" lang="zh-CN" sz="5100" spc="-1" strike="noStrike">
                <a:solidFill>
                  <a:srgbClr val="0000cc"/>
                </a:solidFill>
                <a:latin typeface="Arial"/>
              </a:rPr>
              <a:t>爱是什么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、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轻轻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搂着我，在我手上写出“我爱海伦”几个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、她把我拉得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更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近些，指着我的心说：“爱在这里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、老师把我搂得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紧紧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的，我觉得她的脸上挂着微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、老师耐心地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次又一次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地给我纠正。弄到最后，我发现有一大段穿错了，老师碰碰我的额头，拼写出一个“想”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2700360" y="1484280"/>
            <a:ext cx="611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</a:rPr>
              <a:t>爱是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539640" y="1052640"/>
            <a:ext cx="80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爱有点像太阳，也有点像云彩。云彩你是摸不着的，但你却能感觉到雨，而且知道花草和土地干渴时得到雨水会多么高兴。爱也是摸不着的，但你却能感觉到她。没有爱，你就不快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468360" y="151596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刹那间，我的心中充满甜蜜的感觉。我的身上好像洒满暖暖的阳光，我好像一株小芽儿，迎着小雨点儿在频频地点头，我感觉到像有许多金线把我和别人的心连在一起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900000" y="11970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感悟“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619280" y="1989000"/>
            <a:ext cx="6864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Arial"/>
              </a:rPr>
              <a:t>爱是妈妈哼唱的歌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Arial"/>
              </a:rPr>
              <a:t>爱是同学共用的雨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Arial"/>
              </a:rPr>
              <a:t>爱是老师嘴角的微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Arial"/>
              </a:rPr>
              <a:t>爱是</a:t>
            </a:r>
            <a:r>
              <a:rPr b="1" lang="zh-CN" sz="4000" spc="-1" strike="noStrike" u="sng">
                <a:solidFill>
                  <a:srgbClr val="00b0f0"/>
                </a:solidFill>
                <a:uFillTx/>
                <a:latin typeface="Arial"/>
              </a:rPr>
              <a:t>                         </a:t>
            </a:r>
            <a:r>
              <a:rPr b="1" lang="zh-CN" sz="4000" spc="-1" strike="noStrike">
                <a:solidFill>
                  <a:srgbClr val="00b0f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Arial"/>
              </a:rPr>
              <a:t>爱是</a:t>
            </a:r>
            <a:r>
              <a:rPr b="1" lang="zh-CN" sz="4000" spc="-1" strike="noStrike" u="sng">
                <a:solidFill>
                  <a:srgbClr val="00b0f0"/>
                </a:solidFill>
                <a:uFillTx/>
                <a:latin typeface="Arial"/>
              </a:rPr>
              <a:t>                         </a:t>
            </a:r>
            <a:r>
              <a:rPr b="1" lang="zh-CN" sz="4000" spc="-1" strike="noStrike">
                <a:solidFill>
                  <a:srgbClr val="00b0f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Arial"/>
              </a:rPr>
              <a:t>爱是</a:t>
            </a:r>
            <a:r>
              <a:rPr b="1" lang="zh-CN" sz="4000" spc="-1" strike="noStrike" u="sng">
                <a:solidFill>
                  <a:srgbClr val="00b0f0"/>
                </a:solidFill>
                <a:uFillTx/>
                <a:latin typeface="Arial"/>
              </a:rPr>
              <a:t>                         </a:t>
            </a:r>
            <a:r>
              <a:rPr b="1" lang="zh-CN" sz="4000" spc="-1" strike="noStrike">
                <a:solidFill>
                  <a:srgbClr val="00b0f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Arial"/>
              </a:rPr>
              <a:t>爱是</a:t>
            </a:r>
            <a:r>
              <a:rPr b="1" lang="zh-CN" sz="4000" spc="-1" strike="noStrike" u="sng">
                <a:solidFill>
                  <a:srgbClr val="00b0f0"/>
                </a:solidFill>
                <a:uFillTx/>
                <a:latin typeface="Arial"/>
              </a:rPr>
              <a:t>                         </a:t>
            </a:r>
            <a:r>
              <a:rPr b="1" lang="zh-CN" sz="4000" spc="-1" strike="noStrike">
                <a:solidFill>
                  <a:srgbClr val="00b0f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172520" y="6350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Arial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571680" y="1627920"/>
            <a:ext cx="8103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爱是水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能给人带来甘露和解渴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爱是火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能给人带来温暖和光明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爱是鲜花，能给人带来芳香和美丽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爱是太阳，能给人带来光和热 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3B1C-6A94-4A1D-929B-B264CC72134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</a:rPr>
              <a:t>一撇是和煦的春风，三点是晴天的细雨，秃宝盖像弯曲的手臂，把挚友抱在怀里。它，使世界变得美。</a:t>
            </a: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0" lang="zh-CN" sz="4400" spc="-1" strike="noStrike">
                <a:solidFill>
                  <a:srgbClr val="0000cc"/>
                </a:solidFill>
                <a:latin typeface="Arial"/>
              </a:rPr>
              <a:t>打一字</a:t>
            </a: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                        </a:t>
            </a:r>
            <a:r>
              <a:rPr b="0" lang="zh-CN" sz="4400" spc="-1" strike="noStrike">
                <a:solidFill>
                  <a:srgbClr val="0000cc"/>
                </a:solidFill>
                <a:latin typeface="Arial"/>
              </a:rPr>
              <a:t>谜底：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1"/>
          <p:cNvSpPr/>
          <p:nvPr/>
        </p:nvSpPr>
        <p:spPr>
          <a:xfrm>
            <a:off x="1353960" y="701640"/>
            <a:ext cx="593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5"/>
          <p:cNvSpPr/>
          <p:nvPr/>
        </p:nvSpPr>
        <p:spPr>
          <a:xfrm>
            <a:off x="1440000" y="2349360"/>
            <a:ext cx="7347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faacb5645b18f0c0f73654a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173240"/>
            <a:ext cx="3124080" cy="51847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3919680" y="2090880"/>
            <a:ext cx="47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美国盲聋女作家、教育家、慈善家、社会活动家。主要作品有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假如给我三天光明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我的生活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我的老师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等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4686480" y="1438200"/>
            <a:ext cx="25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海伦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凯勒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1699920"/>
            <a:ext cx="805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cc"/>
                </a:solidFill>
                <a:latin typeface="Arial"/>
              </a:rPr>
              <a:t>9.</a:t>
            </a:r>
            <a:r>
              <a:rPr b="0" lang="zh-CN" sz="5100" spc="-1" strike="noStrike">
                <a:solidFill>
                  <a:srgbClr val="0000cc"/>
                </a:solidFill>
                <a:latin typeface="Arial"/>
              </a:rPr>
              <a:t>爱是什么</a:t>
            </a:r>
            <a:br>
              <a:rPr sz="5100"/>
            </a:br>
            <a:br>
              <a:rPr sz="4000"/>
            </a:br>
            <a:r>
              <a:rPr b="1" lang="zh-CN" sz="4500" spc="-1" strike="noStrike">
                <a:solidFill>
                  <a:srgbClr val="0000cc"/>
                </a:solidFill>
                <a:latin typeface="Arial"/>
              </a:rPr>
              <a:t>边听边思考：课文主要讲了一件什么事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爱是什么_baofeng.avi" descr=""/>
          <p:cNvPicPr/>
          <p:nvPr/>
        </p:nvPicPr>
        <p:blipFill>
          <a:blip r:embed="rId1"/>
          <a:stretch/>
        </p:blipFill>
        <p:spPr>
          <a:xfrm>
            <a:off x="2967120" y="3968640"/>
            <a:ext cx="3098880" cy="2232000"/>
          </a:xfrm>
          <a:prstGeom prst="rect">
            <a:avLst/>
          </a:prstGeom>
          <a:ln w="0">
            <a:noFill/>
          </a:ln>
        </p:spPr>
      </p:pic>
      <p:pic>
        <p:nvPicPr>
          <p:cNvPr id="59" name="爱是什么_baofeng.mp3" descr=""/>
          <p:cNvPicPr/>
          <p:nvPr/>
        </p:nvPicPr>
        <p:blipFill>
          <a:blip r:embed="rId2"/>
          <a:stretch/>
        </p:blipFill>
        <p:spPr>
          <a:xfrm>
            <a:off x="4211640" y="508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260678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1295640" y="765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整体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539640" y="182556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主要讲了“我”因为小时侯的一场重病，导致双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双目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————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隔绝。盲哑学校的老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方法教“我”知识和人生道理，让我懂得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——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4664880" y="220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失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7020000" y="22161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失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1204920" y="287820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有声有色的世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1748880" y="3313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萨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3133080" y="3313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特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5757840" y="3833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爱是什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Arial"/>
              </a:rPr>
              <a:t>一岁半时，我生了一场重病。从此，双耳失聪，双目失明，与有声有色的世界隔绝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0000cc"/>
                </a:solidFill>
                <a:latin typeface="Arial"/>
              </a:rPr>
              <a:t>同学们不妨想像一下：海伦会遇到一些什么困难？她可能会怎么想？怎样做呢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684360" y="3140640"/>
            <a:ext cx="78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一天，老师在海伦的手心写了“水”这个字，海伦总是没法子记下来。老师知道海伦的困难处在哪儿，她带着海伦走到喷水池边，要海伦把小手放在喷水孔下，让清凉的泉水溅溢在海伦的手上。接着，萨勒老师又在海伦的手心，写下“水”这个字，从此海伦就牢牢记住了，再也不会搞不清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1238040" y="5796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资料介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539640" y="333360"/>
            <a:ext cx="457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971640" y="191628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萨勒老师替海伦找了一位专家，教导她利用双手去感受别人说话时嘴型的变化，以及鼻腔吸气、吐气的不同，来学习发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611280" y="170028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默读课文，画出使自己感动的句子或段落，并在旁边空白的地方写上自己的感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3:35:4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4:01Z</dcterms:modified>
  <cp:revision>2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