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911A-F9CE-4439-9B0F-C5C174F852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B58-0EA3-4129-B1FD-DAE4F88CA2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498-3189-44CD-B103-412F8E2F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305-BF41-489D-90B9-DEA8E0B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33A-EDEE-40C0-92C7-A61D7191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C57-D2F1-4428-A807-1548486C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301-673B-443B-8809-0C1CB4E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387-4255-4E76-B536-B7D3A1E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852-E290-473F-8ED9-26AC8D85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6A5-128F-40DC-AB07-D476746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F4A-63D8-4F46-8BC7-E6FC3D0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F00-9AB3-4F0E-A419-3BC48D6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FEC-3150-48B7-AB45-3F1CEB32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8EF-DDA8-4D8A-A4A6-47C3753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3DD6-468E-4FA8-8C2B-7BAAB951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063880" y="2133720"/>
            <a:ext cx="496728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白鳍豚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0144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33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87280" y="1844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根据课文内容，替白鳍豚做一个“自我介绍”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946F-97D2-4016-9D8F-8655CB1C58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12536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、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鳍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哺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质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肺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卵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会对比的说明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树立保护环境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4000" y="5954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476360" y="249228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鳍  劈  哺  豚  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质  肺  潜  卵  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092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47640" y="2205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916360" y="220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140360" y="2205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588000" y="2205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47636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771640" y="364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92436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219640" y="3645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37236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292720" y="220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白鳍豚"/>
          <p:cNvPicPr/>
          <p:nvPr/>
        </p:nvPicPr>
        <p:blipFill>
          <a:blip r:embed="rId1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708360" y="522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白 鳍 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6"/>
          <p:cNvSpPr/>
          <p:nvPr/>
        </p:nvSpPr>
        <p:spPr>
          <a:xfrm>
            <a:off x="2044800" y="26370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928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读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258920" y="242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，说说课文是从哪几方面介绍白鳍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403280" y="227664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介绍白鳍豚的外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将白鳍豚和普通鱼类进行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简单介绍白鳍豚的演变历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7928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读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250920" y="333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00000" y="184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白鳍豚和普通的鱼类有什么区别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鱼"/>
          <p:cNvPicPr/>
          <p:nvPr/>
        </p:nvPicPr>
        <p:blipFill>
          <a:blip r:embed="rId1"/>
          <a:stretch/>
        </p:blipFill>
        <p:spPr>
          <a:xfrm>
            <a:off x="755640" y="2637000"/>
            <a:ext cx="3529080" cy="28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白鳍豚"/>
          <p:cNvPicPr/>
          <p:nvPr/>
        </p:nvPicPr>
        <p:blipFill>
          <a:blip r:embed="rId2"/>
          <a:stretch/>
        </p:blipFill>
        <p:spPr>
          <a:xfrm>
            <a:off x="4572000" y="2637000"/>
            <a:ext cx="4103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333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00000" y="981000"/>
          <a:ext cx="7559640" cy="5094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349560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鱼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白鳍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呼吸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有鳃，用鳃呼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没有鳃，有肺，用肺呼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体温差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没有固定体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有固定体温，皮下的脂肪可以防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脑的大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脑很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500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毫升左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生殖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卵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胎生，吃奶长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7928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116000" y="1844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这篇课文的说明方法和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生态金字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1952640" y="525132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0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01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