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7EB-F140-427E-AB29-FE1CB7A353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53E-8CAC-456B-88EA-D5CF809E7D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BFC-BCEC-45AF-BB52-1C38EB9B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F30-EDFC-4288-850E-591342EE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D61-5E62-40A4-AFA1-0934D90A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CC8-FC5F-48BB-8A8C-5EFFBE58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218-AFF6-4D0D-9EAF-3FB2C98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AC8-655A-4728-A924-A0032FB2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CF7-3ECC-4A79-B9F3-5F777994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42C-F146-4973-9FD2-21D0C7C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24D-FC76-4748-B430-953092A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7C9-B619-4BBA-BAC5-87766A5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8CD-B78D-4771-8A45-812AC3B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D88-494B-49DF-A5A5-4348CC3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561-F85B-4651-8104-CAC1EA5C1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mg28661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173705439_6_midd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014783c63a23bd069c163df7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10" descr=""/>
          <p:cNvPicPr/>
          <p:nvPr/>
        </p:nvPicPr>
        <p:blipFill>
          <a:blip r:embed="rId4"/>
          <a:stretch/>
        </p:blipFill>
        <p:spPr>
          <a:xfrm>
            <a:off x="812880" y="476280"/>
            <a:ext cx="1662120" cy="52815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7" descr=""/>
          <p:cNvPicPr/>
          <p:nvPr/>
        </p:nvPicPr>
        <p:blipFill>
          <a:blip r:embed="rId5"/>
          <a:stretch/>
        </p:blipFill>
        <p:spPr>
          <a:xfrm>
            <a:off x="1978200" y="587700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108160" y="911160"/>
            <a:ext cx="46245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认读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蜷缩   湿漉漉   惊蛰   沮丧   豁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阴晦   酣畅   乍听   诧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826920" y="333360"/>
            <a:ext cx="252108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理解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浩浩荡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蓬蓬勃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惊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沮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豁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阴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酣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乍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诧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908000" y="1484280"/>
            <a:ext cx="61930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阔壮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繁荣旺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十四节气之一，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敞明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阴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畅快，舒畅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开始，忽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觉得十分奇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0"/>
          <p:cNvSpPr/>
          <p:nvPr/>
        </p:nvSpPr>
        <p:spPr>
          <a:xfrm>
            <a:off x="6659640" y="180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默读课文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213372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为什么特别喜欢油菜花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哪些自然段具体描写了油菜花？是从哪些方面具体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油菜花开有什么特别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文中运用了修辞手法的句子，并注明修辞手法的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014783c63a23bd069c163df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8560" y="0"/>
            <a:ext cx="2665440" cy="216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5508720" y="220500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因为油菜花那种蓬蓬勃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美，使我心情变轻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唤醒我生命中沉睡的信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313320" y="41497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油菜花的蓬勃生机，颜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气味，油菜花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7116480" y="5229360"/>
            <a:ext cx="66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、拟人、排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想、反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思考课后习题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者指天空晴朗了，后者指心情开朗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者指太阳的光芒，后者指乐观的生活态度和积极的心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者指黄金般灿烂的油菜花，后者指黄金般宝贵的精神财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2384280" y="576108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88C-C45A-4E02-A816-5A217FCABC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0:10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27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