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ABCE-10FA-492D-B9B1-5735ABA1A96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BB54-0AC0-45CB-9730-16B2D89F9A9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4305-5B43-43ED-9F05-3B903BAE5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485D-EB97-4EA0-835A-987B367B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E31C-BED2-4FA9-9334-9A45D9C5A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CBF7-19B4-44F4-BBF5-69FA695D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63A7-B34A-46DE-980B-379D5FE8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1CBA-19FB-482A-9893-249DD7D4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2F58-839E-4E7C-A1C8-C43612FB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701C-050B-4604-A270-6F2EC5B5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0377-0FB3-4DEE-8222-1D5FD32F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EB16-EF4A-498B-B663-8E521EA1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A128-4D7D-4B88-B576-12D3893C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95A5-ACAA-4300-944A-5AD5CF73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7216-20E6-444E-BDB4-753BED14C9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200872214263865_2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3051360" y="187308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6600"/>
                </a:solidFill>
                <a:latin typeface="Arial"/>
                <a:ea typeface="楷体_GB2312"/>
              </a:rPr>
              <a:t>百合花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20920" y="3500280"/>
            <a:ext cx="210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楷体_GB2312"/>
              </a:rPr>
              <a:t>林清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9"/>
          <p:cNvSpPr/>
          <p:nvPr/>
        </p:nvSpPr>
        <p:spPr>
          <a:xfrm>
            <a:off x="1827000" y="6021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66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BD9C-ECEC-4115-81C1-BDD639BB4C0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2010071110053557"/>
          <p:cNvPicPr/>
          <p:nvPr/>
        </p:nvPicPr>
        <p:blipFill>
          <a:blip r:embed="rId1"/>
          <a:stretch/>
        </p:blipFill>
        <p:spPr>
          <a:xfrm>
            <a:off x="5076720" y="2757600"/>
            <a:ext cx="4067280" cy="40464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395280" y="69228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春天到了，遍地都是繁花似锦的美景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楷体_GB2312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花是自然的精灵，天地万物都有自己的语言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楷体_GB2312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你们喜欢花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请同学们来说说你最喜爱的一种花，并说说你喜欢的原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11280" y="350028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莲花的高洁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菊花的坚韧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牡丹的典雅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兰花的清逸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……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2010071110053557"/>
          <p:cNvPicPr/>
          <p:nvPr/>
        </p:nvPicPr>
        <p:blipFill>
          <a:blip r:embed="rId1"/>
          <a:stretch/>
        </p:blipFill>
        <p:spPr>
          <a:xfrm>
            <a:off x="6443640" y="4143240"/>
            <a:ext cx="2700360" cy="2714760"/>
          </a:xfrm>
          <a:prstGeom prst="rect">
            <a:avLst/>
          </a:prstGeom>
          <a:ln w="0">
            <a:noFill/>
          </a:ln>
        </p:spPr>
      </p:pic>
      <p:sp>
        <p:nvSpPr>
          <p:cNvPr id="58" name="WordArt 3"/>
          <p:cNvSpPr txBox="1"/>
          <p:nvPr/>
        </p:nvSpPr>
        <p:spPr>
          <a:xfrm>
            <a:off x="898560" y="620640"/>
            <a:ext cx="2449440" cy="6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初读课文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900000" y="1701720"/>
            <a:ext cx="727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Arial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  <a:ea typeface="楷体_GB2312"/>
              </a:rPr>
              <a:t>、用自己喜欢的方式阅读课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Arial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  <a:ea typeface="楷体_GB2312"/>
              </a:rPr>
              <a:t>、概述课文内容，说说在文中看到了一株什么样的百合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2010071110053557"/>
          <p:cNvPicPr/>
          <p:nvPr/>
        </p:nvPicPr>
        <p:blipFill>
          <a:blip r:embed="rId1"/>
          <a:stretch/>
        </p:blipFill>
        <p:spPr>
          <a:xfrm>
            <a:off x="7021440" y="4724280"/>
            <a:ext cx="2122560" cy="2133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622440" y="1054080"/>
            <a:ext cx="6860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Arial"/>
                <a:ea typeface="楷体_GB2312"/>
              </a:rPr>
              <a:t>小组交流：找出你最欣赏的语句，说说你喜欢的理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Arial"/>
                <a:ea typeface="楷体_GB2312"/>
              </a:rPr>
              <a:t>句式：从“</a:t>
            </a:r>
            <a:r>
              <a:rPr b="1" lang="zh-CN" sz="2000" spc="-1" strike="noStrike">
                <a:solidFill>
                  <a:srgbClr val="006600"/>
                </a:solidFill>
                <a:latin typeface="Arial"/>
                <a:ea typeface="楷体_GB2312"/>
              </a:rPr>
              <a:t>________”</a:t>
            </a:r>
            <a:r>
              <a:rPr b="1" lang="zh-CN" sz="2000" spc="-1" strike="noStrike">
                <a:solidFill>
                  <a:srgbClr val="006600"/>
                </a:solidFill>
                <a:latin typeface="Arial"/>
                <a:ea typeface="楷体_GB2312"/>
              </a:rPr>
              <a:t>句中体会到百合花的</a:t>
            </a:r>
            <a:r>
              <a:rPr b="1" lang="zh-CN" sz="2000" spc="-1" strike="noStrike">
                <a:solidFill>
                  <a:srgbClr val="006600"/>
                </a:solidFill>
                <a:latin typeface="Arial"/>
                <a:ea typeface="楷体_GB2312"/>
              </a:rPr>
              <a:t>________</a:t>
            </a:r>
            <a:r>
              <a:rPr b="1" lang="zh-CN" sz="2000" spc="-1" strike="noStrike">
                <a:solidFill>
                  <a:srgbClr val="006600"/>
                </a:solidFill>
                <a:latin typeface="Arial"/>
                <a:ea typeface="楷体_GB2312"/>
              </a:rPr>
              <a:t>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486240" y="256536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cc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99cc00"/>
                </a:solidFill>
                <a:latin typeface="Arial"/>
              </a:rPr>
              <a:t>百合刚刚长出来的时候，和杂草一模一样。……深深地扎根在断崖上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787400" y="3357720"/>
            <a:ext cx="38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cc00"/>
                </a:solidFill>
                <a:latin typeface="Arial"/>
              </a:rPr>
              <a:t>百合说：“我要开花，……不管你们怎么看我，我都要开花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693720" y="4149720"/>
            <a:ext cx="66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cc00"/>
                </a:solidFill>
                <a:latin typeface="Arial"/>
              </a:rPr>
              <a:t>不管别人怎么欣赏，满山的百合花都谨记第一柱百合的话：“要全新全意默默地开花，以花来证明自己的存在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2962080" y="529596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cc00"/>
                </a:solidFill>
                <a:latin typeface="Arial"/>
              </a:rPr>
              <a:t>年年春天，百合努力地开花、结子儿。……人们称为“百合谷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1213560" y="22050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执着、勇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693720" y="2997360"/>
            <a:ext cx="20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执着、自信、坚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1575360" y="378936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执着、默默、朴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857520" y="4935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幸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12"/>
          <p:cNvSpPr txBox="1"/>
          <p:nvPr/>
        </p:nvSpPr>
        <p:spPr>
          <a:xfrm>
            <a:off x="693720" y="311040"/>
            <a:ext cx="250992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读懂百合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15"/>
          <p:cNvSpPr/>
          <p:nvPr/>
        </p:nvSpPr>
        <p:spPr>
          <a:xfrm>
            <a:off x="7581960" y="510840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2010071110053557"/>
          <p:cNvPicPr/>
          <p:nvPr/>
        </p:nvPicPr>
        <p:blipFill>
          <a:blip r:embed="rId1"/>
          <a:stretch/>
        </p:blipFill>
        <p:spPr>
          <a:xfrm>
            <a:off x="7021440" y="4724280"/>
            <a:ext cx="2122560" cy="2133720"/>
          </a:xfrm>
          <a:prstGeom prst="rect">
            <a:avLst/>
          </a:prstGeom>
          <a:ln w="0">
            <a:noFill/>
          </a:ln>
        </p:spPr>
      </p:pic>
      <p:sp>
        <p:nvSpPr>
          <p:cNvPr id="73" name="WordArt 3"/>
          <p:cNvSpPr txBox="1"/>
          <p:nvPr/>
        </p:nvSpPr>
        <p:spPr>
          <a:xfrm>
            <a:off x="755640" y="476280"/>
            <a:ext cx="17049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读懂百合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771480" y="1266840"/>
            <a:ext cx="754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  <a:ea typeface="楷体_GB2312"/>
              </a:rPr>
              <a:t>这是一株成功的花吗？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  <a:ea typeface="楷体_GB2312"/>
              </a:rPr>
              <a:t>在百合开花的过程中遇到了哪些艰难困苦，它又是凭借什么战胜这些困难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158920" y="3043080"/>
            <a:ext cx="43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cc00"/>
                </a:solidFill>
                <a:latin typeface="Times New Roman"/>
                <a:ea typeface="楷体_GB2312"/>
              </a:rPr>
              <a:t>“</a:t>
            </a:r>
            <a:r>
              <a:rPr b="1" lang="zh-CN" sz="1800" spc="-1" strike="noStrike">
                <a:solidFill>
                  <a:srgbClr val="99cc00"/>
                </a:solidFill>
                <a:latin typeface="Arial"/>
                <a:ea typeface="楷体_GB2312"/>
              </a:rPr>
              <a:t>偏僻遥远的山谷</a:t>
            </a:r>
            <a:r>
              <a:rPr b="1" lang="zh-CN" sz="1800" spc="-1" strike="noStrike">
                <a:solidFill>
                  <a:srgbClr val="99cc00"/>
                </a:solidFill>
                <a:latin typeface="Times New Roman"/>
                <a:ea typeface="楷体_GB2312"/>
              </a:rPr>
              <a:t>”</a:t>
            </a:r>
            <a:r>
              <a:rPr b="1" lang="zh-CN" sz="1800" spc="-1" strike="noStrike">
                <a:solidFill>
                  <a:srgbClr val="99cc00"/>
                </a:solidFill>
                <a:latin typeface="Arial"/>
                <a:ea typeface="楷体_GB2312"/>
              </a:rPr>
              <a:t>，</a:t>
            </a:r>
            <a:r>
              <a:rPr b="1" lang="zh-CN" sz="1800" spc="-1" strike="noStrike">
                <a:solidFill>
                  <a:srgbClr val="99cc00"/>
                </a:solidFill>
                <a:latin typeface="Times New Roman"/>
                <a:ea typeface="楷体_GB2312"/>
              </a:rPr>
              <a:t>“</a:t>
            </a:r>
            <a:r>
              <a:rPr b="1" lang="zh-CN" sz="1800" spc="-1" strike="noStrike">
                <a:solidFill>
                  <a:srgbClr val="99cc00"/>
                </a:solidFill>
                <a:latin typeface="Arial"/>
                <a:ea typeface="楷体_GB2312"/>
              </a:rPr>
              <a:t>高达数千尺的断崖</a:t>
            </a:r>
            <a:r>
              <a:rPr b="1" lang="zh-CN" sz="1800" spc="-1" strike="noStrike">
                <a:solidFill>
                  <a:srgbClr val="99cc00"/>
                </a:solidFill>
                <a:latin typeface="Times New Roman"/>
                <a:ea typeface="楷体_GB2312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058280" y="477216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cc00"/>
                </a:solidFill>
                <a:latin typeface="Arial"/>
                <a:ea typeface="楷体_GB2312"/>
              </a:rPr>
              <a:t>野草和蜂蝶的嘲笑、讽刺、鄙夷、挖苦</a:t>
            </a:r>
            <a:r>
              <a:rPr b="1" lang="zh-CN" sz="1800" spc="-1" strike="noStrike">
                <a:solidFill>
                  <a:srgbClr val="99cc00"/>
                </a:solidFill>
                <a:latin typeface="Times New Roman"/>
                <a:ea typeface="楷体_GB2312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402280" y="261144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cc00"/>
                </a:solidFill>
                <a:latin typeface="Arial"/>
                <a:ea typeface="楷体_GB2312"/>
              </a:rPr>
              <a:t>自然环境之恶劣 </a:t>
            </a:r>
            <a:r>
              <a:rPr b="1" lang="zh-CN" sz="1800" spc="-1" strike="noStrike">
                <a:solidFill>
                  <a:srgbClr val="99cc00"/>
                </a:solidFill>
                <a:latin typeface="Arial"/>
                <a:ea typeface="楷体_GB2312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2519640" y="4346640"/>
            <a:ext cx="14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cc00"/>
                </a:solidFill>
                <a:latin typeface="Arial"/>
                <a:ea typeface="楷体_GB2312"/>
              </a:rPr>
              <a:t>社会环境的不协调</a:t>
            </a:r>
            <a:r>
              <a:rPr b="1" lang="zh-CN" sz="1800" spc="-1" strike="noStrike">
                <a:solidFill>
                  <a:srgbClr val="99cc00"/>
                </a:solidFill>
                <a:latin typeface="Arial"/>
                <a:ea typeface="楷体_GB2312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179800" y="5229360"/>
            <a:ext cx="51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要全心全意默默的开花</a:t>
            </a: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以花来证明自己的存在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  <a:ea typeface="楷体_GB2312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235080" y="3732120"/>
            <a:ext cx="185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丝毫不动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坚定的信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畏讥讽的自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坚忍不拔的毅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2251080" y="3554280"/>
            <a:ext cx="585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  <a:ea typeface="楷体_GB2312"/>
              </a:rPr>
              <a:t>百合花坚信：“不管有没有人欣赏，不管你们怎么看我，我都要开花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2"/>
          <p:cNvSpPr/>
          <p:nvPr/>
        </p:nvSpPr>
        <p:spPr>
          <a:xfrm>
            <a:off x="1963800" y="2762280"/>
            <a:ext cx="216000" cy="3095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2010071110053557"/>
          <p:cNvPicPr/>
          <p:nvPr/>
        </p:nvPicPr>
        <p:blipFill>
          <a:blip r:embed="rId1"/>
          <a:stretch/>
        </p:blipFill>
        <p:spPr>
          <a:xfrm>
            <a:off x="7021440" y="4724280"/>
            <a:ext cx="2122560" cy="2133720"/>
          </a:xfrm>
          <a:prstGeom prst="rect">
            <a:avLst/>
          </a:prstGeom>
          <a:ln w="0">
            <a:noFill/>
          </a:ln>
        </p:spPr>
      </p:pic>
      <p:sp>
        <p:nvSpPr>
          <p:cNvPr id="84" name="WordArt 3"/>
          <p:cNvSpPr txBox="1"/>
          <p:nvPr/>
        </p:nvSpPr>
        <p:spPr>
          <a:xfrm>
            <a:off x="755640" y="476280"/>
            <a:ext cx="17049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读懂百合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042920" y="1268280"/>
            <a:ext cx="686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  <a:ea typeface="楷体_GB2312"/>
              </a:rPr>
              <a:t>、  百合经历了千辛万苦，终于在断崖边上开出了洁白的花，你觉得它这样做值得吗？为什么？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150920" y="3755880"/>
            <a:ext cx="69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开花能达成自己的心愿；能装点大自然，将美奉献给世界；完成了大自然赋予的使命，向世人证明了自己，实现了自己的人生价值。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1772640" y="3068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值   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2010071110053557"/>
          <p:cNvPicPr/>
          <p:nvPr/>
        </p:nvPicPr>
        <p:blipFill>
          <a:blip r:embed="rId1"/>
          <a:stretch/>
        </p:blipFill>
        <p:spPr>
          <a:xfrm>
            <a:off x="7021440" y="4724280"/>
            <a:ext cx="2122560" cy="2133720"/>
          </a:xfrm>
          <a:prstGeom prst="rect">
            <a:avLst/>
          </a:prstGeom>
          <a:ln w="0">
            <a:noFill/>
          </a:ln>
        </p:spPr>
      </p:pic>
      <p:sp>
        <p:nvSpPr>
          <p:cNvPr id="89" name="WordArt 3"/>
          <p:cNvSpPr txBox="1"/>
          <p:nvPr/>
        </p:nvSpPr>
        <p:spPr>
          <a:xfrm>
            <a:off x="755640" y="476280"/>
            <a:ext cx="17049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感悟百合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11280" y="134136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  <a:ea typeface="楷体_GB2312"/>
              </a:rPr>
              <a:t>说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  <a:ea typeface="楷体_GB2312"/>
              </a:rPr>
              <a:t>一说课文题目为什么叫“心田上的百合花开”？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680480" y="2460600"/>
            <a:ext cx="28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成功要付出努力；关注结果，更关注过程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楷体_GB2312"/>
              </a:rPr>
              <a:t>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838080" y="2879640"/>
            <a:ext cx="66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楷体_GB2312"/>
              </a:rPr>
              <a:t>在人生的道路上，只要不放弃相信自己，也会开出世界上最美丽的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819000" y="3598920"/>
            <a:ext cx="693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楷体_GB2312"/>
              </a:rPr>
              <a:t>我们每个人都要树立信心，坚定信念，并以坚韧的秉性执着的追求，就一定能实现自己的理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"/>
          <p:cNvSpPr/>
          <p:nvPr/>
        </p:nvSpPr>
        <p:spPr>
          <a:xfrm>
            <a:off x="1743120" y="5321160"/>
            <a:ext cx="50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2010071110053557"/>
          <p:cNvPicPr/>
          <p:nvPr/>
        </p:nvPicPr>
        <p:blipFill>
          <a:blip r:embed="rId1"/>
          <a:stretch/>
        </p:blipFill>
        <p:spPr>
          <a:xfrm>
            <a:off x="7021440" y="4724280"/>
            <a:ext cx="2122560" cy="2133720"/>
          </a:xfrm>
          <a:prstGeom prst="rect">
            <a:avLst/>
          </a:prstGeom>
          <a:ln w="0">
            <a:noFill/>
          </a:ln>
        </p:spPr>
      </p:pic>
      <p:sp>
        <p:nvSpPr>
          <p:cNvPr id="96" name="WordArt 3"/>
          <p:cNvSpPr txBox="1"/>
          <p:nvPr/>
        </p:nvSpPr>
        <p:spPr>
          <a:xfrm>
            <a:off x="755640" y="476280"/>
            <a:ext cx="28083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赞美百合，欣赏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11280" y="3573360"/>
            <a:ext cx="79214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  <a:ea typeface="楷体_GB2312"/>
              </a:rPr>
              <a:t>作业： 用自己的话以“我心田上的百合花”为题，赞美赞美这朵野百合，形式不限</a:t>
            </a:r>
            <a:r>
              <a:rPr b="1" lang="zh-CN" sz="1800" spc="-1" strike="noStrike">
                <a:solidFill>
                  <a:srgbClr val="99cc00"/>
                </a:solidFill>
                <a:latin typeface="Arial"/>
                <a:ea typeface="楷体_GB2312"/>
              </a:rPr>
              <a:t>(</a:t>
            </a:r>
            <a:r>
              <a:rPr b="1" lang="zh-CN" sz="1800" spc="-1" strike="noStrike">
                <a:solidFill>
                  <a:srgbClr val="99cc00"/>
                </a:solidFill>
                <a:latin typeface="Arial"/>
                <a:ea typeface="楷体_GB2312"/>
              </a:rPr>
              <a:t>诗歌、一句话……</a:t>
            </a:r>
            <a:r>
              <a:rPr b="1" lang="zh-CN" sz="1800" spc="-1" strike="noStrike">
                <a:solidFill>
                  <a:srgbClr val="99cc00"/>
                </a:solidFill>
                <a:latin typeface="Arial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要求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、能鲜明地突出百合花的形象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、可任意选择百合花精神品质的某一方面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99cc00"/>
                </a:solidFill>
                <a:latin typeface="Arial"/>
                <a:ea typeface="楷体_GB2312"/>
              </a:rPr>
              <a:t>、可适当选择文中的句子或词语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619280" y="1197000"/>
            <a:ext cx="4268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你，断崖边上的一株百合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弱小而不起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但你坚强、自信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你以微笑回答他人的鄙夷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你以开花证明你的价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断崖因你的存在而美丽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生命因你的绽放而精彩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2010071110053557"/>
          <p:cNvPicPr/>
          <p:nvPr/>
        </p:nvPicPr>
        <p:blipFill>
          <a:blip r:embed="rId1"/>
          <a:stretch/>
        </p:blipFill>
        <p:spPr>
          <a:xfrm>
            <a:off x="7021440" y="4724280"/>
            <a:ext cx="2122560" cy="21337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3"/>
          <p:cNvSpPr txBox="1"/>
          <p:nvPr/>
        </p:nvSpPr>
        <p:spPr>
          <a:xfrm>
            <a:off x="755640" y="476280"/>
            <a:ext cx="10652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小 结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84360" y="126828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  <a:ea typeface="楷体_GB2312"/>
              </a:rPr>
              <a:t>今天，我们一起欣赏了一株开在断崖边上的百合花，相信经过大家的解读，这株百合花也一定开在了我们每个人的心田上。最后，送给大家一株百合花，祝愿你早日开出属于自己的成功的花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900000" y="378936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许多的努力不是一下子可以看到成果的，需要努力和坚忍，你终将品尝到成功的甜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12:06:3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04:07Z</dcterms:modified>
  <cp:revision>3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