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2351-98AF-41E9-AD00-D982072FA0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FF54-A11E-4AD3-8565-E551B5A7CB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468C-8117-4F8F-845E-851005675B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554-FD06-46E9-A2CF-481C1F7A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E72-0C0D-47FD-9A8D-B22DF5A1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253-B965-49E0-93B5-867D6AD8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AAE2-4052-424E-94B3-6F9B19CC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FE0-3E66-40BB-8831-8D7B4659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C43-0ACA-4371-A2AA-FA6361B4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BA8-83DC-4842-90D1-D4FB461E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2DB-B4CB-4787-965E-72CF595E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55D-7E45-4A2F-A360-C305E1C7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BD0-BA71-4663-AAAD-167C9F78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F53-B5FA-4908-B8D3-7B04BBB5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45B-4845-4BD8-96EC-AF5CC35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F41F-4321-470F-B153-EC00C694A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154391-12050F94052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603360" y="261468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cc"/>
                </a:solidFill>
                <a:latin typeface="华文隶书"/>
                <a:ea typeface="华文隶书"/>
              </a:rPr>
              <a:t>3</a:t>
            </a:r>
            <a:r>
              <a:rPr b="0" lang="zh-CN" sz="8000" spc="-1" strike="noStrike">
                <a:solidFill>
                  <a:srgbClr val="0000cc"/>
                </a:solidFill>
                <a:latin typeface="华文隶书"/>
                <a:ea typeface="华文隶书"/>
              </a:rPr>
              <a:t>、颤抖的羽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1447920" y="501336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4" descr="200819141069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7"/>
          <p:cNvSpPr/>
          <p:nvPr/>
        </p:nvSpPr>
        <p:spPr>
          <a:xfrm>
            <a:off x="250920" y="549360"/>
            <a:ext cx="5041800" cy="99216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68360" y="765000"/>
            <a:ext cx="86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三、小组展示、教师点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家养了一只大公鸡，它尾巴上的翎毛在阳光照耀下变幻着不同的色彩。我要用它的翎毛为自己制作一只漂亮的毽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 它有气无力地闭上了眼睛，眼看着就要被淹死了。它再也无力反抗了，我们找来一根铁钩子才把它打捞上来。它躺在地上一动不动地喘着气。同学们见它要死了，很害怕，都悄悄地走了。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49280" y="23400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4" descr="200819141069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7"/>
          <p:cNvSpPr/>
          <p:nvPr/>
        </p:nvSpPr>
        <p:spPr>
          <a:xfrm>
            <a:off x="0" y="260280"/>
            <a:ext cx="3030480" cy="99216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39640" y="4302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重点梳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868200" y="2157480"/>
            <a:ext cx="119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照事情发生、发展和结局的时间顺序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，这种写法通常叫做顺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"/>
          <p:cNvSpPr/>
          <p:nvPr/>
        </p:nvSpPr>
        <p:spPr>
          <a:xfrm>
            <a:off x="1042920" y="1125360"/>
            <a:ext cx="3030480" cy="99252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220760" y="13190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迁移运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474920" y="2766960"/>
            <a:ext cx="61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着用顺序的方法复述一件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6"/>
          <p:cNvSpPr/>
          <p:nvPr/>
        </p:nvSpPr>
        <p:spPr>
          <a:xfrm>
            <a:off x="826920" y="849240"/>
            <a:ext cx="3240360" cy="99216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5560" y="1112760"/>
            <a:ext cx="91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四、大阅读展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826920" y="285264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完这篇文文章，你搜集了那些有意思的作品？说出来与大家分享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"/>
          <p:cNvSpPr/>
          <p:nvPr/>
        </p:nvSpPr>
        <p:spPr>
          <a:xfrm>
            <a:off x="1897200" y="4932360"/>
            <a:ext cx="58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E28F-79CE-46DD-8F0E-0E9A2D39D1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2"/>
          <p:cNvGrpSpPr/>
          <p:nvPr/>
        </p:nvGrpSpPr>
        <p:grpSpPr>
          <a:xfrm>
            <a:off x="1116000" y="620640"/>
            <a:ext cx="7561440" cy="5466960"/>
            <a:chOff x="1116000" y="620640"/>
            <a:chExt cx="7561440" cy="5466960"/>
          </a:xfrm>
        </p:grpSpPr>
        <p:sp>
          <p:nvSpPr>
            <p:cNvPr id="56" name="Text Box 4"/>
            <p:cNvSpPr/>
            <p:nvPr/>
          </p:nvSpPr>
          <p:spPr>
            <a:xfrm>
              <a:off x="1116000" y="1484280"/>
              <a:ext cx="7561440" cy="46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   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学习目标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自读课文，做到正确、流利、有感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合作学习，解决生字，理解词语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全班交流“每课一问”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、小组讨论“前置性小研究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”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做展前准备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9"/>
            <p:cNvSpPr/>
            <p:nvPr/>
          </p:nvSpPr>
          <p:spPr>
            <a:xfrm>
              <a:off x="3059280" y="620640"/>
              <a:ext cx="46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（第一课时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0000" y="1341360"/>
            <a:ext cx="3600360" cy="992160"/>
            <a:chOff x="900000" y="1341360"/>
            <a:chExt cx="3600360" cy="992160"/>
          </a:xfrm>
        </p:grpSpPr>
        <p:sp>
          <p:nvSpPr>
            <p:cNvPr id="59" name="AutoShape 8"/>
            <p:cNvSpPr/>
            <p:nvPr/>
          </p:nvSpPr>
          <p:spPr>
            <a:xfrm>
              <a:off x="900000" y="1341360"/>
              <a:ext cx="3093840" cy="992160"/>
            </a:xfrm>
            <a:prstGeom prst="roundRect">
              <a:avLst>
                <a:gd name="adj" fmla="val 50000"/>
              </a:avLst>
            </a:prstGeom>
            <a:solidFill>
              <a:srgbClr val="ff66ff"/>
            </a:solidFill>
            <a:ln w="38160">
              <a:solidFill>
                <a:srgbClr val="ffffff"/>
              </a:solidFill>
              <a:round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0"/>
            <p:cNvSpPr/>
            <p:nvPr/>
          </p:nvSpPr>
          <p:spPr>
            <a:xfrm>
              <a:off x="1115640" y="1557360"/>
              <a:ext cx="33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Arial"/>
                </a:rPr>
                <a:t>一、激趣树标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7"/>
          <p:cNvSpPr/>
          <p:nvPr/>
        </p:nvSpPr>
        <p:spPr>
          <a:xfrm>
            <a:off x="1042920" y="1125360"/>
            <a:ext cx="3030480" cy="99252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220760" y="13190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二、自主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692360" y="256536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同学们自读课文，不会读的字词和读不通的句子多读几遍，做到正确、流利、有感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959120" y="1058760"/>
            <a:ext cx="25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971640" y="1052640"/>
            <a:ext cx="3030480" cy="99216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098720" y="1268280"/>
            <a:ext cx="72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三、合作学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187280" y="2349360"/>
            <a:ext cx="7561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对子间合作解决生字词：互相听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互相订正，自主识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步练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基础题，对子互判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订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组长检查、记分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4" descr="200819141069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5"/>
          <p:cNvSpPr/>
          <p:nvPr/>
        </p:nvSpPr>
        <p:spPr>
          <a:xfrm>
            <a:off x="611280" y="404640"/>
            <a:ext cx="3529080" cy="99252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900000" y="549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重点字词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901800" y="2637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2869920" y="2581200"/>
            <a:ext cx="348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重点词语：技巧   一窝蜂  惴惴不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9"/>
          <p:cNvSpPr/>
          <p:nvPr/>
        </p:nvSpPr>
        <p:spPr>
          <a:xfrm>
            <a:off x="684360" y="803160"/>
            <a:ext cx="3030480" cy="99216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684360" y="100188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四、每课一问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4560" y="31179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995640" y="2276640"/>
            <a:ext cx="230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00"/>
                </a:solidFill>
                <a:latin typeface="Arial"/>
              </a:rPr>
              <a:t>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611280" y="765000"/>
            <a:ext cx="3030480" cy="99252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55640" y="981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五、小组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042920" y="2349360"/>
            <a:ext cx="727416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请同学们针对“前置性小研究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”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进行讨论，做展前准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6"/>
          <p:cNvSpPr/>
          <p:nvPr/>
        </p:nvSpPr>
        <p:spPr>
          <a:xfrm>
            <a:off x="468360" y="1125360"/>
            <a:ext cx="3030480" cy="99252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1280" y="81612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（第二课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一、激趣树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875320" y="2340000"/>
            <a:ext cx="178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目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感受作者的心情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了解顺序写作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235107-1210092310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7"/>
          <p:cNvSpPr/>
          <p:nvPr/>
        </p:nvSpPr>
        <p:spPr>
          <a:xfrm>
            <a:off x="755640" y="1125360"/>
            <a:ext cx="3030480" cy="992520"/>
          </a:xfrm>
          <a:prstGeom prst="roundRect">
            <a:avLst>
              <a:gd name="adj" fmla="val 50000"/>
            </a:avLst>
          </a:prstGeom>
          <a:solidFill>
            <a:srgbClr val="ff66ff"/>
          </a:solid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71640" y="12682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二、小组合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47640" y="2708280"/>
            <a:ext cx="676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请同学们针对“前置性小研究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2”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再做简单准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1:51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0:38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