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B637-2401-45D5-93F7-9F6A3EB8F7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A548-8372-4CC9-8319-8F3AC2C132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2AF-9469-499F-B0B0-D74B288E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597-953D-4992-8F9A-CDD9BFBE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B82-199B-4DB8-B657-5E68CD3A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200-7184-484D-85BB-A4F21A94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421-B550-4EAC-807C-4BD7079F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E63-59CA-4A2D-8C71-9F3BE741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E89-AAF3-4031-8EBD-230876DD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DB3-1CE6-47DF-8DEB-04A3F5A1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395-81A7-497F-9EB8-056EDA3F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AD1-7B5E-4627-A959-998FE5BE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3AA-2A73-407E-8FDF-F81718EB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696-32A6-442C-8CA7-C50593F4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8D9D-E160-495A-A44E-192346C89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9e7ce6dc03ff66b4cc11663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47640" y="1989000"/>
            <a:ext cx="5905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黑体"/>
                <a:ea typeface="黑体"/>
              </a:rPr>
              <a:t>彩虹桥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4360" y="10825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湘教版一年级语文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75536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彩虹的明显程度，取决于空气中小水滴的大小，小水滴体积越大，形成的彩虹越鲜亮，小水滴体积越小，形成的彩虹就不明显。一般冬天的气温较低，在空中不容易存在小水滴，下雨的机会也少，所以冬天一般不会有彩虹出现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彩虹其实并非出现在半空中的特定位置。它是观察者看见的一种光学现象，彩虹看起来的所在位置，会随著观察者而改变。当观察者看到彩虹时，它的位置必定是在太阳的相反方向。彩虹的拱以内的中央，其实是被水滴反射，放大了的太阳影像。所以彩虹以内的天空比彩虹以外的要亮。彩虹拱形的正中心位置，刚好是观察者头部阴影的方向，虹的本身则在观察者头部的影子与眼睛一线以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2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位置。因此当太阳在空中高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度时，彩虹的位置将在地平线以下而看不见。这亦是为什么彩虹很少在中午出现的原因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彩虹由一端至另一端，横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4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以一般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5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照相机，需要焦距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下的广角镜头才可以用单格把整条彩虹拍下。倘若在飞机上，会看见彩虹是原整的圆形而不是拱形，而圆形彩虹的正中心则是飞机行进的方向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晚虹是一种罕见的现象，在月光强烈的晚上可能出现。由于人类视觉在晚间低光线的情况下难以分办颜色，故此晚虹看起来好像是全白色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4000" y="233208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留心每天发生在你身边美好的事物，如看到“十五的圆月”、“满天的繁星”、“美丽的鲜花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会想些什么，说些什么。并主动乐于与人交往，能大胆说出自己的想法的见解来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B9F8-238D-4AFE-B851-0504CC350B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激发想象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围绕“彩虹”这一话题，说出自己的想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静心倾听，勇于创新，善于发表自己的意见的良好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508720" y="1700280"/>
            <a:ext cx="3024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插上想象的翅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图上有谁，在干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们在想些什么，说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4859280" cy="495936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"/>
          <p:cNvSpPr/>
          <p:nvPr/>
        </p:nvSpPr>
        <p:spPr>
          <a:xfrm>
            <a:off x="1612800" y="47484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4932360" y="404640"/>
            <a:ext cx="360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交际指导</a:t>
            </a: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认真看图，说说彩虹是什么形状的，什么时候能看到彩虹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你见过彩虹吗？什么颜色的？你看到彩虹时的心情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画出你心目中最漂亮的彩虹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4672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EE192"/>
          <p:cNvPicPr/>
          <p:nvPr/>
        </p:nvPicPr>
        <p:blipFill>
          <a:blip r:embed="rId1"/>
          <a:stretch/>
        </p:blipFill>
        <p:spPr>
          <a:xfrm>
            <a:off x="250920" y="836640"/>
            <a:ext cx="8667720" cy="5891040"/>
          </a:xfrm>
          <a:prstGeom prst="rect">
            <a:avLst/>
          </a:prstGeom>
          <a:ln w="0">
            <a:noFill/>
          </a:ln>
        </p:spPr>
      </p:pic>
      <p:sp>
        <p:nvSpPr>
          <p:cNvPr id="59" name="WordArt 9"/>
          <p:cNvSpPr txBox="1"/>
          <p:nvPr/>
        </p:nvSpPr>
        <p:spPr>
          <a:xfrm>
            <a:off x="4140360" y="260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彩虹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9114e6ee17d1cbe2b3fb953e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1187280" y="60739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彩虹有哪几种颜色，它是怎样形成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词语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彩虹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(Rainbow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是气象中的一种光学现象。当阳光照射到半空中的雨点，光线被折射及反射，在天空上形成拱形的七彩的光谱。彩虹七彩颜色，从外至内分别为：红、橙、黄、绿、青、蓝、紫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彩虹是一种自然现象，是由于阳光射到空气的水滴里，发生光的反射和折射造成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说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35280" y="2204640"/>
            <a:ext cx="5688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到彩虹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★看到这么美丽的彩虹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真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★多美的彩虹桥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47640" y="-171360"/>
            <a:ext cx="5637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263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色散的作用，不同波长的光的折射率有所不同，蓝光的折射角度比红光大。由于光在水滴内被反射，所以观察者看见的光谱是倒过来，红光在最上方，其他颜色在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其实只要空气中有水滴，而阳光正在观察者的背后以低角度照射，便可能产生可以观察到的彩虹现象。彩虹最常在下午，雨后刚转天晴时出现。这时空气内尘埃少而充满小水滴，天空的一边因为仍有雨云而较暗。而观察者头上或背后已没有云的遮挡而可见阳光，这样彩虹便会较容易被看到。另一个经常可见到彩虹的地方是瀑布附近。在晴朗的天气下背对阳光在空中洒水或喷洒水雾，亦可以人工制造彩虹。 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宋体"/>
                <a:hlinkClick r:id="rId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空气里水滴的大小，决定了彩虹的色彩鲜艳程度和宽窄。空气中的水滴大，虹就鲜艳，也比较窄；反之，水滴小，虹色就淡，也比较宽。我们面对着太阳是看不到彩虹的，只有背着太阳才能看到彩虹，所以早晨的彩虹出现在西方，黄昏的彩虹总在东方出现。可我们看不见，只有乘飞机从高空向下看，才能见到。虹的出现与当时天气变化相联系，一般我们从虹出现在天空中的位置可以推测当时将出现晴天或雨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9e7ce6dc03ff66b4cc116632"/>
          <p:cNvPicPr/>
          <p:nvPr/>
        </p:nvPicPr>
        <p:blipFill>
          <a:blip r:embed="rId2"/>
          <a:stretch/>
        </p:blipFill>
        <p:spPr>
          <a:xfrm>
            <a:off x="0" y="333360"/>
            <a:ext cx="2987640" cy="2276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916360" y="692280"/>
            <a:ext cx="62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彩虹是因为阳光射到空中接近圆形的小水滴，造成色散及反射而成。阳光射入水滴时会同时以不同角度入射，在水滴内亦以不同的角度反射。当中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至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度的反射最为强烈，造成我们所见到的彩虹。造成这种反射时，阳光进入水滴，先折射一次，然后在水滴的背面反射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后离开水滴时再折射一次。因为水对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09:11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10:58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8c0c000000000001024120</vt:lpwstr>
  </property>
</Properties>
</file>