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9BA-5ACE-45B0-A540-4ECB6972FF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8E0-CD13-430E-A32F-8F8FBFADCE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48D-5F20-4E89-B405-B795D3BD71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44D-CF3E-4526-961B-01483D79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143-84FB-493A-8D9E-56D88CA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BAF-DED8-427A-BCC6-3C74E04D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593-A227-4DD8-A2E7-22F123B9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099-61D0-4095-A507-FAB19F75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5E9-2F4F-42DD-9A06-AE22AC8D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DA0-39A8-49BA-B1F9-A7976720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097-C6F2-45D4-BCBF-D83E9FB7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D00-58A1-4D41-A463-EFDE1B0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7A9-C80E-4567-8519-BDBA59A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E78-3231-4717-8311-9B1DEED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70C-868A-40F8-A568-3854A9D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36D-3227-409B-AF13-0BD8B1C20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窗前的红气球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5686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窗前的红气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4572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fc4b0e407f91d10b93820f6"/>
          <p:cNvPicPr/>
          <p:nvPr/>
        </p:nvPicPr>
        <p:blipFill>
          <a:blip r:embed="rId1"/>
          <a:stretch/>
        </p:blipFill>
        <p:spPr>
          <a:xfrm>
            <a:off x="5435640" y="4627440"/>
            <a:ext cx="3492360" cy="2230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温馨小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组内检查预习情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、检查读课文，一人一段，小组长组织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、检查小组成员读词语卡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、检查读生字卡片，对记不好的字，想办法记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组完成后自觉坐好，比比哪个小组最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戈里亚病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躺在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床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动也不能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他得的是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传染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医生规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谁也不准来看望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戈里亚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呆呆地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望着窗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突然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戈里亚看到一个红气球升了上来，在他房间的窗户前停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他好像看见米萨正拽着气球的绳子，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卡佳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定紧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挨着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萨，其他同学也都站在那儿，说说笑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611280" y="333360"/>
            <a:ext cx="2286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一读：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2444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病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940360" y="188424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传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84440" y="35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医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808800" y="35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122120" y="50864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呆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832800" y="3502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56440" y="5086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847200" y="5207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窗前的红气球03"/>
          <p:cNvPicPr/>
          <p:nvPr/>
        </p:nvPicPr>
        <p:blipFill>
          <a:blip r:embed="rId1"/>
          <a:stretch/>
        </p:blipFill>
        <p:spPr>
          <a:xfrm>
            <a:off x="900000" y="1127160"/>
            <a:ext cx="18003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窗前的红气球03"/>
          <p:cNvPicPr/>
          <p:nvPr/>
        </p:nvPicPr>
        <p:blipFill>
          <a:blip r:embed="rId2"/>
          <a:stretch/>
        </p:blipFill>
        <p:spPr>
          <a:xfrm>
            <a:off x="3419640" y="692280"/>
            <a:ext cx="161892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窗前的红气球03"/>
          <p:cNvPicPr/>
          <p:nvPr/>
        </p:nvPicPr>
        <p:blipFill>
          <a:blip r:embed="rId3"/>
          <a:stretch/>
        </p:blipFill>
        <p:spPr>
          <a:xfrm>
            <a:off x="6013440" y="766800"/>
            <a:ext cx="1871640" cy="2663640"/>
          </a:xfrm>
          <a:prstGeom prst="rect">
            <a:avLst/>
          </a:prstGeom>
          <a:ln w="0">
            <a:noFill/>
          </a:ln>
        </p:spPr>
      </p:pic>
      <p:sp>
        <p:nvSpPr>
          <p:cNvPr id="67" name="WordArt 15"/>
          <p:cNvSpPr txBox="1"/>
          <p:nvPr/>
        </p:nvSpPr>
        <p:spPr>
          <a:xfrm rot="2040000">
            <a:off x="6965640" y="498600"/>
            <a:ext cx="18288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2028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认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2028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Picture 16" descr="窗前的红气球03"/>
          <p:cNvPicPr/>
          <p:nvPr/>
        </p:nvPicPr>
        <p:blipFill>
          <a:blip r:embed="rId4"/>
          <a:stretch/>
        </p:blipFill>
        <p:spPr>
          <a:xfrm>
            <a:off x="684360" y="2781360"/>
            <a:ext cx="129672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窗前的红气球03"/>
          <p:cNvPicPr/>
          <p:nvPr/>
        </p:nvPicPr>
        <p:blipFill>
          <a:blip r:embed="rId5"/>
          <a:stretch/>
        </p:blipFill>
        <p:spPr>
          <a:xfrm>
            <a:off x="3203640" y="2637000"/>
            <a:ext cx="1779480" cy="237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窗前的红气球03"/>
          <p:cNvPicPr/>
          <p:nvPr/>
        </p:nvPicPr>
        <p:blipFill>
          <a:blip r:embed="rId6"/>
          <a:stretch/>
        </p:blipFill>
        <p:spPr>
          <a:xfrm>
            <a:off x="6372360" y="3357720"/>
            <a:ext cx="1530360" cy="163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窗前的红气球03"/>
          <p:cNvPicPr/>
          <p:nvPr/>
        </p:nvPicPr>
        <p:blipFill>
          <a:blip r:embed="rId7"/>
          <a:stretch/>
        </p:blipFill>
        <p:spPr>
          <a:xfrm>
            <a:off x="853920" y="4508640"/>
            <a:ext cx="182592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窗前的红气球03"/>
          <p:cNvPicPr/>
          <p:nvPr/>
        </p:nvPicPr>
        <p:blipFill>
          <a:blip r:embed="rId8"/>
          <a:stretch/>
        </p:blipFill>
        <p:spPr>
          <a:xfrm>
            <a:off x="3924360" y="5013360"/>
            <a:ext cx="181764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窗前的红气球03"/>
          <p:cNvPicPr/>
          <p:nvPr/>
        </p:nvPicPr>
        <p:blipFill>
          <a:blip r:embed="rId9"/>
          <a:stretch/>
        </p:blipFill>
        <p:spPr>
          <a:xfrm>
            <a:off x="6661080" y="4654440"/>
            <a:ext cx="1225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4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41" fill="hold">
                                          <p:stCondLst>
                                            <p:cond delay="16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116352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840400" y="148608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84720" y="148608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924360" y="328608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152040" y="321300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92040" y="155736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64040" y="465300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111680" y="328608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032960" y="455760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551680" y="479736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219640" y="472608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了，医生规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时，窗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猜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窗前的红气球02"/>
          <p:cNvPicPr/>
          <p:nvPr/>
        </p:nvPicPr>
        <p:blipFill>
          <a:blip r:embed="rId1"/>
          <a:stretch/>
        </p:blipFill>
        <p:spPr>
          <a:xfrm>
            <a:off x="1260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0920" y="549360"/>
            <a:ext cx="8229600" cy="30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戈里亚生病了，红气球的出现使他的心情前后有什么变化呢？画出来，读一读，也可以和同学交流一下。他心情的变化是“红气球”带来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853920" y="600408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433C-D817-4E96-81F5-44878A4CD1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00:08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7:18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