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1357-32ED-4E1E-B9C8-3FE8B10B85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1FD8-14D4-4C34-A269-4E96848216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2A7-25D9-40EE-80BC-2BA34CFF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368-5EAF-4B50-9C2B-7828BDFB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901-1A08-4942-A292-88871490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010-0E7F-4883-A891-815129F2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173-CEB8-4159-B9F5-EF8652B4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138-7D47-444E-A76D-B52B0DEF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F89-3990-48CD-A924-70AC4C03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512-D740-4620-8AE5-3A94BC44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63D-0C70-46F4-93D2-EFEAC94F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5C1-4E9E-4EAD-8CCD-0C44310D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5CC-820E-4F21-852A-CE6E126F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B57-C89C-416C-90C6-4E8B54DB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73CA-D1E4-4C7C-8DCB-2C7419A0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卡通~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793960" y="1557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湘教版一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3622680" y="2492280"/>
            <a:ext cx="3960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张海山锐线体简"/>
              </a:rPr>
              <a:t>彩色的云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张海山锐线体简"/>
              <a:ea typeface="张海山锐线体简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240360" y="45165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练      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920" y="1844280"/>
            <a:ext cx="867564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伞像一片彩色的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圆圆的月亮像（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（        ）像（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542880" y="56800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620280"/>
            <a:ext cx="8291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找朋友，再写两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          丝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   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合          朵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  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云          业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 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雨          用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 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敲          门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   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字组词，再写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： 云    白云    蓝蓝的天上飘着朵朵白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伞  （    ）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合  （    ）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  （    ）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  （    ）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8"/>
          <p:cNvSpPr txBox="1"/>
          <p:nvPr/>
        </p:nvSpPr>
        <p:spPr>
          <a:xfrm>
            <a:off x="1979640" y="2276640"/>
            <a:ext cx="51134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4C67-D84A-48AE-9C56-6BDCAF460A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ordArt 4" descr=""/>
          <p:cNvPicPr/>
          <p:nvPr/>
        </p:nvPicPr>
        <p:blipFill>
          <a:blip r:embed="rId1"/>
          <a:stretch/>
        </p:blipFill>
        <p:spPr>
          <a:xfrm>
            <a:off x="79200" y="1009800"/>
            <a:ext cx="879984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本课生字，会写其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识字、写字、阅读、领会课文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成尊师爱生的美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714840" y="0"/>
            <a:ext cx="5429160" cy="67626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 rot="5400000">
            <a:off x="681840" y="2923200"/>
            <a:ext cx="23763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78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76360" y="1989000"/>
            <a:ext cx="6778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不时，望望，密密的雨丝。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79280" y="33336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感悟词语，体会老师的辛苦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彩色的云”是指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撑开的小花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一想它们之间有什么相似之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11280" y="2205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云     刘      作      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平     伞      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书写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11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业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伞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29:50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10:45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