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%E6%B0%B4%E5%BA%95%E4%B8%96%E7%95%8C%20%E5%85%B3%E9%97%AD%E7%A8%8B%E5%BA%8F.wav" ContentType="audio/x-wav"/>
  <Override PartName="/ppt/media/chimes.wav" ContentType="audio/x-wav"/>
  <Override PartName="/ppt/media/type.wav" ContentType="audio/x-wav"/>
  <Override PartName="/ppt/media/image18.png" ContentType="image/png"/>
  <Override PartName="/ppt/media/image20.jpeg" ContentType="image/jpeg"/>
  <Override PartName="/ppt/media/CHIMES.WAV" ContentType="audio/x-wav"/>
  <Override PartName="/ppt/media/image5.jpeg" ContentType="image/jpeg"/>
  <Override PartName="/ppt/media/image8.jpeg" ContentType="image/jpeg"/>
  <Override PartName="/ppt/media/image17.wmf" ContentType="image/x-wmf"/>
  <Override PartName="/ppt/media/image26.png" ContentType="image/png"/>
  <Override PartName="/ppt/media/image3.png" ContentType="image/png"/>
  <Override PartName="/ppt/media/image29.jpeg" ContentType="image/jpeg"/>
  <Override PartName="/ppt/media/RICOCHET.WAV" ContentType="audio/x-wav"/>
  <Override PartName="/ppt/media/image2.jpeg" ContentType="image/jpeg"/>
  <Override PartName="/ppt/media/image23.jpeg" ContentType="image/jpeg"/>
  <Override PartName="/ppt/media/%E4%B8%9B%E6%9E%97%20%E6%83%8A%E5%8F%B9%E5%8F%B7.wav" ContentType="audio/x-wav"/>
  <Override PartName="/ppt/media/image14.jpeg" ContentType="image/jpeg"/>
  <Override PartName="/ppt/media/image27.png" ContentType="image/png"/>
  <Override PartName="/ppt/media/image4.png" ContentType="image/png"/>
  <Override PartName="/ppt/media/image16.jpeg" ContentType="image/jpeg"/>
  <Override PartName="/ppt/media/laser.wav" ContentType="audio/x-wav"/>
  <Override PartName="/ppt/media/image6.png" ContentType="image/png"/>
  <Override PartName="/ppt/media/image28.png" ContentType="image/png"/>
  <Override PartName="/ppt/media/image7.jpeg" ContentType="image/jpeg"/>
  <Override PartName="/ppt/media/wind.wav" ContentType="audio/x-wav"/>
  <Override PartName="/ppt/media/image30.jpeg" ContentType="image/jpeg"/>
  <Override PartName="/ppt/media/image9.png" ContentType="image/png"/>
  <Override PartName="/ppt/media/image22.jpeg" ContentType="image/jpeg"/>
  <Override PartName="/ppt/media/image12.gif" ContentType="image/gif"/>
  <Override PartName="/ppt/media/CAMERA.WAV" ContentType="audio/x-wav"/>
  <Override PartName="/ppt/media/image13.jpeg" ContentType="image/jpeg"/>
  <Override PartName="/ppt/media/%E6%B0%B4%E5%BA%95%E4%B8%96%E7%95%8C%20%E9%80%80%E5%87%BA%20windows.wav" ContentType="audio/x-wav"/>
  <Override PartName="/ppt/media/image1.jpeg" ContentType="image/jpeg"/>
  <Override PartName="/ppt/media/image10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121D-6554-446D-9910-2F05D4ED57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83E-7006-498F-B002-FFDAECFBC7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75B-9D3F-446E-81F1-F3947D1B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CBE-BD26-4C77-9B2D-DBF45C7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295-955B-4984-B885-7738FBC9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695-D29C-49C9-A5C0-4B535B09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3B9-0540-4B42-A6E1-B6A29E7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5AF-5748-4F0F-95EA-E047D076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BB5-9484-400C-A7F1-1ABD20AD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879-D944-4AE3-9699-EA7C4AE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BC6-37DD-499A-B7FF-033ABEB1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A49-E179-46B7-BAD8-76D3E67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3CE-0204-4CAC-9ECB-CB2E612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852-FFE9-4FC1-9FAA-8AA87FB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000-9F6B-403C-98FD-CFC9EE324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&#27700;&#24213;&#19990;&#30028;%20&#36864;&#20986;%20windows.wav"/><Relationship Id="rId6" Type="http://schemas.openxmlformats.org/officeDocument/2006/relationships/audio" Target="../media/&#19995;&#26519;%20&#24778;&#21497;&#21495;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3.jpeg"/><Relationship Id="rId5" Type="http://schemas.openxmlformats.org/officeDocument/2006/relationships/audio" Target="../media/&#27700;&#24213;&#19990;&#30028;%20&#20851;&#38381;&#31243;&#24207;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png"/><Relationship Id="rId3" Type="http://schemas.openxmlformats.org/officeDocument/2006/relationships/image" Target="../media/image23.jpeg"/><Relationship Id="rId4" Type="http://schemas.openxmlformats.org/officeDocument/2006/relationships/audio" Target="../media/&#27700;&#24213;&#19990;&#30028;%20&#20851;&#38381;&#31243;&#24207;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2008528202430970"/>
          <p:cNvPicPr/>
          <p:nvPr/>
        </p:nvPicPr>
        <p:blipFill>
          <a:blip r:embed="rId2"/>
          <a:stretch/>
        </p:blipFill>
        <p:spPr>
          <a:xfrm>
            <a:off x="684360" y="2655720"/>
            <a:ext cx="5357520" cy="30769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5" descr=""/>
          <p:cNvPicPr/>
          <p:nvPr/>
        </p:nvPicPr>
        <p:blipFill>
          <a:blip r:embed="rId3"/>
          <a:stretch/>
        </p:blipFill>
        <p:spPr>
          <a:xfrm>
            <a:off x="1390680" y="5948280"/>
            <a:ext cx="6402240" cy="56052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" descr=""/>
          <p:cNvPicPr/>
          <p:nvPr/>
        </p:nvPicPr>
        <p:blipFill>
          <a:blip r:embed="rId4"/>
          <a:stretch/>
        </p:blipFill>
        <p:spPr>
          <a:xfrm>
            <a:off x="2565360" y="563400"/>
            <a:ext cx="401328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W020071206269023697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-23760"/>
            <a:ext cx="9144000" cy="6908400"/>
            <a:chOff x="0" y="-23760"/>
            <a:chExt cx="9144000" cy="6908400"/>
          </a:xfrm>
        </p:grpSpPr>
        <p:pic>
          <p:nvPicPr>
            <p:cNvPr id="106" name="Picture 3" descr="index_r5_c1"/>
            <p:cNvPicPr/>
            <p:nvPr/>
          </p:nvPicPr>
          <p:blipFill>
            <a:blip r:embed="rId1"/>
            <a:stretch/>
          </p:blipFill>
          <p:spPr>
            <a:xfrm>
              <a:off x="0" y="5877360"/>
              <a:ext cx="9144000" cy="10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9160"/>
              <a:ext cx="250920" cy="54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60080"/>
              <a:ext cx="396720" cy="54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3760"/>
              <a:ext cx="9144000" cy="50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7" descr="边框1"/>
          <p:cNvPicPr/>
          <p:nvPr/>
        </p:nvPicPr>
        <p:blipFill>
          <a:blip r:embed="rId5"/>
          <a:stretch/>
        </p:blipFill>
        <p:spPr>
          <a:xfrm flipH="1" rot="10800000">
            <a:off x="2987640" y="475920"/>
            <a:ext cx="2952720" cy="1319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564000" y="765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843280" y="263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11280" y="2565360"/>
            <a:ext cx="83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课文中是怎样描写这头大象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用“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~~~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画出文中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images"/>
          <p:cNvPicPr/>
          <p:nvPr/>
        </p:nvPicPr>
        <p:blipFill>
          <a:blip r:embed="rId6"/>
          <a:stretch/>
        </p:blipFill>
        <p:spPr>
          <a:xfrm>
            <a:off x="468360" y="404640"/>
            <a:ext cx="2089080" cy="165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images"/>
          <p:cNvPicPr/>
          <p:nvPr/>
        </p:nvPicPr>
        <p:blipFill>
          <a:blip r:embed="rId7"/>
          <a:stretch/>
        </p:blipFill>
        <p:spPr>
          <a:xfrm>
            <a:off x="395280" y="2708280"/>
            <a:ext cx="9349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40766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大象又高又大，身子像一堵墙，腿像四根柱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大象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0" y="2924280"/>
            <a:ext cx="34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一（   ）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ewsMedia_17531"/>
          <p:cNvPicPr/>
          <p:nvPr/>
        </p:nvPicPr>
        <p:blipFill>
          <a:blip r:embed="rId1"/>
          <a:stretch/>
        </p:blipFill>
        <p:spPr>
          <a:xfrm>
            <a:off x="0" y="2276640"/>
            <a:ext cx="521964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395280" y="404640"/>
            <a:ext cx="5943600" cy="1524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看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象的身体像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09480" y="3505320"/>
            <a:ext cx="1981440" cy="107604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11280" y="3357720"/>
            <a:ext cx="1981080" cy="136836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6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419112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NewsMedia_17531"/>
          <p:cNvPicPr/>
          <p:nvPr/>
        </p:nvPicPr>
        <p:blipFill>
          <a:blip r:embed="rId1"/>
          <a:stretch/>
        </p:blipFill>
        <p:spPr>
          <a:xfrm>
            <a:off x="324000" y="2852640"/>
            <a:ext cx="5219640" cy="3810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04920" y="990720"/>
            <a:ext cx="5638680" cy="1447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看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象的腿像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651640" y="4365720"/>
            <a:ext cx="3255840" cy="2286000"/>
            <a:chOff x="5651640" y="4365720"/>
            <a:chExt cx="3255840" cy="2286000"/>
          </a:xfrm>
        </p:grpSpPr>
        <p:pic>
          <p:nvPicPr>
            <p:cNvPr id="127" name="Object 5" descr=""/>
            <p:cNvPicPr/>
            <p:nvPr/>
          </p:nvPicPr>
          <p:blipFill>
            <a:blip r:embed="rId2"/>
            <a:stretch/>
          </p:blipFill>
          <p:spPr>
            <a:xfrm>
              <a:off x="5651640" y="4365720"/>
              <a:ext cx="74124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Object 6" descr=""/>
            <p:cNvPicPr/>
            <p:nvPr/>
          </p:nvPicPr>
          <p:blipFill>
            <a:blip r:embed="rId3"/>
            <a:stretch/>
          </p:blipFill>
          <p:spPr>
            <a:xfrm>
              <a:off x="6413760" y="4810320"/>
              <a:ext cx="74124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Object 7" descr=""/>
            <p:cNvPicPr/>
            <p:nvPr/>
          </p:nvPicPr>
          <p:blipFill>
            <a:blip r:embed="rId4"/>
            <a:stretch/>
          </p:blipFill>
          <p:spPr>
            <a:xfrm>
              <a:off x="8166240" y="4810320"/>
              <a:ext cx="74124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Object 8" descr=""/>
            <p:cNvPicPr/>
            <p:nvPr/>
          </p:nvPicPr>
          <p:blipFill>
            <a:blip r:embed="rId5"/>
            <a:stretch/>
          </p:blipFill>
          <p:spPr>
            <a:xfrm>
              <a:off x="7328160" y="4492440"/>
              <a:ext cx="7412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Rectangle 9"/>
          <p:cNvSpPr/>
          <p:nvPr/>
        </p:nvSpPr>
        <p:spPr>
          <a:xfrm>
            <a:off x="324000" y="4941720"/>
            <a:ext cx="3276360" cy="1371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68360" y="4869000"/>
            <a:ext cx="3276720" cy="1371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8360" y="4869000"/>
            <a:ext cx="3276720" cy="1371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68360" y="4869000"/>
            <a:ext cx="3276720" cy="1371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95280" y="4941720"/>
            <a:ext cx="3276720" cy="1371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-50760"/>
            <a:ext cx="9144000" cy="6908400"/>
            <a:chOff x="0" y="-50760"/>
            <a:chExt cx="9144000" cy="6908400"/>
          </a:xfrm>
        </p:grpSpPr>
        <p:pic>
          <p:nvPicPr>
            <p:cNvPr id="137" name="Picture 3" descr="index_r5_c1"/>
            <p:cNvPicPr/>
            <p:nvPr/>
          </p:nvPicPr>
          <p:blipFill>
            <a:blip r:embed="rId1"/>
            <a:stretch/>
          </p:blipFill>
          <p:spPr>
            <a:xfrm>
              <a:off x="0" y="5850360"/>
              <a:ext cx="9144000" cy="10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52160"/>
              <a:ext cx="250920" cy="54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33080"/>
              <a:ext cx="396720" cy="54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50760"/>
              <a:ext cx="9144000" cy="50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7"/>
          <p:cNvSpPr/>
          <p:nvPr/>
        </p:nvSpPr>
        <p:spPr>
          <a:xfrm>
            <a:off x="250920" y="3789360"/>
            <a:ext cx="835164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象又高又大，身子像一堵墙，腿像四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柱子，耳朵像</a:t>
            </a: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鼻子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尾巴像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边框1"/>
          <p:cNvPicPr/>
          <p:nvPr/>
        </p:nvPicPr>
        <p:blipFill>
          <a:blip r:embed="rId5"/>
          <a:stretch/>
        </p:blipFill>
        <p:spPr>
          <a:xfrm flipH="1" rot="16225800">
            <a:off x="-168120" y="1399680"/>
            <a:ext cx="316836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0909110912447487"/>
          <p:cNvPicPr/>
          <p:nvPr/>
        </p:nvPicPr>
        <p:blipFill>
          <a:blip r:embed="rId6"/>
          <a:stretch/>
        </p:blipFill>
        <p:spPr>
          <a:xfrm>
            <a:off x="2484360" y="189000"/>
            <a:ext cx="6228000" cy="3757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1046880" y="596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看看说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112200" y="45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ahoma"/>
                <a:ea typeface="楷体_GB2312"/>
              </a:rPr>
              <a:t>两把大扇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7202160" y="45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一个长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6659640" y="5157720"/>
            <a:ext cx="187308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71604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的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4934520" y="530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ahoma"/>
                <a:ea typeface="楷体_GB2312"/>
              </a:rPr>
              <a:t>一根小小的辫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"/>
          <p:cNvSpPr/>
          <p:nvPr/>
        </p:nvSpPr>
        <p:spPr>
          <a:xfrm>
            <a:off x="900000" y="32130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弯弯的月亮像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夏天的太阳像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33960" y="1197000"/>
            <a:ext cx="517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大象又高又大，身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堵墙，腿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四根柱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672200" y="333360"/>
            <a:ext cx="5794920" cy="24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象又高又大，身子像堵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腿像四根柱子。官员们一边看一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议论，象这么大，到底有多重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NewsMedia_17531"/>
          <p:cNvPicPr/>
          <p:nvPr/>
        </p:nvPicPr>
        <p:blipFill>
          <a:blip r:embed="rId2"/>
          <a:stretch/>
        </p:blipFill>
        <p:spPr>
          <a:xfrm>
            <a:off x="3419640" y="3429000"/>
            <a:ext cx="5219640" cy="3306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556000" y="33336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又高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539640" y="2781360"/>
            <a:ext cx="792000" cy="216000"/>
            <a:chOff x="539640" y="2781360"/>
            <a:chExt cx="792000" cy="216000"/>
          </a:xfrm>
        </p:grpSpPr>
        <p:sp>
          <p:nvSpPr>
            <p:cNvPr id="158" name="AutoShape 6"/>
            <p:cNvSpPr/>
            <p:nvPr/>
          </p:nvSpPr>
          <p:spPr>
            <a:xfrm>
              <a:off x="539640" y="278136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"/>
            <p:cNvSpPr/>
            <p:nvPr/>
          </p:nvSpPr>
          <p:spPr>
            <a:xfrm>
              <a:off x="1116000" y="278136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1476360" y="1413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3600" y="2602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有的人说：“得造一杆大秤，砍一棵大树做秤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53512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87680" y="206064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有的人说：“有了大秤也不成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谁有那么大的力气提得起这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大秤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703600" y="4437000"/>
            <a:ext cx="37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还有的人说：“办法倒有一个，就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把大象宰了，割成一块一块的再称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曹操听了直摇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TW_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4eb19055767184e8b645ae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541520" y="907920"/>
            <a:ext cx="658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比一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曹操听了摇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曹操听了直摇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曹操听了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直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摇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不弯曲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爽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一直，一个劲儿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4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竖，跟横相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曹操听了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直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摇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不弯曲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爽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(3)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一直，一个劲儿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(4)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竖，跟横相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060560"/>
            <a:ext cx="82296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曹操听了直摇头，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124000" y="3500280"/>
            <a:ext cx="60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9aee47c4f3bdeee738db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468360" y="549360"/>
            <a:ext cx="84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把大象赶到一艘大船上，看船身下沉多少，就沿着水面，在船舷上画一条线。再把大象赶上岸，往船上装石头，等船下沉到画线的地方。然后，称一称船上的石头。石头有多重，大象就有多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rId2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7301"/>
                </a:moveTo>
                <a:lnTo>
                  <a:pt x="13702" y="7301"/>
                </a:lnTo>
                <a:lnTo>
                  <a:pt x="14085" y="7667"/>
                </a:lnTo>
                <a:lnTo>
                  <a:pt x="23293" y="7667"/>
                </a:lnTo>
                <a:lnTo>
                  <a:pt x="23850" y="8224"/>
                </a:lnTo>
                <a:lnTo>
                  <a:pt x="23850" y="8772"/>
                </a:lnTo>
                <a:lnTo>
                  <a:pt x="25695" y="8772"/>
                </a:lnTo>
                <a:lnTo>
                  <a:pt x="26061" y="8224"/>
                </a:lnTo>
                <a:lnTo>
                  <a:pt x="26801" y="8224"/>
                </a:lnTo>
                <a:lnTo>
                  <a:pt x="26801" y="13376"/>
                </a:lnTo>
                <a:lnTo>
                  <a:pt x="26061" y="13376"/>
                </a:lnTo>
                <a:lnTo>
                  <a:pt x="25695" y="12828"/>
                </a:lnTo>
                <a:lnTo>
                  <a:pt x="23850" y="12828"/>
                </a:lnTo>
                <a:lnTo>
                  <a:pt x="23850" y="14107"/>
                </a:lnTo>
                <a:lnTo>
                  <a:pt x="14267" y="14107"/>
                </a:lnTo>
                <a:lnTo>
                  <a:pt x="14267" y="9877"/>
                </a:lnTo>
                <a:lnTo>
                  <a:pt x="14085" y="9877"/>
                </a:lnTo>
                <a:lnTo>
                  <a:pt x="13702" y="10243"/>
                </a:lnTo>
                <a:lnTo>
                  <a:pt x="1278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f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f0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ef"/>
          <p:cNvPicPr/>
          <p:nvPr/>
        </p:nvPicPr>
        <p:blipFill>
          <a:blip r:embed="rId3"/>
          <a:stretch/>
        </p:blipFill>
        <p:spPr>
          <a:xfrm>
            <a:off x="1066680" y="811080"/>
            <a:ext cx="7543800" cy="5284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"/>
          <p:cNvPicPr/>
          <p:nvPr/>
        </p:nvPicPr>
        <p:blipFill>
          <a:blip r:embed="rId4"/>
          <a:stretch/>
        </p:blipFill>
        <p:spPr>
          <a:xfrm>
            <a:off x="0" y="2421000"/>
            <a:ext cx="899172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B0%B4%E5%BA%95%E4%B8%96%E7%95%8C%20%E9%80%80%E5%87%BA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4%B8%9B%E6%9E%97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曹冲称象.avi" descr=""/>
          <p:cNvPicPr/>
          <p:nvPr/>
        </p:nvPicPr>
        <p:blipFill>
          <a:blip r:embed="rId1"/>
          <a:srcRect l="0" t="0" r="0" b="192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250920" y="765000"/>
            <a:ext cx="851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称象第一步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赶象上船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在船弦下沉处画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f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ef"/>
          <p:cNvPicPr/>
          <p:nvPr/>
        </p:nvPicPr>
        <p:blipFill>
          <a:blip r:embed="rId2"/>
          <a:stretch/>
        </p:blipFill>
        <p:spPr>
          <a:xfrm>
            <a:off x="1066680" y="1192320"/>
            <a:ext cx="7543800" cy="5284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"/>
          <p:cNvPicPr/>
          <p:nvPr/>
        </p:nvPicPr>
        <p:blipFill>
          <a:blip r:embed="rId3"/>
          <a:stretch/>
        </p:blipFill>
        <p:spPr>
          <a:xfrm>
            <a:off x="0" y="3429000"/>
            <a:ext cx="8991720" cy="42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0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90" name="Line 6"/>
          <p:cNvSpPr/>
          <p:nvPr/>
        </p:nvSpPr>
        <p:spPr>
          <a:xfrm>
            <a:off x="3848040" y="6400800"/>
            <a:ext cx="1447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曹冲称象1.avi" descr=""/>
          <p:cNvPicPr/>
          <p:nvPr/>
        </p:nvPicPr>
        <p:blipFill>
          <a:blip r:embed="rId1"/>
          <a:srcRect l="16157" t="5418" r="0" b="138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称象第二步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装石头，装到画线处为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曹冲称象2.avi" descr=""/>
          <p:cNvPicPr/>
          <p:nvPr/>
        </p:nvPicPr>
        <p:blipFill>
          <a:blip r:embed="rId1"/>
          <a:stretch/>
        </p:blipFill>
        <p:spPr>
          <a:xfrm>
            <a:off x="28440" y="149400"/>
            <a:ext cx="9115560" cy="6708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称象第三步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称船上石头的重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71360" y="404640"/>
            <a:ext cx="8288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象  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曹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议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船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杀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割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树       官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赶走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杆秤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一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067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3"/>
          <p:cNvGrpSpPr/>
          <p:nvPr/>
        </p:nvGrpSpPr>
        <p:grpSpPr>
          <a:xfrm>
            <a:off x="1445400" y="4716000"/>
            <a:ext cx="6864480" cy="1464840"/>
            <a:chOff x="1445400" y="4716000"/>
            <a:chExt cx="6864480" cy="1464840"/>
          </a:xfrm>
        </p:grpSpPr>
        <p:grpSp>
          <p:nvGrpSpPr>
            <p:cNvPr id="197" name="Group 4"/>
            <p:cNvGrpSpPr/>
            <p:nvPr/>
          </p:nvGrpSpPr>
          <p:grpSpPr>
            <a:xfrm>
              <a:off x="6663600" y="5249520"/>
              <a:ext cx="1646280" cy="779040"/>
              <a:chOff x="6663600" y="5249520"/>
              <a:chExt cx="1646280" cy="779040"/>
            </a:xfrm>
          </p:grpSpPr>
          <p:sp>
            <p:nvSpPr>
              <p:cNvPr id="198" name="未知"/>
              <p:cNvSpPr/>
              <p:nvPr/>
            </p:nvSpPr>
            <p:spPr>
              <a:xfrm rot="36600">
                <a:off x="6711840" y="525780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rot="36600">
                <a:off x="6741720" y="527472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36600">
                <a:off x="7983360" y="529704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 rot="36600">
                <a:off x="7873920" y="532548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 rot="36600">
                <a:off x="7750080" y="533772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rot="36600">
                <a:off x="7481880" y="534384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 rot="36600">
                <a:off x="7625880" y="537228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 rot="36600">
                <a:off x="7376400" y="541440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 rot="36600">
                <a:off x="6920280" y="541512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 rot="36600">
                <a:off x="7753680" y="542916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 rot="36600">
                <a:off x="7240680" y="544212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 rot="36600">
                <a:off x="7526880" y="544428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 rot="36600">
                <a:off x="7623720" y="545004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rot="36600">
                <a:off x="7783560" y="545832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 rot="36600">
                <a:off x="7578720" y="54781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 rot="36600">
                <a:off x="7173720" y="549792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 rot="36600">
                <a:off x="7396920" y="550296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 rot="36600">
                <a:off x="7063560" y="553212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 rot="36600">
                <a:off x="7744680" y="554184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rot="36600">
                <a:off x="6920280" y="555840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rot="36600">
                <a:off x="7173000" y="557388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 rot="36600">
                <a:off x="7485120" y="557964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 rot="36600">
                <a:off x="7257960" y="563868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 rot="36600">
                <a:off x="7985160" y="564876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 rot="36600">
                <a:off x="7866720" y="567972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 rot="36600">
                <a:off x="7085880" y="567900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 rot="36600">
                <a:off x="7428600" y="572688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 rot="36600">
                <a:off x="6844680" y="577692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 rot="36600">
                <a:off x="7931880" y="581220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36600">
                <a:off x="6663600" y="5841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 rot="36600">
                <a:off x="7727040" y="587952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 rot="36600">
                <a:off x="7715880" y="600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rot="36600">
                <a:off x="7782480" y="60040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38"/>
            <p:cNvGrpSpPr/>
            <p:nvPr/>
          </p:nvGrpSpPr>
          <p:grpSpPr>
            <a:xfrm>
              <a:off x="4036320" y="5325480"/>
              <a:ext cx="1646280" cy="779040"/>
              <a:chOff x="4036320" y="5325480"/>
              <a:chExt cx="1646280" cy="779040"/>
            </a:xfrm>
          </p:grpSpPr>
          <p:sp>
            <p:nvSpPr>
              <p:cNvPr id="232" name="未知"/>
              <p:cNvSpPr/>
              <p:nvPr/>
            </p:nvSpPr>
            <p:spPr>
              <a:xfrm rot="36600">
                <a:off x="4084560" y="53337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36600">
                <a:off x="4114440" y="53506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 rot="36600">
                <a:off x="5356080" y="53730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 rot="36600">
                <a:off x="5246640" y="54014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 rot="36600">
                <a:off x="5122800" y="54136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 rot="36600">
                <a:off x="4854600" y="54198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 rot="36600">
                <a:off x="4998600" y="54482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 rot="36600">
                <a:off x="4749120" y="54903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 rot="36600">
                <a:off x="4293000" y="54910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 rot="36600">
                <a:off x="5126400" y="55051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 rot="36600">
                <a:off x="4613400" y="55180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 rot="36600">
                <a:off x="4899600" y="55202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 rot="36600">
                <a:off x="4996440" y="55260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 rot="36600">
                <a:off x="5156280" y="55342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 rot="36600">
                <a:off x="4951440" y="55540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 rot="36600">
                <a:off x="4546440" y="55738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 rot="36600">
                <a:off x="4769640" y="55789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 rot="36600">
                <a:off x="4436280" y="56080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 rot="36600">
                <a:off x="5117400" y="56178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 rot="36600">
                <a:off x="4293000" y="56343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 rot="36600">
                <a:off x="4545720" y="56498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 rot="36600">
                <a:off x="4857840" y="56556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 rot="36600">
                <a:off x="4630680" y="57146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 rot="36600">
                <a:off x="5357880" y="57247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 rot="36600">
                <a:off x="5239440" y="57556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 rot="36600">
                <a:off x="4458600" y="57549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 rot="36600">
                <a:off x="4801320" y="58028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 rot="36600">
                <a:off x="4217400" y="58528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 rot="36600">
                <a:off x="5304600" y="58881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 rot="36600">
                <a:off x="4036320" y="59173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 rot="36600">
                <a:off x="5099760" y="59554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 rot="36600">
                <a:off x="5088600" y="60793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 rot="36600">
                <a:off x="5155200" y="60800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2"/>
            <p:cNvGrpSpPr/>
            <p:nvPr/>
          </p:nvGrpSpPr>
          <p:grpSpPr>
            <a:xfrm>
              <a:off x="2664720" y="5095440"/>
              <a:ext cx="1646280" cy="779040"/>
              <a:chOff x="2664720" y="5095440"/>
              <a:chExt cx="1646280" cy="779040"/>
            </a:xfrm>
          </p:grpSpPr>
          <p:sp>
            <p:nvSpPr>
              <p:cNvPr id="266" name="未知"/>
              <p:cNvSpPr/>
              <p:nvPr/>
            </p:nvSpPr>
            <p:spPr>
              <a:xfrm rot="36600">
                <a:off x="2712960" y="510372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 rot="36600">
                <a:off x="2742840" y="512064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 rot="36600">
                <a:off x="3984480" y="514296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 rot="36600">
                <a:off x="3875040" y="51714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 rot="36600">
                <a:off x="3751200" y="518364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 rot="36600">
                <a:off x="3483000" y="51897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 rot="36600">
                <a:off x="3627000" y="521820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 rot="36600">
                <a:off x="3377520" y="526032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 rot="36600">
                <a:off x="2921400" y="526104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 rot="36600">
                <a:off x="3754800" y="527508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 rot="36600">
                <a:off x="3241800" y="528804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 rot="36600">
                <a:off x="3528000" y="529020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 rot="36600">
                <a:off x="3624840" y="52959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 rot="36600">
                <a:off x="3784680" y="530424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 rot="36600">
                <a:off x="3579840" y="53240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 rot="36600">
                <a:off x="3174840" y="534384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 rot="36600">
                <a:off x="3398040" y="534888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 rot="36600">
                <a:off x="3064680" y="537804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 rot="36600">
                <a:off x="3745800" y="538776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 rot="36600">
                <a:off x="2921400" y="540432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 rot="36600">
                <a:off x="3174120" y="54198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 rot="36600">
                <a:off x="3486240" y="542556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 rot="36600">
                <a:off x="3259080" y="548460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 rot="36600">
                <a:off x="3986280" y="549468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 rot="36600">
                <a:off x="3867840" y="552564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 rot="36600">
                <a:off x="3087000" y="552492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 rot="36600">
                <a:off x="3429720" y="557280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 rot="36600">
                <a:off x="2845800" y="562284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36600">
                <a:off x="3933000" y="565812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 rot="36600">
                <a:off x="2664720" y="5687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 rot="36600">
                <a:off x="3728160" y="57254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36600">
                <a:off x="3717000" y="584928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rot="36600">
                <a:off x="3783600" y="5850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06"/>
            <p:cNvGrpSpPr/>
            <p:nvPr/>
          </p:nvGrpSpPr>
          <p:grpSpPr>
            <a:xfrm>
              <a:off x="5103000" y="5401800"/>
              <a:ext cx="1646280" cy="779040"/>
              <a:chOff x="5103000" y="5401800"/>
              <a:chExt cx="1646280" cy="779040"/>
            </a:xfrm>
          </p:grpSpPr>
          <p:sp>
            <p:nvSpPr>
              <p:cNvPr id="300" name="未知"/>
              <p:cNvSpPr/>
              <p:nvPr/>
            </p:nvSpPr>
            <p:spPr>
              <a:xfrm rot="36600">
                <a:off x="5151240" y="541008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 rot="36600">
                <a:off x="5181120" y="542700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rot="36600">
                <a:off x="6422760" y="544932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rot="36600">
                <a:off x="6313320" y="547776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rot="36600">
                <a:off x="6189480" y="549000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 rot="36600">
                <a:off x="5921280" y="549612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 rot="36600">
                <a:off x="6065280" y="552456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 rot="36600">
                <a:off x="5815800" y="556668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rot="36600">
                <a:off x="5359680" y="556740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 rot="36600">
                <a:off x="6193080" y="558144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 rot="36600">
                <a:off x="5680080" y="559440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36600">
                <a:off x="5966280" y="559656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rot="36600">
                <a:off x="6063120" y="560232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 rot="36600">
                <a:off x="6222960" y="561060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 rot="36600">
                <a:off x="6018120" y="56304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 rot="36600">
                <a:off x="5613120" y="565020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 rot="36600">
                <a:off x="5836320" y="565524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 rot="36600">
                <a:off x="5502960" y="568440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 rot="36600">
                <a:off x="6184080" y="569412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 rot="36600">
                <a:off x="5359680" y="571068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 rot="36600">
                <a:off x="5612400" y="572616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 rot="36600">
                <a:off x="5924520" y="573192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 rot="36600">
                <a:off x="5697360" y="579096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 rot="36600">
                <a:off x="6424560" y="580104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 rot="36600">
                <a:off x="6306120" y="583200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 rot="36600">
                <a:off x="5525280" y="583128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 rot="36600">
                <a:off x="5868000" y="587916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 rot="36600">
                <a:off x="5284080" y="592920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rot="36600">
                <a:off x="6371280" y="596448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 rot="36600">
                <a:off x="5103000" y="5993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 rot="36600">
                <a:off x="6166440" y="603180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 rot="36600">
                <a:off x="6155280" y="615564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 rot="36600">
                <a:off x="6221880" y="61563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140"/>
            <p:cNvGrpSpPr/>
            <p:nvPr/>
          </p:nvGrpSpPr>
          <p:grpSpPr>
            <a:xfrm>
              <a:off x="1445400" y="4716000"/>
              <a:ext cx="1646280" cy="779040"/>
              <a:chOff x="1445400" y="4716000"/>
              <a:chExt cx="1646280" cy="779040"/>
            </a:xfrm>
          </p:grpSpPr>
          <p:sp>
            <p:nvSpPr>
              <p:cNvPr id="334" name="未知"/>
              <p:cNvSpPr/>
              <p:nvPr/>
            </p:nvSpPr>
            <p:spPr>
              <a:xfrm rot="36600">
                <a:off x="1493640" y="472428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 rot="36600">
                <a:off x="1523520" y="474120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 rot="36600">
                <a:off x="2765160" y="476352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 rot="36600">
                <a:off x="2655720" y="479196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 rot="36600">
                <a:off x="2531880" y="480420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 rot="36600">
                <a:off x="2263680" y="481032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rot="36600">
                <a:off x="2407680" y="483876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rot="36600">
                <a:off x="2158200" y="488088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 rot="36600">
                <a:off x="1702080" y="488160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 rot="36600">
                <a:off x="2535480" y="489564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 rot="36600">
                <a:off x="2022480" y="490860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 rot="36600">
                <a:off x="2308680" y="491076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 rot="36600">
                <a:off x="2405520" y="491652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 rot="36600">
                <a:off x="2565360" y="492480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 rot="36600">
                <a:off x="2360520" y="49446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 rot="36600">
                <a:off x="1955520" y="496440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 rot="36600">
                <a:off x="2178720" y="496944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 rot="36600">
                <a:off x="1845360" y="499860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 rot="36600">
                <a:off x="2526480" y="500832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 rot="36600">
                <a:off x="1702080" y="502488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 rot="36600">
                <a:off x="1954800" y="504036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 rot="36600">
                <a:off x="2266920" y="504612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rot="36600">
                <a:off x="2039760" y="510516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rot="36600">
                <a:off x="2766960" y="511524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rot="36600">
                <a:off x="2648520" y="514620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 rot="36600">
                <a:off x="1867680" y="514548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 rot="36600">
                <a:off x="2210400" y="519336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 rot="36600">
                <a:off x="1626480" y="524340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rot="36600">
                <a:off x="2713680" y="527868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rot="36600">
                <a:off x="1445400" y="53078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rot="36600">
                <a:off x="2508840" y="534600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 rot="36600">
                <a:off x="2497680" y="546984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 rot="36600">
                <a:off x="2564280" y="54705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74"/>
            <p:cNvGrpSpPr/>
            <p:nvPr/>
          </p:nvGrpSpPr>
          <p:grpSpPr>
            <a:xfrm>
              <a:off x="5865120" y="5325480"/>
              <a:ext cx="1646280" cy="779040"/>
              <a:chOff x="5865120" y="5325480"/>
              <a:chExt cx="1646280" cy="779040"/>
            </a:xfrm>
          </p:grpSpPr>
          <p:sp>
            <p:nvSpPr>
              <p:cNvPr id="368" name="未知"/>
              <p:cNvSpPr/>
              <p:nvPr/>
            </p:nvSpPr>
            <p:spPr>
              <a:xfrm rot="36600">
                <a:off x="5913360" y="53337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rot="36600">
                <a:off x="5943240" y="53506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rot="36600">
                <a:off x="7184880" y="53730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rot="36600">
                <a:off x="7075440" y="54014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 rot="36600">
                <a:off x="6951600" y="54136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rot="36600">
                <a:off x="6683400" y="54198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rot="36600">
                <a:off x="6827400" y="54482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rot="36600">
                <a:off x="6577920" y="54903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rot="36600">
                <a:off x="6121800" y="54910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rot="36600">
                <a:off x="6955200" y="55051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rot="36600">
                <a:off x="6442200" y="55180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 rot="36600">
                <a:off x="6728400" y="55202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rot="36600">
                <a:off x="6825240" y="55260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rot="36600">
                <a:off x="6985080" y="55342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rot="36600">
                <a:off x="6780240" y="55540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rot="36600">
                <a:off x="6375240" y="55738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rot="36600">
                <a:off x="6598440" y="55789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36600">
                <a:off x="6265080" y="56080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 rot="36600">
                <a:off x="6946200" y="56178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rot="36600">
                <a:off x="6121800" y="56343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rot="36600">
                <a:off x="6374520" y="56498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rot="36600">
                <a:off x="6686640" y="56556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rot="36600">
                <a:off x="6459480" y="57146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rot="36600">
                <a:off x="7186680" y="57247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36600">
                <a:off x="7068240" y="57556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rot="36600">
                <a:off x="6287400" y="57549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rot="36600">
                <a:off x="6630120" y="58028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36600">
                <a:off x="6046200" y="58528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rot="36600">
                <a:off x="7133400" y="58881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 rot="36600">
                <a:off x="5865120" y="59173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 rot="36600">
                <a:off x="6928560" y="59554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rot="36600">
                <a:off x="6917400" y="60793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rot="36600">
                <a:off x="6984000" y="60800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Group 208"/>
          <p:cNvGrpSpPr/>
          <p:nvPr/>
        </p:nvGrpSpPr>
        <p:grpSpPr>
          <a:xfrm>
            <a:off x="2283480" y="2657160"/>
            <a:ext cx="5684760" cy="3141360"/>
            <a:chOff x="2283480" y="2657160"/>
            <a:chExt cx="5684760" cy="3141360"/>
          </a:xfrm>
        </p:grpSpPr>
        <p:grpSp>
          <p:nvGrpSpPr>
            <p:cNvPr id="402" name="Group 209"/>
            <p:cNvGrpSpPr/>
            <p:nvPr/>
          </p:nvGrpSpPr>
          <p:grpSpPr>
            <a:xfrm>
              <a:off x="4188600" y="2657160"/>
              <a:ext cx="1646280" cy="779040"/>
              <a:chOff x="4188600" y="2657160"/>
              <a:chExt cx="1646280" cy="779040"/>
            </a:xfrm>
          </p:grpSpPr>
          <p:sp>
            <p:nvSpPr>
              <p:cNvPr id="403" name="未知"/>
              <p:cNvSpPr/>
              <p:nvPr/>
            </p:nvSpPr>
            <p:spPr>
              <a:xfrm rot="36600">
                <a:off x="4236840" y="26654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 rot="36600">
                <a:off x="4266720" y="26823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 rot="36600">
                <a:off x="5508360" y="27046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rot="36600">
                <a:off x="5398920" y="27331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rot="36600">
                <a:off x="5275080" y="27453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 rot="36600">
                <a:off x="5006880" y="27514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 rot="36600">
                <a:off x="5150880" y="27799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36600">
                <a:off x="4901400" y="28220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 rot="36600">
                <a:off x="4445280" y="28227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 rot="36600">
                <a:off x="5278680" y="28368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rot="36600">
                <a:off x="4765680" y="28497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 rot="36600">
                <a:off x="5051880" y="28519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36600">
                <a:off x="5148720" y="28576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 rot="36600">
                <a:off x="5308560" y="28659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36600">
                <a:off x="5103720" y="28857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 rot="36600">
                <a:off x="4698720" y="29055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36600">
                <a:off x="4921920" y="29106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36600">
                <a:off x="4588560" y="293976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rot="36600">
                <a:off x="5269680" y="29494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36600">
                <a:off x="4445280" y="29660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rot="36600">
                <a:off x="4698000" y="29815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rot="36600">
                <a:off x="5010120" y="29872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36600">
                <a:off x="4782960" y="30463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rot="36600">
                <a:off x="5510160" y="30564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36600">
                <a:off x="5391720" y="30873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 rot="36600">
                <a:off x="4610880" y="30866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 rot="36600">
                <a:off x="4953600" y="31345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rot="36600">
                <a:off x="4369680" y="31845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36600">
                <a:off x="5456880" y="32198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36600">
                <a:off x="4188600" y="3249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rot="36600">
                <a:off x="5252040" y="32871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 rot="36600">
                <a:off x="5240880" y="34110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rot="36600">
                <a:off x="5307480" y="34117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43"/>
            <p:cNvGrpSpPr/>
            <p:nvPr/>
          </p:nvGrpSpPr>
          <p:grpSpPr>
            <a:xfrm>
              <a:off x="2664360" y="4028760"/>
              <a:ext cx="1646280" cy="779040"/>
              <a:chOff x="2664360" y="4028760"/>
              <a:chExt cx="1646280" cy="779040"/>
            </a:xfrm>
          </p:grpSpPr>
          <p:sp>
            <p:nvSpPr>
              <p:cNvPr id="437" name="未知"/>
              <p:cNvSpPr/>
              <p:nvPr/>
            </p:nvSpPr>
            <p:spPr>
              <a:xfrm rot="36600">
                <a:off x="2712600" y="40370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36600">
                <a:off x="2742480" y="40539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 rot="36600">
                <a:off x="3984120" y="40762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rot="36600">
                <a:off x="3874680" y="41047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rot="36600">
                <a:off x="3750840" y="41169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36600">
                <a:off x="3482640" y="41230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 rot="36600">
                <a:off x="3626640" y="41515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 rot="36600">
                <a:off x="3377160" y="41936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rot="36600">
                <a:off x="2921040" y="41943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 rot="36600">
                <a:off x="3754440" y="42084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 rot="36600">
                <a:off x="3241440" y="42213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 rot="36600">
                <a:off x="3527640" y="42235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 rot="36600">
                <a:off x="3624480" y="42292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 rot="36600">
                <a:off x="3784320" y="42375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 rot="36600">
                <a:off x="3579480" y="42573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rot="36600">
                <a:off x="3174480" y="42771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 rot="36600">
                <a:off x="3397680" y="42822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 rot="36600">
                <a:off x="3064320" y="431100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rot="36600">
                <a:off x="3745440" y="43210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 rot="36600">
                <a:off x="2921040" y="43376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 rot="36600">
                <a:off x="3173760" y="43531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rot="36600">
                <a:off x="3485880" y="43588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36600">
                <a:off x="3258720" y="44179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 rot="36600">
                <a:off x="3985920" y="44280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 rot="36600">
                <a:off x="3867480" y="44589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 rot="36600">
                <a:off x="3086640" y="44582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 rot="36600">
                <a:off x="3429360" y="45061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 rot="36600">
                <a:off x="2845440" y="45561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 rot="36600">
                <a:off x="3932640" y="45914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36600">
                <a:off x="2664360" y="46206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 rot="36600">
                <a:off x="3727800" y="46587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 rot="36600">
                <a:off x="3716640" y="47826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rot="36600">
                <a:off x="3783240" y="47833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77"/>
            <p:cNvGrpSpPr/>
            <p:nvPr/>
          </p:nvGrpSpPr>
          <p:grpSpPr>
            <a:xfrm>
              <a:off x="4188600" y="3952440"/>
              <a:ext cx="1646280" cy="779040"/>
              <a:chOff x="4188600" y="3952440"/>
              <a:chExt cx="1646280" cy="779040"/>
            </a:xfrm>
          </p:grpSpPr>
          <p:sp>
            <p:nvSpPr>
              <p:cNvPr id="471" name="未知"/>
              <p:cNvSpPr/>
              <p:nvPr/>
            </p:nvSpPr>
            <p:spPr>
              <a:xfrm rot="36600">
                <a:off x="4236840" y="396072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 rot="36600">
                <a:off x="4266720" y="397764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 rot="36600">
                <a:off x="5508360" y="399996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rot="36600">
                <a:off x="5398920" y="40284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36600">
                <a:off x="5275080" y="404064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rot="36600">
                <a:off x="5006880" y="40467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 rot="36600">
                <a:off x="5150880" y="407520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rot="36600">
                <a:off x="4901400" y="411732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rot="36600">
                <a:off x="4445280" y="411804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rot="36600">
                <a:off x="5278680" y="413208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rot="36600">
                <a:off x="4765680" y="414504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 rot="36600">
                <a:off x="5051880" y="414720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 rot="36600">
                <a:off x="5148720" y="41529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36600">
                <a:off x="5308560" y="416124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 rot="36600">
                <a:off x="5103720" y="41810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rot="36600">
                <a:off x="4698720" y="420084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rot="36600">
                <a:off x="4921920" y="420588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 rot="36600">
                <a:off x="4588560" y="423504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 rot="36600">
                <a:off x="5269680" y="424476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 rot="36600">
                <a:off x="4445280" y="426132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 rot="36600">
                <a:off x="4698000" y="42768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 rot="36600">
                <a:off x="5010120" y="428256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rot="36600">
                <a:off x="4782960" y="434160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rot="36600">
                <a:off x="5510160" y="435168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 rot="36600">
                <a:off x="5391720" y="438264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rot="36600">
                <a:off x="4610880" y="438192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 rot="36600">
                <a:off x="4953600" y="442980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 rot="36600">
                <a:off x="4369680" y="447984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 rot="36600">
                <a:off x="5456880" y="451512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 rot="36600">
                <a:off x="4188600" y="4544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36600">
                <a:off x="5252040" y="45824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未知"/>
              <p:cNvSpPr/>
              <p:nvPr/>
            </p:nvSpPr>
            <p:spPr>
              <a:xfrm rot="36600">
                <a:off x="5240880" y="470628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 rot="36600">
                <a:off x="5307480" y="4707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311"/>
            <p:cNvGrpSpPr/>
            <p:nvPr/>
          </p:nvGrpSpPr>
          <p:grpSpPr>
            <a:xfrm>
              <a:off x="4645800" y="4943160"/>
              <a:ext cx="1646280" cy="779040"/>
              <a:chOff x="4645800" y="4943160"/>
              <a:chExt cx="1646280" cy="779040"/>
            </a:xfrm>
          </p:grpSpPr>
          <p:sp>
            <p:nvSpPr>
              <p:cNvPr id="505" name="未知"/>
              <p:cNvSpPr/>
              <p:nvPr/>
            </p:nvSpPr>
            <p:spPr>
              <a:xfrm rot="36600">
                <a:off x="4694040" y="49514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 rot="36600">
                <a:off x="4723920" y="49683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 rot="36600">
                <a:off x="5965560" y="49906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 rot="36600">
                <a:off x="5856120" y="50191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 rot="36600">
                <a:off x="5732280" y="50313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 rot="36600">
                <a:off x="5464080" y="50374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 rot="36600">
                <a:off x="5608080" y="50659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 rot="36600">
                <a:off x="5358600" y="51080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 rot="36600">
                <a:off x="4902480" y="51087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 rot="36600">
                <a:off x="5735880" y="51228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 rot="36600">
                <a:off x="5222880" y="51357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 rot="36600">
                <a:off x="5509080" y="51379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 rot="36600">
                <a:off x="5605920" y="51436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 rot="36600">
                <a:off x="5765760" y="51519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36600">
                <a:off x="5560920" y="51717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 rot="36600">
                <a:off x="5155920" y="51915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 rot="36600">
                <a:off x="5379120" y="51966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 rot="36600">
                <a:off x="5045760" y="522576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 rot="36600">
                <a:off x="5726880" y="52354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 rot="36600">
                <a:off x="4902480" y="52520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 rot="36600">
                <a:off x="5155200" y="52675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 rot="36600">
                <a:off x="5467320" y="52732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 rot="36600">
                <a:off x="5240160" y="53323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 rot="36600">
                <a:off x="5967360" y="53424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未知"/>
              <p:cNvSpPr/>
              <p:nvPr/>
            </p:nvSpPr>
            <p:spPr>
              <a:xfrm rot="36600">
                <a:off x="5848920" y="53733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 rot="36600">
                <a:off x="5068080" y="53726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 rot="36600">
                <a:off x="5410800" y="54205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未知"/>
              <p:cNvSpPr/>
              <p:nvPr/>
            </p:nvSpPr>
            <p:spPr>
              <a:xfrm rot="36600">
                <a:off x="4826880" y="54705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未知"/>
              <p:cNvSpPr/>
              <p:nvPr/>
            </p:nvSpPr>
            <p:spPr>
              <a:xfrm rot="36600">
                <a:off x="5914080" y="55058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 rot="36600">
                <a:off x="4645800" y="5535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未知"/>
              <p:cNvSpPr/>
              <p:nvPr/>
            </p:nvSpPr>
            <p:spPr>
              <a:xfrm rot="36600">
                <a:off x="5709240" y="55731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 rot="36600">
                <a:off x="5698080" y="56970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 rot="36600">
                <a:off x="5764680" y="56977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345"/>
            <p:cNvGrpSpPr/>
            <p:nvPr/>
          </p:nvGrpSpPr>
          <p:grpSpPr>
            <a:xfrm>
              <a:off x="2283480" y="4562280"/>
              <a:ext cx="1646280" cy="779040"/>
              <a:chOff x="2283480" y="4562280"/>
              <a:chExt cx="1646280" cy="779040"/>
            </a:xfrm>
          </p:grpSpPr>
          <p:sp>
            <p:nvSpPr>
              <p:cNvPr id="539" name="未知"/>
              <p:cNvSpPr/>
              <p:nvPr/>
            </p:nvSpPr>
            <p:spPr>
              <a:xfrm rot="36600">
                <a:off x="2331720" y="45705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 rot="36600">
                <a:off x="2361600" y="45874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 rot="36600">
                <a:off x="3603240" y="46098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 rot="36600">
                <a:off x="3493800" y="46382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 rot="36600">
                <a:off x="3369960" y="46504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未知"/>
              <p:cNvSpPr/>
              <p:nvPr/>
            </p:nvSpPr>
            <p:spPr>
              <a:xfrm rot="36600">
                <a:off x="3101760" y="46566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 rot="36600">
                <a:off x="3245760" y="46850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 rot="36600">
                <a:off x="2996280" y="47271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 rot="36600">
                <a:off x="2540160" y="47278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 rot="36600">
                <a:off x="3373560" y="47419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未知"/>
              <p:cNvSpPr/>
              <p:nvPr/>
            </p:nvSpPr>
            <p:spPr>
              <a:xfrm rot="36600">
                <a:off x="2860560" y="47548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未知"/>
              <p:cNvSpPr/>
              <p:nvPr/>
            </p:nvSpPr>
            <p:spPr>
              <a:xfrm rot="36600">
                <a:off x="3146760" y="47570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 rot="36600">
                <a:off x="3243600" y="47628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 rot="36600">
                <a:off x="3403440" y="47710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 rot="36600">
                <a:off x="3198600" y="47908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未知"/>
              <p:cNvSpPr/>
              <p:nvPr/>
            </p:nvSpPr>
            <p:spPr>
              <a:xfrm rot="36600">
                <a:off x="2793600" y="48106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未知"/>
              <p:cNvSpPr/>
              <p:nvPr/>
            </p:nvSpPr>
            <p:spPr>
              <a:xfrm rot="36600">
                <a:off x="3016800" y="48157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 rot="36600">
                <a:off x="2683440" y="48448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 rot="36600">
                <a:off x="3364560" y="48546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36600">
                <a:off x="2540160" y="48711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 rot="36600">
                <a:off x="2792880" y="48866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未知"/>
              <p:cNvSpPr/>
              <p:nvPr/>
            </p:nvSpPr>
            <p:spPr>
              <a:xfrm rot="36600">
                <a:off x="3105000" y="48924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 rot="36600">
                <a:off x="2877840" y="49514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 rot="36600">
                <a:off x="3605040" y="49615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rot="36600">
                <a:off x="3486600" y="49924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 rot="36600">
                <a:off x="2705760" y="49917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 rot="36600">
                <a:off x="3048480" y="50396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 rot="36600">
                <a:off x="2464560" y="50896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 rot="36600">
                <a:off x="3551760" y="51249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 rot="36600">
                <a:off x="2283480" y="51541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 rot="36600">
                <a:off x="3346920" y="51922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 rot="36600">
                <a:off x="3335760" y="53161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 rot="36600">
                <a:off x="3402360" y="53168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379"/>
            <p:cNvGrpSpPr/>
            <p:nvPr/>
          </p:nvGrpSpPr>
          <p:grpSpPr>
            <a:xfrm>
              <a:off x="3350160" y="4790880"/>
              <a:ext cx="1646280" cy="779040"/>
              <a:chOff x="3350160" y="4790880"/>
              <a:chExt cx="1646280" cy="779040"/>
            </a:xfrm>
          </p:grpSpPr>
          <p:sp>
            <p:nvSpPr>
              <p:cNvPr id="573" name="未知"/>
              <p:cNvSpPr/>
              <p:nvPr/>
            </p:nvSpPr>
            <p:spPr>
              <a:xfrm rot="36600">
                <a:off x="3398400" y="47991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 rot="36600">
                <a:off x="3428280" y="48160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 rot="36600">
                <a:off x="4669920" y="48384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 rot="36600">
                <a:off x="4560480" y="48668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 rot="36600">
                <a:off x="4436640" y="48790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 rot="36600">
                <a:off x="4168440" y="48852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 rot="36600">
                <a:off x="4312440" y="49136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 rot="36600">
                <a:off x="4062960" y="49557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 rot="36600">
                <a:off x="3606840" y="49564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 rot="36600">
                <a:off x="4440240" y="49705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 rot="36600">
                <a:off x="3927240" y="49834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 rot="36600">
                <a:off x="4213440" y="49856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未知"/>
              <p:cNvSpPr/>
              <p:nvPr/>
            </p:nvSpPr>
            <p:spPr>
              <a:xfrm rot="36600">
                <a:off x="4310280" y="49914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 rot="36600">
                <a:off x="4470120" y="49996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 rot="36600">
                <a:off x="4265280" y="50194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 rot="36600">
                <a:off x="3860280" y="50392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未知"/>
              <p:cNvSpPr/>
              <p:nvPr/>
            </p:nvSpPr>
            <p:spPr>
              <a:xfrm rot="36600">
                <a:off x="4083480" y="50443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未知"/>
              <p:cNvSpPr/>
              <p:nvPr/>
            </p:nvSpPr>
            <p:spPr>
              <a:xfrm rot="36600">
                <a:off x="3750120" y="507312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 rot="36600">
                <a:off x="4431240" y="50832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 rot="36600">
                <a:off x="3606840" y="50997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 rot="36600">
                <a:off x="3859560" y="51152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未知"/>
              <p:cNvSpPr/>
              <p:nvPr/>
            </p:nvSpPr>
            <p:spPr>
              <a:xfrm rot="36600">
                <a:off x="4171680" y="51210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 rot="36600">
                <a:off x="3944520" y="51800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 rot="36600">
                <a:off x="4671720" y="51901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 rot="36600">
                <a:off x="4553280" y="52210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rot="36600">
                <a:off x="3772440" y="52203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未知"/>
              <p:cNvSpPr/>
              <p:nvPr/>
            </p:nvSpPr>
            <p:spPr>
              <a:xfrm rot="36600">
                <a:off x="4115160" y="52682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未知"/>
              <p:cNvSpPr/>
              <p:nvPr/>
            </p:nvSpPr>
            <p:spPr>
              <a:xfrm rot="36600">
                <a:off x="3531240" y="53182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 rot="36600">
                <a:off x="4618440" y="53535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未知"/>
              <p:cNvSpPr/>
              <p:nvPr/>
            </p:nvSpPr>
            <p:spPr>
              <a:xfrm rot="36600">
                <a:off x="3350160" y="53827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 rot="36600">
                <a:off x="4413600" y="54208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 rot="36600">
                <a:off x="4402440" y="55447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rot="36600">
                <a:off x="4469040" y="55454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413"/>
            <p:cNvGrpSpPr/>
            <p:nvPr/>
          </p:nvGrpSpPr>
          <p:grpSpPr>
            <a:xfrm>
              <a:off x="5255280" y="4409640"/>
              <a:ext cx="1646280" cy="779040"/>
              <a:chOff x="5255280" y="4409640"/>
              <a:chExt cx="1646280" cy="779040"/>
            </a:xfrm>
          </p:grpSpPr>
          <p:sp>
            <p:nvSpPr>
              <p:cNvPr id="607" name="未知"/>
              <p:cNvSpPr/>
              <p:nvPr/>
            </p:nvSpPr>
            <p:spPr>
              <a:xfrm rot="36600">
                <a:off x="5303520" y="441792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未知"/>
              <p:cNvSpPr/>
              <p:nvPr/>
            </p:nvSpPr>
            <p:spPr>
              <a:xfrm rot="36600">
                <a:off x="5333400" y="443484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 rot="36600">
                <a:off x="6575040" y="445716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 rot="36600">
                <a:off x="6465600" y="44856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 rot="36600">
                <a:off x="6341760" y="449784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rot="36600">
                <a:off x="6073560" y="45039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未知"/>
              <p:cNvSpPr/>
              <p:nvPr/>
            </p:nvSpPr>
            <p:spPr>
              <a:xfrm rot="36600">
                <a:off x="6217560" y="453240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未知"/>
              <p:cNvSpPr/>
              <p:nvPr/>
            </p:nvSpPr>
            <p:spPr>
              <a:xfrm rot="36600">
                <a:off x="5968080" y="457452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 rot="36600">
                <a:off x="5511960" y="457524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 rot="36600">
                <a:off x="6345360" y="458928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未知"/>
              <p:cNvSpPr/>
              <p:nvPr/>
            </p:nvSpPr>
            <p:spPr>
              <a:xfrm rot="36600">
                <a:off x="5832360" y="460224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未知"/>
              <p:cNvSpPr/>
              <p:nvPr/>
            </p:nvSpPr>
            <p:spPr>
              <a:xfrm rot="36600">
                <a:off x="6118560" y="460440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未知"/>
              <p:cNvSpPr/>
              <p:nvPr/>
            </p:nvSpPr>
            <p:spPr>
              <a:xfrm rot="36600">
                <a:off x="6215400" y="46101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 rot="36600">
                <a:off x="6375240" y="461844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 rot="36600">
                <a:off x="6170400" y="46382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rot="36600">
                <a:off x="5765400" y="465804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未知"/>
              <p:cNvSpPr/>
              <p:nvPr/>
            </p:nvSpPr>
            <p:spPr>
              <a:xfrm rot="36600">
                <a:off x="5988600" y="466308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未知"/>
              <p:cNvSpPr/>
              <p:nvPr/>
            </p:nvSpPr>
            <p:spPr>
              <a:xfrm rot="36600">
                <a:off x="5655240" y="469224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未知"/>
              <p:cNvSpPr/>
              <p:nvPr/>
            </p:nvSpPr>
            <p:spPr>
              <a:xfrm rot="36600">
                <a:off x="6336360" y="470196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 rot="36600">
                <a:off x="5511960" y="471852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未知"/>
              <p:cNvSpPr/>
              <p:nvPr/>
            </p:nvSpPr>
            <p:spPr>
              <a:xfrm rot="36600">
                <a:off x="5764680" y="47340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未知"/>
              <p:cNvSpPr/>
              <p:nvPr/>
            </p:nvSpPr>
            <p:spPr>
              <a:xfrm rot="36600">
                <a:off x="6076800" y="473976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未知"/>
              <p:cNvSpPr/>
              <p:nvPr/>
            </p:nvSpPr>
            <p:spPr>
              <a:xfrm rot="36600">
                <a:off x="5849640" y="479880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 rot="36600">
                <a:off x="6576840" y="480888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 rot="36600">
                <a:off x="6458400" y="483984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未知"/>
              <p:cNvSpPr/>
              <p:nvPr/>
            </p:nvSpPr>
            <p:spPr>
              <a:xfrm rot="36600">
                <a:off x="5677560" y="483912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未知"/>
              <p:cNvSpPr/>
              <p:nvPr/>
            </p:nvSpPr>
            <p:spPr>
              <a:xfrm rot="36600">
                <a:off x="6020280" y="488700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未知"/>
              <p:cNvSpPr/>
              <p:nvPr/>
            </p:nvSpPr>
            <p:spPr>
              <a:xfrm rot="36600">
                <a:off x="5436360" y="493704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 rot="36600">
                <a:off x="6523560" y="497232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 rot="36600">
                <a:off x="5255280" y="50014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未知"/>
              <p:cNvSpPr/>
              <p:nvPr/>
            </p:nvSpPr>
            <p:spPr>
              <a:xfrm rot="36600">
                <a:off x="6318720" y="50396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未知"/>
              <p:cNvSpPr/>
              <p:nvPr/>
            </p:nvSpPr>
            <p:spPr>
              <a:xfrm rot="36600">
                <a:off x="6307560" y="516348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未知"/>
              <p:cNvSpPr/>
              <p:nvPr/>
            </p:nvSpPr>
            <p:spPr>
              <a:xfrm rot="36600">
                <a:off x="6374160" y="5164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447"/>
            <p:cNvGrpSpPr/>
            <p:nvPr/>
          </p:nvGrpSpPr>
          <p:grpSpPr>
            <a:xfrm>
              <a:off x="5788800" y="5019480"/>
              <a:ext cx="1646280" cy="779040"/>
              <a:chOff x="5788800" y="5019480"/>
              <a:chExt cx="1646280" cy="779040"/>
            </a:xfrm>
          </p:grpSpPr>
          <p:sp>
            <p:nvSpPr>
              <p:cNvPr id="641" name="未知"/>
              <p:cNvSpPr/>
              <p:nvPr/>
            </p:nvSpPr>
            <p:spPr>
              <a:xfrm rot="36600">
                <a:off x="5837040" y="50277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 rot="36600">
                <a:off x="5866920" y="50446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 rot="36600">
                <a:off x="7108560" y="50670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 rot="36600">
                <a:off x="6999120" y="50954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 rot="36600">
                <a:off x="6875280" y="51076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 rot="36600">
                <a:off x="6607080" y="51138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 rot="36600">
                <a:off x="6751080" y="51422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未知"/>
              <p:cNvSpPr/>
              <p:nvPr/>
            </p:nvSpPr>
            <p:spPr>
              <a:xfrm rot="36600">
                <a:off x="6501600" y="51843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 rot="36600">
                <a:off x="6045480" y="51850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 rot="36600">
                <a:off x="6878880" y="51991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 rot="36600">
                <a:off x="6365880" y="52120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 rot="36600">
                <a:off x="6652080" y="52142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 rot="36600">
                <a:off x="6748920" y="52200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 rot="36600">
                <a:off x="6908760" y="52282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 rot="36600">
                <a:off x="6703920" y="52480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 rot="36600">
                <a:off x="6298920" y="52678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 rot="36600">
                <a:off x="6522120" y="52729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未知"/>
              <p:cNvSpPr/>
              <p:nvPr/>
            </p:nvSpPr>
            <p:spPr>
              <a:xfrm rot="36600">
                <a:off x="6188760" y="53020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未知"/>
              <p:cNvSpPr/>
              <p:nvPr/>
            </p:nvSpPr>
            <p:spPr>
              <a:xfrm rot="36600">
                <a:off x="6869880" y="53118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 rot="36600">
                <a:off x="6045480" y="53283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 rot="36600">
                <a:off x="6298200" y="53438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 rot="36600">
                <a:off x="6610320" y="53496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 rot="36600">
                <a:off x="6383160" y="54086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未知"/>
              <p:cNvSpPr/>
              <p:nvPr/>
            </p:nvSpPr>
            <p:spPr>
              <a:xfrm rot="36600">
                <a:off x="7110360" y="54187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 rot="36600">
                <a:off x="6991920" y="54496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未知"/>
              <p:cNvSpPr/>
              <p:nvPr/>
            </p:nvSpPr>
            <p:spPr>
              <a:xfrm rot="36600">
                <a:off x="6211080" y="54489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未知"/>
              <p:cNvSpPr/>
              <p:nvPr/>
            </p:nvSpPr>
            <p:spPr>
              <a:xfrm rot="36600">
                <a:off x="6553800" y="54968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未知"/>
              <p:cNvSpPr/>
              <p:nvPr/>
            </p:nvSpPr>
            <p:spPr>
              <a:xfrm rot="36600">
                <a:off x="5969880" y="55468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未知"/>
              <p:cNvSpPr/>
              <p:nvPr/>
            </p:nvSpPr>
            <p:spPr>
              <a:xfrm rot="36600">
                <a:off x="7057080" y="55821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未知"/>
              <p:cNvSpPr/>
              <p:nvPr/>
            </p:nvSpPr>
            <p:spPr>
              <a:xfrm rot="36600">
                <a:off x="5788800" y="56113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未知"/>
              <p:cNvSpPr/>
              <p:nvPr/>
            </p:nvSpPr>
            <p:spPr>
              <a:xfrm rot="36600">
                <a:off x="6852240" y="56494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未知"/>
              <p:cNvSpPr/>
              <p:nvPr/>
            </p:nvSpPr>
            <p:spPr>
              <a:xfrm rot="36600">
                <a:off x="6841080" y="57733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未知"/>
              <p:cNvSpPr/>
              <p:nvPr/>
            </p:nvSpPr>
            <p:spPr>
              <a:xfrm rot="36600">
                <a:off x="6907680" y="57740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481"/>
            <p:cNvGrpSpPr/>
            <p:nvPr/>
          </p:nvGrpSpPr>
          <p:grpSpPr>
            <a:xfrm>
              <a:off x="4264560" y="4562280"/>
              <a:ext cx="1646280" cy="779040"/>
              <a:chOff x="4264560" y="4562280"/>
              <a:chExt cx="1646280" cy="779040"/>
            </a:xfrm>
          </p:grpSpPr>
          <p:sp>
            <p:nvSpPr>
              <p:cNvPr id="675" name="未知"/>
              <p:cNvSpPr/>
              <p:nvPr/>
            </p:nvSpPr>
            <p:spPr>
              <a:xfrm rot="36600">
                <a:off x="4312800" y="45705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未知"/>
              <p:cNvSpPr/>
              <p:nvPr/>
            </p:nvSpPr>
            <p:spPr>
              <a:xfrm rot="36600">
                <a:off x="4342680" y="45874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未知"/>
              <p:cNvSpPr/>
              <p:nvPr/>
            </p:nvSpPr>
            <p:spPr>
              <a:xfrm rot="36600">
                <a:off x="5584320" y="46098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未知"/>
              <p:cNvSpPr/>
              <p:nvPr/>
            </p:nvSpPr>
            <p:spPr>
              <a:xfrm rot="36600">
                <a:off x="5474880" y="46382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未知"/>
              <p:cNvSpPr/>
              <p:nvPr/>
            </p:nvSpPr>
            <p:spPr>
              <a:xfrm rot="36600">
                <a:off x="5351040" y="46504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未知"/>
              <p:cNvSpPr/>
              <p:nvPr/>
            </p:nvSpPr>
            <p:spPr>
              <a:xfrm rot="36600">
                <a:off x="5082840" y="46566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未知"/>
              <p:cNvSpPr/>
              <p:nvPr/>
            </p:nvSpPr>
            <p:spPr>
              <a:xfrm rot="36600">
                <a:off x="5226840" y="46850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未知"/>
              <p:cNvSpPr/>
              <p:nvPr/>
            </p:nvSpPr>
            <p:spPr>
              <a:xfrm rot="36600">
                <a:off x="4977360" y="47271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未知"/>
              <p:cNvSpPr/>
              <p:nvPr/>
            </p:nvSpPr>
            <p:spPr>
              <a:xfrm rot="36600">
                <a:off x="4521240" y="47278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 rot="36600">
                <a:off x="5354640" y="47419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未知"/>
              <p:cNvSpPr/>
              <p:nvPr/>
            </p:nvSpPr>
            <p:spPr>
              <a:xfrm rot="36600">
                <a:off x="4841640" y="47548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未知"/>
              <p:cNvSpPr/>
              <p:nvPr/>
            </p:nvSpPr>
            <p:spPr>
              <a:xfrm rot="36600">
                <a:off x="5127840" y="47570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未知"/>
              <p:cNvSpPr/>
              <p:nvPr/>
            </p:nvSpPr>
            <p:spPr>
              <a:xfrm rot="36600">
                <a:off x="5224680" y="47628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未知"/>
              <p:cNvSpPr/>
              <p:nvPr/>
            </p:nvSpPr>
            <p:spPr>
              <a:xfrm rot="36600">
                <a:off x="5384520" y="47710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未知"/>
              <p:cNvSpPr/>
              <p:nvPr/>
            </p:nvSpPr>
            <p:spPr>
              <a:xfrm rot="36600">
                <a:off x="5179680" y="47908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 rot="36600">
                <a:off x="4774680" y="48106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 rot="36600">
                <a:off x="4997880" y="48157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未知"/>
              <p:cNvSpPr/>
              <p:nvPr/>
            </p:nvSpPr>
            <p:spPr>
              <a:xfrm rot="36600">
                <a:off x="4664520" y="484452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未知"/>
              <p:cNvSpPr/>
              <p:nvPr/>
            </p:nvSpPr>
            <p:spPr>
              <a:xfrm rot="36600">
                <a:off x="5345640" y="48546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 rot="36600">
                <a:off x="4521240" y="48711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 rot="36600">
                <a:off x="4773960" y="48866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 rot="36600">
                <a:off x="5086080" y="48924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未知"/>
              <p:cNvSpPr/>
              <p:nvPr/>
            </p:nvSpPr>
            <p:spPr>
              <a:xfrm rot="36600">
                <a:off x="4858920" y="49514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未知"/>
              <p:cNvSpPr/>
              <p:nvPr/>
            </p:nvSpPr>
            <p:spPr>
              <a:xfrm rot="36600">
                <a:off x="5586120" y="49615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 rot="36600">
                <a:off x="5467680" y="49924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rot="36600">
                <a:off x="4686840" y="49917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 rot="36600">
                <a:off x="5029560" y="50396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未知"/>
              <p:cNvSpPr/>
              <p:nvPr/>
            </p:nvSpPr>
            <p:spPr>
              <a:xfrm rot="36600">
                <a:off x="4445640" y="50896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未知"/>
              <p:cNvSpPr/>
              <p:nvPr/>
            </p:nvSpPr>
            <p:spPr>
              <a:xfrm rot="36600">
                <a:off x="5532840" y="51249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 rot="36600">
                <a:off x="4264560" y="51541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 rot="36600">
                <a:off x="5328000" y="51922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 rot="36600">
                <a:off x="5316840" y="53161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未知"/>
              <p:cNvSpPr/>
              <p:nvPr/>
            </p:nvSpPr>
            <p:spPr>
              <a:xfrm rot="36600">
                <a:off x="5383440" y="53168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515"/>
            <p:cNvGrpSpPr/>
            <p:nvPr/>
          </p:nvGrpSpPr>
          <p:grpSpPr>
            <a:xfrm>
              <a:off x="4874400" y="4028760"/>
              <a:ext cx="1646280" cy="779040"/>
              <a:chOff x="4874400" y="4028760"/>
              <a:chExt cx="1646280" cy="779040"/>
            </a:xfrm>
          </p:grpSpPr>
          <p:sp>
            <p:nvSpPr>
              <p:cNvPr id="709" name="未知"/>
              <p:cNvSpPr/>
              <p:nvPr/>
            </p:nvSpPr>
            <p:spPr>
              <a:xfrm rot="36600">
                <a:off x="4922640" y="40370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未知"/>
              <p:cNvSpPr/>
              <p:nvPr/>
            </p:nvSpPr>
            <p:spPr>
              <a:xfrm rot="36600">
                <a:off x="4952520" y="40539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未知"/>
              <p:cNvSpPr/>
              <p:nvPr/>
            </p:nvSpPr>
            <p:spPr>
              <a:xfrm rot="36600">
                <a:off x="6194160" y="40762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未知"/>
              <p:cNvSpPr/>
              <p:nvPr/>
            </p:nvSpPr>
            <p:spPr>
              <a:xfrm rot="36600">
                <a:off x="6084720" y="41047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未知"/>
              <p:cNvSpPr/>
              <p:nvPr/>
            </p:nvSpPr>
            <p:spPr>
              <a:xfrm rot="36600">
                <a:off x="5960880" y="41169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未知"/>
              <p:cNvSpPr/>
              <p:nvPr/>
            </p:nvSpPr>
            <p:spPr>
              <a:xfrm rot="36600">
                <a:off x="5692680" y="41230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未知"/>
              <p:cNvSpPr/>
              <p:nvPr/>
            </p:nvSpPr>
            <p:spPr>
              <a:xfrm rot="36600">
                <a:off x="5836680" y="41515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未知"/>
              <p:cNvSpPr/>
              <p:nvPr/>
            </p:nvSpPr>
            <p:spPr>
              <a:xfrm rot="36600">
                <a:off x="5587200" y="41936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未知"/>
              <p:cNvSpPr/>
              <p:nvPr/>
            </p:nvSpPr>
            <p:spPr>
              <a:xfrm rot="36600">
                <a:off x="5131080" y="41943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未知"/>
              <p:cNvSpPr/>
              <p:nvPr/>
            </p:nvSpPr>
            <p:spPr>
              <a:xfrm rot="36600">
                <a:off x="5964480" y="42084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 rot="36600">
                <a:off x="5451480" y="42213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 rot="36600">
                <a:off x="5737680" y="42235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 rot="36600">
                <a:off x="5834520" y="42292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未知"/>
              <p:cNvSpPr/>
              <p:nvPr/>
            </p:nvSpPr>
            <p:spPr>
              <a:xfrm rot="36600">
                <a:off x="5994360" y="42375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未知"/>
              <p:cNvSpPr/>
              <p:nvPr/>
            </p:nvSpPr>
            <p:spPr>
              <a:xfrm rot="36600">
                <a:off x="5789520" y="42573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未知"/>
              <p:cNvSpPr/>
              <p:nvPr/>
            </p:nvSpPr>
            <p:spPr>
              <a:xfrm rot="36600">
                <a:off x="5384520" y="42771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未知"/>
              <p:cNvSpPr/>
              <p:nvPr/>
            </p:nvSpPr>
            <p:spPr>
              <a:xfrm rot="36600">
                <a:off x="5607720" y="42822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 rot="36600">
                <a:off x="5274360" y="431136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未知"/>
              <p:cNvSpPr/>
              <p:nvPr/>
            </p:nvSpPr>
            <p:spPr>
              <a:xfrm rot="36600">
                <a:off x="5955480" y="43210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未知"/>
              <p:cNvSpPr/>
              <p:nvPr/>
            </p:nvSpPr>
            <p:spPr>
              <a:xfrm rot="36600">
                <a:off x="5131080" y="43376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未知"/>
              <p:cNvSpPr/>
              <p:nvPr/>
            </p:nvSpPr>
            <p:spPr>
              <a:xfrm rot="36600">
                <a:off x="5383800" y="43531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 rot="36600">
                <a:off x="5695920" y="43588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 rot="36600">
                <a:off x="5468760" y="44179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未知"/>
              <p:cNvSpPr/>
              <p:nvPr/>
            </p:nvSpPr>
            <p:spPr>
              <a:xfrm rot="36600">
                <a:off x="6195960" y="44280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未知"/>
              <p:cNvSpPr/>
              <p:nvPr/>
            </p:nvSpPr>
            <p:spPr>
              <a:xfrm rot="36600">
                <a:off x="6077520" y="44589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 rot="36600">
                <a:off x="5296680" y="44582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未知"/>
              <p:cNvSpPr/>
              <p:nvPr/>
            </p:nvSpPr>
            <p:spPr>
              <a:xfrm rot="36600">
                <a:off x="5639400" y="45061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 rot="36600">
                <a:off x="5055480" y="45561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未知"/>
              <p:cNvSpPr/>
              <p:nvPr/>
            </p:nvSpPr>
            <p:spPr>
              <a:xfrm rot="36600">
                <a:off x="6142680" y="45914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 rot="36600">
                <a:off x="4874400" y="46206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未知"/>
              <p:cNvSpPr/>
              <p:nvPr/>
            </p:nvSpPr>
            <p:spPr>
              <a:xfrm rot="36600">
                <a:off x="5937840" y="46587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未知"/>
              <p:cNvSpPr/>
              <p:nvPr/>
            </p:nvSpPr>
            <p:spPr>
              <a:xfrm rot="36600">
                <a:off x="5926680" y="47826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未知"/>
              <p:cNvSpPr/>
              <p:nvPr/>
            </p:nvSpPr>
            <p:spPr>
              <a:xfrm rot="36600">
                <a:off x="5993280" y="47833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549"/>
            <p:cNvGrpSpPr/>
            <p:nvPr/>
          </p:nvGrpSpPr>
          <p:grpSpPr>
            <a:xfrm>
              <a:off x="3502800" y="3723840"/>
              <a:ext cx="1646280" cy="779040"/>
              <a:chOff x="3502800" y="3723840"/>
              <a:chExt cx="1646280" cy="779040"/>
            </a:xfrm>
          </p:grpSpPr>
          <p:sp>
            <p:nvSpPr>
              <p:cNvPr id="743" name="未知"/>
              <p:cNvSpPr/>
              <p:nvPr/>
            </p:nvSpPr>
            <p:spPr>
              <a:xfrm rot="36600">
                <a:off x="3551040" y="373212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 rot="36600">
                <a:off x="3580920" y="374904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 rot="36600">
                <a:off x="4822560" y="377136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未知"/>
              <p:cNvSpPr/>
              <p:nvPr/>
            </p:nvSpPr>
            <p:spPr>
              <a:xfrm rot="36600">
                <a:off x="4713120" y="37998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未知"/>
              <p:cNvSpPr/>
              <p:nvPr/>
            </p:nvSpPr>
            <p:spPr>
              <a:xfrm rot="36600">
                <a:off x="4589280" y="381204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 rot="36600">
                <a:off x="4321080" y="38181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 rot="36600">
                <a:off x="4465080" y="384660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 rot="36600">
                <a:off x="4215600" y="388872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 rot="36600">
                <a:off x="3759480" y="388944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 rot="36600">
                <a:off x="4592880" y="390348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 rot="36600">
                <a:off x="4079880" y="391644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 rot="36600">
                <a:off x="4366080" y="391860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 rot="36600">
                <a:off x="4462920" y="39243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 rot="36600">
                <a:off x="4622760" y="393264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 rot="36600">
                <a:off x="4417920" y="39524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 rot="36600">
                <a:off x="4012920" y="397224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 rot="36600">
                <a:off x="4236120" y="397728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 rot="36600">
                <a:off x="3902760" y="400644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 rot="36600">
                <a:off x="4583880" y="401616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 rot="36600">
                <a:off x="3759480" y="403272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 rot="36600">
                <a:off x="4012200" y="40482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 rot="36600">
                <a:off x="4324320" y="405396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 rot="36600">
                <a:off x="4097160" y="411300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 rot="36600">
                <a:off x="4824360" y="412308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 rot="36600">
                <a:off x="4705920" y="415404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 rot="36600">
                <a:off x="3925080" y="415332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 rot="36600">
                <a:off x="4267800" y="420120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 rot="36600">
                <a:off x="3683880" y="425124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 rot="36600">
                <a:off x="4771080" y="428652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 rot="36600">
                <a:off x="3502800" y="4315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 rot="36600">
                <a:off x="4566240" y="43538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 rot="36600">
                <a:off x="4555080" y="447768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 rot="36600">
                <a:off x="4621680" y="4478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583"/>
            <p:cNvGrpSpPr/>
            <p:nvPr/>
          </p:nvGrpSpPr>
          <p:grpSpPr>
            <a:xfrm>
              <a:off x="6321960" y="4638240"/>
              <a:ext cx="1646280" cy="779040"/>
              <a:chOff x="6321960" y="4638240"/>
              <a:chExt cx="1646280" cy="779040"/>
            </a:xfrm>
          </p:grpSpPr>
          <p:sp>
            <p:nvSpPr>
              <p:cNvPr id="777" name="未知"/>
              <p:cNvSpPr/>
              <p:nvPr/>
            </p:nvSpPr>
            <p:spPr>
              <a:xfrm rot="36600">
                <a:off x="6370200" y="464652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 rot="36600">
                <a:off x="6400080" y="466344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未知"/>
              <p:cNvSpPr/>
              <p:nvPr/>
            </p:nvSpPr>
            <p:spPr>
              <a:xfrm rot="36600">
                <a:off x="7641720" y="468576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 rot="36600">
                <a:off x="7532280" y="47142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未知"/>
              <p:cNvSpPr/>
              <p:nvPr/>
            </p:nvSpPr>
            <p:spPr>
              <a:xfrm rot="36600">
                <a:off x="7408440" y="472644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未知"/>
              <p:cNvSpPr/>
              <p:nvPr/>
            </p:nvSpPr>
            <p:spPr>
              <a:xfrm rot="36600">
                <a:off x="7140240" y="47325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未知"/>
              <p:cNvSpPr/>
              <p:nvPr/>
            </p:nvSpPr>
            <p:spPr>
              <a:xfrm rot="36600">
                <a:off x="7284240" y="476100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未知"/>
              <p:cNvSpPr/>
              <p:nvPr/>
            </p:nvSpPr>
            <p:spPr>
              <a:xfrm rot="36600">
                <a:off x="7034760" y="480312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未知"/>
              <p:cNvSpPr/>
              <p:nvPr/>
            </p:nvSpPr>
            <p:spPr>
              <a:xfrm rot="36600">
                <a:off x="6578640" y="480384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未知"/>
              <p:cNvSpPr/>
              <p:nvPr/>
            </p:nvSpPr>
            <p:spPr>
              <a:xfrm rot="36600">
                <a:off x="7412040" y="481788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未知"/>
              <p:cNvSpPr/>
              <p:nvPr/>
            </p:nvSpPr>
            <p:spPr>
              <a:xfrm rot="36600">
                <a:off x="6899040" y="483084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 rot="36600">
                <a:off x="7185240" y="483300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 rot="36600">
                <a:off x="7282080" y="48387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未知"/>
              <p:cNvSpPr/>
              <p:nvPr/>
            </p:nvSpPr>
            <p:spPr>
              <a:xfrm rot="36600">
                <a:off x="7441920" y="484704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未知"/>
              <p:cNvSpPr/>
              <p:nvPr/>
            </p:nvSpPr>
            <p:spPr>
              <a:xfrm rot="36600">
                <a:off x="7237080" y="48668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未知"/>
              <p:cNvSpPr/>
              <p:nvPr/>
            </p:nvSpPr>
            <p:spPr>
              <a:xfrm rot="36600">
                <a:off x="6832080" y="488664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未知"/>
              <p:cNvSpPr/>
              <p:nvPr/>
            </p:nvSpPr>
            <p:spPr>
              <a:xfrm rot="36600">
                <a:off x="7055280" y="489168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未知"/>
              <p:cNvSpPr/>
              <p:nvPr/>
            </p:nvSpPr>
            <p:spPr>
              <a:xfrm rot="36600">
                <a:off x="6721920" y="49204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 rot="36600">
                <a:off x="7403040" y="493056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未知"/>
              <p:cNvSpPr/>
              <p:nvPr/>
            </p:nvSpPr>
            <p:spPr>
              <a:xfrm rot="36600">
                <a:off x="6578640" y="494712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未知"/>
              <p:cNvSpPr/>
              <p:nvPr/>
            </p:nvSpPr>
            <p:spPr>
              <a:xfrm rot="36600">
                <a:off x="6831360" y="4962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未知"/>
              <p:cNvSpPr/>
              <p:nvPr/>
            </p:nvSpPr>
            <p:spPr>
              <a:xfrm rot="36600">
                <a:off x="7143480" y="496836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未知"/>
              <p:cNvSpPr/>
              <p:nvPr/>
            </p:nvSpPr>
            <p:spPr>
              <a:xfrm rot="36600">
                <a:off x="6916320" y="502740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未知"/>
              <p:cNvSpPr/>
              <p:nvPr/>
            </p:nvSpPr>
            <p:spPr>
              <a:xfrm rot="36600">
                <a:off x="7643520" y="503748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 rot="36600">
                <a:off x="7525080" y="506844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 rot="36600">
                <a:off x="6744240" y="506772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 rot="36600">
                <a:off x="7086960" y="511560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 rot="36600">
                <a:off x="6503040" y="516564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未知"/>
              <p:cNvSpPr/>
              <p:nvPr/>
            </p:nvSpPr>
            <p:spPr>
              <a:xfrm rot="36600">
                <a:off x="7590240" y="520092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未知"/>
              <p:cNvSpPr/>
              <p:nvPr/>
            </p:nvSpPr>
            <p:spPr>
              <a:xfrm rot="36600">
                <a:off x="6321960" y="5230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 rot="36600">
                <a:off x="7385400" y="52682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未知"/>
              <p:cNvSpPr/>
              <p:nvPr/>
            </p:nvSpPr>
            <p:spPr>
              <a:xfrm rot="36600">
                <a:off x="7374240" y="539208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未知"/>
              <p:cNvSpPr/>
              <p:nvPr/>
            </p:nvSpPr>
            <p:spPr>
              <a:xfrm rot="36600">
                <a:off x="7440840" y="53928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617"/>
            <p:cNvGrpSpPr/>
            <p:nvPr/>
          </p:nvGrpSpPr>
          <p:grpSpPr>
            <a:xfrm>
              <a:off x="3426480" y="4257360"/>
              <a:ext cx="1646280" cy="779040"/>
              <a:chOff x="3426480" y="4257360"/>
              <a:chExt cx="1646280" cy="779040"/>
            </a:xfrm>
          </p:grpSpPr>
          <p:sp>
            <p:nvSpPr>
              <p:cNvPr id="811" name="未知"/>
              <p:cNvSpPr/>
              <p:nvPr/>
            </p:nvSpPr>
            <p:spPr>
              <a:xfrm rot="36600">
                <a:off x="3474720" y="42656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 rot="36600">
                <a:off x="3504600" y="42825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 rot="36600">
                <a:off x="4746240" y="43048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未知"/>
              <p:cNvSpPr/>
              <p:nvPr/>
            </p:nvSpPr>
            <p:spPr>
              <a:xfrm rot="36600">
                <a:off x="4636800" y="43333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未知"/>
              <p:cNvSpPr/>
              <p:nvPr/>
            </p:nvSpPr>
            <p:spPr>
              <a:xfrm rot="36600">
                <a:off x="4512960" y="43455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未知"/>
              <p:cNvSpPr/>
              <p:nvPr/>
            </p:nvSpPr>
            <p:spPr>
              <a:xfrm rot="36600">
                <a:off x="4244760" y="43516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 rot="36600">
                <a:off x="4388760" y="43801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未知"/>
              <p:cNvSpPr/>
              <p:nvPr/>
            </p:nvSpPr>
            <p:spPr>
              <a:xfrm rot="36600">
                <a:off x="4139280" y="44222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未知"/>
              <p:cNvSpPr/>
              <p:nvPr/>
            </p:nvSpPr>
            <p:spPr>
              <a:xfrm rot="36600">
                <a:off x="3683160" y="44229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未知"/>
              <p:cNvSpPr/>
              <p:nvPr/>
            </p:nvSpPr>
            <p:spPr>
              <a:xfrm rot="36600">
                <a:off x="4516560" y="44370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未知"/>
              <p:cNvSpPr/>
              <p:nvPr/>
            </p:nvSpPr>
            <p:spPr>
              <a:xfrm rot="36600">
                <a:off x="4003560" y="44499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未知"/>
              <p:cNvSpPr/>
              <p:nvPr/>
            </p:nvSpPr>
            <p:spPr>
              <a:xfrm rot="36600">
                <a:off x="4289760" y="44521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未知"/>
              <p:cNvSpPr/>
              <p:nvPr/>
            </p:nvSpPr>
            <p:spPr>
              <a:xfrm rot="36600">
                <a:off x="4386600" y="44578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未知"/>
              <p:cNvSpPr/>
              <p:nvPr/>
            </p:nvSpPr>
            <p:spPr>
              <a:xfrm rot="36600">
                <a:off x="4546440" y="44661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未知"/>
              <p:cNvSpPr/>
              <p:nvPr/>
            </p:nvSpPr>
            <p:spPr>
              <a:xfrm rot="36600">
                <a:off x="4341600" y="44859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 rot="36600">
                <a:off x="3936600" y="45057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rot="36600">
                <a:off x="4159800" y="45108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未知"/>
              <p:cNvSpPr/>
              <p:nvPr/>
            </p:nvSpPr>
            <p:spPr>
              <a:xfrm rot="36600">
                <a:off x="3826440" y="453996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未知"/>
              <p:cNvSpPr/>
              <p:nvPr/>
            </p:nvSpPr>
            <p:spPr>
              <a:xfrm rot="36600">
                <a:off x="4507560" y="45496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未知"/>
              <p:cNvSpPr/>
              <p:nvPr/>
            </p:nvSpPr>
            <p:spPr>
              <a:xfrm rot="36600">
                <a:off x="3683160" y="45662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未知"/>
              <p:cNvSpPr/>
              <p:nvPr/>
            </p:nvSpPr>
            <p:spPr>
              <a:xfrm rot="36600">
                <a:off x="3935880" y="45817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 rot="36600">
                <a:off x="4248000" y="45874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未知"/>
              <p:cNvSpPr/>
              <p:nvPr/>
            </p:nvSpPr>
            <p:spPr>
              <a:xfrm rot="36600">
                <a:off x="4020840" y="46465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 rot="36600">
                <a:off x="4748040" y="46566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未知"/>
              <p:cNvSpPr/>
              <p:nvPr/>
            </p:nvSpPr>
            <p:spPr>
              <a:xfrm rot="36600">
                <a:off x="4629600" y="46875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未知"/>
              <p:cNvSpPr/>
              <p:nvPr/>
            </p:nvSpPr>
            <p:spPr>
              <a:xfrm rot="36600">
                <a:off x="3848760" y="46868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 rot="36600">
                <a:off x="4191480" y="47347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 rot="36600">
                <a:off x="3607560" y="47847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 rot="36600">
                <a:off x="4694760" y="48200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 rot="36600">
                <a:off x="3426480" y="4849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 rot="36600">
                <a:off x="4489920" y="48873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 rot="36600">
                <a:off x="4478760" y="5011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 rot="36600">
                <a:off x="4545360" y="50119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651"/>
            <p:cNvGrpSpPr/>
            <p:nvPr/>
          </p:nvGrpSpPr>
          <p:grpSpPr>
            <a:xfrm>
              <a:off x="4264560" y="3571560"/>
              <a:ext cx="1646280" cy="779040"/>
              <a:chOff x="4264560" y="3571560"/>
              <a:chExt cx="1646280" cy="779040"/>
            </a:xfrm>
          </p:grpSpPr>
          <p:sp>
            <p:nvSpPr>
              <p:cNvPr id="845" name="未知"/>
              <p:cNvSpPr/>
              <p:nvPr/>
            </p:nvSpPr>
            <p:spPr>
              <a:xfrm rot="36600">
                <a:off x="4312800" y="35798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 rot="36600">
                <a:off x="4342680" y="35967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 rot="36600">
                <a:off x="5584320" y="36190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 rot="36600">
                <a:off x="5474880" y="36475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 rot="36600">
                <a:off x="5351040" y="36597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 rot="36600">
                <a:off x="5082840" y="36658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未知"/>
              <p:cNvSpPr/>
              <p:nvPr/>
            </p:nvSpPr>
            <p:spPr>
              <a:xfrm rot="36600">
                <a:off x="5226840" y="36943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 rot="36600">
                <a:off x="4977360" y="37364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未知"/>
              <p:cNvSpPr/>
              <p:nvPr/>
            </p:nvSpPr>
            <p:spPr>
              <a:xfrm rot="36600">
                <a:off x="4521240" y="37371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未知"/>
              <p:cNvSpPr/>
              <p:nvPr/>
            </p:nvSpPr>
            <p:spPr>
              <a:xfrm rot="36600">
                <a:off x="5354640" y="37512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未知"/>
              <p:cNvSpPr/>
              <p:nvPr/>
            </p:nvSpPr>
            <p:spPr>
              <a:xfrm rot="36600">
                <a:off x="4841640" y="37641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未知"/>
              <p:cNvSpPr/>
              <p:nvPr/>
            </p:nvSpPr>
            <p:spPr>
              <a:xfrm rot="36600">
                <a:off x="5127840" y="37663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未知"/>
              <p:cNvSpPr/>
              <p:nvPr/>
            </p:nvSpPr>
            <p:spPr>
              <a:xfrm rot="36600">
                <a:off x="5224680" y="37720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未知"/>
              <p:cNvSpPr/>
              <p:nvPr/>
            </p:nvSpPr>
            <p:spPr>
              <a:xfrm rot="36600">
                <a:off x="5384520" y="37803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未知"/>
              <p:cNvSpPr/>
              <p:nvPr/>
            </p:nvSpPr>
            <p:spPr>
              <a:xfrm rot="36600">
                <a:off x="5179680" y="38001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未知"/>
              <p:cNvSpPr/>
              <p:nvPr/>
            </p:nvSpPr>
            <p:spPr>
              <a:xfrm rot="36600">
                <a:off x="4774680" y="38199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未知"/>
              <p:cNvSpPr/>
              <p:nvPr/>
            </p:nvSpPr>
            <p:spPr>
              <a:xfrm rot="36600">
                <a:off x="4997880" y="38250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 rot="36600">
                <a:off x="4664520" y="385380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未知"/>
              <p:cNvSpPr/>
              <p:nvPr/>
            </p:nvSpPr>
            <p:spPr>
              <a:xfrm rot="36600">
                <a:off x="5345640" y="38638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 rot="36600">
                <a:off x="4521240" y="38804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未知"/>
              <p:cNvSpPr/>
              <p:nvPr/>
            </p:nvSpPr>
            <p:spPr>
              <a:xfrm rot="36600">
                <a:off x="4773960" y="38959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未知"/>
              <p:cNvSpPr/>
              <p:nvPr/>
            </p:nvSpPr>
            <p:spPr>
              <a:xfrm rot="36600">
                <a:off x="5086080" y="39016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 rot="36600">
                <a:off x="4858920" y="39607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未知"/>
              <p:cNvSpPr/>
              <p:nvPr/>
            </p:nvSpPr>
            <p:spPr>
              <a:xfrm rot="36600">
                <a:off x="5586120" y="39708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 rot="36600">
                <a:off x="5467680" y="40017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 rot="36600">
                <a:off x="4686840" y="40010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未知"/>
              <p:cNvSpPr/>
              <p:nvPr/>
            </p:nvSpPr>
            <p:spPr>
              <a:xfrm rot="36600">
                <a:off x="5029560" y="40489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 rot="36600">
                <a:off x="4445640" y="40989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 rot="36600">
                <a:off x="5532840" y="4134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 rot="36600">
                <a:off x="4264560" y="4163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未知"/>
              <p:cNvSpPr/>
              <p:nvPr/>
            </p:nvSpPr>
            <p:spPr>
              <a:xfrm rot="36600">
                <a:off x="5328000" y="42015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未知"/>
              <p:cNvSpPr/>
              <p:nvPr/>
            </p:nvSpPr>
            <p:spPr>
              <a:xfrm rot="36600">
                <a:off x="5316840" y="43254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未知"/>
              <p:cNvSpPr/>
              <p:nvPr/>
            </p:nvSpPr>
            <p:spPr>
              <a:xfrm rot="36600">
                <a:off x="5383440" y="43261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Group 685"/>
            <p:cNvGrpSpPr/>
            <p:nvPr/>
          </p:nvGrpSpPr>
          <p:grpSpPr>
            <a:xfrm>
              <a:off x="5941080" y="4028760"/>
              <a:ext cx="1646280" cy="779040"/>
              <a:chOff x="5941080" y="4028760"/>
              <a:chExt cx="1646280" cy="779040"/>
            </a:xfrm>
          </p:grpSpPr>
          <p:sp>
            <p:nvSpPr>
              <p:cNvPr id="879" name="未知"/>
              <p:cNvSpPr/>
              <p:nvPr/>
            </p:nvSpPr>
            <p:spPr>
              <a:xfrm rot="36600">
                <a:off x="5989320" y="40370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 rot="36600">
                <a:off x="6019200" y="40539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 rot="36600">
                <a:off x="7260840" y="40762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未知"/>
              <p:cNvSpPr/>
              <p:nvPr/>
            </p:nvSpPr>
            <p:spPr>
              <a:xfrm rot="36600">
                <a:off x="7151400" y="41047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未知"/>
              <p:cNvSpPr/>
              <p:nvPr/>
            </p:nvSpPr>
            <p:spPr>
              <a:xfrm rot="36600">
                <a:off x="7027560" y="41169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 rot="36600">
                <a:off x="6759360" y="41230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未知"/>
              <p:cNvSpPr/>
              <p:nvPr/>
            </p:nvSpPr>
            <p:spPr>
              <a:xfrm rot="36600">
                <a:off x="6903360" y="41515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未知"/>
              <p:cNvSpPr/>
              <p:nvPr/>
            </p:nvSpPr>
            <p:spPr>
              <a:xfrm rot="36600">
                <a:off x="6653880" y="41936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未知"/>
              <p:cNvSpPr/>
              <p:nvPr/>
            </p:nvSpPr>
            <p:spPr>
              <a:xfrm rot="36600">
                <a:off x="6197760" y="41943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未知"/>
              <p:cNvSpPr/>
              <p:nvPr/>
            </p:nvSpPr>
            <p:spPr>
              <a:xfrm rot="36600">
                <a:off x="7031160" y="42084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 rot="36600">
                <a:off x="6518160" y="42213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未知"/>
              <p:cNvSpPr/>
              <p:nvPr/>
            </p:nvSpPr>
            <p:spPr>
              <a:xfrm rot="36600">
                <a:off x="6804360" y="42235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未知"/>
              <p:cNvSpPr/>
              <p:nvPr/>
            </p:nvSpPr>
            <p:spPr>
              <a:xfrm rot="36600">
                <a:off x="6901200" y="42292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未知"/>
              <p:cNvSpPr/>
              <p:nvPr/>
            </p:nvSpPr>
            <p:spPr>
              <a:xfrm rot="36600">
                <a:off x="7061040" y="42375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未知"/>
              <p:cNvSpPr/>
              <p:nvPr/>
            </p:nvSpPr>
            <p:spPr>
              <a:xfrm rot="36600">
                <a:off x="6856200" y="42573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未知"/>
              <p:cNvSpPr/>
              <p:nvPr/>
            </p:nvSpPr>
            <p:spPr>
              <a:xfrm rot="36600">
                <a:off x="6451200" y="42771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未知"/>
              <p:cNvSpPr/>
              <p:nvPr/>
            </p:nvSpPr>
            <p:spPr>
              <a:xfrm rot="36600">
                <a:off x="6674400" y="42822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未知"/>
              <p:cNvSpPr/>
              <p:nvPr/>
            </p:nvSpPr>
            <p:spPr>
              <a:xfrm rot="36600">
                <a:off x="6341040" y="431136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未知"/>
              <p:cNvSpPr/>
              <p:nvPr/>
            </p:nvSpPr>
            <p:spPr>
              <a:xfrm rot="36600">
                <a:off x="7022160" y="43210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未知"/>
              <p:cNvSpPr/>
              <p:nvPr/>
            </p:nvSpPr>
            <p:spPr>
              <a:xfrm rot="36600">
                <a:off x="6197760" y="43376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 rot="36600">
                <a:off x="6450480" y="43531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未知"/>
              <p:cNvSpPr/>
              <p:nvPr/>
            </p:nvSpPr>
            <p:spPr>
              <a:xfrm rot="36600">
                <a:off x="6762600" y="43588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未知"/>
              <p:cNvSpPr/>
              <p:nvPr/>
            </p:nvSpPr>
            <p:spPr>
              <a:xfrm rot="36600">
                <a:off x="6535440" y="44179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未知"/>
              <p:cNvSpPr/>
              <p:nvPr/>
            </p:nvSpPr>
            <p:spPr>
              <a:xfrm rot="36600">
                <a:off x="7262640" y="44280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未知"/>
              <p:cNvSpPr/>
              <p:nvPr/>
            </p:nvSpPr>
            <p:spPr>
              <a:xfrm rot="36600">
                <a:off x="7144200" y="44589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未知"/>
              <p:cNvSpPr/>
              <p:nvPr/>
            </p:nvSpPr>
            <p:spPr>
              <a:xfrm rot="36600">
                <a:off x="6363360" y="44582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未知"/>
              <p:cNvSpPr/>
              <p:nvPr/>
            </p:nvSpPr>
            <p:spPr>
              <a:xfrm rot="36600">
                <a:off x="6706080" y="45061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未知"/>
              <p:cNvSpPr/>
              <p:nvPr/>
            </p:nvSpPr>
            <p:spPr>
              <a:xfrm rot="36600">
                <a:off x="6122160" y="45561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未知"/>
              <p:cNvSpPr/>
              <p:nvPr/>
            </p:nvSpPr>
            <p:spPr>
              <a:xfrm rot="36600">
                <a:off x="7209360" y="45914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未知"/>
              <p:cNvSpPr/>
              <p:nvPr/>
            </p:nvSpPr>
            <p:spPr>
              <a:xfrm rot="36600">
                <a:off x="5941080" y="46206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未知"/>
              <p:cNvSpPr/>
              <p:nvPr/>
            </p:nvSpPr>
            <p:spPr>
              <a:xfrm rot="36600">
                <a:off x="7004520" y="46587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未知"/>
              <p:cNvSpPr/>
              <p:nvPr/>
            </p:nvSpPr>
            <p:spPr>
              <a:xfrm rot="36600">
                <a:off x="6993360" y="47826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未知"/>
              <p:cNvSpPr/>
              <p:nvPr/>
            </p:nvSpPr>
            <p:spPr>
              <a:xfrm rot="36600">
                <a:off x="7059960" y="47833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719"/>
            <p:cNvGrpSpPr/>
            <p:nvPr/>
          </p:nvGrpSpPr>
          <p:grpSpPr>
            <a:xfrm>
              <a:off x="5255280" y="3647880"/>
              <a:ext cx="1646280" cy="779040"/>
              <a:chOff x="5255280" y="3647880"/>
              <a:chExt cx="1646280" cy="779040"/>
            </a:xfrm>
          </p:grpSpPr>
          <p:sp>
            <p:nvSpPr>
              <p:cNvPr id="913" name="未知"/>
              <p:cNvSpPr/>
              <p:nvPr/>
            </p:nvSpPr>
            <p:spPr>
              <a:xfrm rot="36600">
                <a:off x="5303520" y="36561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未知"/>
              <p:cNvSpPr/>
              <p:nvPr/>
            </p:nvSpPr>
            <p:spPr>
              <a:xfrm rot="36600">
                <a:off x="5333400" y="36730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未知"/>
              <p:cNvSpPr/>
              <p:nvPr/>
            </p:nvSpPr>
            <p:spPr>
              <a:xfrm rot="36600">
                <a:off x="6575040" y="36954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未知"/>
              <p:cNvSpPr/>
              <p:nvPr/>
            </p:nvSpPr>
            <p:spPr>
              <a:xfrm rot="36600">
                <a:off x="6465600" y="37238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未知"/>
              <p:cNvSpPr/>
              <p:nvPr/>
            </p:nvSpPr>
            <p:spPr>
              <a:xfrm rot="36600">
                <a:off x="6341760" y="37360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未知"/>
              <p:cNvSpPr/>
              <p:nvPr/>
            </p:nvSpPr>
            <p:spPr>
              <a:xfrm rot="36600">
                <a:off x="6073560" y="37422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未知"/>
              <p:cNvSpPr/>
              <p:nvPr/>
            </p:nvSpPr>
            <p:spPr>
              <a:xfrm rot="36600">
                <a:off x="6217560" y="37706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未知"/>
              <p:cNvSpPr/>
              <p:nvPr/>
            </p:nvSpPr>
            <p:spPr>
              <a:xfrm rot="36600">
                <a:off x="5968080" y="38127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未知"/>
              <p:cNvSpPr/>
              <p:nvPr/>
            </p:nvSpPr>
            <p:spPr>
              <a:xfrm rot="36600">
                <a:off x="5511960" y="38134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未知"/>
              <p:cNvSpPr/>
              <p:nvPr/>
            </p:nvSpPr>
            <p:spPr>
              <a:xfrm rot="36600">
                <a:off x="6345360" y="38275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未知"/>
              <p:cNvSpPr/>
              <p:nvPr/>
            </p:nvSpPr>
            <p:spPr>
              <a:xfrm rot="36600">
                <a:off x="5832360" y="38404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未知"/>
              <p:cNvSpPr/>
              <p:nvPr/>
            </p:nvSpPr>
            <p:spPr>
              <a:xfrm rot="36600">
                <a:off x="6118560" y="38426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未知"/>
              <p:cNvSpPr/>
              <p:nvPr/>
            </p:nvSpPr>
            <p:spPr>
              <a:xfrm rot="36600">
                <a:off x="6215400" y="38484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未知"/>
              <p:cNvSpPr/>
              <p:nvPr/>
            </p:nvSpPr>
            <p:spPr>
              <a:xfrm rot="36600">
                <a:off x="6375240" y="38566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未知"/>
              <p:cNvSpPr/>
              <p:nvPr/>
            </p:nvSpPr>
            <p:spPr>
              <a:xfrm rot="36600">
                <a:off x="6170400" y="38764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未知"/>
              <p:cNvSpPr/>
              <p:nvPr/>
            </p:nvSpPr>
            <p:spPr>
              <a:xfrm rot="36600">
                <a:off x="5765400" y="38962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未知"/>
              <p:cNvSpPr/>
              <p:nvPr/>
            </p:nvSpPr>
            <p:spPr>
              <a:xfrm rot="36600">
                <a:off x="5988600" y="39013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未知"/>
              <p:cNvSpPr/>
              <p:nvPr/>
            </p:nvSpPr>
            <p:spPr>
              <a:xfrm rot="36600">
                <a:off x="5655240" y="39304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未知"/>
              <p:cNvSpPr/>
              <p:nvPr/>
            </p:nvSpPr>
            <p:spPr>
              <a:xfrm rot="36600">
                <a:off x="6336360" y="39402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未知"/>
              <p:cNvSpPr/>
              <p:nvPr/>
            </p:nvSpPr>
            <p:spPr>
              <a:xfrm rot="36600">
                <a:off x="5511960" y="39567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未知"/>
              <p:cNvSpPr/>
              <p:nvPr/>
            </p:nvSpPr>
            <p:spPr>
              <a:xfrm rot="36600">
                <a:off x="5764680" y="39722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未知"/>
              <p:cNvSpPr/>
              <p:nvPr/>
            </p:nvSpPr>
            <p:spPr>
              <a:xfrm rot="36600">
                <a:off x="6076800" y="39780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未知"/>
              <p:cNvSpPr/>
              <p:nvPr/>
            </p:nvSpPr>
            <p:spPr>
              <a:xfrm rot="36600">
                <a:off x="5849640" y="40370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未知"/>
              <p:cNvSpPr/>
              <p:nvPr/>
            </p:nvSpPr>
            <p:spPr>
              <a:xfrm rot="36600">
                <a:off x="6576840" y="40471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未知"/>
              <p:cNvSpPr/>
              <p:nvPr/>
            </p:nvSpPr>
            <p:spPr>
              <a:xfrm rot="36600">
                <a:off x="6458400" y="40780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未知"/>
              <p:cNvSpPr/>
              <p:nvPr/>
            </p:nvSpPr>
            <p:spPr>
              <a:xfrm rot="36600">
                <a:off x="5677560" y="40773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未知"/>
              <p:cNvSpPr/>
              <p:nvPr/>
            </p:nvSpPr>
            <p:spPr>
              <a:xfrm rot="36600">
                <a:off x="6020280" y="41252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未知"/>
              <p:cNvSpPr/>
              <p:nvPr/>
            </p:nvSpPr>
            <p:spPr>
              <a:xfrm rot="36600">
                <a:off x="5436360" y="41752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未知"/>
              <p:cNvSpPr/>
              <p:nvPr/>
            </p:nvSpPr>
            <p:spPr>
              <a:xfrm rot="36600">
                <a:off x="6523560" y="42105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未知"/>
              <p:cNvSpPr/>
              <p:nvPr/>
            </p:nvSpPr>
            <p:spPr>
              <a:xfrm rot="36600">
                <a:off x="5255280" y="42397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未知"/>
              <p:cNvSpPr/>
              <p:nvPr/>
            </p:nvSpPr>
            <p:spPr>
              <a:xfrm rot="36600">
                <a:off x="6318720" y="42778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未知"/>
              <p:cNvSpPr/>
              <p:nvPr/>
            </p:nvSpPr>
            <p:spPr>
              <a:xfrm rot="36600">
                <a:off x="6307560" y="44017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未知"/>
              <p:cNvSpPr/>
              <p:nvPr/>
            </p:nvSpPr>
            <p:spPr>
              <a:xfrm rot="36600">
                <a:off x="6374160" y="44024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753"/>
            <p:cNvGrpSpPr/>
            <p:nvPr/>
          </p:nvGrpSpPr>
          <p:grpSpPr>
            <a:xfrm>
              <a:off x="5026680" y="3114360"/>
              <a:ext cx="1646280" cy="779040"/>
              <a:chOff x="5026680" y="3114360"/>
              <a:chExt cx="1646280" cy="779040"/>
            </a:xfrm>
          </p:grpSpPr>
          <p:sp>
            <p:nvSpPr>
              <p:cNvPr id="947" name="未知"/>
              <p:cNvSpPr/>
              <p:nvPr/>
            </p:nvSpPr>
            <p:spPr>
              <a:xfrm rot="36600">
                <a:off x="5074920" y="312264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未知"/>
              <p:cNvSpPr/>
              <p:nvPr/>
            </p:nvSpPr>
            <p:spPr>
              <a:xfrm rot="36600">
                <a:off x="5104800" y="313956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未知"/>
              <p:cNvSpPr/>
              <p:nvPr/>
            </p:nvSpPr>
            <p:spPr>
              <a:xfrm rot="36600">
                <a:off x="6346440" y="316188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未知"/>
              <p:cNvSpPr/>
              <p:nvPr/>
            </p:nvSpPr>
            <p:spPr>
              <a:xfrm rot="36600">
                <a:off x="6237000" y="319032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未知"/>
              <p:cNvSpPr/>
              <p:nvPr/>
            </p:nvSpPr>
            <p:spPr>
              <a:xfrm rot="36600">
                <a:off x="6113160" y="320256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未知"/>
              <p:cNvSpPr/>
              <p:nvPr/>
            </p:nvSpPr>
            <p:spPr>
              <a:xfrm rot="36600">
                <a:off x="5844960" y="32086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未知"/>
              <p:cNvSpPr/>
              <p:nvPr/>
            </p:nvSpPr>
            <p:spPr>
              <a:xfrm rot="36600">
                <a:off x="5988960" y="323712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未知"/>
              <p:cNvSpPr/>
              <p:nvPr/>
            </p:nvSpPr>
            <p:spPr>
              <a:xfrm rot="36600">
                <a:off x="5739480" y="327924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未知"/>
              <p:cNvSpPr/>
              <p:nvPr/>
            </p:nvSpPr>
            <p:spPr>
              <a:xfrm rot="36600">
                <a:off x="5283360" y="327996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未知"/>
              <p:cNvSpPr/>
              <p:nvPr/>
            </p:nvSpPr>
            <p:spPr>
              <a:xfrm rot="36600">
                <a:off x="6116760" y="329400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未知"/>
              <p:cNvSpPr/>
              <p:nvPr/>
            </p:nvSpPr>
            <p:spPr>
              <a:xfrm rot="36600">
                <a:off x="5603760" y="330696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未知"/>
              <p:cNvSpPr/>
              <p:nvPr/>
            </p:nvSpPr>
            <p:spPr>
              <a:xfrm rot="36600">
                <a:off x="5889960" y="33091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未知"/>
              <p:cNvSpPr/>
              <p:nvPr/>
            </p:nvSpPr>
            <p:spPr>
              <a:xfrm rot="36600">
                <a:off x="5986800" y="33148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未知"/>
              <p:cNvSpPr/>
              <p:nvPr/>
            </p:nvSpPr>
            <p:spPr>
              <a:xfrm rot="36600">
                <a:off x="6146640" y="332316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未知"/>
              <p:cNvSpPr/>
              <p:nvPr/>
            </p:nvSpPr>
            <p:spPr>
              <a:xfrm rot="36600">
                <a:off x="5941800" y="33429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未知"/>
              <p:cNvSpPr/>
              <p:nvPr/>
            </p:nvSpPr>
            <p:spPr>
              <a:xfrm rot="36600">
                <a:off x="5536800" y="336276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未知"/>
              <p:cNvSpPr/>
              <p:nvPr/>
            </p:nvSpPr>
            <p:spPr>
              <a:xfrm rot="36600">
                <a:off x="5760000" y="336780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未知"/>
              <p:cNvSpPr/>
              <p:nvPr/>
            </p:nvSpPr>
            <p:spPr>
              <a:xfrm rot="36600">
                <a:off x="5426640" y="339696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未知"/>
              <p:cNvSpPr/>
              <p:nvPr/>
            </p:nvSpPr>
            <p:spPr>
              <a:xfrm rot="36600">
                <a:off x="6107760" y="34066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未知"/>
              <p:cNvSpPr/>
              <p:nvPr/>
            </p:nvSpPr>
            <p:spPr>
              <a:xfrm rot="36600">
                <a:off x="5283360" y="342324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未知"/>
              <p:cNvSpPr/>
              <p:nvPr/>
            </p:nvSpPr>
            <p:spPr>
              <a:xfrm rot="36600">
                <a:off x="5536080" y="34387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未知"/>
              <p:cNvSpPr/>
              <p:nvPr/>
            </p:nvSpPr>
            <p:spPr>
              <a:xfrm rot="36600">
                <a:off x="5848200" y="344448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未知"/>
              <p:cNvSpPr/>
              <p:nvPr/>
            </p:nvSpPr>
            <p:spPr>
              <a:xfrm rot="36600">
                <a:off x="5621040" y="350352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未知"/>
              <p:cNvSpPr/>
              <p:nvPr/>
            </p:nvSpPr>
            <p:spPr>
              <a:xfrm rot="36600">
                <a:off x="6348240" y="351360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未知"/>
              <p:cNvSpPr/>
              <p:nvPr/>
            </p:nvSpPr>
            <p:spPr>
              <a:xfrm rot="36600">
                <a:off x="6229800" y="35445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未知"/>
              <p:cNvSpPr/>
              <p:nvPr/>
            </p:nvSpPr>
            <p:spPr>
              <a:xfrm rot="36600">
                <a:off x="5448960" y="354384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未知"/>
              <p:cNvSpPr/>
              <p:nvPr/>
            </p:nvSpPr>
            <p:spPr>
              <a:xfrm rot="36600">
                <a:off x="5791680" y="359172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未知"/>
              <p:cNvSpPr/>
              <p:nvPr/>
            </p:nvSpPr>
            <p:spPr>
              <a:xfrm rot="36600">
                <a:off x="5207760" y="364176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未知"/>
              <p:cNvSpPr/>
              <p:nvPr/>
            </p:nvSpPr>
            <p:spPr>
              <a:xfrm rot="36600">
                <a:off x="6294960" y="36770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未知"/>
              <p:cNvSpPr/>
              <p:nvPr/>
            </p:nvSpPr>
            <p:spPr>
              <a:xfrm rot="36600">
                <a:off x="5026680" y="3706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未知"/>
              <p:cNvSpPr/>
              <p:nvPr/>
            </p:nvSpPr>
            <p:spPr>
              <a:xfrm rot="36600">
                <a:off x="6090120" y="374436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未知"/>
              <p:cNvSpPr/>
              <p:nvPr/>
            </p:nvSpPr>
            <p:spPr>
              <a:xfrm rot="36600">
                <a:off x="6078960" y="3868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未知"/>
              <p:cNvSpPr/>
              <p:nvPr/>
            </p:nvSpPr>
            <p:spPr>
              <a:xfrm rot="36600">
                <a:off x="6145560" y="38689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787"/>
            <p:cNvGrpSpPr/>
            <p:nvPr/>
          </p:nvGrpSpPr>
          <p:grpSpPr>
            <a:xfrm>
              <a:off x="3578760" y="3266640"/>
              <a:ext cx="1646280" cy="779040"/>
              <a:chOff x="3578760" y="3266640"/>
              <a:chExt cx="1646280" cy="779040"/>
            </a:xfrm>
          </p:grpSpPr>
          <p:sp>
            <p:nvSpPr>
              <p:cNvPr id="981" name="未知"/>
              <p:cNvSpPr/>
              <p:nvPr/>
            </p:nvSpPr>
            <p:spPr>
              <a:xfrm rot="36600">
                <a:off x="3627000" y="327492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未知"/>
              <p:cNvSpPr/>
              <p:nvPr/>
            </p:nvSpPr>
            <p:spPr>
              <a:xfrm rot="36600">
                <a:off x="3656880" y="329184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未知"/>
              <p:cNvSpPr/>
              <p:nvPr/>
            </p:nvSpPr>
            <p:spPr>
              <a:xfrm rot="36600">
                <a:off x="4898520" y="331416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未知"/>
              <p:cNvSpPr/>
              <p:nvPr/>
            </p:nvSpPr>
            <p:spPr>
              <a:xfrm rot="36600">
                <a:off x="4789080" y="334260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未知"/>
              <p:cNvSpPr/>
              <p:nvPr/>
            </p:nvSpPr>
            <p:spPr>
              <a:xfrm rot="36600">
                <a:off x="4665240" y="335484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未知"/>
              <p:cNvSpPr/>
              <p:nvPr/>
            </p:nvSpPr>
            <p:spPr>
              <a:xfrm rot="36600">
                <a:off x="4397040" y="33609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未知"/>
              <p:cNvSpPr/>
              <p:nvPr/>
            </p:nvSpPr>
            <p:spPr>
              <a:xfrm rot="36600">
                <a:off x="4541040" y="338940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未知"/>
              <p:cNvSpPr/>
              <p:nvPr/>
            </p:nvSpPr>
            <p:spPr>
              <a:xfrm rot="36600">
                <a:off x="4291560" y="343152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未知"/>
              <p:cNvSpPr/>
              <p:nvPr/>
            </p:nvSpPr>
            <p:spPr>
              <a:xfrm rot="36600">
                <a:off x="3835440" y="343224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未知"/>
              <p:cNvSpPr/>
              <p:nvPr/>
            </p:nvSpPr>
            <p:spPr>
              <a:xfrm rot="36600">
                <a:off x="4668840" y="344628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未知"/>
              <p:cNvSpPr/>
              <p:nvPr/>
            </p:nvSpPr>
            <p:spPr>
              <a:xfrm rot="36600">
                <a:off x="4155840" y="345924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未知"/>
              <p:cNvSpPr/>
              <p:nvPr/>
            </p:nvSpPr>
            <p:spPr>
              <a:xfrm rot="36600">
                <a:off x="4442040" y="346140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未知"/>
              <p:cNvSpPr/>
              <p:nvPr/>
            </p:nvSpPr>
            <p:spPr>
              <a:xfrm rot="36600">
                <a:off x="4538880" y="34671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未知"/>
              <p:cNvSpPr/>
              <p:nvPr/>
            </p:nvSpPr>
            <p:spPr>
              <a:xfrm rot="36600">
                <a:off x="4698720" y="347544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未知"/>
              <p:cNvSpPr/>
              <p:nvPr/>
            </p:nvSpPr>
            <p:spPr>
              <a:xfrm rot="36600">
                <a:off x="4493880" y="34952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未知"/>
              <p:cNvSpPr/>
              <p:nvPr/>
            </p:nvSpPr>
            <p:spPr>
              <a:xfrm rot="36600">
                <a:off x="4088880" y="351504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未知"/>
              <p:cNvSpPr/>
              <p:nvPr/>
            </p:nvSpPr>
            <p:spPr>
              <a:xfrm rot="36600">
                <a:off x="4312080" y="352008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未知"/>
              <p:cNvSpPr/>
              <p:nvPr/>
            </p:nvSpPr>
            <p:spPr>
              <a:xfrm rot="36600">
                <a:off x="3978720" y="35488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未知"/>
              <p:cNvSpPr/>
              <p:nvPr/>
            </p:nvSpPr>
            <p:spPr>
              <a:xfrm rot="36600">
                <a:off x="4659840" y="355896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未知"/>
              <p:cNvSpPr/>
              <p:nvPr/>
            </p:nvSpPr>
            <p:spPr>
              <a:xfrm rot="36600">
                <a:off x="3835440" y="357552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未知"/>
              <p:cNvSpPr/>
              <p:nvPr/>
            </p:nvSpPr>
            <p:spPr>
              <a:xfrm rot="36600">
                <a:off x="4088160" y="35910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未知"/>
              <p:cNvSpPr/>
              <p:nvPr/>
            </p:nvSpPr>
            <p:spPr>
              <a:xfrm rot="36600">
                <a:off x="4400280" y="359676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未知"/>
              <p:cNvSpPr/>
              <p:nvPr/>
            </p:nvSpPr>
            <p:spPr>
              <a:xfrm rot="36600">
                <a:off x="4173120" y="365580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未知"/>
              <p:cNvSpPr/>
              <p:nvPr/>
            </p:nvSpPr>
            <p:spPr>
              <a:xfrm rot="36600">
                <a:off x="4900320" y="366588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未知"/>
              <p:cNvSpPr/>
              <p:nvPr/>
            </p:nvSpPr>
            <p:spPr>
              <a:xfrm rot="36600">
                <a:off x="4781880" y="369684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未知"/>
              <p:cNvSpPr/>
              <p:nvPr/>
            </p:nvSpPr>
            <p:spPr>
              <a:xfrm rot="36600">
                <a:off x="4001040" y="369612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未知"/>
              <p:cNvSpPr/>
              <p:nvPr/>
            </p:nvSpPr>
            <p:spPr>
              <a:xfrm rot="36600">
                <a:off x="4343760" y="374400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未知"/>
              <p:cNvSpPr/>
              <p:nvPr/>
            </p:nvSpPr>
            <p:spPr>
              <a:xfrm rot="36600">
                <a:off x="3759840" y="379404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未知"/>
              <p:cNvSpPr/>
              <p:nvPr/>
            </p:nvSpPr>
            <p:spPr>
              <a:xfrm rot="36600">
                <a:off x="4847040" y="382932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未知"/>
              <p:cNvSpPr/>
              <p:nvPr/>
            </p:nvSpPr>
            <p:spPr>
              <a:xfrm rot="36600">
                <a:off x="3578760" y="38584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未知"/>
              <p:cNvSpPr/>
              <p:nvPr/>
            </p:nvSpPr>
            <p:spPr>
              <a:xfrm rot="36600">
                <a:off x="4642200" y="38966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未知"/>
              <p:cNvSpPr/>
              <p:nvPr/>
            </p:nvSpPr>
            <p:spPr>
              <a:xfrm rot="36600">
                <a:off x="4631040" y="402048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未知"/>
              <p:cNvSpPr/>
              <p:nvPr/>
            </p:nvSpPr>
            <p:spPr>
              <a:xfrm rot="36600">
                <a:off x="4697640" y="4021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821"/>
            <p:cNvGrpSpPr/>
            <p:nvPr/>
          </p:nvGrpSpPr>
          <p:grpSpPr>
            <a:xfrm>
              <a:off x="4340880" y="3190680"/>
              <a:ext cx="1646280" cy="779040"/>
              <a:chOff x="4340880" y="3190680"/>
              <a:chExt cx="1646280" cy="779040"/>
            </a:xfrm>
          </p:grpSpPr>
          <p:sp>
            <p:nvSpPr>
              <p:cNvPr id="1015" name="未知"/>
              <p:cNvSpPr/>
              <p:nvPr/>
            </p:nvSpPr>
            <p:spPr>
              <a:xfrm rot="36600">
                <a:off x="4389120" y="3198960"/>
                <a:ext cx="1593720" cy="762120"/>
              </a:xfrm>
              <a:custGeom>
                <a:avLst/>
                <a:gdLst/>
                <a:ahLst/>
                <a:rect l="l" t="t" r="r" b="b"/>
                <a:pathLst>
                  <a:path w="2007" h="959">
                    <a:moveTo>
                      <a:pt x="1754" y="7"/>
                    </a:moveTo>
                    <a:lnTo>
                      <a:pt x="1760" y="11"/>
                    </a:lnTo>
                    <a:lnTo>
                      <a:pt x="1767" y="15"/>
                    </a:lnTo>
                    <a:lnTo>
                      <a:pt x="1772" y="19"/>
                    </a:lnTo>
                    <a:lnTo>
                      <a:pt x="1779" y="24"/>
                    </a:lnTo>
                    <a:lnTo>
                      <a:pt x="1785" y="29"/>
                    </a:lnTo>
                    <a:lnTo>
                      <a:pt x="1791" y="34"/>
                    </a:lnTo>
                    <a:lnTo>
                      <a:pt x="1797" y="40"/>
                    </a:lnTo>
                    <a:lnTo>
                      <a:pt x="1800" y="47"/>
                    </a:lnTo>
                    <a:lnTo>
                      <a:pt x="1803" y="68"/>
                    </a:lnTo>
                    <a:lnTo>
                      <a:pt x="1802" y="87"/>
                    </a:lnTo>
                    <a:lnTo>
                      <a:pt x="1798" y="108"/>
                    </a:lnTo>
                    <a:lnTo>
                      <a:pt x="1790" y="125"/>
                    </a:lnTo>
                    <a:lnTo>
                      <a:pt x="1677" y="244"/>
                    </a:lnTo>
                    <a:lnTo>
                      <a:pt x="1663" y="258"/>
                    </a:lnTo>
                    <a:lnTo>
                      <a:pt x="1661" y="276"/>
                    </a:lnTo>
                    <a:lnTo>
                      <a:pt x="1659" y="296"/>
                    </a:lnTo>
                    <a:lnTo>
                      <a:pt x="1647" y="311"/>
                    </a:lnTo>
                    <a:lnTo>
                      <a:pt x="1635" y="327"/>
                    </a:lnTo>
                    <a:lnTo>
                      <a:pt x="1625" y="345"/>
                    </a:lnTo>
                    <a:lnTo>
                      <a:pt x="1617" y="364"/>
                    </a:lnTo>
                    <a:lnTo>
                      <a:pt x="1608" y="382"/>
                    </a:lnTo>
                    <a:lnTo>
                      <a:pt x="1597" y="400"/>
                    </a:lnTo>
                    <a:lnTo>
                      <a:pt x="1583" y="413"/>
                    </a:lnTo>
                    <a:lnTo>
                      <a:pt x="1566" y="424"/>
                    </a:lnTo>
                    <a:lnTo>
                      <a:pt x="1543" y="427"/>
                    </a:lnTo>
                    <a:lnTo>
                      <a:pt x="1533" y="436"/>
                    </a:lnTo>
                    <a:lnTo>
                      <a:pt x="1522" y="448"/>
                    </a:lnTo>
                    <a:lnTo>
                      <a:pt x="1512" y="458"/>
                    </a:lnTo>
                    <a:lnTo>
                      <a:pt x="1503" y="470"/>
                    </a:lnTo>
                    <a:lnTo>
                      <a:pt x="1492" y="480"/>
                    </a:lnTo>
                    <a:lnTo>
                      <a:pt x="1482" y="491"/>
                    </a:lnTo>
                    <a:lnTo>
                      <a:pt x="1472" y="500"/>
                    </a:lnTo>
                    <a:lnTo>
                      <a:pt x="1459" y="508"/>
                    </a:lnTo>
                    <a:lnTo>
                      <a:pt x="1471" y="511"/>
                    </a:lnTo>
                    <a:lnTo>
                      <a:pt x="1481" y="516"/>
                    </a:lnTo>
                    <a:lnTo>
                      <a:pt x="1489" y="524"/>
                    </a:lnTo>
                    <a:lnTo>
                      <a:pt x="1496" y="532"/>
                    </a:lnTo>
                    <a:lnTo>
                      <a:pt x="1503" y="541"/>
                    </a:lnTo>
                    <a:lnTo>
                      <a:pt x="1511" y="550"/>
                    </a:lnTo>
                    <a:lnTo>
                      <a:pt x="1519" y="559"/>
                    </a:lnTo>
                    <a:lnTo>
                      <a:pt x="1529" y="564"/>
                    </a:lnTo>
                    <a:lnTo>
                      <a:pt x="1537" y="565"/>
                    </a:lnTo>
                    <a:lnTo>
                      <a:pt x="1544" y="565"/>
                    </a:lnTo>
                    <a:lnTo>
                      <a:pt x="1552" y="567"/>
                    </a:lnTo>
                    <a:lnTo>
                      <a:pt x="1559" y="569"/>
                    </a:lnTo>
                    <a:lnTo>
                      <a:pt x="1567" y="570"/>
                    </a:lnTo>
                    <a:lnTo>
                      <a:pt x="1574" y="572"/>
                    </a:lnTo>
                    <a:lnTo>
                      <a:pt x="1581" y="575"/>
                    </a:lnTo>
                    <a:lnTo>
                      <a:pt x="1588" y="577"/>
                    </a:lnTo>
                    <a:lnTo>
                      <a:pt x="1585" y="565"/>
                    </a:lnTo>
                    <a:lnTo>
                      <a:pt x="1580" y="553"/>
                    </a:lnTo>
                    <a:lnTo>
                      <a:pt x="1574" y="540"/>
                    </a:lnTo>
                    <a:lnTo>
                      <a:pt x="1568" y="529"/>
                    </a:lnTo>
                    <a:lnTo>
                      <a:pt x="1570" y="517"/>
                    </a:lnTo>
                    <a:lnTo>
                      <a:pt x="1573" y="506"/>
                    </a:lnTo>
                    <a:lnTo>
                      <a:pt x="1577" y="495"/>
                    </a:lnTo>
                    <a:lnTo>
                      <a:pt x="1583" y="485"/>
                    </a:lnTo>
                    <a:lnTo>
                      <a:pt x="1581" y="482"/>
                    </a:lnTo>
                    <a:lnTo>
                      <a:pt x="1578" y="480"/>
                    </a:lnTo>
                    <a:lnTo>
                      <a:pt x="1577" y="477"/>
                    </a:lnTo>
                    <a:lnTo>
                      <a:pt x="1578" y="473"/>
                    </a:lnTo>
                    <a:lnTo>
                      <a:pt x="1588" y="469"/>
                    </a:lnTo>
                    <a:lnTo>
                      <a:pt x="1600" y="465"/>
                    </a:lnTo>
                    <a:lnTo>
                      <a:pt x="1612" y="462"/>
                    </a:lnTo>
                    <a:lnTo>
                      <a:pt x="1625" y="459"/>
                    </a:lnTo>
                    <a:lnTo>
                      <a:pt x="1636" y="458"/>
                    </a:lnTo>
                    <a:lnTo>
                      <a:pt x="1649" y="459"/>
                    </a:lnTo>
                    <a:lnTo>
                      <a:pt x="1661" y="462"/>
                    </a:lnTo>
                    <a:lnTo>
                      <a:pt x="1672" y="466"/>
                    </a:lnTo>
                    <a:lnTo>
                      <a:pt x="1679" y="471"/>
                    </a:lnTo>
                    <a:lnTo>
                      <a:pt x="1684" y="478"/>
                    </a:lnTo>
                    <a:lnTo>
                      <a:pt x="1688" y="485"/>
                    </a:lnTo>
                    <a:lnTo>
                      <a:pt x="1692" y="492"/>
                    </a:lnTo>
                    <a:lnTo>
                      <a:pt x="1695" y="487"/>
                    </a:lnTo>
                    <a:lnTo>
                      <a:pt x="1700" y="485"/>
                    </a:lnTo>
                    <a:lnTo>
                      <a:pt x="1704" y="481"/>
                    </a:lnTo>
                    <a:lnTo>
                      <a:pt x="1709" y="480"/>
                    </a:lnTo>
                    <a:lnTo>
                      <a:pt x="1715" y="479"/>
                    </a:lnTo>
                    <a:lnTo>
                      <a:pt x="1721" y="479"/>
                    </a:lnTo>
                    <a:lnTo>
                      <a:pt x="1725" y="481"/>
                    </a:lnTo>
                    <a:lnTo>
                      <a:pt x="1731" y="484"/>
                    </a:lnTo>
                    <a:lnTo>
                      <a:pt x="1738" y="489"/>
                    </a:lnTo>
                    <a:lnTo>
                      <a:pt x="1747" y="494"/>
                    </a:lnTo>
                    <a:lnTo>
                      <a:pt x="1755" y="501"/>
                    </a:lnTo>
                    <a:lnTo>
                      <a:pt x="1763" y="507"/>
                    </a:lnTo>
                    <a:lnTo>
                      <a:pt x="1770" y="514"/>
                    </a:lnTo>
                    <a:lnTo>
                      <a:pt x="1776" y="522"/>
                    </a:lnTo>
                    <a:lnTo>
                      <a:pt x="1779" y="531"/>
                    </a:lnTo>
                    <a:lnTo>
                      <a:pt x="1780" y="541"/>
                    </a:lnTo>
                    <a:lnTo>
                      <a:pt x="1791" y="546"/>
                    </a:lnTo>
                    <a:lnTo>
                      <a:pt x="1801" y="550"/>
                    </a:lnTo>
                    <a:lnTo>
                      <a:pt x="1811" y="555"/>
                    </a:lnTo>
                    <a:lnTo>
                      <a:pt x="1822" y="561"/>
                    </a:lnTo>
                    <a:lnTo>
                      <a:pt x="1831" y="568"/>
                    </a:lnTo>
                    <a:lnTo>
                      <a:pt x="1838" y="577"/>
                    </a:lnTo>
                    <a:lnTo>
                      <a:pt x="1844" y="586"/>
                    </a:lnTo>
                    <a:lnTo>
                      <a:pt x="1847" y="598"/>
                    </a:lnTo>
                    <a:lnTo>
                      <a:pt x="1853" y="633"/>
                    </a:lnTo>
                    <a:lnTo>
                      <a:pt x="1861" y="633"/>
                    </a:lnTo>
                    <a:lnTo>
                      <a:pt x="1870" y="633"/>
                    </a:lnTo>
                    <a:lnTo>
                      <a:pt x="1879" y="632"/>
                    </a:lnTo>
                    <a:lnTo>
                      <a:pt x="1890" y="633"/>
                    </a:lnTo>
                    <a:lnTo>
                      <a:pt x="1898" y="635"/>
                    </a:lnTo>
                    <a:lnTo>
                      <a:pt x="1907" y="637"/>
                    </a:lnTo>
                    <a:lnTo>
                      <a:pt x="1915" y="640"/>
                    </a:lnTo>
                    <a:lnTo>
                      <a:pt x="1922" y="647"/>
                    </a:lnTo>
                    <a:lnTo>
                      <a:pt x="1930" y="660"/>
                    </a:lnTo>
                    <a:lnTo>
                      <a:pt x="1937" y="674"/>
                    </a:lnTo>
                    <a:lnTo>
                      <a:pt x="1943" y="688"/>
                    </a:lnTo>
                    <a:lnTo>
                      <a:pt x="1950" y="701"/>
                    </a:lnTo>
                    <a:lnTo>
                      <a:pt x="1955" y="715"/>
                    </a:lnTo>
                    <a:lnTo>
                      <a:pt x="1961" y="729"/>
                    </a:lnTo>
                    <a:lnTo>
                      <a:pt x="1968" y="743"/>
                    </a:lnTo>
                    <a:lnTo>
                      <a:pt x="1976" y="756"/>
                    </a:lnTo>
                    <a:lnTo>
                      <a:pt x="1981" y="772"/>
                    </a:lnTo>
                    <a:lnTo>
                      <a:pt x="1987" y="787"/>
                    </a:lnTo>
                    <a:lnTo>
                      <a:pt x="1995" y="802"/>
                    </a:lnTo>
                    <a:lnTo>
                      <a:pt x="2007" y="814"/>
                    </a:lnTo>
                    <a:lnTo>
                      <a:pt x="2007" y="818"/>
                    </a:lnTo>
                    <a:lnTo>
                      <a:pt x="2006" y="821"/>
                    </a:lnTo>
                    <a:lnTo>
                      <a:pt x="2004" y="825"/>
                    </a:lnTo>
                    <a:lnTo>
                      <a:pt x="2000" y="826"/>
                    </a:lnTo>
                    <a:lnTo>
                      <a:pt x="1988" y="828"/>
                    </a:lnTo>
                    <a:lnTo>
                      <a:pt x="1975" y="827"/>
                    </a:lnTo>
                    <a:lnTo>
                      <a:pt x="1961" y="825"/>
                    </a:lnTo>
                    <a:lnTo>
                      <a:pt x="1949" y="822"/>
                    </a:lnTo>
                    <a:lnTo>
                      <a:pt x="1936" y="821"/>
                    </a:lnTo>
                    <a:lnTo>
                      <a:pt x="1923" y="822"/>
                    </a:lnTo>
                    <a:lnTo>
                      <a:pt x="1913" y="827"/>
                    </a:lnTo>
                    <a:lnTo>
                      <a:pt x="1904" y="836"/>
                    </a:lnTo>
                    <a:lnTo>
                      <a:pt x="1892" y="839"/>
                    </a:lnTo>
                    <a:lnTo>
                      <a:pt x="1881" y="840"/>
                    </a:lnTo>
                    <a:lnTo>
                      <a:pt x="1869" y="842"/>
                    </a:lnTo>
                    <a:lnTo>
                      <a:pt x="1858" y="843"/>
                    </a:lnTo>
                    <a:lnTo>
                      <a:pt x="1846" y="844"/>
                    </a:lnTo>
                    <a:lnTo>
                      <a:pt x="1835" y="845"/>
                    </a:lnTo>
                    <a:lnTo>
                      <a:pt x="1822" y="847"/>
                    </a:lnTo>
                    <a:lnTo>
                      <a:pt x="1810" y="848"/>
                    </a:lnTo>
                    <a:lnTo>
                      <a:pt x="1799" y="849"/>
                    </a:lnTo>
                    <a:lnTo>
                      <a:pt x="1786" y="849"/>
                    </a:lnTo>
                    <a:lnTo>
                      <a:pt x="1775" y="850"/>
                    </a:lnTo>
                    <a:lnTo>
                      <a:pt x="1763" y="850"/>
                    </a:lnTo>
                    <a:lnTo>
                      <a:pt x="1752" y="850"/>
                    </a:lnTo>
                    <a:lnTo>
                      <a:pt x="1740" y="851"/>
                    </a:lnTo>
                    <a:lnTo>
                      <a:pt x="1729" y="851"/>
                    </a:lnTo>
                    <a:lnTo>
                      <a:pt x="1717" y="851"/>
                    </a:lnTo>
                    <a:lnTo>
                      <a:pt x="1726" y="859"/>
                    </a:lnTo>
                    <a:lnTo>
                      <a:pt x="1735" y="868"/>
                    </a:lnTo>
                    <a:lnTo>
                      <a:pt x="1742" y="879"/>
                    </a:lnTo>
                    <a:lnTo>
                      <a:pt x="1745" y="890"/>
                    </a:lnTo>
                    <a:lnTo>
                      <a:pt x="1742" y="897"/>
                    </a:lnTo>
                    <a:lnTo>
                      <a:pt x="1738" y="900"/>
                    </a:lnTo>
                    <a:lnTo>
                      <a:pt x="1732" y="901"/>
                    </a:lnTo>
                    <a:lnTo>
                      <a:pt x="1726" y="901"/>
                    </a:lnTo>
                    <a:lnTo>
                      <a:pt x="1719" y="900"/>
                    </a:lnTo>
                    <a:lnTo>
                      <a:pt x="1714" y="897"/>
                    </a:lnTo>
                    <a:lnTo>
                      <a:pt x="1708" y="897"/>
                    </a:lnTo>
                    <a:lnTo>
                      <a:pt x="1702" y="898"/>
                    </a:lnTo>
                    <a:lnTo>
                      <a:pt x="1681" y="896"/>
                    </a:lnTo>
                    <a:lnTo>
                      <a:pt x="1661" y="895"/>
                    </a:lnTo>
                    <a:lnTo>
                      <a:pt x="1639" y="894"/>
                    </a:lnTo>
                    <a:lnTo>
                      <a:pt x="1618" y="892"/>
                    </a:lnTo>
                    <a:lnTo>
                      <a:pt x="1596" y="889"/>
                    </a:lnTo>
                    <a:lnTo>
                      <a:pt x="1575" y="886"/>
                    </a:lnTo>
                    <a:lnTo>
                      <a:pt x="1556" y="880"/>
                    </a:lnTo>
                    <a:lnTo>
                      <a:pt x="1537" y="872"/>
                    </a:lnTo>
                    <a:lnTo>
                      <a:pt x="1524" y="868"/>
                    </a:lnTo>
                    <a:lnTo>
                      <a:pt x="1517" y="871"/>
                    </a:lnTo>
                    <a:lnTo>
                      <a:pt x="1514" y="877"/>
                    </a:lnTo>
                    <a:lnTo>
                      <a:pt x="1514" y="885"/>
                    </a:lnTo>
                    <a:lnTo>
                      <a:pt x="1514" y="893"/>
                    </a:lnTo>
                    <a:lnTo>
                      <a:pt x="1512" y="900"/>
                    </a:lnTo>
                    <a:lnTo>
                      <a:pt x="1505" y="903"/>
                    </a:lnTo>
                    <a:lnTo>
                      <a:pt x="1491" y="901"/>
                    </a:lnTo>
                    <a:lnTo>
                      <a:pt x="1468" y="901"/>
                    </a:lnTo>
                    <a:lnTo>
                      <a:pt x="1444" y="902"/>
                    </a:lnTo>
                    <a:lnTo>
                      <a:pt x="1421" y="904"/>
                    </a:lnTo>
                    <a:lnTo>
                      <a:pt x="1398" y="906"/>
                    </a:lnTo>
                    <a:lnTo>
                      <a:pt x="1375" y="910"/>
                    </a:lnTo>
                    <a:lnTo>
                      <a:pt x="1352" y="915"/>
                    </a:lnTo>
                    <a:lnTo>
                      <a:pt x="1330" y="921"/>
                    </a:lnTo>
                    <a:lnTo>
                      <a:pt x="1309" y="928"/>
                    </a:lnTo>
                    <a:lnTo>
                      <a:pt x="1300" y="932"/>
                    </a:lnTo>
                    <a:lnTo>
                      <a:pt x="1289" y="933"/>
                    </a:lnTo>
                    <a:lnTo>
                      <a:pt x="1277" y="932"/>
                    </a:lnTo>
                    <a:lnTo>
                      <a:pt x="1264" y="932"/>
                    </a:lnTo>
                    <a:lnTo>
                      <a:pt x="1254" y="933"/>
                    </a:lnTo>
                    <a:lnTo>
                      <a:pt x="1246" y="936"/>
                    </a:lnTo>
                    <a:lnTo>
                      <a:pt x="1241" y="946"/>
                    </a:lnTo>
                    <a:lnTo>
                      <a:pt x="1240" y="959"/>
                    </a:lnTo>
                    <a:lnTo>
                      <a:pt x="1232" y="959"/>
                    </a:lnTo>
                    <a:lnTo>
                      <a:pt x="1229" y="932"/>
                    </a:lnTo>
                    <a:lnTo>
                      <a:pt x="1225" y="938"/>
                    </a:lnTo>
                    <a:lnTo>
                      <a:pt x="1224" y="947"/>
                    </a:lnTo>
                    <a:lnTo>
                      <a:pt x="1221" y="954"/>
                    </a:lnTo>
                    <a:lnTo>
                      <a:pt x="1211" y="955"/>
                    </a:lnTo>
                    <a:lnTo>
                      <a:pt x="1208" y="930"/>
                    </a:lnTo>
                    <a:lnTo>
                      <a:pt x="1202" y="932"/>
                    </a:lnTo>
                    <a:lnTo>
                      <a:pt x="1198" y="934"/>
                    </a:lnTo>
                    <a:lnTo>
                      <a:pt x="1193" y="939"/>
                    </a:lnTo>
                    <a:lnTo>
                      <a:pt x="1188" y="942"/>
                    </a:lnTo>
                    <a:lnTo>
                      <a:pt x="1184" y="946"/>
                    </a:lnTo>
                    <a:lnTo>
                      <a:pt x="1179" y="948"/>
                    </a:lnTo>
                    <a:lnTo>
                      <a:pt x="1175" y="950"/>
                    </a:lnTo>
                    <a:lnTo>
                      <a:pt x="1170" y="950"/>
                    </a:lnTo>
                    <a:lnTo>
                      <a:pt x="1168" y="946"/>
                    </a:lnTo>
                    <a:lnTo>
                      <a:pt x="1169" y="941"/>
                    </a:lnTo>
                    <a:lnTo>
                      <a:pt x="1172" y="938"/>
                    </a:lnTo>
                    <a:lnTo>
                      <a:pt x="1173" y="932"/>
                    </a:lnTo>
                    <a:lnTo>
                      <a:pt x="1162" y="931"/>
                    </a:lnTo>
                    <a:lnTo>
                      <a:pt x="1150" y="930"/>
                    </a:lnTo>
                    <a:lnTo>
                      <a:pt x="1139" y="928"/>
                    </a:lnTo>
                    <a:lnTo>
                      <a:pt x="1127" y="927"/>
                    </a:lnTo>
                    <a:lnTo>
                      <a:pt x="1115" y="926"/>
                    </a:lnTo>
                    <a:lnTo>
                      <a:pt x="1103" y="925"/>
                    </a:lnTo>
                    <a:lnTo>
                      <a:pt x="1091" y="925"/>
                    </a:lnTo>
                    <a:lnTo>
                      <a:pt x="1078" y="924"/>
                    </a:lnTo>
                    <a:lnTo>
                      <a:pt x="1065" y="924"/>
                    </a:lnTo>
                    <a:lnTo>
                      <a:pt x="1053" y="924"/>
                    </a:lnTo>
                    <a:lnTo>
                      <a:pt x="1041" y="924"/>
                    </a:lnTo>
                    <a:lnTo>
                      <a:pt x="1028" y="925"/>
                    </a:lnTo>
                    <a:lnTo>
                      <a:pt x="1017" y="926"/>
                    </a:lnTo>
                    <a:lnTo>
                      <a:pt x="1005" y="928"/>
                    </a:lnTo>
                    <a:lnTo>
                      <a:pt x="994" y="931"/>
                    </a:lnTo>
                    <a:lnTo>
                      <a:pt x="982" y="934"/>
                    </a:lnTo>
                    <a:lnTo>
                      <a:pt x="972" y="934"/>
                    </a:lnTo>
                    <a:lnTo>
                      <a:pt x="962" y="934"/>
                    </a:lnTo>
                    <a:lnTo>
                      <a:pt x="950" y="934"/>
                    </a:lnTo>
                    <a:lnTo>
                      <a:pt x="940" y="934"/>
                    </a:lnTo>
                    <a:lnTo>
                      <a:pt x="929" y="933"/>
                    </a:lnTo>
                    <a:lnTo>
                      <a:pt x="919" y="932"/>
                    </a:lnTo>
                    <a:lnTo>
                      <a:pt x="910" y="927"/>
                    </a:lnTo>
                    <a:lnTo>
                      <a:pt x="902" y="921"/>
                    </a:lnTo>
                    <a:lnTo>
                      <a:pt x="894" y="930"/>
                    </a:lnTo>
                    <a:lnTo>
                      <a:pt x="889" y="940"/>
                    </a:lnTo>
                    <a:lnTo>
                      <a:pt x="883" y="951"/>
                    </a:lnTo>
                    <a:lnTo>
                      <a:pt x="876" y="959"/>
                    </a:lnTo>
                    <a:lnTo>
                      <a:pt x="874" y="948"/>
                    </a:lnTo>
                    <a:lnTo>
                      <a:pt x="876" y="936"/>
                    </a:lnTo>
                    <a:lnTo>
                      <a:pt x="882" y="925"/>
                    </a:lnTo>
                    <a:lnTo>
                      <a:pt x="889" y="916"/>
                    </a:lnTo>
                    <a:lnTo>
                      <a:pt x="891" y="909"/>
                    </a:lnTo>
                    <a:lnTo>
                      <a:pt x="888" y="902"/>
                    </a:lnTo>
                    <a:lnTo>
                      <a:pt x="884" y="894"/>
                    </a:lnTo>
                    <a:lnTo>
                      <a:pt x="883" y="885"/>
                    </a:lnTo>
                    <a:lnTo>
                      <a:pt x="883" y="868"/>
                    </a:lnTo>
                    <a:lnTo>
                      <a:pt x="886" y="855"/>
                    </a:lnTo>
                    <a:lnTo>
                      <a:pt x="891" y="841"/>
                    </a:lnTo>
                    <a:lnTo>
                      <a:pt x="899" y="828"/>
                    </a:lnTo>
                    <a:lnTo>
                      <a:pt x="907" y="815"/>
                    </a:lnTo>
                    <a:lnTo>
                      <a:pt x="916" y="804"/>
                    </a:lnTo>
                    <a:lnTo>
                      <a:pt x="924" y="791"/>
                    </a:lnTo>
                    <a:lnTo>
                      <a:pt x="929" y="779"/>
                    </a:lnTo>
                    <a:lnTo>
                      <a:pt x="926" y="759"/>
                    </a:lnTo>
                    <a:lnTo>
                      <a:pt x="921" y="739"/>
                    </a:lnTo>
                    <a:lnTo>
                      <a:pt x="917" y="721"/>
                    </a:lnTo>
                    <a:lnTo>
                      <a:pt x="914" y="701"/>
                    </a:lnTo>
                    <a:lnTo>
                      <a:pt x="910" y="726"/>
                    </a:lnTo>
                    <a:lnTo>
                      <a:pt x="904" y="749"/>
                    </a:lnTo>
                    <a:lnTo>
                      <a:pt x="897" y="772"/>
                    </a:lnTo>
                    <a:lnTo>
                      <a:pt x="890" y="795"/>
                    </a:lnTo>
                    <a:lnTo>
                      <a:pt x="882" y="818"/>
                    </a:lnTo>
                    <a:lnTo>
                      <a:pt x="874" y="840"/>
                    </a:lnTo>
                    <a:lnTo>
                      <a:pt x="865" y="863"/>
                    </a:lnTo>
                    <a:lnTo>
                      <a:pt x="856" y="885"/>
                    </a:lnTo>
                    <a:lnTo>
                      <a:pt x="848" y="893"/>
                    </a:lnTo>
                    <a:lnTo>
                      <a:pt x="838" y="898"/>
                    </a:lnTo>
                    <a:lnTo>
                      <a:pt x="829" y="902"/>
                    </a:lnTo>
                    <a:lnTo>
                      <a:pt x="819" y="903"/>
                    </a:lnTo>
                    <a:lnTo>
                      <a:pt x="807" y="904"/>
                    </a:lnTo>
                    <a:lnTo>
                      <a:pt x="797" y="906"/>
                    </a:lnTo>
                    <a:lnTo>
                      <a:pt x="787" y="909"/>
                    </a:lnTo>
                    <a:lnTo>
                      <a:pt x="777" y="913"/>
                    </a:lnTo>
                    <a:lnTo>
                      <a:pt x="760" y="915"/>
                    </a:lnTo>
                    <a:lnTo>
                      <a:pt x="743" y="915"/>
                    </a:lnTo>
                    <a:lnTo>
                      <a:pt x="724" y="915"/>
                    </a:lnTo>
                    <a:lnTo>
                      <a:pt x="707" y="915"/>
                    </a:lnTo>
                    <a:lnTo>
                      <a:pt x="690" y="913"/>
                    </a:lnTo>
                    <a:lnTo>
                      <a:pt x="673" y="912"/>
                    </a:lnTo>
                    <a:lnTo>
                      <a:pt x="654" y="911"/>
                    </a:lnTo>
                    <a:lnTo>
                      <a:pt x="637" y="910"/>
                    </a:lnTo>
                    <a:lnTo>
                      <a:pt x="620" y="909"/>
                    </a:lnTo>
                    <a:lnTo>
                      <a:pt x="601" y="908"/>
                    </a:lnTo>
                    <a:lnTo>
                      <a:pt x="584" y="906"/>
                    </a:lnTo>
                    <a:lnTo>
                      <a:pt x="565" y="906"/>
                    </a:lnTo>
                    <a:lnTo>
                      <a:pt x="548" y="905"/>
                    </a:lnTo>
                    <a:lnTo>
                      <a:pt x="530" y="905"/>
                    </a:lnTo>
                    <a:lnTo>
                      <a:pt x="512" y="906"/>
                    </a:lnTo>
                    <a:lnTo>
                      <a:pt x="494" y="908"/>
                    </a:lnTo>
                    <a:lnTo>
                      <a:pt x="479" y="904"/>
                    </a:lnTo>
                    <a:lnTo>
                      <a:pt x="464" y="903"/>
                    </a:lnTo>
                    <a:lnTo>
                      <a:pt x="449" y="904"/>
                    </a:lnTo>
                    <a:lnTo>
                      <a:pt x="436" y="906"/>
                    </a:lnTo>
                    <a:lnTo>
                      <a:pt x="423" y="910"/>
                    </a:lnTo>
                    <a:lnTo>
                      <a:pt x="409" y="915"/>
                    </a:lnTo>
                    <a:lnTo>
                      <a:pt x="396" y="919"/>
                    </a:lnTo>
                    <a:lnTo>
                      <a:pt x="382" y="924"/>
                    </a:lnTo>
                    <a:lnTo>
                      <a:pt x="201" y="919"/>
                    </a:lnTo>
                    <a:lnTo>
                      <a:pt x="200" y="912"/>
                    </a:lnTo>
                    <a:lnTo>
                      <a:pt x="203" y="906"/>
                    </a:lnTo>
                    <a:lnTo>
                      <a:pt x="208" y="901"/>
                    </a:lnTo>
                    <a:lnTo>
                      <a:pt x="214" y="897"/>
                    </a:lnTo>
                    <a:lnTo>
                      <a:pt x="221" y="893"/>
                    </a:lnTo>
                    <a:lnTo>
                      <a:pt x="227" y="887"/>
                    </a:lnTo>
                    <a:lnTo>
                      <a:pt x="230" y="880"/>
                    </a:lnTo>
                    <a:lnTo>
                      <a:pt x="231" y="872"/>
                    </a:lnTo>
                    <a:lnTo>
                      <a:pt x="234" y="857"/>
                    </a:lnTo>
                    <a:lnTo>
                      <a:pt x="230" y="843"/>
                    </a:lnTo>
                    <a:lnTo>
                      <a:pt x="225" y="829"/>
                    </a:lnTo>
                    <a:lnTo>
                      <a:pt x="216" y="818"/>
                    </a:lnTo>
                    <a:lnTo>
                      <a:pt x="211" y="818"/>
                    </a:lnTo>
                    <a:lnTo>
                      <a:pt x="205" y="820"/>
                    </a:lnTo>
                    <a:lnTo>
                      <a:pt x="199" y="824"/>
                    </a:lnTo>
                    <a:lnTo>
                      <a:pt x="193" y="826"/>
                    </a:lnTo>
                    <a:lnTo>
                      <a:pt x="185" y="826"/>
                    </a:lnTo>
                    <a:lnTo>
                      <a:pt x="178" y="825"/>
                    </a:lnTo>
                    <a:lnTo>
                      <a:pt x="172" y="824"/>
                    </a:lnTo>
                    <a:lnTo>
                      <a:pt x="165" y="821"/>
                    </a:lnTo>
                    <a:lnTo>
                      <a:pt x="157" y="820"/>
                    </a:lnTo>
                    <a:lnTo>
                      <a:pt x="150" y="819"/>
                    </a:lnTo>
                    <a:lnTo>
                      <a:pt x="143" y="819"/>
                    </a:lnTo>
                    <a:lnTo>
                      <a:pt x="135" y="820"/>
                    </a:lnTo>
                    <a:lnTo>
                      <a:pt x="136" y="810"/>
                    </a:lnTo>
                    <a:lnTo>
                      <a:pt x="139" y="800"/>
                    </a:lnTo>
                    <a:lnTo>
                      <a:pt x="145" y="792"/>
                    </a:lnTo>
                    <a:lnTo>
                      <a:pt x="152" y="784"/>
                    </a:lnTo>
                    <a:lnTo>
                      <a:pt x="160" y="777"/>
                    </a:lnTo>
                    <a:lnTo>
                      <a:pt x="169" y="771"/>
                    </a:lnTo>
                    <a:lnTo>
                      <a:pt x="177" y="764"/>
                    </a:lnTo>
                    <a:lnTo>
                      <a:pt x="185" y="756"/>
                    </a:lnTo>
                    <a:lnTo>
                      <a:pt x="198" y="758"/>
                    </a:lnTo>
                    <a:lnTo>
                      <a:pt x="208" y="754"/>
                    </a:lnTo>
                    <a:lnTo>
                      <a:pt x="215" y="749"/>
                    </a:lnTo>
                    <a:lnTo>
                      <a:pt x="222" y="739"/>
                    </a:lnTo>
                    <a:lnTo>
                      <a:pt x="229" y="731"/>
                    </a:lnTo>
                    <a:lnTo>
                      <a:pt x="236" y="723"/>
                    </a:lnTo>
                    <a:lnTo>
                      <a:pt x="245" y="716"/>
                    </a:lnTo>
                    <a:lnTo>
                      <a:pt x="256" y="714"/>
                    </a:lnTo>
                    <a:lnTo>
                      <a:pt x="273" y="712"/>
                    </a:lnTo>
                    <a:lnTo>
                      <a:pt x="289" y="707"/>
                    </a:lnTo>
                    <a:lnTo>
                      <a:pt x="304" y="699"/>
                    </a:lnTo>
                    <a:lnTo>
                      <a:pt x="318" y="690"/>
                    </a:lnTo>
                    <a:lnTo>
                      <a:pt x="332" y="680"/>
                    </a:lnTo>
                    <a:lnTo>
                      <a:pt x="344" y="668"/>
                    </a:lnTo>
                    <a:lnTo>
                      <a:pt x="357" y="656"/>
                    </a:lnTo>
                    <a:lnTo>
                      <a:pt x="370" y="645"/>
                    </a:lnTo>
                    <a:lnTo>
                      <a:pt x="364" y="640"/>
                    </a:lnTo>
                    <a:lnTo>
                      <a:pt x="357" y="636"/>
                    </a:lnTo>
                    <a:lnTo>
                      <a:pt x="350" y="633"/>
                    </a:lnTo>
                    <a:lnTo>
                      <a:pt x="341" y="633"/>
                    </a:lnTo>
                    <a:lnTo>
                      <a:pt x="333" y="628"/>
                    </a:lnTo>
                    <a:lnTo>
                      <a:pt x="325" y="622"/>
                    </a:lnTo>
                    <a:lnTo>
                      <a:pt x="317" y="616"/>
                    </a:lnTo>
                    <a:lnTo>
                      <a:pt x="309" y="609"/>
                    </a:lnTo>
                    <a:lnTo>
                      <a:pt x="302" y="602"/>
                    </a:lnTo>
                    <a:lnTo>
                      <a:pt x="297" y="593"/>
                    </a:lnTo>
                    <a:lnTo>
                      <a:pt x="292" y="585"/>
                    </a:lnTo>
                    <a:lnTo>
                      <a:pt x="290" y="575"/>
                    </a:lnTo>
                    <a:lnTo>
                      <a:pt x="283" y="570"/>
                    </a:lnTo>
                    <a:lnTo>
                      <a:pt x="275" y="568"/>
                    </a:lnTo>
                    <a:lnTo>
                      <a:pt x="266" y="565"/>
                    </a:lnTo>
                    <a:lnTo>
                      <a:pt x="258" y="564"/>
                    </a:lnTo>
                    <a:lnTo>
                      <a:pt x="249" y="563"/>
                    </a:lnTo>
                    <a:lnTo>
                      <a:pt x="241" y="560"/>
                    </a:lnTo>
                    <a:lnTo>
                      <a:pt x="233" y="555"/>
                    </a:lnTo>
                    <a:lnTo>
                      <a:pt x="227" y="547"/>
                    </a:lnTo>
                    <a:lnTo>
                      <a:pt x="221" y="541"/>
                    </a:lnTo>
                    <a:lnTo>
                      <a:pt x="215" y="535"/>
                    </a:lnTo>
                    <a:lnTo>
                      <a:pt x="211" y="529"/>
                    </a:lnTo>
                    <a:lnTo>
                      <a:pt x="205" y="522"/>
                    </a:lnTo>
                    <a:lnTo>
                      <a:pt x="199" y="516"/>
                    </a:lnTo>
                    <a:lnTo>
                      <a:pt x="193" y="510"/>
                    </a:lnTo>
                    <a:lnTo>
                      <a:pt x="188" y="507"/>
                    </a:lnTo>
                    <a:lnTo>
                      <a:pt x="181" y="504"/>
                    </a:lnTo>
                    <a:lnTo>
                      <a:pt x="167" y="500"/>
                    </a:lnTo>
                    <a:lnTo>
                      <a:pt x="155" y="492"/>
                    </a:lnTo>
                    <a:lnTo>
                      <a:pt x="145" y="481"/>
                    </a:lnTo>
                    <a:lnTo>
                      <a:pt x="136" y="471"/>
                    </a:lnTo>
                    <a:lnTo>
                      <a:pt x="127" y="461"/>
                    </a:lnTo>
                    <a:lnTo>
                      <a:pt x="115" y="453"/>
                    </a:lnTo>
                    <a:lnTo>
                      <a:pt x="102" y="448"/>
                    </a:lnTo>
                    <a:lnTo>
                      <a:pt x="87" y="448"/>
                    </a:lnTo>
                    <a:lnTo>
                      <a:pt x="78" y="440"/>
                    </a:lnTo>
                    <a:lnTo>
                      <a:pt x="67" y="434"/>
                    </a:lnTo>
                    <a:lnTo>
                      <a:pt x="55" y="431"/>
                    </a:lnTo>
                    <a:lnTo>
                      <a:pt x="43" y="427"/>
                    </a:lnTo>
                    <a:lnTo>
                      <a:pt x="31" y="423"/>
                    </a:lnTo>
                    <a:lnTo>
                      <a:pt x="21" y="417"/>
                    </a:lnTo>
                    <a:lnTo>
                      <a:pt x="11" y="408"/>
                    </a:lnTo>
                    <a:lnTo>
                      <a:pt x="6" y="394"/>
                    </a:lnTo>
                    <a:lnTo>
                      <a:pt x="0" y="360"/>
                    </a:lnTo>
                    <a:lnTo>
                      <a:pt x="0" y="326"/>
                    </a:lnTo>
                    <a:lnTo>
                      <a:pt x="3" y="292"/>
                    </a:lnTo>
                    <a:lnTo>
                      <a:pt x="8" y="259"/>
                    </a:lnTo>
                    <a:lnTo>
                      <a:pt x="18" y="252"/>
                    </a:lnTo>
                    <a:lnTo>
                      <a:pt x="29" y="245"/>
                    </a:lnTo>
                    <a:lnTo>
                      <a:pt x="39" y="237"/>
                    </a:lnTo>
                    <a:lnTo>
                      <a:pt x="51" y="230"/>
                    </a:lnTo>
                    <a:lnTo>
                      <a:pt x="61" y="223"/>
                    </a:lnTo>
                    <a:lnTo>
                      <a:pt x="74" y="219"/>
                    </a:lnTo>
                    <a:lnTo>
                      <a:pt x="85" y="215"/>
                    </a:lnTo>
                    <a:lnTo>
                      <a:pt x="99" y="215"/>
                    </a:lnTo>
                    <a:lnTo>
                      <a:pt x="113" y="205"/>
                    </a:lnTo>
                    <a:lnTo>
                      <a:pt x="127" y="196"/>
                    </a:lnTo>
                    <a:lnTo>
                      <a:pt x="142" y="185"/>
                    </a:lnTo>
                    <a:lnTo>
                      <a:pt x="155" y="176"/>
                    </a:lnTo>
                    <a:lnTo>
                      <a:pt x="170" y="169"/>
                    </a:lnTo>
                    <a:lnTo>
                      <a:pt x="185" y="162"/>
                    </a:lnTo>
                    <a:lnTo>
                      <a:pt x="200" y="158"/>
                    </a:lnTo>
                    <a:lnTo>
                      <a:pt x="218" y="155"/>
                    </a:lnTo>
                    <a:lnTo>
                      <a:pt x="229" y="158"/>
                    </a:lnTo>
                    <a:lnTo>
                      <a:pt x="242" y="159"/>
                    </a:lnTo>
                    <a:lnTo>
                      <a:pt x="254" y="161"/>
                    </a:lnTo>
                    <a:lnTo>
                      <a:pt x="267" y="162"/>
                    </a:lnTo>
                    <a:lnTo>
                      <a:pt x="279" y="162"/>
                    </a:lnTo>
                    <a:lnTo>
                      <a:pt x="291" y="163"/>
                    </a:lnTo>
                    <a:lnTo>
                      <a:pt x="304" y="163"/>
                    </a:lnTo>
                    <a:lnTo>
                      <a:pt x="317" y="163"/>
                    </a:lnTo>
                    <a:lnTo>
                      <a:pt x="329" y="162"/>
                    </a:lnTo>
                    <a:lnTo>
                      <a:pt x="341" y="161"/>
                    </a:lnTo>
                    <a:lnTo>
                      <a:pt x="352" y="159"/>
                    </a:lnTo>
                    <a:lnTo>
                      <a:pt x="365" y="155"/>
                    </a:lnTo>
                    <a:lnTo>
                      <a:pt x="375" y="152"/>
                    </a:lnTo>
                    <a:lnTo>
                      <a:pt x="387" y="147"/>
                    </a:lnTo>
                    <a:lnTo>
                      <a:pt x="397" y="141"/>
                    </a:lnTo>
                    <a:lnTo>
                      <a:pt x="408" y="135"/>
                    </a:lnTo>
                    <a:lnTo>
                      <a:pt x="423" y="136"/>
                    </a:lnTo>
                    <a:lnTo>
                      <a:pt x="438" y="137"/>
                    </a:lnTo>
                    <a:lnTo>
                      <a:pt x="453" y="138"/>
                    </a:lnTo>
                    <a:lnTo>
                      <a:pt x="468" y="138"/>
                    </a:lnTo>
                    <a:lnTo>
                      <a:pt x="482" y="138"/>
                    </a:lnTo>
                    <a:lnTo>
                      <a:pt x="497" y="138"/>
                    </a:lnTo>
                    <a:lnTo>
                      <a:pt x="511" y="137"/>
                    </a:lnTo>
                    <a:lnTo>
                      <a:pt x="526" y="135"/>
                    </a:lnTo>
                    <a:lnTo>
                      <a:pt x="541" y="133"/>
                    </a:lnTo>
                    <a:lnTo>
                      <a:pt x="555" y="130"/>
                    </a:lnTo>
                    <a:lnTo>
                      <a:pt x="569" y="126"/>
                    </a:lnTo>
                    <a:lnTo>
                      <a:pt x="583" y="122"/>
                    </a:lnTo>
                    <a:lnTo>
                      <a:pt x="595" y="116"/>
                    </a:lnTo>
                    <a:lnTo>
                      <a:pt x="608" y="110"/>
                    </a:lnTo>
                    <a:lnTo>
                      <a:pt x="621" y="102"/>
                    </a:lnTo>
                    <a:lnTo>
                      <a:pt x="632" y="94"/>
                    </a:lnTo>
                    <a:lnTo>
                      <a:pt x="652" y="88"/>
                    </a:lnTo>
                    <a:lnTo>
                      <a:pt x="670" y="83"/>
                    </a:lnTo>
                    <a:lnTo>
                      <a:pt x="690" y="78"/>
                    </a:lnTo>
                    <a:lnTo>
                      <a:pt x="708" y="72"/>
                    </a:lnTo>
                    <a:lnTo>
                      <a:pt x="728" y="69"/>
                    </a:lnTo>
                    <a:lnTo>
                      <a:pt x="747" y="64"/>
                    </a:lnTo>
                    <a:lnTo>
                      <a:pt x="768" y="61"/>
                    </a:lnTo>
                    <a:lnTo>
                      <a:pt x="788" y="59"/>
                    </a:lnTo>
                    <a:lnTo>
                      <a:pt x="793" y="61"/>
                    </a:lnTo>
                    <a:lnTo>
                      <a:pt x="800" y="62"/>
                    </a:lnTo>
                    <a:lnTo>
                      <a:pt x="807" y="63"/>
                    </a:lnTo>
                    <a:lnTo>
                      <a:pt x="814" y="62"/>
                    </a:lnTo>
                    <a:lnTo>
                      <a:pt x="821" y="61"/>
                    </a:lnTo>
                    <a:lnTo>
                      <a:pt x="828" y="60"/>
                    </a:lnTo>
                    <a:lnTo>
                      <a:pt x="835" y="59"/>
                    </a:lnTo>
                    <a:lnTo>
                      <a:pt x="842" y="59"/>
                    </a:lnTo>
                    <a:lnTo>
                      <a:pt x="853" y="60"/>
                    </a:lnTo>
                    <a:lnTo>
                      <a:pt x="865" y="62"/>
                    </a:lnTo>
                    <a:lnTo>
                      <a:pt x="876" y="63"/>
                    </a:lnTo>
                    <a:lnTo>
                      <a:pt x="889" y="65"/>
                    </a:lnTo>
                    <a:lnTo>
                      <a:pt x="901" y="68"/>
                    </a:lnTo>
                    <a:lnTo>
                      <a:pt x="912" y="71"/>
                    </a:lnTo>
                    <a:lnTo>
                      <a:pt x="924" y="75"/>
                    </a:lnTo>
                    <a:lnTo>
                      <a:pt x="935" y="78"/>
                    </a:lnTo>
                    <a:lnTo>
                      <a:pt x="951" y="75"/>
                    </a:lnTo>
                    <a:lnTo>
                      <a:pt x="967" y="75"/>
                    </a:lnTo>
                    <a:lnTo>
                      <a:pt x="982" y="77"/>
                    </a:lnTo>
                    <a:lnTo>
                      <a:pt x="997" y="79"/>
                    </a:lnTo>
                    <a:lnTo>
                      <a:pt x="1011" y="83"/>
                    </a:lnTo>
                    <a:lnTo>
                      <a:pt x="1026" y="85"/>
                    </a:lnTo>
                    <a:lnTo>
                      <a:pt x="1040" y="86"/>
                    </a:lnTo>
                    <a:lnTo>
                      <a:pt x="1055" y="84"/>
                    </a:lnTo>
                    <a:lnTo>
                      <a:pt x="1074" y="82"/>
                    </a:lnTo>
                    <a:lnTo>
                      <a:pt x="1094" y="78"/>
                    </a:lnTo>
                    <a:lnTo>
                      <a:pt x="1115" y="75"/>
                    </a:lnTo>
                    <a:lnTo>
                      <a:pt x="1134" y="72"/>
                    </a:lnTo>
                    <a:lnTo>
                      <a:pt x="1155" y="70"/>
                    </a:lnTo>
                    <a:lnTo>
                      <a:pt x="1175" y="69"/>
                    </a:lnTo>
                    <a:lnTo>
                      <a:pt x="1195" y="69"/>
                    </a:lnTo>
                    <a:lnTo>
                      <a:pt x="1215" y="71"/>
                    </a:lnTo>
                    <a:lnTo>
                      <a:pt x="1222" y="68"/>
                    </a:lnTo>
                    <a:lnTo>
                      <a:pt x="1230" y="64"/>
                    </a:lnTo>
                    <a:lnTo>
                      <a:pt x="1236" y="60"/>
                    </a:lnTo>
                    <a:lnTo>
                      <a:pt x="1243" y="54"/>
                    </a:lnTo>
                    <a:lnTo>
                      <a:pt x="1249" y="49"/>
                    </a:lnTo>
                    <a:lnTo>
                      <a:pt x="1255" y="45"/>
                    </a:lnTo>
                    <a:lnTo>
                      <a:pt x="1263" y="41"/>
                    </a:lnTo>
                    <a:lnTo>
                      <a:pt x="1270" y="38"/>
                    </a:lnTo>
                    <a:lnTo>
                      <a:pt x="1285" y="35"/>
                    </a:lnTo>
                    <a:lnTo>
                      <a:pt x="1299" y="38"/>
                    </a:lnTo>
                    <a:lnTo>
                      <a:pt x="1312" y="41"/>
                    </a:lnTo>
                    <a:lnTo>
                      <a:pt x="1325" y="46"/>
                    </a:lnTo>
                    <a:lnTo>
                      <a:pt x="1338" y="50"/>
                    </a:lnTo>
                    <a:lnTo>
                      <a:pt x="1350" y="50"/>
                    </a:lnTo>
                    <a:lnTo>
                      <a:pt x="1361" y="46"/>
                    </a:lnTo>
                    <a:lnTo>
                      <a:pt x="1372" y="34"/>
                    </a:lnTo>
                    <a:lnTo>
                      <a:pt x="1380" y="32"/>
                    </a:lnTo>
                    <a:lnTo>
                      <a:pt x="1389" y="32"/>
                    </a:lnTo>
                    <a:lnTo>
                      <a:pt x="1397" y="32"/>
                    </a:lnTo>
                    <a:lnTo>
                      <a:pt x="1404" y="34"/>
                    </a:lnTo>
                    <a:lnTo>
                      <a:pt x="1412" y="37"/>
                    </a:lnTo>
                    <a:lnTo>
                      <a:pt x="1419" y="40"/>
                    </a:lnTo>
                    <a:lnTo>
                      <a:pt x="1426" y="45"/>
                    </a:lnTo>
                    <a:lnTo>
                      <a:pt x="1431" y="50"/>
                    </a:lnTo>
                    <a:lnTo>
                      <a:pt x="1444" y="49"/>
                    </a:lnTo>
                    <a:lnTo>
                      <a:pt x="1457" y="49"/>
                    </a:lnTo>
                    <a:lnTo>
                      <a:pt x="1469" y="49"/>
                    </a:lnTo>
                    <a:lnTo>
                      <a:pt x="1482" y="49"/>
                    </a:lnTo>
                    <a:lnTo>
                      <a:pt x="1495" y="49"/>
                    </a:lnTo>
                    <a:lnTo>
                      <a:pt x="1507" y="48"/>
                    </a:lnTo>
                    <a:lnTo>
                      <a:pt x="1520" y="48"/>
                    </a:lnTo>
                    <a:lnTo>
                      <a:pt x="1532" y="48"/>
                    </a:lnTo>
                    <a:lnTo>
                      <a:pt x="1544" y="47"/>
                    </a:lnTo>
                    <a:lnTo>
                      <a:pt x="1556" y="46"/>
                    </a:lnTo>
                    <a:lnTo>
                      <a:pt x="1568" y="45"/>
                    </a:lnTo>
                    <a:lnTo>
                      <a:pt x="1580" y="42"/>
                    </a:lnTo>
                    <a:lnTo>
                      <a:pt x="1592" y="39"/>
                    </a:lnTo>
                    <a:lnTo>
                      <a:pt x="1603" y="35"/>
                    </a:lnTo>
                    <a:lnTo>
                      <a:pt x="1615" y="31"/>
                    </a:lnTo>
                    <a:lnTo>
                      <a:pt x="1625" y="26"/>
                    </a:lnTo>
                    <a:lnTo>
                      <a:pt x="1633" y="22"/>
                    </a:lnTo>
                    <a:lnTo>
                      <a:pt x="1641" y="16"/>
                    </a:lnTo>
                    <a:lnTo>
                      <a:pt x="1650" y="10"/>
                    </a:lnTo>
                    <a:lnTo>
                      <a:pt x="1658" y="6"/>
                    </a:lnTo>
                    <a:lnTo>
                      <a:pt x="1668" y="2"/>
                    </a:lnTo>
                    <a:lnTo>
                      <a:pt x="1677" y="0"/>
                    </a:lnTo>
                    <a:lnTo>
                      <a:pt x="1686" y="1"/>
                    </a:lnTo>
                    <a:lnTo>
                      <a:pt x="1696" y="3"/>
                    </a:lnTo>
                    <a:lnTo>
                      <a:pt x="1703" y="6"/>
                    </a:lnTo>
                    <a:lnTo>
                      <a:pt x="1710" y="7"/>
                    </a:lnTo>
                    <a:lnTo>
                      <a:pt x="1717" y="7"/>
                    </a:lnTo>
                    <a:lnTo>
                      <a:pt x="1724" y="6"/>
                    </a:lnTo>
                    <a:lnTo>
                      <a:pt x="1732" y="4"/>
                    </a:lnTo>
                    <a:lnTo>
                      <a:pt x="1739" y="4"/>
                    </a:lnTo>
                    <a:lnTo>
                      <a:pt x="1747" y="4"/>
                    </a:lnTo>
                    <a:lnTo>
                      <a:pt x="17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未知"/>
              <p:cNvSpPr/>
              <p:nvPr/>
            </p:nvSpPr>
            <p:spPr>
              <a:xfrm rot="36600">
                <a:off x="4419000" y="3215880"/>
                <a:ext cx="1379520" cy="507960"/>
              </a:xfrm>
              <a:custGeom>
                <a:avLst/>
                <a:gdLst/>
                <a:ahLst/>
                <a:rect l="l" t="t" r="r" b="b"/>
                <a:pathLst>
                  <a:path w="1738" h="640">
                    <a:moveTo>
                      <a:pt x="1738" y="33"/>
                    </a:moveTo>
                    <a:lnTo>
                      <a:pt x="1733" y="50"/>
                    </a:lnTo>
                    <a:lnTo>
                      <a:pt x="1724" y="65"/>
                    </a:lnTo>
                    <a:lnTo>
                      <a:pt x="1712" y="77"/>
                    </a:lnTo>
                    <a:lnTo>
                      <a:pt x="1700" y="87"/>
                    </a:lnTo>
                    <a:lnTo>
                      <a:pt x="1686" y="99"/>
                    </a:lnTo>
                    <a:lnTo>
                      <a:pt x="1673" y="110"/>
                    </a:lnTo>
                    <a:lnTo>
                      <a:pt x="1663" y="123"/>
                    </a:lnTo>
                    <a:lnTo>
                      <a:pt x="1655" y="139"/>
                    </a:lnTo>
                    <a:lnTo>
                      <a:pt x="1654" y="151"/>
                    </a:lnTo>
                    <a:lnTo>
                      <a:pt x="1649" y="161"/>
                    </a:lnTo>
                    <a:lnTo>
                      <a:pt x="1642" y="169"/>
                    </a:lnTo>
                    <a:lnTo>
                      <a:pt x="1633" y="177"/>
                    </a:lnTo>
                    <a:lnTo>
                      <a:pt x="1625" y="185"/>
                    </a:lnTo>
                    <a:lnTo>
                      <a:pt x="1617" y="193"/>
                    </a:lnTo>
                    <a:lnTo>
                      <a:pt x="1612" y="204"/>
                    </a:lnTo>
                    <a:lnTo>
                      <a:pt x="1610" y="216"/>
                    </a:lnTo>
                    <a:lnTo>
                      <a:pt x="1605" y="219"/>
                    </a:lnTo>
                    <a:lnTo>
                      <a:pt x="1602" y="222"/>
                    </a:lnTo>
                    <a:lnTo>
                      <a:pt x="1598" y="227"/>
                    </a:lnTo>
                    <a:lnTo>
                      <a:pt x="1594" y="231"/>
                    </a:lnTo>
                    <a:lnTo>
                      <a:pt x="1583" y="225"/>
                    </a:lnTo>
                    <a:lnTo>
                      <a:pt x="1573" y="220"/>
                    </a:lnTo>
                    <a:lnTo>
                      <a:pt x="1561" y="216"/>
                    </a:lnTo>
                    <a:lnTo>
                      <a:pt x="1550" y="214"/>
                    </a:lnTo>
                    <a:lnTo>
                      <a:pt x="1538" y="213"/>
                    </a:lnTo>
                    <a:lnTo>
                      <a:pt x="1527" y="213"/>
                    </a:lnTo>
                    <a:lnTo>
                      <a:pt x="1514" y="214"/>
                    </a:lnTo>
                    <a:lnTo>
                      <a:pt x="1503" y="216"/>
                    </a:lnTo>
                    <a:lnTo>
                      <a:pt x="1499" y="220"/>
                    </a:lnTo>
                    <a:lnTo>
                      <a:pt x="1497" y="223"/>
                    </a:lnTo>
                    <a:lnTo>
                      <a:pt x="1496" y="227"/>
                    </a:lnTo>
                    <a:lnTo>
                      <a:pt x="1495" y="231"/>
                    </a:lnTo>
                    <a:lnTo>
                      <a:pt x="1499" y="236"/>
                    </a:lnTo>
                    <a:lnTo>
                      <a:pt x="1504" y="238"/>
                    </a:lnTo>
                    <a:lnTo>
                      <a:pt x="1508" y="239"/>
                    </a:lnTo>
                    <a:lnTo>
                      <a:pt x="1514" y="239"/>
                    </a:lnTo>
                    <a:lnTo>
                      <a:pt x="1519" y="238"/>
                    </a:lnTo>
                    <a:lnTo>
                      <a:pt x="1525" y="238"/>
                    </a:lnTo>
                    <a:lnTo>
                      <a:pt x="1530" y="238"/>
                    </a:lnTo>
                    <a:lnTo>
                      <a:pt x="1536" y="238"/>
                    </a:lnTo>
                    <a:lnTo>
                      <a:pt x="1588" y="266"/>
                    </a:lnTo>
                    <a:lnTo>
                      <a:pt x="1546" y="336"/>
                    </a:lnTo>
                    <a:lnTo>
                      <a:pt x="1542" y="337"/>
                    </a:lnTo>
                    <a:lnTo>
                      <a:pt x="1537" y="337"/>
                    </a:lnTo>
                    <a:lnTo>
                      <a:pt x="1531" y="338"/>
                    </a:lnTo>
                    <a:lnTo>
                      <a:pt x="1527" y="340"/>
                    </a:lnTo>
                    <a:lnTo>
                      <a:pt x="1521" y="341"/>
                    </a:lnTo>
                    <a:lnTo>
                      <a:pt x="1517" y="341"/>
                    </a:lnTo>
                    <a:lnTo>
                      <a:pt x="1511" y="340"/>
                    </a:lnTo>
                    <a:lnTo>
                      <a:pt x="1506" y="338"/>
                    </a:lnTo>
                    <a:lnTo>
                      <a:pt x="1505" y="330"/>
                    </a:lnTo>
                    <a:lnTo>
                      <a:pt x="1505" y="320"/>
                    </a:lnTo>
                    <a:lnTo>
                      <a:pt x="1504" y="311"/>
                    </a:lnTo>
                    <a:lnTo>
                      <a:pt x="1495" y="305"/>
                    </a:lnTo>
                    <a:lnTo>
                      <a:pt x="1488" y="312"/>
                    </a:lnTo>
                    <a:lnTo>
                      <a:pt x="1485" y="323"/>
                    </a:lnTo>
                    <a:lnTo>
                      <a:pt x="1483" y="335"/>
                    </a:lnTo>
                    <a:lnTo>
                      <a:pt x="1480" y="345"/>
                    </a:lnTo>
                    <a:lnTo>
                      <a:pt x="1464" y="355"/>
                    </a:lnTo>
                    <a:lnTo>
                      <a:pt x="1447" y="361"/>
                    </a:lnTo>
                    <a:lnTo>
                      <a:pt x="1430" y="368"/>
                    </a:lnTo>
                    <a:lnTo>
                      <a:pt x="1413" y="375"/>
                    </a:lnTo>
                    <a:lnTo>
                      <a:pt x="1397" y="383"/>
                    </a:lnTo>
                    <a:lnTo>
                      <a:pt x="1382" y="394"/>
                    </a:lnTo>
                    <a:lnTo>
                      <a:pt x="1371" y="408"/>
                    </a:lnTo>
                    <a:lnTo>
                      <a:pt x="1363" y="426"/>
                    </a:lnTo>
                    <a:lnTo>
                      <a:pt x="1353" y="435"/>
                    </a:lnTo>
                    <a:lnTo>
                      <a:pt x="1343" y="443"/>
                    </a:lnTo>
                    <a:lnTo>
                      <a:pt x="1332" y="450"/>
                    </a:lnTo>
                    <a:lnTo>
                      <a:pt x="1322" y="458"/>
                    </a:lnTo>
                    <a:lnTo>
                      <a:pt x="1310" y="465"/>
                    </a:lnTo>
                    <a:lnTo>
                      <a:pt x="1299" y="471"/>
                    </a:lnTo>
                    <a:lnTo>
                      <a:pt x="1287" y="478"/>
                    </a:lnTo>
                    <a:lnTo>
                      <a:pt x="1276" y="484"/>
                    </a:lnTo>
                    <a:lnTo>
                      <a:pt x="1254" y="493"/>
                    </a:lnTo>
                    <a:lnTo>
                      <a:pt x="1232" y="503"/>
                    </a:lnTo>
                    <a:lnTo>
                      <a:pt x="1211" y="513"/>
                    </a:lnTo>
                    <a:lnTo>
                      <a:pt x="1189" y="524"/>
                    </a:lnTo>
                    <a:lnTo>
                      <a:pt x="1168" y="533"/>
                    </a:lnTo>
                    <a:lnTo>
                      <a:pt x="1145" y="540"/>
                    </a:lnTo>
                    <a:lnTo>
                      <a:pt x="1120" y="545"/>
                    </a:lnTo>
                    <a:lnTo>
                      <a:pt x="1095" y="545"/>
                    </a:lnTo>
                    <a:lnTo>
                      <a:pt x="1080" y="550"/>
                    </a:lnTo>
                    <a:lnTo>
                      <a:pt x="1065" y="555"/>
                    </a:lnTo>
                    <a:lnTo>
                      <a:pt x="1050" y="558"/>
                    </a:lnTo>
                    <a:lnTo>
                      <a:pt x="1035" y="562"/>
                    </a:lnTo>
                    <a:lnTo>
                      <a:pt x="1020" y="565"/>
                    </a:lnTo>
                    <a:lnTo>
                      <a:pt x="1005" y="570"/>
                    </a:lnTo>
                    <a:lnTo>
                      <a:pt x="990" y="576"/>
                    </a:lnTo>
                    <a:lnTo>
                      <a:pt x="976" y="584"/>
                    </a:lnTo>
                    <a:lnTo>
                      <a:pt x="958" y="588"/>
                    </a:lnTo>
                    <a:lnTo>
                      <a:pt x="938" y="591"/>
                    </a:lnTo>
                    <a:lnTo>
                      <a:pt x="919" y="592"/>
                    </a:lnTo>
                    <a:lnTo>
                      <a:pt x="900" y="592"/>
                    </a:lnTo>
                    <a:lnTo>
                      <a:pt x="881" y="590"/>
                    </a:lnTo>
                    <a:lnTo>
                      <a:pt x="861" y="587"/>
                    </a:lnTo>
                    <a:lnTo>
                      <a:pt x="842" y="581"/>
                    </a:lnTo>
                    <a:lnTo>
                      <a:pt x="823" y="576"/>
                    </a:lnTo>
                    <a:lnTo>
                      <a:pt x="804" y="571"/>
                    </a:lnTo>
                    <a:lnTo>
                      <a:pt x="783" y="570"/>
                    </a:lnTo>
                    <a:lnTo>
                      <a:pt x="762" y="569"/>
                    </a:lnTo>
                    <a:lnTo>
                      <a:pt x="741" y="569"/>
                    </a:lnTo>
                    <a:lnTo>
                      <a:pt x="722" y="568"/>
                    </a:lnTo>
                    <a:lnTo>
                      <a:pt x="702" y="565"/>
                    </a:lnTo>
                    <a:lnTo>
                      <a:pt x="683" y="560"/>
                    </a:lnTo>
                    <a:lnTo>
                      <a:pt x="665" y="550"/>
                    </a:lnTo>
                    <a:lnTo>
                      <a:pt x="652" y="549"/>
                    </a:lnTo>
                    <a:lnTo>
                      <a:pt x="638" y="545"/>
                    </a:lnTo>
                    <a:lnTo>
                      <a:pt x="623" y="538"/>
                    </a:lnTo>
                    <a:lnTo>
                      <a:pt x="609" y="532"/>
                    </a:lnTo>
                    <a:lnTo>
                      <a:pt x="596" y="528"/>
                    </a:lnTo>
                    <a:lnTo>
                      <a:pt x="584" y="528"/>
                    </a:lnTo>
                    <a:lnTo>
                      <a:pt x="573" y="534"/>
                    </a:lnTo>
                    <a:lnTo>
                      <a:pt x="564" y="546"/>
                    </a:lnTo>
                    <a:lnTo>
                      <a:pt x="560" y="558"/>
                    </a:lnTo>
                    <a:lnTo>
                      <a:pt x="560" y="571"/>
                    </a:lnTo>
                    <a:lnTo>
                      <a:pt x="563" y="583"/>
                    </a:lnTo>
                    <a:lnTo>
                      <a:pt x="566" y="593"/>
                    </a:lnTo>
                    <a:lnTo>
                      <a:pt x="571" y="605"/>
                    </a:lnTo>
                    <a:lnTo>
                      <a:pt x="576" y="615"/>
                    </a:lnTo>
                    <a:lnTo>
                      <a:pt x="577" y="626"/>
                    </a:lnTo>
                    <a:lnTo>
                      <a:pt x="576" y="639"/>
                    </a:lnTo>
                    <a:lnTo>
                      <a:pt x="566" y="640"/>
                    </a:lnTo>
                    <a:lnTo>
                      <a:pt x="560" y="633"/>
                    </a:lnTo>
                    <a:lnTo>
                      <a:pt x="554" y="625"/>
                    </a:lnTo>
                    <a:lnTo>
                      <a:pt x="549" y="617"/>
                    </a:lnTo>
                    <a:lnTo>
                      <a:pt x="545" y="607"/>
                    </a:lnTo>
                    <a:lnTo>
                      <a:pt x="541" y="596"/>
                    </a:lnTo>
                    <a:lnTo>
                      <a:pt x="538" y="585"/>
                    </a:lnTo>
                    <a:lnTo>
                      <a:pt x="535" y="575"/>
                    </a:lnTo>
                    <a:lnTo>
                      <a:pt x="532" y="564"/>
                    </a:lnTo>
                    <a:lnTo>
                      <a:pt x="527" y="554"/>
                    </a:lnTo>
                    <a:lnTo>
                      <a:pt x="522" y="545"/>
                    </a:lnTo>
                    <a:lnTo>
                      <a:pt x="513" y="538"/>
                    </a:lnTo>
                    <a:lnTo>
                      <a:pt x="508" y="549"/>
                    </a:lnTo>
                    <a:lnTo>
                      <a:pt x="505" y="563"/>
                    </a:lnTo>
                    <a:lnTo>
                      <a:pt x="504" y="577"/>
                    </a:lnTo>
                    <a:lnTo>
                      <a:pt x="503" y="591"/>
                    </a:lnTo>
                    <a:lnTo>
                      <a:pt x="507" y="602"/>
                    </a:lnTo>
                    <a:lnTo>
                      <a:pt x="511" y="614"/>
                    </a:lnTo>
                    <a:lnTo>
                      <a:pt x="513" y="625"/>
                    </a:lnTo>
                    <a:lnTo>
                      <a:pt x="511" y="636"/>
                    </a:lnTo>
                    <a:lnTo>
                      <a:pt x="497" y="636"/>
                    </a:lnTo>
                    <a:lnTo>
                      <a:pt x="485" y="634"/>
                    </a:lnTo>
                    <a:lnTo>
                      <a:pt x="471" y="632"/>
                    </a:lnTo>
                    <a:lnTo>
                      <a:pt x="458" y="629"/>
                    </a:lnTo>
                    <a:lnTo>
                      <a:pt x="445" y="623"/>
                    </a:lnTo>
                    <a:lnTo>
                      <a:pt x="434" y="617"/>
                    </a:lnTo>
                    <a:lnTo>
                      <a:pt x="421" y="611"/>
                    </a:lnTo>
                    <a:lnTo>
                      <a:pt x="410" y="605"/>
                    </a:lnTo>
                    <a:lnTo>
                      <a:pt x="397" y="586"/>
                    </a:lnTo>
                    <a:lnTo>
                      <a:pt x="391" y="564"/>
                    </a:lnTo>
                    <a:lnTo>
                      <a:pt x="389" y="541"/>
                    </a:lnTo>
                    <a:lnTo>
                      <a:pt x="387" y="519"/>
                    </a:lnTo>
                    <a:lnTo>
                      <a:pt x="384" y="516"/>
                    </a:lnTo>
                    <a:lnTo>
                      <a:pt x="382" y="513"/>
                    </a:lnTo>
                    <a:lnTo>
                      <a:pt x="378" y="511"/>
                    </a:lnTo>
                    <a:lnTo>
                      <a:pt x="374" y="511"/>
                    </a:lnTo>
                    <a:lnTo>
                      <a:pt x="367" y="520"/>
                    </a:lnTo>
                    <a:lnTo>
                      <a:pt x="359" y="525"/>
                    </a:lnTo>
                    <a:lnTo>
                      <a:pt x="350" y="530"/>
                    </a:lnTo>
                    <a:lnTo>
                      <a:pt x="343" y="538"/>
                    </a:lnTo>
                    <a:lnTo>
                      <a:pt x="341" y="553"/>
                    </a:lnTo>
                    <a:lnTo>
                      <a:pt x="343" y="564"/>
                    </a:lnTo>
                    <a:lnTo>
                      <a:pt x="350" y="573"/>
                    </a:lnTo>
                    <a:lnTo>
                      <a:pt x="359" y="581"/>
                    </a:lnTo>
                    <a:lnTo>
                      <a:pt x="368" y="590"/>
                    </a:lnTo>
                    <a:lnTo>
                      <a:pt x="376" y="599"/>
                    </a:lnTo>
                    <a:lnTo>
                      <a:pt x="381" y="609"/>
                    </a:lnTo>
                    <a:lnTo>
                      <a:pt x="381" y="622"/>
                    </a:lnTo>
                    <a:lnTo>
                      <a:pt x="367" y="613"/>
                    </a:lnTo>
                    <a:lnTo>
                      <a:pt x="355" y="602"/>
                    </a:lnTo>
                    <a:lnTo>
                      <a:pt x="344" y="590"/>
                    </a:lnTo>
                    <a:lnTo>
                      <a:pt x="335" y="576"/>
                    </a:lnTo>
                    <a:lnTo>
                      <a:pt x="328" y="561"/>
                    </a:lnTo>
                    <a:lnTo>
                      <a:pt x="323" y="545"/>
                    </a:lnTo>
                    <a:lnTo>
                      <a:pt x="321" y="528"/>
                    </a:lnTo>
                    <a:lnTo>
                      <a:pt x="320" y="511"/>
                    </a:lnTo>
                    <a:lnTo>
                      <a:pt x="318" y="509"/>
                    </a:lnTo>
                    <a:lnTo>
                      <a:pt x="315" y="507"/>
                    </a:lnTo>
                    <a:lnTo>
                      <a:pt x="313" y="504"/>
                    </a:lnTo>
                    <a:lnTo>
                      <a:pt x="310" y="504"/>
                    </a:lnTo>
                    <a:lnTo>
                      <a:pt x="304" y="522"/>
                    </a:lnTo>
                    <a:lnTo>
                      <a:pt x="305" y="542"/>
                    </a:lnTo>
                    <a:lnTo>
                      <a:pt x="305" y="560"/>
                    </a:lnTo>
                    <a:lnTo>
                      <a:pt x="291" y="566"/>
                    </a:lnTo>
                    <a:lnTo>
                      <a:pt x="283" y="547"/>
                    </a:lnTo>
                    <a:lnTo>
                      <a:pt x="279" y="526"/>
                    </a:lnTo>
                    <a:lnTo>
                      <a:pt x="275" y="504"/>
                    </a:lnTo>
                    <a:lnTo>
                      <a:pt x="268" y="484"/>
                    </a:lnTo>
                    <a:lnTo>
                      <a:pt x="265" y="484"/>
                    </a:lnTo>
                    <a:lnTo>
                      <a:pt x="261" y="485"/>
                    </a:lnTo>
                    <a:lnTo>
                      <a:pt x="259" y="488"/>
                    </a:lnTo>
                    <a:lnTo>
                      <a:pt x="257" y="490"/>
                    </a:lnTo>
                    <a:lnTo>
                      <a:pt x="258" y="535"/>
                    </a:lnTo>
                    <a:lnTo>
                      <a:pt x="238" y="520"/>
                    </a:lnTo>
                    <a:lnTo>
                      <a:pt x="228" y="502"/>
                    </a:lnTo>
                    <a:lnTo>
                      <a:pt x="224" y="479"/>
                    </a:lnTo>
                    <a:lnTo>
                      <a:pt x="224" y="455"/>
                    </a:lnTo>
                    <a:lnTo>
                      <a:pt x="226" y="429"/>
                    </a:lnTo>
                    <a:lnTo>
                      <a:pt x="226" y="405"/>
                    </a:lnTo>
                    <a:lnTo>
                      <a:pt x="221" y="382"/>
                    </a:lnTo>
                    <a:lnTo>
                      <a:pt x="211" y="361"/>
                    </a:lnTo>
                    <a:lnTo>
                      <a:pt x="202" y="351"/>
                    </a:lnTo>
                    <a:lnTo>
                      <a:pt x="196" y="340"/>
                    </a:lnTo>
                    <a:lnTo>
                      <a:pt x="190" y="328"/>
                    </a:lnTo>
                    <a:lnTo>
                      <a:pt x="184" y="316"/>
                    </a:lnTo>
                    <a:lnTo>
                      <a:pt x="177" y="306"/>
                    </a:lnTo>
                    <a:lnTo>
                      <a:pt x="170" y="296"/>
                    </a:lnTo>
                    <a:lnTo>
                      <a:pt x="160" y="289"/>
                    </a:lnTo>
                    <a:lnTo>
                      <a:pt x="148" y="283"/>
                    </a:lnTo>
                    <a:lnTo>
                      <a:pt x="145" y="288"/>
                    </a:lnTo>
                    <a:lnTo>
                      <a:pt x="143" y="292"/>
                    </a:lnTo>
                    <a:lnTo>
                      <a:pt x="141" y="298"/>
                    </a:lnTo>
                    <a:lnTo>
                      <a:pt x="144" y="304"/>
                    </a:lnTo>
                    <a:lnTo>
                      <a:pt x="154" y="320"/>
                    </a:lnTo>
                    <a:lnTo>
                      <a:pt x="160" y="338"/>
                    </a:lnTo>
                    <a:lnTo>
                      <a:pt x="163" y="357"/>
                    </a:lnTo>
                    <a:lnTo>
                      <a:pt x="162" y="378"/>
                    </a:lnTo>
                    <a:lnTo>
                      <a:pt x="160" y="397"/>
                    </a:lnTo>
                    <a:lnTo>
                      <a:pt x="156" y="418"/>
                    </a:lnTo>
                    <a:lnTo>
                      <a:pt x="152" y="436"/>
                    </a:lnTo>
                    <a:lnTo>
                      <a:pt x="148" y="455"/>
                    </a:lnTo>
                    <a:lnTo>
                      <a:pt x="143" y="448"/>
                    </a:lnTo>
                    <a:lnTo>
                      <a:pt x="135" y="442"/>
                    </a:lnTo>
                    <a:lnTo>
                      <a:pt x="128" y="436"/>
                    </a:lnTo>
                    <a:lnTo>
                      <a:pt x="121" y="429"/>
                    </a:lnTo>
                    <a:lnTo>
                      <a:pt x="117" y="420"/>
                    </a:lnTo>
                    <a:lnTo>
                      <a:pt x="113" y="410"/>
                    </a:lnTo>
                    <a:lnTo>
                      <a:pt x="107" y="399"/>
                    </a:lnTo>
                    <a:lnTo>
                      <a:pt x="101" y="389"/>
                    </a:lnTo>
                    <a:lnTo>
                      <a:pt x="94" y="380"/>
                    </a:lnTo>
                    <a:lnTo>
                      <a:pt x="86" y="373"/>
                    </a:lnTo>
                    <a:lnTo>
                      <a:pt x="76" y="368"/>
                    </a:lnTo>
                    <a:lnTo>
                      <a:pt x="65" y="366"/>
                    </a:lnTo>
                    <a:lnTo>
                      <a:pt x="67" y="356"/>
                    </a:lnTo>
                    <a:lnTo>
                      <a:pt x="70" y="345"/>
                    </a:lnTo>
                    <a:lnTo>
                      <a:pt x="75" y="335"/>
                    </a:lnTo>
                    <a:lnTo>
                      <a:pt x="79" y="325"/>
                    </a:lnTo>
                    <a:lnTo>
                      <a:pt x="84" y="323"/>
                    </a:lnTo>
                    <a:lnTo>
                      <a:pt x="88" y="322"/>
                    </a:lnTo>
                    <a:lnTo>
                      <a:pt x="93" y="322"/>
                    </a:lnTo>
                    <a:lnTo>
                      <a:pt x="98" y="322"/>
                    </a:lnTo>
                    <a:lnTo>
                      <a:pt x="102" y="322"/>
                    </a:lnTo>
                    <a:lnTo>
                      <a:pt x="107" y="321"/>
                    </a:lnTo>
                    <a:lnTo>
                      <a:pt x="110" y="319"/>
                    </a:lnTo>
                    <a:lnTo>
                      <a:pt x="114" y="315"/>
                    </a:lnTo>
                    <a:lnTo>
                      <a:pt x="110" y="310"/>
                    </a:lnTo>
                    <a:lnTo>
                      <a:pt x="106" y="305"/>
                    </a:lnTo>
                    <a:lnTo>
                      <a:pt x="101" y="303"/>
                    </a:lnTo>
                    <a:lnTo>
                      <a:pt x="94" y="299"/>
                    </a:lnTo>
                    <a:lnTo>
                      <a:pt x="87" y="298"/>
                    </a:lnTo>
                    <a:lnTo>
                      <a:pt x="80" y="296"/>
                    </a:lnTo>
                    <a:lnTo>
                      <a:pt x="74" y="293"/>
                    </a:lnTo>
                    <a:lnTo>
                      <a:pt x="67" y="290"/>
                    </a:lnTo>
                    <a:lnTo>
                      <a:pt x="62" y="289"/>
                    </a:lnTo>
                    <a:lnTo>
                      <a:pt x="56" y="289"/>
                    </a:lnTo>
                    <a:lnTo>
                      <a:pt x="50" y="289"/>
                    </a:lnTo>
                    <a:lnTo>
                      <a:pt x="45" y="289"/>
                    </a:lnTo>
                    <a:lnTo>
                      <a:pt x="39" y="289"/>
                    </a:lnTo>
                    <a:lnTo>
                      <a:pt x="33" y="289"/>
                    </a:lnTo>
                    <a:lnTo>
                      <a:pt x="29" y="287"/>
                    </a:lnTo>
                    <a:lnTo>
                      <a:pt x="24" y="284"/>
                    </a:lnTo>
                    <a:lnTo>
                      <a:pt x="23" y="274"/>
                    </a:lnTo>
                    <a:lnTo>
                      <a:pt x="25" y="263"/>
                    </a:lnTo>
                    <a:lnTo>
                      <a:pt x="26" y="255"/>
                    </a:lnTo>
                    <a:lnTo>
                      <a:pt x="21" y="247"/>
                    </a:lnTo>
                    <a:lnTo>
                      <a:pt x="15" y="246"/>
                    </a:lnTo>
                    <a:lnTo>
                      <a:pt x="10" y="250"/>
                    </a:lnTo>
                    <a:lnTo>
                      <a:pt x="4" y="252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23" y="228"/>
                    </a:lnTo>
                    <a:lnTo>
                      <a:pt x="34" y="222"/>
                    </a:lnTo>
                    <a:lnTo>
                      <a:pt x="47" y="219"/>
                    </a:lnTo>
                    <a:lnTo>
                      <a:pt x="60" y="217"/>
                    </a:lnTo>
                    <a:lnTo>
                      <a:pt x="72" y="219"/>
                    </a:lnTo>
                    <a:lnTo>
                      <a:pt x="85" y="221"/>
                    </a:lnTo>
                    <a:lnTo>
                      <a:pt x="99" y="223"/>
                    </a:lnTo>
                    <a:lnTo>
                      <a:pt x="112" y="225"/>
                    </a:lnTo>
                    <a:lnTo>
                      <a:pt x="125" y="229"/>
                    </a:lnTo>
                    <a:lnTo>
                      <a:pt x="138" y="231"/>
                    </a:lnTo>
                    <a:lnTo>
                      <a:pt x="151" y="232"/>
                    </a:lnTo>
                    <a:lnTo>
                      <a:pt x="164" y="232"/>
                    </a:lnTo>
                    <a:lnTo>
                      <a:pt x="177" y="231"/>
                    </a:lnTo>
                    <a:lnTo>
                      <a:pt x="190" y="228"/>
                    </a:lnTo>
                    <a:lnTo>
                      <a:pt x="201" y="221"/>
                    </a:lnTo>
                    <a:lnTo>
                      <a:pt x="209" y="216"/>
                    </a:lnTo>
                    <a:lnTo>
                      <a:pt x="216" y="212"/>
                    </a:lnTo>
                    <a:lnTo>
                      <a:pt x="224" y="206"/>
                    </a:lnTo>
                    <a:lnTo>
                      <a:pt x="232" y="201"/>
                    </a:lnTo>
                    <a:lnTo>
                      <a:pt x="241" y="196"/>
                    </a:lnTo>
                    <a:lnTo>
                      <a:pt x="247" y="190"/>
                    </a:lnTo>
                    <a:lnTo>
                      <a:pt x="255" y="184"/>
                    </a:lnTo>
                    <a:lnTo>
                      <a:pt x="262" y="178"/>
                    </a:lnTo>
                    <a:lnTo>
                      <a:pt x="262" y="175"/>
                    </a:lnTo>
                    <a:lnTo>
                      <a:pt x="262" y="171"/>
                    </a:lnTo>
                    <a:lnTo>
                      <a:pt x="261" y="168"/>
                    </a:lnTo>
                    <a:lnTo>
                      <a:pt x="258" y="166"/>
                    </a:lnTo>
                    <a:lnTo>
                      <a:pt x="251" y="169"/>
                    </a:lnTo>
                    <a:lnTo>
                      <a:pt x="243" y="171"/>
                    </a:lnTo>
                    <a:lnTo>
                      <a:pt x="235" y="172"/>
                    </a:lnTo>
                    <a:lnTo>
                      <a:pt x="227" y="172"/>
                    </a:lnTo>
                    <a:lnTo>
                      <a:pt x="219" y="172"/>
                    </a:lnTo>
                    <a:lnTo>
                      <a:pt x="211" y="172"/>
                    </a:lnTo>
                    <a:lnTo>
                      <a:pt x="202" y="172"/>
                    </a:lnTo>
                    <a:lnTo>
                      <a:pt x="194" y="175"/>
                    </a:lnTo>
                    <a:lnTo>
                      <a:pt x="185" y="176"/>
                    </a:lnTo>
                    <a:lnTo>
                      <a:pt x="177" y="178"/>
                    </a:lnTo>
                    <a:lnTo>
                      <a:pt x="168" y="179"/>
                    </a:lnTo>
                    <a:lnTo>
                      <a:pt x="160" y="181"/>
                    </a:lnTo>
                    <a:lnTo>
                      <a:pt x="151" y="183"/>
                    </a:lnTo>
                    <a:lnTo>
                      <a:pt x="143" y="184"/>
                    </a:lnTo>
                    <a:lnTo>
                      <a:pt x="133" y="184"/>
                    </a:lnTo>
                    <a:lnTo>
                      <a:pt x="124" y="185"/>
                    </a:lnTo>
                    <a:lnTo>
                      <a:pt x="139" y="171"/>
                    </a:lnTo>
                    <a:lnTo>
                      <a:pt x="155" y="163"/>
                    </a:lnTo>
                    <a:lnTo>
                      <a:pt x="174" y="159"/>
                    </a:lnTo>
                    <a:lnTo>
                      <a:pt x="193" y="156"/>
                    </a:lnTo>
                    <a:lnTo>
                      <a:pt x="213" y="157"/>
                    </a:lnTo>
                    <a:lnTo>
                      <a:pt x="234" y="159"/>
                    </a:lnTo>
                    <a:lnTo>
                      <a:pt x="253" y="160"/>
                    </a:lnTo>
                    <a:lnTo>
                      <a:pt x="273" y="160"/>
                    </a:lnTo>
                    <a:lnTo>
                      <a:pt x="273" y="163"/>
                    </a:lnTo>
                    <a:lnTo>
                      <a:pt x="273" y="167"/>
                    </a:lnTo>
                    <a:lnTo>
                      <a:pt x="274" y="169"/>
                    </a:lnTo>
                    <a:lnTo>
                      <a:pt x="277" y="171"/>
                    </a:lnTo>
                    <a:lnTo>
                      <a:pt x="295" y="170"/>
                    </a:lnTo>
                    <a:lnTo>
                      <a:pt x="312" y="168"/>
                    </a:lnTo>
                    <a:lnTo>
                      <a:pt x="329" y="163"/>
                    </a:lnTo>
                    <a:lnTo>
                      <a:pt x="346" y="157"/>
                    </a:lnTo>
                    <a:lnTo>
                      <a:pt x="363" y="151"/>
                    </a:lnTo>
                    <a:lnTo>
                      <a:pt x="380" y="145"/>
                    </a:lnTo>
                    <a:lnTo>
                      <a:pt x="397" y="139"/>
                    </a:lnTo>
                    <a:lnTo>
                      <a:pt x="414" y="134"/>
                    </a:lnTo>
                    <a:lnTo>
                      <a:pt x="429" y="136"/>
                    </a:lnTo>
                    <a:lnTo>
                      <a:pt x="444" y="136"/>
                    </a:lnTo>
                    <a:lnTo>
                      <a:pt x="460" y="136"/>
                    </a:lnTo>
                    <a:lnTo>
                      <a:pt x="475" y="136"/>
                    </a:lnTo>
                    <a:lnTo>
                      <a:pt x="490" y="136"/>
                    </a:lnTo>
                    <a:lnTo>
                      <a:pt x="505" y="133"/>
                    </a:lnTo>
                    <a:lnTo>
                      <a:pt x="520" y="132"/>
                    </a:lnTo>
                    <a:lnTo>
                      <a:pt x="535" y="130"/>
                    </a:lnTo>
                    <a:lnTo>
                      <a:pt x="550" y="126"/>
                    </a:lnTo>
                    <a:lnTo>
                      <a:pt x="565" y="123"/>
                    </a:lnTo>
                    <a:lnTo>
                      <a:pt x="579" y="118"/>
                    </a:lnTo>
                    <a:lnTo>
                      <a:pt x="593" y="114"/>
                    </a:lnTo>
                    <a:lnTo>
                      <a:pt x="607" y="108"/>
                    </a:lnTo>
                    <a:lnTo>
                      <a:pt x="619" y="101"/>
                    </a:lnTo>
                    <a:lnTo>
                      <a:pt x="632" y="93"/>
                    </a:lnTo>
                    <a:lnTo>
                      <a:pt x="645" y="85"/>
                    </a:lnTo>
                    <a:lnTo>
                      <a:pt x="664" y="76"/>
                    </a:lnTo>
                    <a:lnTo>
                      <a:pt x="685" y="69"/>
                    </a:lnTo>
                    <a:lnTo>
                      <a:pt x="705" y="64"/>
                    </a:lnTo>
                    <a:lnTo>
                      <a:pt x="725" y="62"/>
                    </a:lnTo>
                    <a:lnTo>
                      <a:pt x="746" y="61"/>
                    </a:lnTo>
                    <a:lnTo>
                      <a:pt x="767" y="61"/>
                    </a:lnTo>
                    <a:lnTo>
                      <a:pt x="788" y="62"/>
                    </a:lnTo>
                    <a:lnTo>
                      <a:pt x="809" y="63"/>
                    </a:lnTo>
                    <a:lnTo>
                      <a:pt x="830" y="65"/>
                    </a:lnTo>
                    <a:lnTo>
                      <a:pt x="852" y="69"/>
                    </a:lnTo>
                    <a:lnTo>
                      <a:pt x="873" y="72"/>
                    </a:lnTo>
                    <a:lnTo>
                      <a:pt x="895" y="75"/>
                    </a:lnTo>
                    <a:lnTo>
                      <a:pt x="915" y="78"/>
                    </a:lnTo>
                    <a:lnTo>
                      <a:pt x="936" y="79"/>
                    </a:lnTo>
                    <a:lnTo>
                      <a:pt x="958" y="81"/>
                    </a:lnTo>
                    <a:lnTo>
                      <a:pt x="979" y="81"/>
                    </a:lnTo>
                    <a:lnTo>
                      <a:pt x="993" y="90"/>
                    </a:lnTo>
                    <a:lnTo>
                      <a:pt x="1007" y="92"/>
                    </a:lnTo>
                    <a:lnTo>
                      <a:pt x="1021" y="91"/>
                    </a:lnTo>
                    <a:lnTo>
                      <a:pt x="1035" y="86"/>
                    </a:lnTo>
                    <a:lnTo>
                      <a:pt x="1049" y="80"/>
                    </a:lnTo>
                    <a:lnTo>
                      <a:pt x="1064" y="76"/>
                    </a:lnTo>
                    <a:lnTo>
                      <a:pt x="1079" y="75"/>
                    </a:lnTo>
                    <a:lnTo>
                      <a:pt x="1095" y="77"/>
                    </a:lnTo>
                    <a:lnTo>
                      <a:pt x="1109" y="72"/>
                    </a:lnTo>
                    <a:lnTo>
                      <a:pt x="1123" y="71"/>
                    </a:lnTo>
                    <a:lnTo>
                      <a:pt x="1136" y="73"/>
                    </a:lnTo>
                    <a:lnTo>
                      <a:pt x="1150" y="76"/>
                    </a:lnTo>
                    <a:lnTo>
                      <a:pt x="1164" y="77"/>
                    </a:lnTo>
                    <a:lnTo>
                      <a:pt x="1177" y="75"/>
                    </a:lnTo>
                    <a:lnTo>
                      <a:pt x="1188" y="69"/>
                    </a:lnTo>
                    <a:lnTo>
                      <a:pt x="1199" y="57"/>
                    </a:lnTo>
                    <a:lnTo>
                      <a:pt x="1209" y="54"/>
                    </a:lnTo>
                    <a:lnTo>
                      <a:pt x="1221" y="50"/>
                    </a:lnTo>
                    <a:lnTo>
                      <a:pt x="1231" y="48"/>
                    </a:lnTo>
                    <a:lnTo>
                      <a:pt x="1242" y="46"/>
                    </a:lnTo>
                    <a:lnTo>
                      <a:pt x="1253" y="45"/>
                    </a:lnTo>
                    <a:lnTo>
                      <a:pt x="1264" y="46"/>
                    </a:lnTo>
                    <a:lnTo>
                      <a:pt x="1275" y="48"/>
                    </a:lnTo>
                    <a:lnTo>
                      <a:pt x="1285" y="54"/>
                    </a:lnTo>
                    <a:lnTo>
                      <a:pt x="1300" y="51"/>
                    </a:lnTo>
                    <a:lnTo>
                      <a:pt x="1314" y="51"/>
                    </a:lnTo>
                    <a:lnTo>
                      <a:pt x="1326" y="53"/>
                    </a:lnTo>
                    <a:lnTo>
                      <a:pt x="1340" y="56"/>
                    </a:lnTo>
                    <a:lnTo>
                      <a:pt x="1353" y="61"/>
                    </a:lnTo>
                    <a:lnTo>
                      <a:pt x="1366" y="65"/>
                    </a:lnTo>
                    <a:lnTo>
                      <a:pt x="1378" y="70"/>
                    </a:lnTo>
                    <a:lnTo>
                      <a:pt x="1391" y="75"/>
                    </a:lnTo>
                    <a:lnTo>
                      <a:pt x="1389" y="66"/>
                    </a:lnTo>
                    <a:lnTo>
                      <a:pt x="1390" y="62"/>
                    </a:lnTo>
                    <a:lnTo>
                      <a:pt x="1393" y="58"/>
                    </a:lnTo>
                    <a:lnTo>
                      <a:pt x="1400" y="58"/>
                    </a:lnTo>
                    <a:lnTo>
                      <a:pt x="1407" y="57"/>
                    </a:lnTo>
                    <a:lnTo>
                      <a:pt x="1414" y="56"/>
                    </a:lnTo>
                    <a:lnTo>
                      <a:pt x="1420" y="54"/>
                    </a:lnTo>
                    <a:lnTo>
                      <a:pt x="1423" y="49"/>
                    </a:lnTo>
                    <a:lnTo>
                      <a:pt x="1443" y="46"/>
                    </a:lnTo>
                    <a:lnTo>
                      <a:pt x="1464" y="45"/>
                    </a:lnTo>
                    <a:lnTo>
                      <a:pt x="1485" y="46"/>
                    </a:lnTo>
                    <a:lnTo>
                      <a:pt x="1506" y="47"/>
                    </a:lnTo>
                    <a:lnTo>
                      <a:pt x="1527" y="48"/>
                    </a:lnTo>
                    <a:lnTo>
                      <a:pt x="1548" y="46"/>
                    </a:lnTo>
                    <a:lnTo>
                      <a:pt x="1566" y="41"/>
                    </a:lnTo>
                    <a:lnTo>
                      <a:pt x="1583" y="31"/>
                    </a:lnTo>
                    <a:lnTo>
                      <a:pt x="1594" y="31"/>
                    </a:lnTo>
                    <a:lnTo>
                      <a:pt x="1603" y="28"/>
                    </a:lnTo>
                    <a:lnTo>
                      <a:pt x="1611" y="25"/>
                    </a:lnTo>
                    <a:lnTo>
                      <a:pt x="1619" y="22"/>
                    </a:lnTo>
                    <a:lnTo>
                      <a:pt x="1627" y="16"/>
                    </a:lnTo>
                    <a:lnTo>
                      <a:pt x="1635" y="11"/>
                    </a:lnTo>
                    <a:lnTo>
                      <a:pt x="1642" y="5"/>
                    </a:lnTo>
                    <a:lnTo>
                      <a:pt x="1650" y="0"/>
                    </a:lnTo>
                    <a:lnTo>
                      <a:pt x="1663" y="1"/>
                    </a:lnTo>
                    <a:lnTo>
                      <a:pt x="1675" y="1"/>
                    </a:lnTo>
                    <a:lnTo>
                      <a:pt x="1689" y="2"/>
                    </a:lnTo>
                    <a:lnTo>
                      <a:pt x="1701" y="4"/>
                    </a:lnTo>
                    <a:lnTo>
                      <a:pt x="1712" y="8"/>
                    </a:lnTo>
                    <a:lnTo>
                      <a:pt x="1723" y="13"/>
                    </a:lnTo>
                    <a:lnTo>
                      <a:pt x="1731" y="22"/>
                    </a:lnTo>
                    <a:lnTo>
                      <a:pt x="1738" y="3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未知"/>
              <p:cNvSpPr/>
              <p:nvPr/>
            </p:nvSpPr>
            <p:spPr>
              <a:xfrm rot="36600">
                <a:off x="5660640" y="3238200"/>
                <a:ext cx="115920" cy="13464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146" y="13"/>
                    </a:moveTo>
                    <a:lnTo>
                      <a:pt x="144" y="22"/>
                    </a:lnTo>
                    <a:lnTo>
                      <a:pt x="140" y="30"/>
                    </a:lnTo>
                    <a:lnTo>
                      <a:pt x="134" y="38"/>
                    </a:lnTo>
                    <a:lnTo>
                      <a:pt x="126" y="44"/>
                    </a:lnTo>
                    <a:lnTo>
                      <a:pt x="117" y="48"/>
                    </a:lnTo>
                    <a:lnTo>
                      <a:pt x="109" y="53"/>
                    </a:lnTo>
                    <a:lnTo>
                      <a:pt x="102" y="60"/>
                    </a:lnTo>
                    <a:lnTo>
                      <a:pt x="94" y="68"/>
                    </a:lnTo>
                    <a:lnTo>
                      <a:pt x="94" y="82"/>
                    </a:lnTo>
                    <a:lnTo>
                      <a:pt x="91" y="95"/>
                    </a:lnTo>
                    <a:lnTo>
                      <a:pt x="88" y="106"/>
                    </a:lnTo>
                    <a:lnTo>
                      <a:pt x="82" y="118"/>
                    </a:lnTo>
                    <a:lnTo>
                      <a:pt x="75" y="128"/>
                    </a:lnTo>
                    <a:lnTo>
                      <a:pt x="68" y="139"/>
                    </a:lnTo>
                    <a:lnTo>
                      <a:pt x="59" y="148"/>
                    </a:lnTo>
                    <a:lnTo>
                      <a:pt x="49" y="156"/>
                    </a:lnTo>
                    <a:lnTo>
                      <a:pt x="49" y="161"/>
                    </a:lnTo>
                    <a:lnTo>
                      <a:pt x="48" y="164"/>
                    </a:lnTo>
                    <a:lnTo>
                      <a:pt x="45" y="167"/>
                    </a:lnTo>
                    <a:lnTo>
                      <a:pt x="42" y="171"/>
                    </a:lnTo>
                    <a:lnTo>
                      <a:pt x="32" y="167"/>
                    </a:lnTo>
                    <a:lnTo>
                      <a:pt x="26" y="158"/>
                    </a:lnTo>
                    <a:lnTo>
                      <a:pt x="21" y="149"/>
                    </a:lnTo>
                    <a:lnTo>
                      <a:pt x="17" y="140"/>
                    </a:lnTo>
                    <a:lnTo>
                      <a:pt x="19" y="129"/>
                    </a:lnTo>
                    <a:lnTo>
                      <a:pt x="13" y="121"/>
                    </a:lnTo>
                    <a:lnTo>
                      <a:pt x="5" y="113"/>
                    </a:lnTo>
                    <a:lnTo>
                      <a:pt x="0" y="104"/>
                    </a:lnTo>
                    <a:lnTo>
                      <a:pt x="2" y="94"/>
                    </a:lnTo>
                    <a:lnTo>
                      <a:pt x="4" y="82"/>
                    </a:lnTo>
                    <a:lnTo>
                      <a:pt x="6" y="73"/>
                    </a:lnTo>
                    <a:lnTo>
                      <a:pt x="11" y="63"/>
                    </a:lnTo>
                    <a:lnTo>
                      <a:pt x="17" y="53"/>
                    </a:lnTo>
                    <a:lnTo>
                      <a:pt x="23" y="45"/>
                    </a:lnTo>
                    <a:lnTo>
                      <a:pt x="32" y="37"/>
                    </a:lnTo>
                    <a:lnTo>
                      <a:pt x="42" y="31"/>
                    </a:lnTo>
                    <a:lnTo>
                      <a:pt x="53" y="33"/>
                    </a:lnTo>
                    <a:lnTo>
                      <a:pt x="63" y="29"/>
                    </a:lnTo>
                    <a:lnTo>
                      <a:pt x="72" y="23"/>
                    </a:lnTo>
                    <a:lnTo>
                      <a:pt x="80" y="17"/>
                    </a:lnTo>
                    <a:lnTo>
                      <a:pt x="89" y="8"/>
                    </a:lnTo>
                    <a:lnTo>
                      <a:pt x="98" y="4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7" y="3"/>
                    </a:lnTo>
                    <a:lnTo>
                      <a:pt x="135" y="3"/>
                    </a:lnTo>
                    <a:lnTo>
                      <a:pt x="141" y="6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未知"/>
              <p:cNvSpPr/>
              <p:nvPr/>
            </p:nvSpPr>
            <p:spPr>
              <a:xfrm rot="36600">
                <a:off x="5551200" y="32666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121" y="5"/>
                    </a:moveTo>
                    <a:lnTo>
                      <a:pt x="118" y="12"/>
                    </a:lnTo>
                    <a:lnTo>
                      <a:pt x="113" y="16"/>
                    </a:lnTo>
                    <a:lnTo>
                      <a:pt x="107" y="21"/>
                    </a:lnTo>
                    <a:lnTo>
                      <a:pt x="100" y="24"/>
                    </a:lnTo>
                    <a:lnTo>
                      <a:pt x="94" y="28"/>
                    </a:lnTo>
                    <a:lnTo>
                      <a:pt x="85" y="30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2" y="33"/>
                    </a:lnTo>
                    <a:lnTo>
                      <a:pt x="53" y="33"/>
                    </a:lnTo>
                    <a:lnTo>
                      <a:pt x="44" y="33"/>
                    </a:lnTo>
                    <a:lnTo>
                      <a:pt x="35" y="33"/>
                    </a:lnTo>
                    <a:lnTo>
                      <a:pt x="27" y="33"/>
                    </a:lnTo>
                    <a:lnTo>
                      <a:pt x="18" y="31"/>
                    </a:lnTo>
                    <a:lnTo>
                      <a:pt x="9" y="29"/>
                    </a:lnTo>
                    <a:lnTo>
                      <a:pt x="0" y="26"/>
                    </a:lnTo>
                    <a:lnTo>
                      <a:pt x="3" y="19"/>
                    </a:lnTo>
                    <a:lnTo>
                      <a:pt x="7" y="14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0"/>
                    </a:lnTo>
                    <a:lnTo>
                      <a:pt x="113" y="3"/>
                    </a:lnTo>
                    <a:lnTo>
                      <a:pt x="1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未知"/>
              <p:cNvSpPr/>
              <p:nvPr/>
            </p:nvSpPr>
            <p:spPr>
              <a:xfrm rot="36600">
                <a:off x="5427360" y="3278880"/>
                <a:ext cx="168120" cy="60120"/>
              </a:xfrm>
              <a:custGeom>
                <a:avLst/>
                <a:gdLst/>
                <a:ahLst/>
                <a:rect l="l" t="t" r="r" b="b"/>
                <a:pathLst>
                  <a:path w="212" h="76">
                    <a:moveTo>
                      <a:pt x="155" y="29"/>
                    </a:moveTo>
                    <a:lnTo>
                      <a:pt x="162" y="29"/>
                    </a:lnTo>
                    <a:lnTo>
                      <a:pt x="169" y="29"/>
                    </a:lnTo>
                    <a:lnTo>
                      <a:pt x="177" y="29"/>
                    </a:lnTo>
                    <a:lnTo>
                      <a:pt x="184" y="29"/>
                    </a:lnTo>
                    <a:lnTo>
                      <a:pt x="192" y="29"/>
                    </a:lnTo>
                    <a:lnTo>
                      <a:pt x="199" y="30"/>
                    </a:lnTo>
                    <a:lnTo>
                      <a:pt x="206" y="33"/>
                    </a:lnTo>
                    <a:lnTo>
                      <a:pt x="212" y="36"/>
                    </a:lnTo>
                    <a:lnTo>
                      <a:pt x="209" y="43"/>
                    </a:lnTo>
                    <a:lnTo>
                      <a:pt x="205" y="48"/>
                    </a:lnTo>
                    <a:lnTo>
                      <a:pt x="198" y="51"/>
                    </a:lnTo>
                    <a:lnTo>
                      <a:pt x="193" y="56"/>
                    </a:lnTo>
                    <a:lnTo>
                      <a:pt x="187" y="56"/>
                    </a:lnTo>
                    <a:lnTo>
                      <a:pt x="183" y="57"/>
                    </a:lnTo>
                    <a:lnTo>
                      <a:pt x="178" y="59"/>
                    </a:lnTo>
                    <a:lnTo>
                      <a:pt x="175" y="64"/>
                    </a:lnTo>
                    <a:lnTo>
                      <a:pt x="170" y="67"/>
                    </a:lnTo>
                    <a:lnTo>
                      <a:pt x="167" y="72"/>
                    </a:lnTo>
                    <a:lnTo>
                      <a:pt x="162" y="74"/>
                    </a:lnTo>
                    <a:lnTo>
                      <a:pt x="158" y="76"/>
                    </a:lnTo>
                    <a:lnTo>
                      <a:pt x="138" y="76"/>
                    </a:lnTo>
                    <a:lnTo>
                      <a:pt x="120" y="73"/>
                    </a:lnTo>
                    <a:lnTo>
                      <a:pt x="102" y="66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4" y="42"/>
                    </a:lnTo>
                    <a:lnTo>
                      <a:pt x="37" y="37"/>
                    </a:lnTo>
                    <a:lnTo>
                      <a:pt x="18" y="35"/>
                    </a:lnTo>
                    <a:lnTo>
                      <a:pt x="11" y="29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1" y="7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8" y="15"/>
                    </a:lnTo>
                    <a:lnTo>
                      <a:pt x="60" y="21"/>
                    </a:lnTo>
                    <a:lnTo>
                      <a:pt x="72" y="25"/>
                    </a:lnTo>
                    <a:lnTo>
                      <a:pt x="86" y="27"/>
                    </a:lnTo>
                    <a:lnTo>
                      <a:pt x="100" y="28"/>
                    </a:lnTo>
                    <a:lnTo>
                      <a:pt x="114" y="29"/>
                    </a:lnTo>
                    <a:lnTo>
                      <a:pt x="128" y="29"/>
                    </a:lnTo>
                    <a:lnTo>
                      <a:pt x="141" y="29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未知"/>
              <p:cNvSpPr/>
              <p:nvPr/>
            </p:nvSpPr>
            <p:spPr>
              <a:xfrm rot="36600">
                <a:off x="5159160" y="328500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52" y="13"/>
                    </a:moveTo>
                    <a:lnTo>
                      <a:pt x="114" y="17"/>
                    </a:lnTo>
                    <a:lnTo>
                      <a:pt x="114" y="20"/>
                    </a:lnTo>
                    <a:lnTo>
                      <a:pt x="115" y="22"/>
                    </a:lnTo>
                    <a:lnTo>
                      <a:pt x="116" y="24"/>
                    </a:lnTo>
                    <a:lnTo>
                      <a:pt x="116" y="27"/>
                    </a:lnTo>
                    <a:lnTo>
                      <a:pt x="104" y="30"/>
                    </a:lnTo>
                    <a:lnTo>
                      <a:pt x="90" y="33"/>
                    </a:lnTo>
                    <a:lnTo>
                      <a:pt x="76" y="35"/>
                    </a:lnTo>
                    <a:lnTo>
                      <a:pt x="62" y="35"/>
                    </a:lnTo>
                    <a:lnTo>
                      <a:pt x="50" y="33"/>
                    </a:lnTo>
                    <a:lnTo>
                      <a:pt x="37" y="30"/>
                    </a:lnTo>
                    <a:lnTo>
                      <a:pt x="26" y="24"/>
                    </a:lnTo>
                    <a:lnTo>
                      <a:pt x="15" y="16"/>
                    </a:lnTo>
                    <a:lnTo>
                      <a:pt x="12" y="15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未知"/>
              <p:cNvSpPr/>
              <p:nvPr/>
            </p:nvSpPr>
            <p:spPr>
              <a:xfrm rot="36600">
                <a:off x="5303160" y="3313440"/>
                <a:ext cx="122400" cy="5544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153" y="35"/>
                    </a:moveTo>
                    <a:lnTo>
                      <a:pt x="152" y="45"/>
                    </a:lnTo>
                    <a:lnTo>
                      <a:pt x="149" y="55"/>
                    </a:lnTo>
                    <a:lnTo>
                      <a:pt x="142" y="64"/>
                    </a:lnTo>
                    <a:lnTo>
                      <a:pt x="134" y="72"/>
                    </a:lnTo>
                    <a:lnTo>
                      <a:pt x="119" y="68"/>
                    </a:lnTo>
                    <a:lnTo>
                      <a:pt x="103" y="64"/>
                    </a:lnTo>
                    <a:lnTo>
                      <a:pt x="88" y="60"/>
                    </a:lnTo>
                    <a:lnTo>
                      <a:pt x="72" y="57"/>
                    </a:lnTo>
                    <a:lnTo>
                      <a:pt x="55" y="53"/>
                    </a:lnTo>
                    <a:lnTo>
                      <a:pt x="40" y="51"/>
                    </a:lnTo>
                    <a:lnTo>
                      <a:pt x="23" y="49"/>
                    </a:lnTo>
                    <a:lnTo>
                      <a:pt x="7" y="47"/>
                    </a:lnTo>
                    <a:lnTo>
                      <a:pt x="0" y="38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5" y="33"/>
                    </a:lnTo>
                    <a:lnTo>
                      <a:pt x="37" y="33"/>
                    </a:lnTo>
                    <a:lnTo>
                      <a:pt x="47" y="33"/>
                    </a:lnTo>
                    <a:lnTo>
                      <a:pt x="58" y="34"/>
                    </a:lnTo>
                    <a:lnTo>
                      <a:pt x="68" y="35"/>
                    </a:lnTo>
                    <a:lnTo>
                      <a:pt x="78" y="35"/>
                    </a:lnTo>
                    <a:lnTo>
                      <a:pt x="88" y="35"/>
                    </a:lnTo>
                    <a:lnTo>
                      <a:pt x="93" y="27"/>
                    </a:lnTo>
                    <a:lnTo>
                      <a:pt x="97" y="18"/>
                    </a:lnTo>
                    <a:lnTo>
                      <a:pt x="100" y="9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8" y="7"/>
                    </a:lnTo>
                    <a:lnTo>
                      <a:pt x="125" y="11"/>
                    </a:lnTo>
                    <a:lnTo>
                      <a:pt x="131" y="15"/>
                    </a:lnTo>
                    <a:lnTo>
                      <a:pt x="137" y="19"/>
                    </a:lnTo>
                    <a:lnTo>
                      <a:pt x="143" y="24"/>
                    </a:lnTo>
                    <a:lnTo>
                      <a:pt x="149" y="29"/>
                    </a:lnTo>
                    <a:lnTo>
                      <a:pt x="1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未知"/>
              <p:cNvSpPr/>
              <p:nvPr/>
            </p:nvSpPr>
            <p:spPr>
              <a:xfrm rot="36600">
                <a:off x="5053680" y="3355560"/>
                <a:ext cx="82440" cy="41040"/>
              </a:xfrm>
              <a:custGeom>
                <a:avLst/>
                <a:gdLst/>
                <a:ahLst/>
                <a:rect l="l" t="t" r="r" b="b"/>
                <a:pathLst>
                  <a:path w="102" h="52">
                    <a:moveTo>
                      <a:pt x="102" y="5"/>
                    </a:moveTo>
                    <a:lnTo>
                      <a:pt x="102" y="10"/>
                    </a:lnTo>
                    <a:lnTo>
                      <a:pt x="90" y="14"/>
                    </a:lnTo>
                    <a:lnTo>
                      <a:pt x="78" y="20"/>
                    </a:lnTo>
                    <a:lnTo>
                      <a:pt x="67" y="25"/>
                    </a:lnTo>
                    <a:lnTo>
                      <a:pt x="55" y="31"/>
                    </a:lnTo>
                    <a:lnTo>
                      <a:pt x="43" y="37"/>
                    </a:lnTo>
                    <a:lnTo>
                      <a:pt x="31" y="43"/>
                    </a:lnTo>
                    <a:lnTo>
                      <a:pt x="19" y="47"/>
                    </a:lnTo>
                    <a:lnTo>
                      <a:pt x="7" y="5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3" y="24"/>
                    </a:lnTo>
                    <a:lnTo>
                      <a:pt x="22" y="14"/>
                    </a:lnTo>
                    <a:lnTo>
                      <a:pt x="31" y="6"/>
                    </a:lnTo>
                    <a:lnTo>
                      <a:pt x="40" y="6"/>
                    </a:lnTo>
                    <a:lnTo>
                      <a:pt x="48" y="5"/>
                    </a:lnTo>
                    <a:lnTo>
                      <a:pt x="57" y="5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1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未知"/>
              <p:cNvSpPr/>
              <p:nvPr/>
            </p:nvSpPr>
            <p:spPr>
              <a:xfrm rot="36600">
                <a:off x="4597560" y="3356280"/>
                <a:ext cx="333360" cy="108000"/>
              </a:xfrm>
              <a:custGeom>
                <a:avLst/>
                <a:gdLst/>
                <a:ahLst/>
                <a:rect l="l" t="t" r="r" b="b"/>
                <a:pathLst>
                  <a:path w="420" h="136">
                    <a:moveTo>
                      <a:pt x="420" y="7"/>
                    </a:moveTo>
                    <a:lnTo>
                      <a:pt x="418" y="12"/>
                    </a:lnTo>
                    <a:lnTo>
                      <a:pt x="414" y="15"/>
                    </a:lnTo>
                    <a:lnTo>
                      <a:pt x="408" y="15"/>
                    </a:lnTo>
                    <a:lnTo>
                      <a:pt x="401" y="15"/>
                    </a:lnTo>
                    <a:lnTo>
                      <a:pt x="394" y="19"/>
                    </a:lnTo>
                    <a:lnTo>
                      <a:pt x="387" y="26"/>
                    </a:lnTo>
                    <a:lnTo>
                      <a:pt x="381" y="35"/>
                    </a:lnTo>
                    <a:lnTo>
                      <a:pt x="377" y="42"/>
                    </a:lnTo>
                    <a:lnTo>
                      <a:pt x="364" y="52"/>
                    </a:lnTo>
                    <a:lnTo>
                      <a:pt x="349" y="57"/>
                    </a:lnTo>
                    <a:lnTo>
                      <a:pt x="333" y="60"/>
                    </a:lnTo>
                    <a:lnTo>
                      <a:pt x="317" y="62"/>
                    </a:lnTo>
                    <a:lnTo>
                      <a:pt x="302" y="65"/>
                    </a:lnTo>
                    <a:lnTo>
                      <a:pt x="287" y="71"/>
                    </a:lnTo>
                    <a:lnTo>
                      <a:pt x="274" y="81"/>
                    </a:lnTo>
                    <a:lnTo>
                      <a:pt x="265" y="96"/>
                    </a:lnTo>
                    <a:lnTo>
                      <a:pt x="260" y="99"/>
                    </a:lnTo>
                    <a:lnTo>
                      <a:pt x="255" y="99"/>
                    </a:lnTo>
                    <a:lnTo>
                      <a:pt x="250" y="99"/>
                    </a:lnTo>
                    <a:lnTo>
                      <a:pt x="244" y="98"/>
                    </a:lnTo>
                    <a:lnTo>
                      <a:pt x="238" y="99"/>
                    </a:lnTo>
                    <a:lnTo>
                      <a:pt x="234" y="100"/>
                    </a:lnTo>
                    <a:lnTo>
                      <a:pt x="230" y="102"/>
                    </a:lnTo>
                    <a:lnTo>
                      <a:pt x="227" y="107"/>
                    </a:lnTo>
                    <a:lnTo>
                      <a:pt x="226" y="115"/>
                    </a:lnTo>
                    <a:lnTo>
                      <a:pt x="223" y="123"/>
                    </a:lnTo>
                    <a:lnTo>
                      <a:pt x="220" y="130"/>
                    </a:lnTo>
                    <a:lnTo>
                      <a:pt x="213" y="136"/>
                    </a:lnTo>
                    <a:lnTo>
                      <a:pt x="195" y="134"/>
                    </a:lnTo>
                    <a:lnTo>
                      <a:pt x="176" y="132"/>
                    </a:lnTo>
                    <a:lnTo>
                      <a:pt x="158" y="131"/>
                    </a:lnTo>
                    <a:lnTo>
                      <a:pt x="141" y="129"/>
                    </a:lnTo>
                    <a:lnTo>
                      <a:pt x="122" y="126"/>
                    </a:lnTo>
                    <a:lnTo>
                      <a:pt x="104" y="123"/>
                    </a:lnTo>
                    <a:lnTo>
                      <a:pt x="85" y="121"/>
                    </a:lnTo>
                    <a:lnTo>
                      <a:pt x="67" y="118"/>
                    </a:lnTo>
                    <a:lnTo>
                      <a:pt x="59" y="118"/>
                    </a:lnTo>
                    <a:lnTo>
                      <a:pt x="52" y="116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3" y="107"/>
                    </a:lnTo>
                    <a:lnTo>
                      <a:pt x="5" y="108"/>
                    </a:lnTo>
                    <a:lnTo>
                      <a:pt x="2" y="106"/>
                    </a:lnTo>
                    <a:lnTo>
                      <a:pt x="1" y="103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9" y="88"/>
                    </a:lnTo>
                    <a:lnTo>
                      <a:pt x="19" y="80"/>
                    </a:lnTo>
                    <a:lnTo>
                      <a:pt x="29" y="73"/>
                    </a:lnTo>
                    <a:lnTo>
                      <a:pt x="39" y="67"/>
                    </a:lnTo>
                    <a:lnTo>
                      <a:pt x="51" y="62"/>
                    </a:lnTo>
                    <a:lnTo>
                      <a:pt x="61" y="57"/>
                    </a:lnTo>
                    <a:lnTo>
                      <a:pt x="73" y="53"/>
                    </a:lnTo>
                    <a:lnTo>
                      <a:pt x="84" y="50"/>
                    </a:lnTo>
                    <a:lnTo>
                      <a:pt x="91" y="53"/>
                    </a:lnTo>
                    <a:lnTo>
                      <a:pt x="97" y="53"/>
                    </a:lnTo>
                    <a:lnTo>
                      <a:pt x="104" y="52"/>
                    </a:lnTo>
                    <a:lnTo>
                      <a:pt x="109" y="49"/>
                    </a:lnTo>
                    <a:lnTo>
                      <a:pt x="116" y="47"/>
                    </a:lnTo>
                    <a:lnTo>
                      <a:pt x="123" y="46"/>
                    </a:lnTo>
                    <a:lnTo>
                      <a:pt x="130" y="45"/>
                    </a:lnTo>
                    <a:lnTo>
                      <a:pt x="138" y="45"/>
                    </a:lnTo>
                    <a:lnTo>
                      <a:pt x="146" y="46"/>
                    </a:lnTo>
                    <a:lnTo>
                      <a:pt x="153" y="50"/>
                    </a:lnTo>
                    <a:lnTo>
                      <a:pt x="160" y="56"/>
                    </a:lnTo>
                    <a:lnTo>
                      <a:pt x="165" y="63"/>
                    </a:lnTo>
                    <a:lnTo>
                      <a:pt x="221" y="67"/>
                    </a:lnTo>
                    <a:lnTo>
                      <a:pt x="232" y="62"/>
                    </a:lnTo>
                    <a:lnTo>
                      <a:pt x="241" y="57"/>
                    </a:lnTo>
                    <a:lnTo>
                      <a:pt x="251" y="54"/>
                    </a:lnTo>
                    <a:lnTo>
                      <a:pt x="261" y="49"/>
                    </a:lnTo>
                    <a:lnTo>
                      <a:pt x="271" y="46"/>
                    </a:lnTo>
                    <a:lnTo>
                      <a:pt x="282" y="42"/>
                    </a:lnTo>
                    <a:lnTo>
                      <a:pt x="293" y="40"/>
                    </a:lnTo>
                    <a:lnTo>
                      <a:pt x="304" y="39"/>
                    </a:lnTo>
                    <a:lnTo>
                      <a:pt x="305" y="31"/>
                    </a:lnTo>
                    <a:lnTo>
                      <a:pt x="302" y="23"/>
                    </a:lnTo>
                    <a:lnTo>
                      <a:pt x="300" y="17"/>
                    </a:lnTo>
                    <a:lnTo>
                      <a:pt x="306" y="11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0" y="11"/>
                    </a:lnTo>
                    <a:lnTo>
                      <a:pt x="351" y="10"/>
                    </a:lnTo>
                    <a:lnTo>
                      <a:pt x="363" y="9"/>
                    </a:lnTo>
                    <a:lnTo>
                      <a:pt x="373" y="7"/>
                    </a:lnTo>
                    <a:lnTo>
                      <a:pt x="384" y="4"/>
                    </a:lnTo>
                    <a:lnTo>
                      <a:pt x="394" y="0"/>
                    </a:lnTo>
                    <a:lnTo>
                      <a:pt x="401" y="0"/>
                    </a:lnTo>
                    <a:lnTo>
                      <a:pt x="408" y="1"/>
                    </a:lnTo>
                    <a:lnTo>
                      <a:pt x="415" y="3"/>
                    </a:lnTo>
                    <a:lnTo>
                      <a:pt x="4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未知"/>
              <p:cNvSpPr/>
              <p:nvPr/>
            </p:nvSpPr>
            <p:spPr>
              <a:xfrm rot="36600">
                <a:off x="5430960" y="3370320"/>
                <a:ext cx="131760" cy="24120"/>
              </a:xfrm>
              <a:custGeom>
                <a:avLst/>
                <a:gdLst/>
                <a:ahLst/>
                <a:rect l="l" t="t" r="r" b="b"/>
                <a:pathLst>
                  <a:path w="166" h="30">
                    <a:moveTo>
                      <a:pt x="166" y="15"/>
                    </a:moveTo>
                    <a:lnTo>
                      <a:pt x="164" y="21"/>
                    </a:lnTo>
                    <a:lnTo>
                      <a:pt x="159" y="24"/>
                    </a:lnTo>
                    <a:lnTo>
                      <a:pt x="154" y="25"/>
                    </a:lnTo>
                    <a:lnTo>
                      <a:pt x="148" y="26"/>
                    </a:lnTo>
                    <a:lnTo>
                      <a:pt x="141" y="28"/>
                    </a:lnTo>
                    <a:lnTo>
                      <a:pt x="134" y="28"/>
                    </a:lnTo>
                    <a:lnTo>
                      <a:pt x="127" y="29"/>
                    </a:lnTo>
                    <a:lnTo>
                      <a:pt x="120" y="30"/>
                    </a:lnTo>
                    <a:lnTo>
                      <a:pt x="106" y="25"/>
                    </a:lnTo>
                    <a:lnTo>
                      <a:pt x="91" y="23"/>
                    </a:lnTo>
                    <a:lnTo>
                      <a:pt x="76" y="21"/>
                    </a:lnTo>
                    <a:lnTo>
                      <a:pt x="61" y="18"/>
                    </a:lnTo>
                    <a:lnTo>
                      <a:pt x="45" y="17"/>
                    </a:lnTo>
                    <a:lnTo>
                      <a:pt x="30" y="16"/>
                    </a:lnTo>
                    <a:lnTo>
                      <a:pt x="1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42" y="3"/>
                    </a:lnTo>
                    <a:lnTo>
                      <a:pt x="64" y="5"/>
                    </a:lnTo>
                    <a:lnTo>
                      <a:pt x="86" y="6"/>
                    </a:lnTo>
                    <a:lnTo>
                      <a:pt x="106" y="6"/>
                    </a:lnTo>
                    <a:lnTo>
                      <a:pt x="127" y="8"/>
                    </a:lnTo>
                    <a:lnTo>
                      <a:pt x="148" y="1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未知"/>
              <p:cNvSpPr/>
              <p:nvPr/>
            </p:nvSpPr>
            <p:spPr>
              <a:xfrm rot="36600">
                <a:off x="4917960" y="3383280"/>
                <a:ext cx="206280" cy="95400"/>
              </a:xfrm>
              <a:custGeom>
                <a:avLst/>
                <a:gdLst/>
                <a:ahLst/>
                <a:rect l="l" t="t" r="r" b="b"/>
                <a:pathLst>
                  <a:path w="262" h="119">
                    <a:moveTo>
                      <a:pt x="262" y="12"/>
                    </a:moveTo>
                    <a:lnTo>
                      <a:pt x="253" y="26"/>
                    </a:lnTo>
                    <a:lnTo>
                      <a:pt x="242" y="38"/>
                    </a:lnTo>
                    <a:lnTo>
                      <a:pt x="231" y="48"/>
                    </a:lnTo>
                    <a:lnTo>
                      <a:pt x="218" y="57"/>
                    </a:lnTo>
                    <a:lnTo>
                      <a:pt x="205" y="64"/>
                    </a:lnTo>
                    <a:lnTo>
                      <a:pt x="193" y="70"/>
                    </a:lnTo>
                    <a:lnTo>
                      <a:pt x="179" y="76"/>
                    </a:lnTo>
                    <a:lnTo>
                      <a:pt x="165" y="80"/>
                    </a:lnTo>
                    <a:lnTo>
                      <a:pt x="151" y="85"/>
                    </a:lnTo>
                    <a:lnTo>
                      <a:pt x="136" y="88"/>
                    </a:lnTo>
                    <a:lnTo>
                      <a:pt x="122" y="93"/>
                    </a:lnTo>
                    <a:lnTo>
                      <a:pt x="107" y="96"/>
                    </a:lnTo>
                    <a:lnTo>
                      <a:pt x="94" y="100"/>
                    </a:lnTo>
                    <a:lnTo>
                      <a:pt x="80" y="104"/>
                    </a:lnTo>
                    <a:lnTo>
                      <a:pt x="66" y="110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5" y="116"/>
                    </a:lnTo>
                    <a:lnTo>
                      <a:pt x="42" y="117"/>
                    </a:lnTo>
                    <a:lnTo>
                      <a:pt x="39" y="118"/>
                    </a:lnTo>
                    <a:lnTo>
                      <a:pt x="36" y="118"/>
                    </a:lnTo>
                    <a:lnTo>
                      <a:pt x="31" y="118"/>
                    </a:lnTo>
                    <a:lnTo>
                      <a:pt x="26" y="119"/>
                    </a:lnTo>
                    <a:lnTo>
                      <a:pt x="20" y="119"/>
                    </a:lnTo>
                    <a:lnTo>
                      <a:pt x="15" y="119"/>
                    </a:lnTo>
                    <a:lnTo>
                      <a:pt x="10" y="119"/>
                    </a:lnTo>
                    <a:lnTo>
                      <a:pt x="5" y="118"/>
                    </a:lnTo>
                    <a:lnTo>
                      <a:pt x="0" y="116"/>
                    </a:lnTo>
                    <a:lnTo>
                      <a:pt x="1" y="110"/>
                    </a:lnTo>
                    <a:lnTo>
                      <a:pt x="24" y="102"/>
                    </a:lnTo>
                    <a:lnTo>
                      <a:pt x="46" y="91"/>
                    </a:lnTo>
                    <a:lnTo>
                      <a:pt x="67" y="78"/>
                    </a:lnTo>
                    <a:lnTo>
                      <a:pt x="88" y="65"/>
                    </a:lnTo>
                    <a:lnTo>
                      <a:pt x="109" y="54"/>
                    </a:lnTo>
                    <a:lnTo>
                      <a:pt x="132" y="43"/>
                    </a:lnTo>
                    <a:lnTo>
                      <a:pt x="155" y="38"/>
                    </a:lnTo>
                    <a:lnTo>
                      <a:pt x="181" y="35"/>
                    </a:lnTo>
                    <a:lnTo>
                      <a:pt x="191" y="32"/>
                    </a:lnTo>
                    <a:lnTo>
                      <a:pt x="202" y="26"/>
                    </a:lnTo>
                    <a:lnTo>
                      <a:pt x="211" y="20"/>
                    </a:lnTo>
                    <a:lnTo>
                      <a:pt x="221" y="13"/>
                    </a:lnTo>
                    <a:lnTo>
                      <a:pt x="231" y="9"/>
                    </a:lnTo>
                    <a:lnTo>
                      <a:pt x="241" y="3"/>
                    </a:lnTo>
                    <a:lnTo>
                      <a:pt x="251" y="1"/>
                    </a:lnTo>
                    <a:lnTo>
                      <a:pt x="262" y="0"/>
                    </a:lnTo>
                    <a:lnTo>
                      <a:pt x="26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未知"/>
              <p:cNvSpPr/>
              <p:nvPr/>
            </p:nvSpPr>
            <p:spPr>
              <a:xfrm rot="36600">
                <a:off x="5204160" y="3385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0" h="57">
                    <a:moveTo>
                      <a:pt x="100" y="10"/>
                    </a:moveTo>
                    <a:lnTo>
                      <a:pt x="95" y="18"/>
                    </a:lnTo>
                    <a:lnTo>
                      <a:pt x="86" y="23"/>
                    </a:lnTo>
                    <a:lnTo>
                      <a:pt x="79" y="27"/>
                    </a:lnTo>
                    <a:lnTo>
                      <a:pt x="76" y="37"/>
                    </a:lnTo>
                    <a:lnTo>
                      <a:pt x="72" y="41"/>
                    </a:lnTo>
                    <a:lnTo>
                      <a:pt x="69" y="45"/>
                    </a:lnTo>
                    <a:lnTo>
                      <a:pt x="65" y="49"/>
                    </a:lnTo>
                    <a:lnTo>
                      <a:pt x="61" y="53"/>
                    </a:lnTo>
                    <a:lnTo>
                      <a:pt x="56" y="55"/>
                    </a:lnTo>
                    <a:lnTo>
                      <a:pt x="52" y="56"/>
                    </a:lnTo>
                    <a:lnTo>
                      <a:pt x="46" y="57"/>
                    </a:lnTo>
                    <a:lnTo>
                      <a:pt x="40" y="56"/>
                    </a:lnTo>
                    <a:lnTo>
                      <a:pt x="37" y="47"/>
                    </a:lnTo>
                    <a:lnTo>
                      <a:pt x="34" y="37"/>
                    </a:lnTo>
                    <a:lnTo>
                      <a:pt x="30" y="28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9" y="20"/>
                    </a:lnTo>
                    <a:lnTo>
                      <a:pt x="4" y="17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10" y="3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未知"/>
              <p:cNvSpPr/>
              <p:nvPr/>
            </p:nvSpPr>
            <p:spPr>
              <a:xfrm rot="36600">
                <a:off x="5301000" y="339120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9" h="46">
                    <a:moveTo>
                      <a:pt x="89" y="8"/>
                    </a:moveTo>
                    <a:lnTo>
                      <a:pt x="81" y="13"/>
                    </a:lnTo>
                    <a:lnTo>
                      <a:pt x="73" y="20"/>
                    </a:lnTo>
                    <a:lnTo>
                      <a:pt x="63" y="28"/>
                    </a:lnTo>
                    <a:lnTo>
                      <a:pt x="55" y="35"/>
                    </a:lnTo>
                    <a:lnTo>
                      <a:pt x="46" y="42"/>
                    </a:lnTo>
                    <a:lnTo>
                      <a:pt x="36" y="46"/>
                    </a:lnTo>
                    <a:lnTo>
                      <a:pt x="26" y="44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12" y="21"/>
                    </a:lnTo>
                    <a:lnTo>
                      <a:pt x="21" y="19"/>
                    </a:lnTo>
                    <a:lnTo>
                      <a:pt x="30" y="16"/>
                    </a:lnTo>
                    <a:lnTo>
                      <a:pt x="37" y="12"/>
                    </a:lnTo>
                    <a:lnTo>
                      <a:pt x="44" y="8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9" y="2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未知"/>
              <p:cNvSpPr/>
              <p:nvPr/>
            </p:nvSpPr>
            <p:spPr>
              <a:xfrm rot="36600">
                <a:off x="5460840" y="3399480"/>
                <a:ext cx="109440" cy="60120"/>
              </a:xfrm>
              <a:custGeom>
                <a:avLst/>
                <a:gdLst/>
                <a:ahLst/>
                <a:rect l="l" t="t" r="r" b="b"/>
                <a:pathLst>
                  <a:path w="137" h="77">
                    <a:moveTo>
                      <a:pt x="36" y="7"/>
                    </a:moveTo>
                    <a:lnTo>
                      <a:pt x="49" y="9"/>
                    </a:lnTo>
                    <a:lnTo>
                      <a:pt x="61" y="9"/>
                    </a:lnTo>
                    <a:lnTo>
                      <a:pt x="73" y="9"/>
                    </a:lnTo>
                    <a:lnTo>
                      <a:pt x="86" y="7"/>
                    </a:lnTo>
                    <a:lnTo>
                      <a:pt x="99" y="7"/>
                    </a:lnTo>
                    <a:lnTo>
                      <a:pt x="110" y="7"/>
                    </a:lnTo>
                    <a:lnTo>
                      <a:pt x="123" y="10"/>
                    </a:lnTo>
                    <a:lnTo>
                      <a:pt x="134" y="13"/>
                    </a:lnTo>
                    <a:lnTo>
                      <a:pt x="132" y="25"/>
                    </a:lnTo>
                    <a:lnTo>
                      <a:pt x="126" y="34"/>
                    </a:lnTo>
                    <a:lnTo>
                      <a:pt x="120" y="43"/>
                    </a:lnTo>
                    <a:lnTo>
                      <a:pt x="120" y="55"/>
                    </a:lnTo>
                    <a:lnTo>
                      <a:pt x="124" y="58"/>
                    </a:lnTo>
                    <a:lnTo>
                      <a:pt x="129" y="60"/>
                    </a:lnTo>
                    <a:lnTo>
                      <a:pt x="133" y="63"/>
                    </a:lnTo>
                    <a:lnTo>
                      <a:pt x="137" y="68"/>
                    </a:lnTo>
                    <a:lnTo>
                      <a:pt x="137" y="74"/>
                    </a:lnTo>
                    <a:lnTo>
                      <a:pt x="119" y="77"/>
                    </a:lnTo>
                    <a:lnTo>
                      <a:pt x="103" y="77"/>
                    </a:lnTo>
                    <a:lnTo>
                      <a:pt x="87" y="73"/>
                    </a:lnTo>
                    <a:lnTo>
                      <a:pt x="71" y="70"/>
                    </a:lnTo>
                    <a:lnTo>
                      <a:pt x="55" y="65"/>
                    </a:lnTo>
                    <a:lnTo>
                      <a:pt x="40" y="62"/>
                    </a:lnTo>
                    <a:lnTo>
                      <a:pt x="24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2" y="47"/>
                    </a:lnTo>
                    <a:lnTo>
                      <a:pt x="3" y="34"/>
                    </a:lnTo>
                    <a:lnTo>
                      <a:pt x="3" y="21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未知"/>
              <p:cNvSpPr/>
              <p:nvPr/>
            </p:nvSpPr>
            <p:spPr>
              <a:xfrm rot="36600">
                <a:off x="5256000" y="34192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51" y="14"/>
                    </a:moveTo>
                    <a:lnTo>
                      <a:pt x="51" y="21"/>
                    </a:lnTo>
                    <a:lnTo>
                      <a:pt x="49" y="27"/>
                    </a:lnTo>
                    <a:lnTo>
                      <a:pt x="43" y="31"/>
                    </a:lnTo>
                    <a:lnTo>
                      <a:pt x="36" y="35"/>
                    </a:lnTo>
                    <a:lnTo>
                      <a:pt x="31" y="33"/>
                    </a:lnTo>
                    <a:lnTo>
                      <a:pt x="24" y="33"/>
                    </a:lnTo>
                    <a:lnTo>
                      <a:pt x="18" y="33"/>
                    </a:lnTo>
                    <a:lnTo>
                      <a:pt x="11" y="34"/>
                    </a:lnTo>
                    <a:lnTo>
                      <a:pt x="5" y="33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6" y="18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48" y="5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未知"/>
              <p:cNvSpPr/>
              <p:nvPr/>
            </p:nvSpPr>
            <p:spPr>
              <a:xfrm rot="36600">
                <a:off x="4851000" y="3439080"/>
                <a:ext cx="88920" cy="23760"/>
              </a:xfrm>
              <a:custGeom>
                <a:avLst/>
                <a:gdLst/>
                <a:ahLst/>
                <a:rect l="l" t="t" r="r" b="b"/>
                <a:pathLst>
                  <a:path w="112" h="30">
                    <a:moveTo>
                      <a:pt x="112" y="3"/>
                    </a:moveTo>
                    <a:lnTo>
                      <a:pt x="111" y="8"/>
                    </a:lnTo>
                    <a:lnTo>
                      <a:pt x="107" y="12"/>
                    </a:lnTo>
                    <a:lnTo>
                      <a:pt x="103" y="15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7" y="20"/>
                    </a:lnTo>
                    <a:lnTo>
                      <a:pt x="81" y="21"/>
                    </a:lnTo>
                    <a:lnTo>
                      <a:pt x="76" y="23"/>
                    </a:lnTo>
                    <a:lnTo>
                      <a:pt x="67" y="21"/>
                    </a:lnTo>
                    <a:lnTo>
                      <a:pt x="58" y="21"/>
                    </a:lnTo>
                    <a:lnTo>
                      <a:pt x="49" y="21"/>
                    </a:lnTo>
                    <a:lnTo>
                      <a:pt x="41" y="22"/>
                    </a:lnTo>
                    <a:lnTo>
                      <a:pt x="31" y="24"/>
                    </a:lnTo>
                    <a:lnTo>
                      <a:pt x="22" y="27"/>
                    </a:lnTo>
                    <a:lnTo>
                      <a:pt x="13" y="28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12" y="11"/>
                    </a:lnTo>
                    <a:lnTo>
                      <a:pt x="23" y="7"/>
                    </a:lnTo>
                    <a:lnTo>
                      <a:pt x="36" y="6"/>
                    </a:lnTo>
                    <a:lnTo>
                      <a:pt x="49" y="6"/>
                    </a:lnTo>
                    <a:lnTo>
                      <a:pt x="63" y="6"/>
                    </a:lnTo>
                    <a:lnTo>
                      <a:pt x="75" y="6"/>
                    </a:lnTo>
                    <a:lnTo>
                      <a:pt x="87" y="5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未知"/>
              <p:cNvSpPr/>
              <p:nvPr/>
            </p:nvSpPr>
            <p:spPr>
              <a:xfrm rot="36600">
                <a:off x="5074200" y="3444120"/>
                <a:ext cx="357480" cy="106560"/>
              </a:xfrm>
              <a:custGeom>
                <a:avLst/>
                <a:gdLst/>
                <a:ahLst/>
                <a:rect l="l" t="t" r="r" b="b"/>
                <a:pathLst>
                  <a:path w="449" h="134">
                    <a:moveTo>
                      <a:pt x="449" y="12"/>
                    </a:moveTo>
                    <a:lnTo>
                      <a:pt x="446" y="18"/>
                    </a:lnTo>
                    <a:lnTo>
                      <a:pt x="443" y="21"/>
                    </a:lnTo>
                    <a:lnTo>
                      <a:pt x="438" y="22"/>
                    </a:lnTo>
                    <a:lnTo>
                      <a:pt x="434" y="22"/>
                    </a:lnTo>
                    <a:lnTo>
                      <a:pt x="427" y="22"/>
                    </a:lnTo>
                    <a:lnTo>
                      <a:pt x="421" y="22"/>
                    </a:lnTo>
                    <a:lnTo>
                      <a:pt x="415" y="22"/>
                    </a:lnTo>
                    <a:lnTo>
                      <a:pt x="411" y="25"/>
                    </a:lnTo>
                    <a:lnTo>
                      <a:pt x="392" y="29"/>
                    </a:lnTo>
                    <a:lnTo>
                      <a:pt x="375" y="34"/>
                    </a:lnTo>
                    <a:lnTo>
                      <a:pt x="357" y="38"/>
                    </a:lnTo>
                    <a:lnTo>
                      <a:pt x="339" y="44"/>
                    </a:lnTo>
                    <a:lnTo>
                      <a:pt x="322" y="50"/>
                    </a:lnTo>
                    <a:lnTo>
                      <a:pt x="305" y="58"/>
                    </a:lnTo>
                    <a:lnTo>
                      <a:pt x="289" y="67"/>
                    </a:lnTo>
                    <a:lnTo>
                      <a:pt x="274" y="79"/>
                    </a:lnTo>
                    <a:lnTo>
                      <a:pt x="264" y="81"/>
                    </a:lnTo>
                    <a:lnTo>
                      <a:pt x="255" y="83"/>
                    </a:lnTo>
                    <a:lnTo>
                      <a:pt x="245" y="86"/>
                    </a:lnTo>
                    <a:lnTo>
                      <a:pt x="234" y="87"/>
                    </a:lnTo>
                    <a:lnTo>
                      <a:pt x="225" y="87"/>
                    </a:lnTo>
                    <a:lnTo>
                      <a:pt x="215" y="87"/>
                    </a:lnTo>
                    <a:lnTo>
                      <a:pt x="205" y="86"/>
                    </a:lnTo>
                    <a:lnTo>
                      <a:pt x="195" y="84"/>
                    </a:lnTo>
                    <a:lnTo>
                      <a:pt x="175" y="90"/>
                    </a:lnTo>
                    <a:lnTo>
                      <a:pt x="153" y="94"/>
                    </a:lnTo>
                    <a:lnTo>
                      <a:pt x="131" y="95"/>
                    </a:lnTo>
                    <a:lnTo>
                      <a:pt x="109" y="97"/>
                    </a:lnTo>
                    <a:lnTo>
                      <a:pt x="88" y="102"/>
                    </a:lnTo>
                    <a:lnTo>
                      <a:pt x="67" y="108"/>
                    </a:lnTo>
                    <a:lnTo>
                      <a:pt x="49" y="118"/>
                    </a:lnTo>
                    <a:lnTo>
                      <a:pt x="33" y="134"/>
                    </a:lnTo>
                    <a:lnTo>
                      <a:pt x="24" y="132"/>
                    </a:lnTo>
                    <a:lnTo>
                      <a:pt x="16" y="131"/>
                    </a:lnTo>
                    <a:lnTo>
                      <a:pt x="9" y="129"/>
                    </a:lnTo>
                    <a:lnTo>
                      <a:pt x="2" y="128"/>
                    </a:lnTo>
                    <a:lnTo>
                      <a:pt x="0" y="119"/>
                    </a:lnTo>
                    <a:lnTo>
                      <a:pt x="0" y="110"/>
                    </a:lnTo>
                    <a:lnTo>
                      <a:pt x="3" y="102"/>
                    </a:lnTo>
                    <a:lnTo>
                      <a:pt x="9" y="95"/>
                    </a:lnTo>
                    <a:lnTo>
                      <a:pt x="16" y="88"/>
                    </a:lnTo>
                    <a:lnTo>
                      <a:pt x="23" y="82"/>
                    </a:lnTo>
                    <a:lnTo>
                      <a:pt x="31" y="76"/>
                    </a:lnTo>
                    <a:lnTo>
                      <a:pt x="36" y="71"/>
                    </a:lnTo>
                    <a:lnTo>
                      <a:pt x="48" y="63"/>
                    </a:lnTo>
                    <a:lnTo>
                      <a:pt x="61" y="57"/>
                    </a:lnTo>
                    <a:lnTo>
                      <a:pt x="73" y="56"/>
                    </a:lnTo>
                    <a:lnTo>
                      <a:pt x="87" y="55"/>
                    </a:lnTo>
                    <a:lnTo>
                      <a:pt x="101" y="53"/>
                    </a:lnTo>
                    <a:lnTo>
                      <a:pt x="114" y="52"/>
                    </a:lnTo>
                    <a:lnTo>
                      <a:pt x="126" y="48"/>
                    </a:lnTo>
                    <a:lnTo>
                      <a:pt x="139" y="41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1" y="42"/>
                    </a:lnTo>
                    <a:lnTo>
                      <a:pt x="181" y="44"/>
                    </a:lnTo>
                    <a:lnTo>
                      <a:pt x="192" y="46"/>
                    </a:lnTo>
                    <a:lnTo>
                      <a:pt x="202" y="46"/>
                    </a:lnTo>
                    <a:lnTo>
                      <a:pt x="213" y="45"/>
                    </a:lnTo>
                    <a:lnTo>
                      <a:pt x="223" y="41"/>
                    </a:lnTo>
                    <a:lnTo>
                      <a:pt x="236" y="37"/>
                    </a:lnTo>
                    <a:lnTo>
                      <a:pt x="247" y="33"/>
                    </a:lnTo>
                    <a:lnTo>
                      <a:pt x="259" y="27"/>
                    </a:lnTo>
                    <a:lnTo>
                      <a:pt x="270" y="22"/>
                    </a:lnTo>
                    <a:lnTo>
                      <a:pt x="282" y="18"/>
                    </a:lnTo>
                    <a:lnTo>
                      <a:pt x="293" y="14"/>
                    </a:lnTo>
                    <a:lnTo>
                      <a:pt x="307" y="13"/>
                    </a:lnTo>
                    <a:lnTo>
                      <a:pt x="321" y="14"/>
                    </a:lnTo>
                    <a:lnTo>
                      <a:pt x="336" y="7"/>
                    </a:lnTo>
                    <a:lnTo>
                      <a:pt x="351" y="4"/>
                    </a:lnTo>
                    <a:lnTo>
                      <a:pt x="368" y="0"/>
                    </a:lnTo>
                    <a:lnTo>
                      <a:pt x="384" y="0"/>
                    </a:lnTo>
                    <a:lnTo>
                      <a:pt x="401" y="0"/>
                    </a:lnTo>
                    <a:lnTo>
                      <a:pt x="418" y="3"/>
                    </a:lnTo>
                    <a:lnTo>
                      <a:pt x="434" y="7"/>
                    </a:lnTo>
                    <a:lnTo>
                      <a:pt x="4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未知"/>
              <p:cNvSpPr/>
              <p:nvPr/>
            </p:nvSpPr>
            <p:spPr>
              <a:xfrm rot="36600">
                <a:off x="4740840" y="3473280"/>
                <a:ext cx="142920" cy="36360"/>
              </a:xfrm>
              <a:custGeom>
                <a:avLst/>
                <a:gdLst/>
                <a:ahLst/>
                <a:rect l="l" t="t" r="r" b="b"/>
                <a:pathLst>
                  <a:path w="181" h="46">
                    <a:moveTo>
                      <a:pt x="181" y="5"/>
                    </a:moveTo>
                    <a:lnTo>
                      <a:pt x="180" y="10"/>
                    </a:lnTo>
                    <a:lnTo>
                      <a:pt x="175" y="14"/>
                    </a:lnTo>
                    <a:lnTo>
                      <a:pt x="169" y="15"/>
                    </a:lnTo>
                    <a:lnTo>
                      <a:pt x="164" y="17"/>
                    </a:lnTo>
                    <a:lnTo>
                      <a:pt x="143" y="20"/>
                    </a:lnTo>
                    <a:lnTo>
                      <a:pt x="122" y="24"/>
                    </a:lnTo>
                    <a:lnTo>
                      <a:pt x="103" y="31"/>
                    </a:lnTo>
                    <a:lnTo>
                      <a:pt x="82" y="38"/>
                    </a:lnTo>
                    <a:lnTo>
                      <a:pt x="62" y="43"/>
                    </a:lnTo>
                    <a:lnTo>
                      <a:pt x="41" y="46"/>
                    </a:lnTo>
                    <a:lnTo>
                      <a:pt x="21" y="45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8" y="31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9" y="23"/>
                    </a:lnTo>
                    <a:lnTo>
                      <a:pt x="43" y="17"/>
                    </a:lnTo>
                    <a:lnTo>
                      <a:pt x="59" y="13"/>
                    </a:lnTo>
                    <a:lnTo>
                      <a:pt x="75" y="9"/>
                    </a:lnTo>
                    <a:lnTo>
                      <a:pt x="92" y="8"/>
                    </a:lnTo>
                    <a:lnTo>
                      <a:pt x="109" y="7"/>
                    </a:lnTo>
                    <a:lnTo>
                      <a:pt x="127" y="6"/>
                    </a:lnTo>
                    <a:lnTo>
                      <a:pt x="144" y="6"/>
                    </a:lnTo>
                    <a:lnTo>
                      <a:pt x="160" y="3"/>
                    </a:lnTo>
                    <a:lnTo>
                      <a:pt x="176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未知"/>
              <p:cNvSpPr/>
              <p:nvPr/>
            </p:nvSpPr>
            <p:spPr>
              <a:xfrm rot="36600">
                <a:off x="5421960" y="348300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51" y="5"/>
                    </a:moveTo>
                    <a:lnTo>
                      <a:pt x="52" y="18"/>
                    </a:lnTo>
                    <a:lnTo>
                      <a:pt x="47" y="28"/>
                    </a:lnTo>
                    <a:lnTo>
                      <a:pt x="39" y="36"/>
                    </a:lnTo>
                    <a:lnTo>
                      <a:pt x="30" y="43"/>
                    </a:lnTo>
                    <a:lnTo>
                      <a:pt x="23" y="44"/>
                    </a:lnTo>
                    <a:lnTo>
                      <a:pt x="16" y="48"/>
                    </a:lnTo>
                    <a:lnTo>
                      <a:pt x="9" y="49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5" y="24"/>
                    </a:lnTo>
                    <a:lnTo>
                      <a:pt x="21" y="20"/>
                    </a:lnTo>
                    <a:lnTo>
                      <a:pt x="27" y="17"/>
                    </a:lnTo>
                    <a:lnTo>
                      <a:pt x="30" y="12"/>
                    </a:lnTo>
                    <a:lnTo>
                      <a:pt x="35" y="7"/>
                    </a:lnTo>
                    <a:lnTo>
                      <a:pt x="40" y="3"/>
                    </a:lnTo>
                    <a:lnTo>
                      <a:pt x="45" y="0"/>
                    </a:lnTo>
                    <a:lnTo>
                      <a:pt x="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未知"/>
              <p:cNvSpPr/>
              <p:nvPr/>
            </p:nvSpPr>
            <p:spPr>
              <a:xfrm rot="36600">
                <a:off x="4597560" y="3499560"/>
                <a:ext cx="363240" cy="115920"/>
              </a:xfrm>
              <a:custGeom>
                <a:avLst/>
                <a:gdLst/>
                <a:ahLst/>
                <a:rect l="l" t="t" r="r" b="b"/>
                <a:pathLst>
                  <a:path w="457" h="147">
                    <a:moveTo>
                      <a:pt x="51" y="36"/>
                    </a:moveTo>
                    <a:lnTo>
                      <a:pt x="58" y="40"/>
                    </a:lnTo>
                    <a:lnTo>
                      <a:pt x="65" y="42"/>
                    </a:lnTo>
                    <a:lnTo>
                      <a:pt x="72" y="45"/>
                    </a:lnTo>
                    <a:lnTo>
                      <a:pt x="79" y="49"/>
                    </a:lnTo>
                    <a:lnTo>
                      <a:pt x="85" y="53"/>
                    </a:lnTo>
                    <a:lnTo>
                      <a:pt x="91" y="59"/>
                    </a:lnTo>
                    <a:lnTo>
                      <a:pt x="94" y="65"/>
                    </a:lnTo>
                    <a:lnTo>
                      <a:pt x="96" y="73"/>
                    </a:lnTo>
                    <a:lnTo>
                      <a:pt x="105" y="72"/>
                    </a:lnTo>
                    <a:lnTo>
                      <a:pt x="115" y="68"/>
                    </a:lnTo>
                    <a:lnTo>
                      <a:pt x="125" y="65"/>
                    </a:lnTo>
                    <a:lnTo>
                      <a:pt x="134" y="61"/>
                    </a:lnTo>
                    <a:lnTo>
                      <a:pt x="143" y="59"/>
                    </a:lnTo>
                    <a:lnTo>
                      <a:pt x="154" y="58"/>
                    </a:lnTo>
                    <a:lnTo>
                      <a:pt x="163" y="59"/>
                    </a:lnTo>
                    <a:lnTo>
                      <a:pt x="173" y="63"/>
                    </a:lnTo>
                    <a:lnTo>
                      <a:pt x="186" y="70"/>
                    </a:lnTo>
                    <a:lnTo>
                      <a:pt x="199" y="76"/>
                    </a:lnTo>
                    <a:lnTo>
                      <a:pt x="210" y="85"/>
                    </a:lnTo>
                    <a:lnTo>
                      <a:pt x="223" y="91"/>
                    </a:lnTo>
                    <a:lnTo>
                      <a:pt x="236" y="99"/>
                    </a:lnTo>
                    <a:lnTo>
                      <a:pt x="247" y="106"/>
                    </a:lnTo>
                    <a:lnTo>
                      <a:pt x="260" y="113"/>
                    </a:lnTo>
                    <a:lnTo>
                      <a:pt x="272" y="119"/>
                    </a:lnTo>
                    <a:lnTo>
                      <a:pt x="283" y="117"/>
                    </a:lnTo>
                    <a:lnTo>
                      <a:pt x="292" y="113"/>
                    </a:lnTo>
                    <a:lnTo>
                      <a:pt x="301" y="109"/>
                    </a:lnTo>
                    <a:lnTo>
                      <a:pt x="310" y="104"/>
                    </a:lnTo>
                    <a:lnTo>
                      <a:pt x="320" y="99"/>
                    </a:lnTo>
                    <a:lnTo>
                      <a:pt x="329" y="96"/>
                    </a:lnTo>
                    <a:lnTo>
                      <a:pt x="338" y="93"/>
                    </a:lnTo>
                    <a:lnTo>
                      <a:pt x="348" y="91"/>
                    </a:lnTo>
                    <a:lnTo>
                      <a:pt x="361" y="89"/>
                    </a:lnTo>
                    <a:lnTo>
                      <a:pt x="374" y="88"/>
                    </a:lnTo>
                    <a:lnTo>
                      <a:pt x="386" y="88"/>
                    </a:lnTo>
                    <a:lnTo>
                      <a:pt x="400" y="87"/>
                    </a:lnTo>
                    <a:lnTo>
                      <a:pt x="413" y="86"/>
                    </a:lnTo>
                    <a:lnTo>
                      <a:pt x="427" y="85"/>
                    </a:lnTo>
                    <a:lnTo>
                      <a:pt x="439" y="83"/>
                    </a:lnTo>
                    <a:lnTo>
                      <a:pt x="452" y="81"/>
                    </a:lnTo>
                    <a:lnTo>
                      <a:pt x="454" y="83"/>
                    </a:lnTo>
                    <a:lnTo>
                      <a:pt x="456" y="86"/>
                    </a:lnTo>
                    <a:lnTo>
                      <a:pt x="457" y="89"/>
                    </a:lnTo>
                    <a:lnTo>
                      <a:pt x="457" y="91"/>
                    </a:lnTo>
                    <a:lnTo>
                      <a:pt x="441" y="97"/>
                    </a:lnTo>
                    <a:lnTo>
                      <a:pt x="424" y="102"/>
                    </a:lnTo>
                    <a:lnTo>
                      <a:pt x="407" y="104"/>
                    </a:lnTo>
                    <a:lnTo>
                      <a:pt x="390" y="108"/>
                    </a:lnTo>
                    <a:lnTo>
                      <a:pt x="373" y="111"/>
                    </a:lnTo>
                    <a:lnTo>
                      <a:pt x="357" y="116"/>
                    </a:lnTo>
                    <a:lnTo>
                      <a:pt x="342" y="123"/>
                    </a:lnTo>
                    <a:lnTo>
                      <a:pt x="328" y="133"/>
                    </a:lnTo>
                    <a:lnTo>
                      <a:pt x="309" y="143"/>
                    </a:lnTo>
                    <a:lnTo>
                      <a:pt x="291" y="147"/>
                    </a:lnTo>
                    <a:lnTo>
                      <a:pt x="272" y="146"/>
                    </a:lnTo>
                    <a:lnTo>
                      <a:pt x="255" y="140"/>
                    </a:lnTo>
                    <a:lnTo>
                      <a:pt x="238" y="132"/>
                    </a:lnTo>
                    <a:lnTo>
                      <a:pt x="221" y="124"/>
                    </a:lnTo>
                    <a:lnTo>
                      <a:pt x="205" y="114"/>
                    </a:lnTo>
                    <a:lnTo>
                      <a:pt x="188" y="106"/>
                    </a:lnTo>
                    <a:lnTo>
                      <a:pt x="183" y="101"/>
                    </a:lnTo>
                    <a:lnTo>
                      <a:pt x="177" y="95"/>
                    </a:lnTo>
                    <a:lnTo>
                      <a:pt x="170" y="90"/>
                    </a:lnTo>
                    <a:lnTo>
                      <a:pt x="163" y="87"/>
                    </a:lnTo>
                    <a:lnTo>
                      <a:pt x="156" y="83"/>
                    </a:lnTo>
                    <a:lnTo>
                      <a:pt x="148" y="82"/>
                    </a:lnTo>
                    <a:lnTo>
                      <a:pt x="140" y="83"/>
                    </a:lnTo>
                    <a:lnTo>
                      <a:pt x="132" y="86"/>
                    </a:lnTo>
                    <a:lnTo>
                      <a:pt x="127" y="90"/>
                    </a:lnTo>
                    <a:lnTo>
                      <a:pt x="123" y="94"/>
                    </a:lnTo>
                    <a:lnTo>
                      <a:pt x="117" y="97"/>
                    </a:lnTo>
                    <a:lnTo>
                      <a:pt x="111" y="99"/>
                    </a:lnTo>
                    <a:lnTo>
                      <a:pt x="105" y="101"/>
                    </a:lnTo>
                    <a:lnTo>
                      <a:pt x="99" y="101"/>
                    </a:lnTo>
                    <a:lnTo>
                      <a:pt x="93" y="99"/>
                    </a:lnTo>
                    <a:lnTo>
                      <a:pt x="86" y="98"/>
                    </a:lnTo>
                    <a:lnTo>
                      <a:pt x="79" y="90"/>
                    </a:lnTo>
                    <a:lnTo>
                      <a:pt x="72" y="80"/>
                    </a:lnTo>
                    <a:lnTo>
                      <a:pt x="66" y="71"/>
                    </a:lnTo>
                    <a:lnTo>
                      <a:pt x="59" y="60"/>
                    </a:lnTo>
                    <a:lnTo>
                      <a:pt x="53" y="52"/>
                    </a:lnTo>
                    <a:lnTo>
                      <a:pt x="44" y="44"/>
                    </a:lnTo>
                    <a:lnTo>
                      <a:pt x="35" y="37"/>
                    </a:lnTo>
                    <a:lnTo>
                      <a:pt x="24" y="34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19" y="12"/>
                    </a:lnTo>
                    <a:lnTo>
                      <a:pt x="26" y="17"/>
                    </a:lnTo>
                    <a:lnTo>
                      <a:pt x="32" y="21"/>
                    </a:lnTo>
                    <a:lnTo>
                      <a:pt x="39" y="26"/>
                    </a:lnTo>
                    <a:lnTo>
                      <a:pt x="44" y="32"/>
                    </a:lnTo>
                    <a:lnTo>
                      <a:pt x="5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未知"/>
              <p:cNvSpPr/>
              <p:nvPr/>
            </p:nvSpPr>
            <p:spPr>
              <a:xfrm rot="36600">
                <a:off x="4850280" y="35150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5" y="7"/>
                    </a:moveTo>
                    <a:lnTo>
                      <a:pt x="100" y="11"/>
                    </a:lnTo>
                    <a:lnTo>
                      <a:pt x="95" y="16"/>
                    </a:lnTo>
                    <a:lnTo>
                      <a:pt x="89" y="19"/>
                    </a:lnTo>
                    <a:lnTo>
                      <a:pt x="83" y="24"/>
                    </a:lnTo>
                    <a:lnTo>
                      <a:pt x="77" y="28"/>
                    </a:lnTo>
                    <a:lnTo>
                      <a:pt x="73" y="33"/>
                    </a:lnTo>
                    <a:lnTo>
                      <a:pt x="69" y="39"/>
                    </a:lnTo>
                    <a:lnTo>
                      <a:pt x="67" y="46"/>
                    </a:lnTo>
                    <a:lnTo>
                      <a:pt x="59" y="49"/>
                    </a:lnTo>
                    <a:lnTo>
                      <a:pt x="52" y="51"/>
                    </a:lnTo>
                    <a:lnTo>
                      <a:pt x="44" y="49"/>
                    </a:lnTo>
                    <a:lnTo>
                      <a:pt x="36" y="47"/>
                    </a:lnTo>
                    <a:lnTo>
                      <a:pt x="28" y="45"/>
                    </a:lnTo>
                    <a:lnTo>
                      <a:pt x="20" y="42"/>
                    </a:lnTo>
                    <a:lnTo>
                      <a:pt x="12" y="41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1" y="21"/>
                    </a:lnTo>
                    <a:lnTo>
                      <a:pt x="36" y="18"/>
                    </a:lnTo>
                    <a:lnTo>
                      <a:pt x="44" y="15"/>
                    </a:lnTo>
                    <a:lnTo>
                      <a:pt x="52" y="13"/>
                    </a:lnTo>
                    <a:lnTo>
                      <a:pt x="59" y="10"/>
                    </a:lnTo>
                    <a:lnTo>
                      <a:pt x="67" y="7"/>
                    </a:lnTo>
                    <a:lnTo>
                      <a:pt x="75" y="6"/>
                    </a:lnTo>
                    <a:lnTo>
                      <a:pt x="83" y="3"/>
                    </a:lnTo>
                    <a:lnTo>
                      <a:pt x="92" y="1"/>
                    </a:lnTo>
                    <a:lnTo>
                      <a:pt x="100" y="0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未知"/>
              <p:cNvSpPr/>
              <p:nvPr/>
            </p:nvSpPr>
            <p:spPr>
              <a:xfrm rot="36600">
                <a:off x="5162400" y="3520800"/>
                <a:ext cx="243000" cy="92160"/>
              </a:xfrm>
              <a:custGeom>
                <a:avLst/>
                <a:gdLst/>
                <a:ahLst/>
                <a:rect l="l" t="t" r="r" b="b"/>
                <a:pathLst>
                  <a:path w="307" h="117">
                    <a:moveTo>
                      <a:pt x="307" y="2"/>
                    </a:moveTo>
                    <a:lnTo>
                      <a:pt x="304" y="11"/>
                    </a:lnTo>
                    <a:lnTo>
                      <a:pt x="297" y="15"/>
                    </a:lnTo>
                    <a:lnTo>
                      <a:pt x="288" y="17"/>
                    </a:lnTo>
                    <a:lnTo>
                      <a:pt x="281" y="21"/>
                    </a:lnTo>
                    <a:lnTo>
                      <a:pt x="269" y="24"/>
                    </a:lnTo>
                    <a:lnTo>
                      <a:pt x="256" y="29"/>
                    </a:lnTo>
                    <a:lnTo>
                      <a:pt x="242" y="32"/>
                    </a:lnTo>
                    <a:lnTo>
                      <a:pt x="229" y="35"/>
                    </a:lnTo>
                    <a:lnTo>
                      <a:pt x="217" y="38"/>
                    </a:lnTo>
                    <a:lnTo>
                      <a:pt x="204" y="42"/>
                    </a:lnTo>
                    <a:lnTo>
                      <a:pt x="190" y="45"/>
                    </a:lnTo>
                    <a:lnTo>
                      <a:pt x="178" y="49"/>
                    </a:lnTo>
                    <a:lnTo>
                      <a:pt x="165" y="53"/>
                    </a:lnTo>
                    <a:lnTo>
                      <a:pt x="153" y="57"/>
                    </a:lnTo>
                    <a:lnTo>
                      <a:pt x="141" y="62"/>
                    </a:lnTo>
                    <a:lnTo>
                      <a:pt x="129" y="67"/>
                    </a:lnTo>
                    <a:lnTo>
                      <a:pt x="118" y="73"/>
                    </a:lnTo>
                    <a:lnTo>
                      <a:pt x="106" y="80"/>
                    </a:lnTo>
                    <a:lnTo>
                      <a:pt x="95" y="88"/>
                    </a:lnTo>
                    <a:lnTo>
                      <a:pt x="84" y="96"/>
                    </a:lnTo>
                    <a:lnTo>
                      <a:pt x="74" y="99"/>
                    </a:lnTo>
                    <a:lnTo>
                      <a:pt x="64" y="103"/>
                    </a:lnTo>
                    <a:lnTo>
                      <a:pt x="53" y="105"/>
                    </a:lnTo>
                    <a:lnTo>
                      <a:pt x="44" y="107"/>
                    </a:lnTo>
                    <a:lnTo>
                      <a:pt x="34" y="110"/>
                    </a:lnTo>
                    <a:lnTo>
                      <a:pt x="23" y="112"/>
                    </a:lnTo>
                    <a:lnTo>
                      <a:pt x="13" y="114"/>
                    </a:lnTo>
                    <a:lnTo>
                      <a:pt x="3" y="117"/>
                    </a:lnTo>
                    <a:lnTo>
                      <a:pt x="0" y="112"/>
                    </a:lnTo>
                    <a:lnTo>
                      <a:pt x="1" y="107"/>
                    </a:lnTo>
                    <a:lnTo>
                      <a:pt x="4" y="103"/>
                    </a:lnTo>
                    <a:lnTo>
                      <a:pt x="5" y="98"/>
                    </a:lnTo>
                    <a:lnTo>
                      <a:pt x="16" y="95"/>
                    </a:lnTo>
                    <a:lnTo>
                      <a:pt x="28" y="91"/>
                    </a:lnTo>
                    <a:lnTo>
                      <a:pt x="39" y="85"/>
                    </a:lnTo>
                    <a:lnTo>
                      <a:pt x="50" y="80"/>
                    </a:lnTo>
                    <a:lnTo>
                      <a:pt x="60" y="73"/>
                    </a:lnTo>
                    <a:lnTo>
                      <a:pt x="69" y="65"/>
                    </a:lnTo>
                    <a:lnTo>
                      <a:pt x="77" y="55"/>
                    </a:lnTo>
                    <a:lnTo>
                      <a:pt x="84" y="44"/>
                    </a:lnTo>
                    <a:lnTo>
                      <a:pt x="95" y="36"/>
                    </a:lnTo>
                    <a:lnTo>
                      <a:pt x="106" y="29"/>
                    </a:lnTo>
                    <a:lnTo>
                      <a:pt x="119" y="24"/>
                    </a:lnTo>
                    <a:lnTo>
                      <a:pt x="132" y="21"/>
                    </a:lnTo>
                    <a:lnTo>
                      <a:pt x="144" y="19"/>
                    </a:lnTo>
                    <a:lnTo>
                      <a:pt x="158" y="17"/>
                    </a:lnTo>
                    <a:lnTo>
                      <a:pt x="172" y="16"/>
                    </a:lnTo>
                    <a:lnTo>
                      <a:pt x="186" y="15"/>
                    </a:lnTo>
                    <a:lnTo>
                      <a:pt x="199" y="15"/>
                    </a:lnTo>
                    <a:lnTo>
                      <a:pt x="214" y="15"/>
                    </a:lnTo>
                    <a:lnTo>
                      <a:pt x="228" y="14"/>
                    </a:lnTo>
                    <a:lnTo>
                      <a:pt x="242" y="13"/>
                    </a:lnTo>
                    <a:lnTo>
                      <a:pt x="255" y="12"/>
                    </a:lnTo>
                    <a:lnTo>
                      <a:pt x="269" y="9"/>
                    </a:lnTo>
                    <a:lnTo>
                      <a:pt x="281" y="5"/>
                    </a:lnTo>
                    <a:lnTo>
                      <a:pt x="293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未知"/>
              <p:cNvSpPr/>
              <p:nvPr/>
            </p:nvSpPr>
            <p:spPr>
              <a:xfrm rot="36600">
                <a:off x="4935240" y="3579840"/>
                <a:ext cx="166680" cy="44280"/>
              </a:xfrm>
              <a:custGeom>
                <a:avLst/>
                <a:gdLst/>
                <a:ahLst/>
                <a:rect l="l" t="t" r="r" b="b"/>
                <a:pathLst>
                  <a:path w="210" h="58">
                    <a:moveTo>
                      <a:pt x="210" y="6"/>
                    </a:moveTo>
                    <a:lnTo>
                      <a:pt x="205" y="14"/>
                    </a:lnTo>
                    <a:lnTo>
                      <a:pt x="197" y="20"/>
                    </a:lnTo>
                    <a:lnTo>
                      <a:pt x="188" y="26"/>
                    </a:lnTo>
                    <a:lnTo>
                      <a:pt x="181" y="31"/>
                    </a:lnTo>
                    <a:lnTo>
                      <a:pt x="185" y="34"/>
                    </a:lnTo>
                    <a:lnTo>
                      <a:pt x="191" y="36"/>
                    </a:lnTo>
                    <a:lnTo>
                      <a:pt x="196" y="38"/>
                    </a:lnTo>
                    <a:lnTo>
                      <a:pt x="202" y="40"/>
                    </a:lnTo>
                    <a:lnTo>
                      <a:pt x="207" y="42"/>
                    </a:lnTo>
                    <a:lnTo>
                      <a:pt x="209" y="44"/>
                    </a:lnTo>
                    <a:lnTo>
                      <a:pt x="210" y="49"/>
                    </a:lnTo>
                    <a:lnTo>
                      <a:pt x="207" y="54"/>
                    </a:lnTo>
                    <a:lnTo>
                      <a:pt x="192" y="57"/>
                    </a:lnTo>
                    <a:lnTo>
                      <a:pt x="178" y="58"/>
                    </a:lnTo>
                    <a:lnTo>
                      <a:pt x="163" y="58"/>
                    </a:lnTo>
                    <a:lnTo>
                      <a:pt x="149" y="56"/>
                    </a:lnTo>
                    <a:lnTo>
                      <a:pt x="134" y="53"/>
                    </a:lnTo>
                    <a:lnTo>
                      <a:pt x="121" y="50"/>
                    </a:lnTo>
                    <a:lnTo>
                      <a:pt x="108" y="45"/>
                    </a:lnTo>
                    <a:lnTo>
                      <a:pt x="95" y="40"/>
                    </a:lnTo>
                    <a:lnTo>
                      <a:pt x="82" y="40"/>
                    </a:lnTo>
                    <a:lnTo>
                      <a:pt x="70" y="40"/>
                    </a:lnTo>
                    <a:lnTo>
                      <a:pt x="58" y="40"/>
                    </a:lnTo>
                    <a:lnTo>
                      <a:pt x="47" y="40"/>
                    </a:lnTo>
                    <a:lnTo>
                      <a:pt x="35" y="38"/>
                    </a:lnTo>
                    <a:lnTo>
                      <a:pt x="24" y="37"/>
                    </a:lnTo>
                    <a:lnTo>
                      <a:pt x="12" y="35"/>
                    </a:lnTo>
                    <a:lnTo>
                      <a:pt x="2" y="31"/>
                    </a:lnTo>
                    <a:lnTo>
                      <a:pt x="0" y="25"/>
                    </a:lnTo>
                    <a:lnTo>
                      <a:pt x="5" y="21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27" y="13"/>
                    </a:lnTo>
                    <a:lnTo>
                      <a:pt x="38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4" y="12"/>
                    </a:lnTo>
                    <a:lnTo>
                      <a:pt x="86" y="12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3" y="13"/>
                    </a:lnTo>
                    <a:lnTo>
                      <a:pt x="135" y="13"/>
                    </a:lnTo>
                    <a:lnTo>
                      <a:pt x="147" y="12"/>
                    </a:lnTo>
                    <a:lnTo>
                      <a:pt x="158" y="11"/>
                    </a:lnTo>
                    <a:lnTo>
                      <a:pt x="171" y="10"/>
                    </a:lnTo>
                    <a:lnTo>
                      <a:pt x="182" y="7"/>
                    </a:lnTo>
                    <a:lnTo>
                      <a:pt x="193" y="4"/>
                    </a:lnTo>
                    <a:lnTo>
                      <a:pt x="204" y="0"/>
                    </a:lnTo>
                    <a:lnTo>
                      <a:pt x="2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未知"/>
              <p:cNvSpPr/>
              <p:nvPr/>
            </p:nvSpPr>
            <p:spPr>
              <a:xfrm rot="36600">
                <a:off x="5662440" y="3589920"/>
                <a:ext cx="282600" cy="273240"/>
              </a:xfrm>
              <a:custGeom>
                <a:avLst/>
                <a:gdLst/>
                <a:ahLst/>
                <a:rect l="l" t="t" r="r" b="b"/>
                <a:pathLst>
                  <a:path w="355" h="343">
                    <a:moveTo>
                      <a:pt x="87" y="23"/>
                    </a:moveTo>
                    <a:lnTo>
                      <a:pt x="95" y="23"/>
                    </a:lnTo>
                    <a:lnTo>
                      <a:pt x="103" y="23"/>
                    </a:lnTo>
                    <a:lnTo>
                      <a:pt x="112" y="23"/>
                    </a:lnTo>
                    <a:lnTo>
                      <a:pt x="120" y="24"/>
                    </a:lnTo>
                    <a:lnTo>
                      <a:pt x="127" y="25"/>
                    </a:lnTo>
                    <a:lnTo>
                      <a:pt x="134" y="27"/>
                    </a:lnTo>
                    <a:lnTo>
                      <a:pt x="140" y="33"/>
                    </a:lnTo>
                    <a:lnTo>
                      <a:pt x="146" y="40"/>
                    </a:lnTo>
                    <a:lnTo>
                      <a:pt x="144" y="54"/>
                    </a:lnTo>
                    <a:lnTo>
                      <a:pt x="149" y="63"/>
                    </a:lnTo>
                    <a:lnTo>
                      <a:pt x="158" y="70"/>
                    </a:lnTo>
                    <a:lnTo>
                      <a:pt x="169" y="74"/>
                    </a:lnTo>
                    <a:lnTo>
                      <a:pt x="180" y="78"/>
                    </a:lnTo>
                    <a:lnTo>
                      <a:pt x="191" y="84"/>
                    </a:lnTo>
                    <a:lnTo>
                      <a:pt x="199" y="93"/>
                    </a:lnTo>
                    <a:lnTo>
                      <a:pt x="202" y="107"/>
                    </a:lnTo>
                    <a:lnTo>
                      <a:pt x="204" y="117"/>
                    </a:lnTo>
                    <a:lnTo>
                      <a:pt x="201" y="127"/>
                    </a:lnTo>
                    <a:lnTo>
                      <a:pt x="196" y="136"/>
                    </a:lnTo>
                    <a:lnTo>
                      <a:pt x="195" y="145"/>
                    </a:lnTo>
                    <a:lnTo>
                      <a:pt x="205" y="153"/>
                    </a:lnTo>
                    <a:lnTo>
                      <a:pt x="212" y="162"/>
                    </a:lnTo>
                    <a:lnTo>
                      <a:pt x="218" y="174"/>
                    </a:lnTo>
                    <a:lnTo>
                      <a:pt x="222" y="184"/>
                    </a:lnTo>
                    <a:lnTo>
                      <a:pt x="226" y="196"/>
                    </a:lnTo>
                    <a:lnTo>
                      <a:pt x="231" y="206"/>
                    </a:lnTo>
                    <a:lnTo>
                      <a:pt x="238" y="216"/>
                    </a:lnTo>
                    <a:lnTo>
                      <a:pt x="247" y="226"/>
                    </a:lnTo>
                    <a:lnTo>
                      <a:pt x="247" y="228"/>
                    </a:lnTo>
                    <a:lnTo>
                      <a:pt x="247" y="229"/>
                    </a:lnTo>
                    <a:lnTo>
                      <a:pt x="248" y="231"/>
                    </a:lnTo>
                    <a:lnTo>
                      <a:pt x="249" y="233"/>
                    </a:lnTo>
                    <a:lnTo>
                      <a:pt x="248" y="233"/>
                    </a:lnTo>
                    <a:lnTo>
                      <a:pt x="247" y="234"/>
                    </a:lnTo>
                    <a:lnTo>
                      <a:pt x="247" y="235"/>
                    </a:lnTo>
                    <a:lnTo>
                      <a:pt x="246" y="236"/>
                    </a:lnTo>
                    <a:lnTo>
                      <a:pt x="249" y="238"/>
                    </a:lnTo>
                    <a:lnTo>
                      <a:pt x="252" y="241"/>
                    </a:lnTo>
                    <a:lnTo>
                      <a:pt x="255" y="243"/>
                    </a:lnTo>
                    <a:lnTo>
                      <a:pt x="257" y="248"/>
                    </a:lnTo>
                    <a:lnTo>
                      <a:pt x="270" y="246"/>
                    </a:lnTo>
                    <a:lnTo>
                      <a:pt x="269" y="229"/>
                    </a:lnTo>
                    <a:lnTo>
                      <a:pt x="273" y="211"/>
                    </a:lnTo>
                    <a:lnTo>
                      <a:pt x="281" y="193"/>
                    </a:lnTo>
                    <a:lnTo>
                      <a:pt x="293" y="181"/>
                    </a:lnTo>
                    <a:lnTo>
                      <a:pt x="303" y="196"/>
                    </a:lnTo>
                    <a:lnTo>
                      <a:pt x="313" y="211"/>
                    </a:lnTo>
                    <a:lnTo>
                      <a:pt x="321" y="228"/>
                    </a:lnTo>
                    <a:lnTo>
                      <a:pt x="328" y="244"/>
                    </a:lnTo>
                    <a:lnTo>
                      <a:pt x="334" y="261"/>
                    </a:lnTo>
                    <a:lnTo>
                      <a:pt x="341" y="279"/>
                    </a:lnTo>
                    <a:lnTo>
                      <a:pt x="348" y="296"/>
                    </a:lnTo>
                    <a:lnTo>
                      <a:pt x="355" y="312"/>
                    </a:lnTo>
                    <a:lnTo>
                      <a:pt x="349" y="312"/>
                    </a:lnTo>
                    <a:lnTo>
                      <a:pt x="344" y="312"/>
                    </a:lnTo>
                    <a:lnTo>
                      <a:pt x="337" y="312"/>
                    </a:lnTo>
                    <a:lnTo>
                      <a:pt x="330" y="313"/>
                    </a:lnTo>
                    <a:lnTo>
                      <a:pt x="323" y="314"/>
                    </a:lnTo>
                    <a:lnTo>
                      <a:pt x="316" y="315"/>
                    </a:lnTo>
                    <a:lnTo>
                      <a:pt x="309" y="317"/>
                    </a:lnTo>
                    <a:lnTo>
                      <a:pt x="303" y="319"/>
                    </a:lnTo>
                    <a:lnTo>
                      <a:pt x="300" y="311"/>
                    </a:lnTo>
                    <a:lnTo>
                      <a:pt x="295" y="304"/>
                    </a:lnTo>
                    <a:lnTo>
                      <a:pt x="292" y="297"/>
                    </a:lnTo>
                    <a:lnTo>
                      <a:pt x="287" y="289"/>
                    </a:lnTo>
                    <a:lnTo>
                      <a:pt x="283" y="283"/>
                    </a:lnTo>
                    <a:lnTo>
                      <a:pt x="277" y="276"/>
                    </a:lnTo>
                    <a:lnTo>
                      <a:pt x="272" y="269"/>
                    </a:lnTo>
                    <a:lnTo>
                      <a:pt x="267" y="264"/>
                    </a:lnTo>
                    <a:lnTo>
                      <a:pt x="265" y="276"/>
                    </a:lnTo>
                    <a:lnTo>
                      <a:pt x="270" y="289"/>
                    </a:lnTo>
                    <a:lnTo>
                      <a:pt x="277" y="303"/>
                    </a:lnTo>
                    <a:lnTo>
                      <a:pt x="283" y="315"/>
                    </a:lnTo>
                    <a:lnTo>
                      <a:pt x="281" y="322"/>
                    </a:lnTo>
                    <a:lnTo>
                      <a:pt x="275" y="326"/>
                    </a:lnTo>
                    <a:lnTo>
                      <a:pt x="267" y="327"/>
                    </a:lnTo>
                    <a:lnTo>
                      <a:pt x="260" y="329"/>
                    </a:lnTo>
                    <a:lnTo>
                      <a:pt x="216" y="333"/>
                    </a:lnTo>
                    <a:lnTo>
                      <a:pt x="212" y="301"/>
                    </a:lnTo>
                    <a:lnTo>
                      <a:pt x="203" y="269"/>
                    </a:lnTo>
                    <a:lnTo>
                      <a:pt x="189" y="242"/>
                    </a:lnTo>
                    <a:lnTo>
                      <a:pt x="172" y="214"/>
                    </a:lnTo>
                    <a:lnTo>
                      <a:pt x="155" y="186"/>
                    </a:lnTo>
                    <a:lnTo>
                      <a:pt x="139" y="159"/>
                    </a:lnTo>
                    <a:lnTo>
                      <a:pt x="125" y="130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10" y="97"/>
                    </a:lnTo>
                    <a:lnTo>
                      <a:pt x="105" y="95"/>
                    </a:lnTo>
                    <a:lnTo>
                      <a:pt x="102" y="98"/>
                    </a:lnTo>
                    <a:lnTo>
                      <a:pt x="102" y="121"/>
                    </a:lnTo>
                    <a:lnTo>
                      <a:pt x="102" y="144"/>
                    </a:lnTo>
                    <a:lnTo>
                      <a:pt x="100" y="167"/>
                    </a:lnTo>
                    <a:lnTo>
                      <a:pt x="96" y="190"/>
                    </a:lnTo>
                    <a:lnTo>
                      <a:pt x="104" y="197"/>
                    </a:lnTo>
                    <a:lnTo>
                      <a:pt x="113" y="199"/>
                    </a:lnTo>
                    <a:lnTo>
                      <a:pt x="123" y="203"/>
                    </a:lnTo>
                    <a:lnTo>
                      <a:pt x="128" y="212"/>
                    </a:lnTo>
                    <a:lnTo>
                      <a:pt x="126" y="218"/>
                    </a:lnTo>
                    <a:lnTo>
                      <a:pt x="124" y="224"/>
                    </a:lnTo>
                    <a:lnTo>
                      <a:pt x="123" y="231"/>
                    </a:lnTo>
                    <a:lnTo>
                      <a:pt x="123" y="239"/>
                    </a:lnTo>
                    <a:lnTo>
                      <a:pt x="128" y="245"/>
                    </a:lnTo>
                    <a:lnTo>
                      <a:pt x="131" y="252"/>
                    </a:lnTo>
                    <a:lnTo>
                      <a:pt x="131" y="260"/>
                    </a:lnTo>
                    <a:lnTo>
                      <a:pt x="133" y="268"/>
                    </a:lnTo>
                    <a:lnTo>
                      <a:pt x="147" y="283"/>
                    </a:lnTo>
                    <a:lnTo>
                      <a:pt x="154" y="301"/>
                    </a:lnTo>
                    <a:lnTo>
                      <a:pt x="157" y="318"/>
                    </a:lnTo>
                    <a:lnTo>
                      <a:pt x="156" y="336"/>
                    </a:lnTo>
                    <a:lnTo>
                      <a:pt x="81" y="343"/>
                    </a:lnTo>
                    <a:lnTo>
                      <a:pt x="71" y="325"/>
                    </a:lnTo>
                    <a:lnTo>
                      <a:pt x="66" y="305"/>
                    </a:lnTo>
                    <a:lnTo>
                      <a:pt x="65" y="284"/>
                    </a:lnTo>
                    <a:lnTo>
                      <a:pt x="65" y="262"/>
                    </a:lnTo>
                    <a:lnTo>
                      <a:pt x="66" y="241"/>
                    </a:lnTo>
                    <a:lnTo>
                      <a:pt x="66" y="218"/>
                    </a:lnTo>
                    <a:lnTo>
                      <a:pt x="63" y="197"/>
                    </a:lnTo>
                    <a:lnTo>
                      <a:pt x="55" y="176"/>
                    </a:lnTo>
                    <a:lnTo>
                      <a:pt x="51" y="156"/>
                    </a:lnTo>
                    <a:lnTo>
                      <a:pt x="56" y="137"/>
                    </a:lnTo>
                    <a:lnTo>
                      <a:pt x="58" y="117"/>
                    </a:lnTo>
                    <a:lnTo>
                      <a:pt x="51" y="98"/>
                    </a:lnTo>
                    <a:lnTo>
                      <a:pt x="41" y="87"/>
                    </a:lnTo>
                    <a:lnTo>
                      <a:pt x="30" y="78"/>
                    </a:lnTo>
                    <a:lnTo>
                      <a:pt x="21" y="67"/>
                    </a:lnTo>
                    <a:lnTo>
                      <a:pt x="12" y="56"/>
                    </a:lnTo>
                    <a:lnTo>
                      <a:pt x="5" y="45"/>
                    </a:lnTo>
                    <a:lnTo>
                      <a:pt x="2" y="32"/>
                    </a:lnTo>
                    <a:lnTo>
                      <a:pt x="0" y="1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7"/>
                    </a:lnTo>
                    <a:lnTo>
                      <a:pt x="49" y="14"/>
                    </a:lnTo>
                    <a:lnTo>
                      <a:pt x="55" y="19"/>
                    </a:lnTo>
                    <a:lnTo>
                      <a:pt x="60" y="26"/>
                    </a:lnTo>
                    <a:lnTo>
                      <a:pt x="67" y="30"/>
                    </a:lnTo>
                    <a:lnTo>
                      <a:pt x="73" y="32"/>
                    </a:lnTo>
                    <a:lnTo>
                      <a:pt x="80" y="3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未知"/>
              <p:cNvSpPr/>
              <p:nvPr/>
            </p:nvSpPr>
            <p:spPr>
              <a:xfrm rot="36600">
                <a:off x="5544000" y="362088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31" y="28"/>
                    </a:moveTo>
                    <a:lnTo>
                      <a:pt x="38" y="43"/>
                    </a:lnTo>
                    <a:lnTo>
                      <a:pt x="48" y="52"/>
                    </a:lnTo>
                    <a:lnTo>
                      <a:pt x="60" y="60"/>
                    </a:lnTo>
                    <a:lnTo>
                      <a:pt x="73" y="65"/>
                    </a:lnTo>
                    <a:lnTo>
                      <a:pt x="88" y="68"/>
                    </a:lnTo>
                    <a:lnTo>
                      <a:pt x="103" y="72"/>
                    </a:lnTo>
                    <a:lnTo>
                      <a:pt x="117" y="76"/>
                    </a:lnTo>
                    <a:lnTo>
                      <a:pt x="131" y="82"/>
                    </a:lnTo>
                    <a:lnTo>
                      <a:pt x="126" y="105"/>
                    </a:lnTo>
                    <a:lnTo>
                      <a:pt x="117" y="99"/>
                    </a:lnTo>
                    <a:lnTo>
                      <a:pt x="106" y="94"/>
                    </a:lnTo>
                    <a:lnTo>
                      <a:pt x="94" y="86"/>
                    </a:lnTo>
                    <a:lnTo>
                      <a:pt x="82" y="79"/>
                    </a:lnTo>
                    <a:lnTo>
                      <a:pt x="68" y="72"/>
                    </a:lnTo>
                    <a:lnTo>
                      <a:pt x="55" y="66"/>
                    </a:lnTo>
                    <a:lnTo>
                      <a:pt x="40" y="61"/>
                    </a:lnTo>
                    <a:lnTo>
                      <a:pt x="26" y="59"/>
                    </a:lnTo>
                    <a:lnTo>
                      <a:pt x="16" y="46"/>
                    </a:lnTo>
                    <a:lnTo>
                      <a:pt x="8" y="3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7" y="11"/>
                    </a:lnTo>
                    <a:lnTo>
                      <a:pt x="24" y="2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未知"/>
              <p:cNvSpPr/>
              <p:nvPr/>
            </p:nvSpPr>
            <p:spPr>
              <a:xfrm rot="36600">
                <a:off x="4763160" y="362016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43" y="31"/>
                    </a:moveTo>
                    <a:lnTo>
                      <a:pt x="58" y="45"/>
                    </a:lnTo>
                    <a:lnTo>
                      <a:pt x="60" y="63"/>
                    </a:lnTo>
                    <a:lnTo>
                      <a:pt x="59" y="84"/>
                    </a:lnTo>
                    <a:lnTo>
                      <a:pt x="63" y="103"/>
                    </a:lnTo>
                    <a:lnTo>
                      <a:pt x="61" y="106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3" y="108"/>
                    </a:lnTo>
                    <a:lnTo>
                      <a:pt x="46" y="102"/>
                    </a:lnTo>
                    <a:lnTo>
                      <a:pt x="38" y="96"/>
                    </a:lnTo>
                    <a:lnTo>
                      <a:pt x="29" y="91"/>
                    </a:lnTo>
                    <a:lnTo>
                      <a:pt x="20" y="84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8"/>
                    </a:lnTo>
                    <a:lnTo>
                      <a:pt x="32" y="23"/>
                    </a:lnTo>
                    <a:lnTo>
                      <a:pt x="38" y="27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未知"/>
              <p:cNvSpPr/>
              <p:nvPr/>
            </p:nvSpPr>
            <p:spPr>
              <a:xfrm rot="36600">
                <a:off x="5105880" y="3668040"/>
                <a:ext cx="649440" cy="244800"/>
              </a:xfrm>
              <a:custGeom>
                <a:avLst/>
                <a:gdLst/>
                <a:ahLst/>
                <a:rect l="l" t="t" r="r" b="b"/>
                <a:pathLst>
                  <a:path w="818" h="308">
                    <a:moveTo>
                      <a:pt x="474" y="18"/>
                    </a:moveTo>
                    <a:lnTo>
                      <a:pt x="490" y="21"/>
                    </a:lnTo>
                    <a:lnTo>
                      <a:pt x="507" y="25"/>
                    </a:lnTo>
                    <a:lnTo>
                      <a:pt x="523" y="27"/>
                    </a:lnTo>
                    <a:lnTo>
                      <a:pt x="539" y="30"/>
                    </a:lnTo>
                    <a:lnTo>
                      <a:pt x="555" y="34"/>
                    </a:lnTo>
                    <a:lnTo>
                      <a:pt x="572" y="37"/>
                    </a:lnTo>
                    <a:lnTo>
                      <a:pt x="588" y="42"/>
                    </a:lnTo>
                    <a:lnTo>
                      <a:pt x="603" y="47"/>
                    </a:lnTo>
                    <a:lnTo>
                      <a:pt x="618" y="55"/>
                    </a:lnTo>
                    <a:lnTo>
                      <a:pt x="633" y="64"/>
                    </a:lnTo>
                    <a:lnTo>
                      <a:pt x="648" y="73"/>
                    </a:lnTo>
                    <a:lnTo>
                      <a:pt x="662" y="82"/>
                    </a:lnTo>
                    <a:lnTo>
                      <a:pt x="676" y="92"/>
                    </a:lnTo>
                    <a:lnTo>
                      <a:pt x="692" y="100"/>
                    </a:lnTo>
                    <a:lnTo>
                      <a:pt x="707" y="106"/>
                    </a:lnTo>
                    <a:lnTo>
                      <a:pt x="725" y="111"/>
                    </a:lnTo>
                    <a:lnTo>
                      <a:pt x="734" y="135"/>
                    </a:lnTo>
                    <a:lnTo>
                      <a:pt x="736" y="162"/>
                    </a:lnTo>
                    <a:lnTo>
                      <a:pt x="737" y="189"/>
                    </a:lnTo>
                    <a:lnTo>
                      <a:pt x="741" y="216"/>
                    </a:lnTo>
                    <a:lnTo>
                      <a:pt x="744" y="231"/>
                    </a:lnTo>
                    <a:lnTo>
                      <a:pt x="749" y="246"/>
                    </a:lnTo>
                    <a:lnTo>
                      <a:pt x="758" y="259"/>
                    </a:lnTo>
                    <a:lnTo>
                      <a:pt x="771" y="268"/>
                    </a:lnTo>
                    <a:lnTo>
                      <a:pt x="778" y="270"/>
                    </a:lnTo>
                    <a:lnTo>
                      <a:pt x="783" y="271"/>
                    </a:lnTo>
                    <a:lnTo>
                      <a:pt x="790" y="275"/>
                    </a:lnTo>
                    <a:lnTo>
                      <a:pt x="796" y="277"/>
                    </a:lnTo>
                    <a:lnTo>
                      <a:pt x="802" y="280"/>
                    </a:lnTo>
                    <a:lnTo>
                      <a:pt x="808" y="284"/>
                    </a:lnTo>
                    <a:lnTo>
                      <a:pt x="813" y="289"/>
                    </a:lnTo>
                    <a:lnTo>
                      <a:pt x="818" y="294"/>
                    </a:lnTo>
                    <a:lnTo>
                      <a:pt x="800" y="293"/>
                    </a:lnTo>
                    <a:lnTo>
                      <a:pt x="780" y="293"/>
                    </a:lnTo>
                    <a:lnTo>
                      <a:pt x="760" y="292"/>
                    </a:lnTo>
                    <a:lnTo>
                      <a:pt x="741" y="291"/>
                    </a:lnTo>
                    <a:lnTo>
                      <a:pt x="720" y="290"/>
                    </a:lnTo>
                    <a:lnTo>
                      <a:pt x="700" y="286"/>
                    </a:lnTo>
                    <a:lnTo>
                      <a:pt x="681" y="283"/>
                    </a:lnTo>
                    <a:lnTo>
                      <a:pt x="662" y="278"/>
                    </a:lnTo>
                    <a:lnTo>
                      <a:pt x="657" y="265"/>
                    </a:lnTo>
                    <a:lnTo>
                      <a:pt x="657" y="251"/>
                    </a:lnTo>
                    <a:lnTo>
                      <a:pt x="659" y="233"/>
                    </a:lnTo>
                    <a:lnTo>
                      <a:pt x="657" y="217"/>
                    </a:lnTo>
                    <a:lnTo>
                      <a:pt x="651" y="203"/>
                    </a:lnTo>
                    <a:lnTo>
                      <a:pt x="643" y="189"/>
                    </a:lnTo>
                    <a:lnTo>
                      <a:pt x="635" y="176"/>
                    </a:lnTo>
                    <a:lnTo>
                      <a:pt x="626" y="163"/>
                    </a:lnTo>
                    <a:lnTo>
                      <a:pt x="615" y="150"/>
                    </a:lnTo>
                    <a:lnTo>
                      <a:pt x="605" y="139"/>
                    </a:lnTo>
                    <a:lnTo>
                      <a:pt x="592" y="128"/>
                    </a:lnTo>
                    <a:lnTo>
                      <a:pt x="580" y="118"/>
                    </a:lnTo>
                    <a:lnTo>
                      <a:pt x="575" y="118"/>
                    </a:lnTo>
                    <a:lnTo>
                      <a:pt x="570" y="118"/>
                    </a:lnTo>
                    <a:lnTo>
                      <a:pt x="567" y="119"/>
                    </a:lnTo>
                    <a:lnTo>
                      <a:pt x="563" y="123"/>
                    </a:lnTo>
                    <a:lnTo>
                      <a:pt x="567" y="130"/>
                    </a:lnTo>
                    <a:lnTo>
                      <a:pt x="573" y="136"/>
                    </a:lnTo>
                    <a:lnTo>
                      <a:pt x="578" y="143"/>
                    </a:lnTo>
                    <a:lnTo>
                      <a:pt x="584" y="150"/>
                    </a:lnTo>
                    <a:lnTo>
                      <a:pt x="584" y="161"/>
                    </a:lnTo>
                    <a:lnTo>
                      <a:pt x="590" y="169"/>
                    </a:lnTo>
                    <a:lnTo>
                      <a:pt x="599" y="176"/>
                    </a:lnTo>
                    <a:lnTo>
                      <a:pt x="606" y="181"/>
                    </a:lnTo>
                    <a:lnTo>
                      <a:pt x="627" y="219"/>
                    </a:lnTo>
                    <a:lnTo>
                      <a:pt x="623" y="233"/>
                    </a:lnTo>
                    <a:lnTo>
                      <a:pt x="619" y="246"/>
                    </a:lnTo>
                    <a:lnTo>
                      <a:pt x="612" y="256"/>
                    </a:lnTo>
                    <a:lnTo>
                      <a:pt x="600" y="263"/>
                    </a:lnTo>
                    <a:lnTo>
                      <a:pt x="597" y="257"/>
                    </a:lnTo>
                    <a:lnTo>
                      <a:pt x="592" y="253"/>
                    </a:lnTo>
                    <a:lnTo>
                      <a:pt x="588" y="248"/>
                    </a:lnTo>
                    <a:lnTo>
                      <a:pt x="582" y="244"/>
                    </a:lnTo>
                    <a:lnTo>
                      <a:pt x="578" y="239"/>
                    </a:lnTo>
                    <a:lnTo>
                      <a:pt x="576" y="234"/>
                    </a:lnTo>
                    <a:lnTo>
                      <a:pt x="577" y="229"/>
                    </a:lnTo>
                    <a:lnTo>
                      <a:pt x="582" y="222"/>
                    </a:lnTo>
                    <a:lnTo>
                      <a:pt x="577" y="210"/>
                    </a:lnTo>
                    <a:lnTo>
                      <a:pt x="570" y="201"/>
                    </a:lnTo>
                    <a:lnTo>
                      <a:pt x="561" y="193"/>
                    </a:lnTo>
                    <a:lnTo>
                      <a:pt x="551" y="186"/>
                    </a:lnTo>
                    <a:lnTo>
                      <a:pt x="542" y="181"/>
                    </a:lnTo>
                    <a:lnTo>
                      <a:pt x="539" y="171"/>
                    </a:lnTo>
                    <a:lnTo>
                      <a:pt x="540" y="159"/>
                    </a:lnTo>
                    <a:lnTo>
                      <a:pt x="540" y="147"/>
                    </a:lnTo>
                    <a:lnTo>
                      <a:pt x="537" y="140"/>
                    </a:lnTo>
                    <a:lnTo>
                      <a:pt x="532" y="134"/>
                    </a:lnTo>
                    <a:lnTo>
                      <a:pt x="528" y="128"/>
                    </a:lnTo>
                    <a:lnTo>
                      <a:pt x="522" y="123"/>
                    </a:lnTo>
                    <a:lnTo>
                      <a:pt x="524" y="112"/>
                    </a:lnTo>
                    <a:lnTo>
                      <a:pt x="527" y="102"/>
                    </a:lnTo>
                    <a:lnTo>
                      <a:pt x="528" y="93"/>
                    </a:lnTo>
                    <a:lnTo>
                      <a:pt x="525" y="82"/>
                    </a:lnTo>
                    <a:lnTo>
                      <a:pt x="521" y="77"/>
                    </a:lnTo>
                    <a:lnTo>
                      <a:pt x="515" y="73"/>
                    </a:lnTo>
                    <a:lnTo>
                      <a:pt x="509" y="71"/>
                    </a:lnTo>
                    <a:lnTo>
                      <a:pt x="502" y="70"/>
                    </a:lnTo>
                    <a:lnTo>
                      <a:pt x="497" y="74"/>
                    </a:lnTo>
                    <a:lnTo>
                      <a:pt x="493" y="80"/>
                    </a:lnTo>
                    <a:lnTo>
                      <a:pt x="489" y="86"/>
                    </a:lnTo>
                    <a:lnTo>
                      <a:pt x="482" y="87"/>
                    </a:lnTo>
                    <a:lnTo>
                      <a:pt x="474" y="77"/>
                    </a:lnTo>
                    <a:lnTo>
                      <a:pt x="466" y="68"/>
                    </a:lnTo>
                    <a:lnTo>
                      <a:pt x="457" y="60"/>
                    </a:lnTo>
                    <a:lnTo>
                      <a:pt x="451" y="49"/>
                    </a:lnTo>
                    <a:lnTo>
                      <a:pt x="443" y="42"/>
                    </a:lnTo>
                    <a:lnTo>
                      <a:pt x="436" y="34"/>
                    </a:lnTo>
                    <a:lnTo>
                      <a:pt x="429" y="27"/>
                    </a:lnTo>
                    <a:lnTo>
                      <a:pt x="421" y="20"/>
                    </a:lnTo>
                    <a:lnTo>
                      <a:pt x="413" y="15"/>
                    </a:lnTo>
                    <a:lnTo>
                      <a:pt x="405" y="12"/>
                    </a:lnTo>
                    <a:lnTo>
                      <a:pt x="395" y="12"/>
                    </a:lnTo>
                    <a:lnTo>
                      <a:pt x="385" y="15"/>
                    </a:lnTo>
                    <a:lnTo>
                      <a:pt x="377" y="32"/>
                    </a:lnTo>
                    <a:lnTo>
                      <a:pt x="365" y="42"/>
                    </a:lnTo>
                    <a:lnTo>
                      <a:pt x="352" y="49"/>
                    </a:lnTo>
                    <a:lnTo>
                      <a:pt x="334" y="52"/>
                    </a:lnTo>
                    <a:lnTo>
                      <a:pt x="317" y="55"/>
                    </a:lnTo>
                    <a:lnTo>
                      <a:pt x="300" y="59"/>
                    </a:lnTo>
                    <a:lnTo>
                      <a:pt x="285" y="65"/>
                    </a:lnTo>
                    <a:lnTo>
                      <a:pt x="271" y="77"/>
                    </a:lnTo>
                    <a:lnTo>
                      <a:pt x="262" y="80"/>
                    </a:lnTo>
                    <a:lnTo>
                      <a:pt x="253" y="86"/>
                    </a:lnTo>
                    <a:lnTo>
                      <a:pt x="244" y="93"/>
                    </a:lnTo>
                    <a:lnTo>
                      <a:pt x="241" y="103"/>
                    </a:lnTo>
                    <a:lnTo>
                      <a:pt x="246" y="108"/>
                    </a:lnTo>
                    <a:lnTo>
                      <a:pt x="250" y="109"/>
                    </a:lnTo>
                    <a:lnTo>
                      <a:pt x="255" y="109"/>
                    </a:lnTo>
                    <a:lnTo>
                      <a:pt x="259" y="108"/>
                    </a:lnTo>
                    <a:lnTo>
                      <a:pt x="264" y="105"/>
                    </a:lnTo>
                    <a:lnTo>
                      <a:pt x="269" y="104"/>
                    </a:lnTo>
                    <a:lnTo>
                      <a:pt x="273" y="103"/>
                    </a:lnTo>
                    <a:lnTo>
                      <a:pt x="278" y="103"/>
                    </a:lnTo>
                    <a:lnTo>
                      <a:pt x="326" y="109"/>
                    </a:lnTo>
                    <a:lnTo>
                      <a:pt x="325" y="111"/>
                    </a:lnTo>
                    <a:lnTo>
                      <a:pt x="323" y="113"/>
                    </a:lnTo>
                    <a:lnTo>
                      <a:pt x="322" y="116"/>
                    </a:lnTo>
                    <a:lnTo>
                      <a:pt x="323" y="119"/>
                    </a:lnTo>
                    <a:lnTo>
                      <a:pt x="327" y="124"/>
                    </a:lnTo>
                    <a:lnTo>
                      <a:pt x="332" y="126"/>
                    </a:lnTo>
                    <a:lnTo>
                      <a:pt x="338" y="126"/>
                    </a:lnTo>
                    <a:lnTo>
                      <a:pt x="343" y="125"/>
                    </a:lnTo>
                    <a:lnTo>
                      <a:pt x="349" y="124"/>
                    </a:lnTo>
                    <a:lnTo>
                      <a:pt x="355" y="124"/>
                    </a:lnTo>
                    <a:lnTo>
                      <a:pt x="360" y="125"/>
                    </a:lnTo>
                    <a:lnTo>
                      <a:pt x="364" y="128"/>
                    </a:lnTo>
                    <a:lnTo>
                      <a:pt x="386" y="126"/>
                    </a:lnTo>
                    <a:lnTo>
                      <a:pt x="407" y="127"/>
                    </a:lnTo>
                    <a:lnTo>
                      <a:pt x="426" y="132"/>
                    </a:lnTo>
                    <a:lnTo>
                      <a:pt x="446" y="140"/>
                    </a:lnTo>
                    <a:lnTo>
                      <a:pt x="463" y="151"/>
                    </a:lnTo>
                    <a:lnTo>
                      <a:pt x="479" y="165"/>
                    </a:lnTo>
                    <a:lnTo>
                      <a:pt x="493" y="181"/>
                    </a:lnTo>
                    <a:lnTo>
                      <a:pt x="507" y="199"/>
                    </a:lnTo>
                    <a:lnTo>
                      <a:pt x="514" y="209"/>
                    </a:lnTo>
                    <a:lnTo>
                      <a:pt x="521" y="221"/>
                    </a:lnTo>
                    <a:lnTo>
                      <a:pt x="528" y="231"/>
                    </a:lnTo>
                    <a:lnTo>
                      <a:pt x="534" y="242"/>
                    </a:lnTo>
                    <a:lnTo>
                      <a:pt x="540" y="253"/>
                    </a:lnTo>
                    <a:lnTo>
                      <a:pt x="547" y="264"/>
                    </a:lnTo>
                    <a:lnTo>
                      <a:pt x="554" y="274"/>
                    </a:lnTo>
                    <a:lnTo>
                      <a:pt x="563" y="284"/>
                    </a:lnTo>
                    <a:lnTo>
                      <a:pt x="550" y="285"/>
                    </a:lnTo>
                    <a:lnTo>
                      <a:pt x="536" y="286"/>
                    </a:lnTo>
                    <a:lnTo>
                      <a:pt x="522" y="287"/>
                    </a:lnTo>
                    <a:lnTo>
                      <a:pt x="508" y="289"/>
                    </a:lnTo>
                    <a:lnTo>
                      <a:pt x="494" y="290"/>
                    </a:lnTo>
                    <a:lnTo>
                      <a:pt x="481" y="291"/>
                    </a:lnTo>
                    <a:lnTo>
                      <a:pt x="467" y="293"/>
                    </a:lnTo>
                    <a:lnTo>
                      <a:pt x="453" y="294"/>
                    </a:lnTo>
                    <a:lnTo>
                      <a:pt x="439" y="295"/>
                    </a:lnTo>
                    <a:lnTo>
                      <a:pt x="425" y="298"/>
                    </a:lnTo>
                    <a:lnTo>
                      <a:pt x="413" y="299"/>
                    </a:lnTo>
                    <a:lnTo>
                      <a:pt x="399" y="300"/>
                    </a:lnTo>
                    <a:lnTo>
                      <a:pt x="385" y="301"/>
                    </a:lnTo>
                    <a:lnTo>
                      <a:pt x="371" y="302"/>
                    </a:lnTo>
                    <a:lnTo>
                      <a:pt x="357" y="304"/>
                    </a:lnTo>
                    <a:lnTo>
                      <a:pt x="343" y="305"/>
                    </a:lnTo>
                    <a:lnTo>
                      <a:pt x="341" y="293"/>
                    </a:lnTo>
                    <a:lnTo>
                      <a:pt x="340" y="282"/>
                    </a:lnTo>
                    <a:lnTo>
                      <a:pt x="337" y="271"/>
                    </a:lnTo>
                    <a:lnTo>
                      <a:pt x="326" y="268"/>
                    </a:lnTo>
                    <a:lnTo>
                      <a:pt x="323" y="272"/>
                    </a:lnTo>
                    <a:lnTo>
                      <a:pt x="319" y="278"/>
                    </a:lnTo>
                    <a:lnTo>
                      <a:pt x="317" y="284"/>
                    </a:lnTo>
                    <a:lnTo>
                      <a:pt x="316" y="290"/>
                    </a:lnTo>
                    <a:lnTo>
                      <a:pt x="315" y="267"/>
                    </a:lnTo>
                    <a:lnTo>
                      <a:pt x="311" y="245"/>
                    </a:lnTo>
                    <a:lnTo>
                      <a:pt x="308" y="223"/>
                    </a:lnTo>
                    <a:lnTo>
                      <a:pt x="303" y="201"/>
                    </a:lnTo>
                    <a:lnTo>
                      <a:pt x="295" y="192"/>
                    </a:lnTo>
                    <a:lnTo>
                      <a:pt x="289" y="202"/>
                    </a:lnTo>
                    <a:lnTo>
                      <a:pt x="289" y="215"/>
                    </a:lnTo>
                    <a:lnTo>
                      <a:pt x="292" y="230"/>
                    </a:lnTo>
                    <a:lnTo>
                      <a:pt x="292" y="245"/>
                    </a:lnTo>
                    <a:lnTo>
                      <a:pt x="285" y="300"/>
                    </a:lnTo>
                    <a:lnTo>
                      <a:pt x="278" y="305"/>
                    </a:lnTo>
                    <a:lnTo>
                      <a:pt x="270" y="306"/>
                    </a:lnTo>
                    <a:lnTo>
                      <a:pt x="262" y="307"/>
                    </a:lnTo>
                    <a:lnTo>
                      <a:pt x="254" y="306"/>
                    </a:lnTo>
                    <a:lnTo>
                      <a:pt x="246" y="306"/>
                    </a:lnTo>
                    <a:lnTo>
                      <a:pt x="238" y="304"/>
                    </a:lnTo>
                    <a:lnTo>
                      <a:pt x="229" y="302"/>
                    </a:lnTo>
                    <a:lnTo>
                      <a:pt x="221" y="302"/>
                    </a:lnTo>
                    <a:lnTo>
                      <a:pt x="209" y="295"/>
                    </a:lnTo>
                    <a:lnTo>
                      <a:pt x="196" y="290"/>
                    </a:lnTo>
                    <a:lnTo>
                      <a:pt x="185" y="287"/>
                    </a:lnTo>
                    <a:lnTo>
                      <a:pt x="172" y="285"/>
                    </a:lnTo>
                    <a:lnTo>
                      <a:pt x="159" y="285"/>
                    </a:lnTo>
                    <a:lnTo>
                      <a:pt x="147" y="286"/>
                    </a:lnTo>
                    <a:lnTo>
                      <a:pt x="134" y="289"/>
                    </a:lnTo>
                    <a:lnTo>
                      <a:pt x="121" y="292"/>
                    </a:lnTo>
                    <a:lnTo>
                      <a:pt x="109" y="295"/>
                    </a:lnTo>
                    <a:lnTo>
                      <a:pt x="96" y="298"/>
                    </a:lnTo>
                    <a:lnTo>
                      <a:pt x="82" y="301"/>
                    </a:lnTo>
                    <a:lnTo>
                      <a:pt x="69" y="305"/>
                    </a:lnTo>
                    <a:lnTo>
                      <a:pt x="57" y="307"/>
                    </a:lnTo>
                    <a:lnTo>
                      <a:pt x="44" y="308"/>
                    </a:lnTo>
                    <a:lnTo>
                      <a:pt x="31" y="308"/>
                    </a:lnTo>
                    <a:lnTo>
                      <a:pt x="19" y="307"/>
                    </a:lnTo>
                    <a:lnTo>
                      <a:pt x="14" y="305"/>
                    </a:lnTo>
                    <a:lnTo>
                      <a:pt x="8" y="305"/>
                    </a:lnTo>
                    <a:lnTo>
                      <a:pt x="4" y="302"/>
                    </a:lnTo>
                    <a:lnTo>
                      <a:pt x="0" y="299"/>
                    </a:lnTo>
                    <a:lnTo>
                      <a:pt x="1" y="285"/>
                    </a:lnTo>
                    <a:lnTo>
                      <a:pt x="5" y="274"/>
                    </a:lnTo>
                    <a:lnTo>
                      <a:pt x="11" y="262"/>
                    </a:lnTo>
                    <a:lnTo>
                      <a:pt x="18" y="251"/>
                    </a:lnTo>
                    <a:lnTo>
                      <a:pt x="26" y="240"/>
                    </a:lnTo>
                    <a:lnTo>
                      <a:pt x="34" y="231"/>
                    </a:lnTo>
                    <a:lnTo>
                      <a:pt x="43" y="221"/>
                    </a:lnTo>
                    <a:lnTo>
                      <a:pt x="52" y="211"/>
                    </a:lnTo>
                    <a:lnTo>
                      <a:pt x="73" y="210"/>
                    </a:lnTo>
                    <a:lnTo>
                      <a:pt x="94" y="212"/>
                    </a:lnTo>
                    <a:lnTo>
                      <a:pt x="113" y="216"/>
                    </a:lnTo>
                    <a:lnTo>
                      <a:pt x="132" y="221"/>
                    </a:lnTo>
                    <a:lnTo>
                      <a:pt x="150" y="226"/>
                    </a:lnTo>
                    <a:lnTo>
                      <a:pt x="170" y="230"/>
                    </a:lnTo>
                    <a:lnTo>
                      <a:pt x="188" y="233"/>
                    </a:lnTo>
                    <a:lnTo>
                      <a:pt x="208" y="233"/>
                    </a:lnTo>
                    <a:lnTo>
                      <a:pt x="218" y="230"/>
                    </a:lnTo>
                    <a:lnTo>
                      <a:pt x="225" y="222"/>
                    </a:lnTo>
                    <a:lnTo>
                      <a:pt x="231" y="211"/>
                    </a:lnTo>
                    <a:lnTo>
                      <a:pt x="235" y="202"/>
                    </a:lnTo>
                    <a:lnTo>
                      <a:pt x="234" y="191"/>
                    </a:lnTo>
                    <a:lnTo>
                      <a:pt x="238" y="183"/>
                    </a:lnTo>
                    <a:lnTo>
                      <a:pt x="244" y="176"/>
                    </a:lnTo>
                    <a:lnTo>
                      <a:pt x="254" y="171"/>
                    </a:lnTo>
                    <a:lnTo>
                      <a:pt x="264" y="166"/>
                    </a:lnTo>
                    <a:lnTo>
                      <a:pt x="274" y="162"/>
                    </a:lnTo>
                    <a:lnTo>
                      <a:pt x="285" y="157"/>
                    </a:lnTo>
                    <a:lnTo>
                      <a:pt x="293" y="150"/>
                    </a:lnTo>
                    <a:lnTo>
                      <a:pt x="299" y="147"/>
                    </a:lnTo>
                    <a:lnTo>
                      <a:pt x="304" y="141"/>
                    </a:lnTo>
                    <a:lnTo>
                      <a:pt x="309" y="135"/>
                    </a:lnTo>
                    <a:lnTo>
                      <a:pt x="309" y="128"/>
                    </a:lnTo>
                    <a:lnTo>
                      <a:pt x="304" y="124"/>
                    </a:lnTo>
                    <a:lnTo>
                      <a:pt x="300" y="123"/>
                    </a:lnTo>
                    <a:lnTo>
                      <a:pt x="295" y="124"/>
                    </a:lnTo>
                    <a:lnTo>
                      <a:pt x="292" y="127"/>
                    </a:lnTo>
                    <a:lnTo>
                      <a:pt x="287" y="131"/>
                    </a:lnTo>
                    <a:lnTo>
                      <a:pt x="284" y="134"/>
                    </a:lnTo>
                    <a:lnTo>
                      <a:pt x="279" y="138"/>
                    </a:lnTo>
                    <a:lnTo>
                      <a:pt x="274" y="139"/>
                    </a:lnTo>
                    <a:lnTo>
                      <a:pt x="263" y="138"/>
                    </a:lnTo>
                    <a:lnTo>
                      <a:pt x="253" y="140"/>
                    </a:lnTo>
                    <a:lnTo>
                      <a:pt x="242" y="145"/>
                    </a:lnTo>
                    <a:lnTo>
                      <a:pt x="234" y="150"/>
                    </a:lnTo>
                    <a:lnTo>
                      <a:pt x="226" y="157"/>
                    </a:lnTo>
                    <a:lnTo>
                      <a:pt x="218" y="165"/>
                    </a:lnTo>
                    <a:lnTo>
                      <a:pt x="211" y="173"/>
                    </a:lnTo>
                    <a:lnTo>
                      <a:pt x="204" y="181"/>
                    </a:lnTo>
                    <a:lnTo>
                      <a:pt x="204" y="188"/>
                    </a:lnTo>
                    <a:lnTo>
                      <a:pt x="203" y="193"/>
                    </a:lnTo>
                    <a:lnTo>
                      <a:pt x="198" y="198"/>
                    </a:lnTo>
                    <a:lnTo>
                      <a:pt x="194" y="201"/>
                    </a:lnTo>
                    <a:lnTo>
                      <a:pt x="188" y="202"/>
                    </a:lnTo>
                    <a:lnTo>
                      <a:pt x="182" y="202"/>
                    </a:lnTo>
                    <a:lnTo>
                      <a:pt x="176" y="202"/>
                    </a:lnTo>
                    <a:lnTo>
                      <a:pt x="171" y="201"/>
                    </a:lnTo>
                    <a:lnTo>
                      <a:pt x="165" y="201"/>
                    </a:lnTo>
                    <a:lnTo>
                      <a:pt x="159" y="200"/>
                    </a:lnTo>
                    <a:lnTo>
                      <a:pt x="153" y="199"/>
                    </a:lnTo>
                    <a:lnTo>
                      <a:pt x="148" y="199"/>
                    </a:lnTo>
                    <a:lnTo>
                      <a:pt x="158" y="187"/>
                    </a:lnTo>
                    <a:lnTo>
                      <a:pt x="166" y="176"/>
                    </a:lnTo>
                    <a:lnTo>
                      <a:pt x="173" y="163"/>
                    </a:lnTo>
                    <a:lnTo>
                      <a:pt x="179" y="149"/>
                    </a:lnTo>
                    <a:lnTo>
                      <a:pt x="186" y="138"/>
                    </a:lnTo>
                    <a:lnTo>
                      <a:pt x="194" y="126"/>
                    </a:lnTo>
                    <a:lnTo>
                      <a:pt x="204" y="116"/>
                    </a:lnTo>
                    <a:lnTo>
                      <a:pt x="218" y="108"/>
                    </a:lnTo>
                    <a:lnTo>
                      <a:pt x="229" y="97"/>
                    </a:lnTo>
                    <a:lnTo>
                      <a:pt x="240" y="86"/>
                    </a:lnTo>
                    <a:lnTo>
                      <a:pt x="250" y="75"/>
                    </a:lnTo>
                    <a:lnTo>
                      <a:pt x="261" y="64"/>
                    </a:lnTo>
                    <a:lnTo>
                      <a:pt x="271" y="53"/>
                    </a:lnTo>
                    <a:lnTo>
                      <a:pt x="282" y="44"/>
                    </a:lnTo>
                    <a:lnTo>
                      <a:pt x="295" y="35"/>
                    </a:lnTo>
                    <a:lnTo>
                      <a:pt x="309" y="28"/>
                    </a:lnTo>
                    <a:lnTo>
                      <a:pt x="326" y="22"/>
                    </a:lnTo>
                    <a:lnTo>
                      <a:pt x="343" y="15"/>
                    </a:lnTo>
                    <a:lnTo>
                      <a:pt x="361" y="10"/>
                    </a:lnTo>
                    <a:lnTo>
                      <a:pt x="379" y="4"/>
                    </a:lnTo>
                    <a:lnTo>
                      <a:pt x="396" y="0"/>
                    </a:lnTo>
                    <a:lnTo>
                      <a:pt x="414" y="0"/>
                    </a:lnTo>
                    <a:lnTo>
                      <a:pt x="431" y="5"/>
                    </a:lnTo>
                    <a:lnTo>
                      <a:pt x="448" y="15"/>
                    </a:lnTo>
                    <a:lnTo>
                      <a:pt x="474" y="1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未知"/>
              <p:cNvSpPr/>
              <p:nvPr/>
            </p:nvSpPr>
            <p:spPr>
              <a:xfrm rot="36600">
                <a:off x="4521960" y="3718080"/>
                <a:ext cx="428400" cy="19368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43" y="15"/>
                    </a:moveTo>
                    <a:lnTo>
                      <a:pt x="232" y="33"/>
                    </a:lnTo>
                    <a:lnTo>
                      <a:pt x="222" y="52"/>
                    </a:lnTo>
                    <a:lnTo>
                      <a:pt x="215" y="73"/>
                    </a:lnTo>
                    <a:lnTo>
                      <a:pt x="212" y="93"/>
                    </a:lnTo>
                    <a:lnTo>
                      <a:pt x="220" y="94"/>
                    </a:lnTo>
                    <a:lnTo>
                      <a:pt x="228" y="93"/>
                    </a:lnTo>
                    <a:lnTo>
                      <a:pt x="236" y="90"/>
                    </a:lnTo>
                    <a:lnTo>
                      <a:pt x="243" y="85"/>
                    </a:lnTo>
                    <a:lnTo>
                      <a:pt x="245" y="91"/>
                    </a:lnTo>
                    <a:lnTo>
                      <a:pt x="243" y="98"/>
                    </a:lnTo>
                    <a:lnTo>
                      <a:pt x="241" y="106"/>
                    </a:lnTo>
                    <a:lnTo>
                      <a:pt x="239" y="113"/>
                    </a:lnTo>
                    <a:lnTo>
                      <a:pt x="228" y="112"/>
                    </a:lnTo>
                    <a:lnTo>
                      <a:pt x="218" y="113"/>
                    </a:lnTo>
                    <a:lnTo>
                      <a:pt x="209" y="115"/>
                    </a:lnTo>
                    <a:lnTo>
                      <a:pt x="198" y="120"/>
                    </a:lnTo>
                    <a:lnTo>
                      <a:pt x="189" y="124"/>
                    </a:lnTo>
                    <a:lnTo>
                      <a:pt x="181" y="131"/>
                    </a:lnTo>
                    <a:lnTo>
                      <a:pt x="173" y="139"/>
                    </a:lnTo>
                    <a:lnTo>
                      <a:pt x="165" y="147"/>
                    </a:lnTo>
                    <a:lnTo>
                      <a:pt x="160" y="147"/>
                    </a:lnTo>
                    <a:lnTo>
                      <a:pt x="156" y="149"/>
                    </a:lnTo>
                    <a:lnTo>
                      <a:pt x="152" y="151"/>
                    </a:lnTo>
                    <a:lnTo>
                      <a:pt x="150" y="154"/>
                    </a:lnTo>
                    <a:lnTo>
                      <a:pt x="150" y="158"/>
                    </a:lnTo>
                    <a:lnTo>
                      <a:pt x="151" y="160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71" y="164"/>
                    </a:lnTo>
                    <a:lnTo>
                      <a:pt x="187" y="161"/>
                    </a:lnTo>
                    <a:lnTo>
                      <a:pt x="202" y="160"/>
                    </a:lnTo>
                    <a:lnTo>
                      <a:pt x="217" y="159"/>
                    </a:lnTo>
                    <a:lnTo>
                      <a:pt x="232" y="158"/>
                    </a:lnTo>
                    <a:lnTo>
                      <a:pt x="247" y="158"/>
                    </a:lnTo>
                    <a:lnTo>
                      <a:pt x="261" y="158"/>
                    </a:lnTo>
                    <a:lnTo>
                      <a:pt x="274" y="158"/>
                    </a:lnTo>
                    <a:lnTo>
                      <a:pt x="286" y="161"/>
                    </a:lnTo>
                    <a:lnTo>
                      <a:pt x="298" y="168"/>
                    </a:lnTo>
                    <a:lnTo>
                      <a:pt x="308" y="179"/>
                    </a:lnTo>
                    <a:lnTo>
                      <a:pt x="318" y="189"/>
                    </a:lnTo>
                    <a:lnTo>
                      <a:pt x="327" y="196"/>
                    </a:lnTo>
                    <a:lnTo>
                      <a:pt x="338" y="198"/>
                    </a:lnTo>
                    <a:lnTo>
                      <a:pt x="347" y="192"/>
                    </a:lnTo>
                    <a:lnTo>
                      <a:pt x="357" y="175"/>
                    </a:lnTo>
                    <a:lnTo>
                      <a:pt x="356" y="170"/>
                    </a:lnTo>
                    <a:lnTo>
                      <a:pt x="353" y="166"/>
                    </a:lnTo>
                    <a:lnTo>
                      <a:pt x="349" y="162"/>
                    </a:lnTo>
                    <a:lnTo>
                      <a:pt x="345" y="161"/>
                    </a:lnTo>
                    <a:lnTo>
                      <a:pt x="338" y="162"/>
                    </a:lnTo>
                    <a:lnTo>
                      <a:pt x="330" y="164"/>
                    </a:lnTo>
                    <a:lnTo>
                      <a:pt x="323" y="164"/>
                    </a:lnTo>
                    <a:lnTo>
                      <a:pt x="318" y="160"/>
                    </a:lnTo>
                    <a:lnTo>
                      <a:pt x="310" y="151"/>
                    </a:lnTo>
                    <a:lnTo>
                      <a:pt x="325" y="145"/>
                    </a:lnTo>
                    <a:lnTo>
                      <a:pt x="340" y="143"/>
                    </a:lnTo>
                    <a:lnTo>
                      <a:pt x="355" y="144"/>
                    </a:lnTo>
                    <a:lnTo>
                      <a:pt x="370" y="146"/>
                    </a:lnTo>
                    <a:lnTo>
                      <a:pt x="385" y="151"/>
                    </a:lnTo>
                    <a:lnTo>
                      <a:pt x="399" y="155"/>
                    </a:lnTo>
                    <a:lnTo>
                      <a:pt x="413" y="162"/>
                    </a:lnTo>
                    <a:lnTo>
                      <a:pt x="427" y="168"/>
                    </a:lnTo>
                    <a:lnTo>
                      <a:pt x="444" y="168"/>
                    </a:lnTo>
                    <a:lnTo>
                      <a:pt x="459" y="172"/>
                    </a:lnTo>
                    <a:lnTo>
                      <a:pt x="474" y="179"/>
                    </a:lnTo>
                    <a:lnTo>
                      <a:pt x="488" y="185"/>
                    </a:lnTo>
                    <a:lnTo>
                      <a:pt x="501" y="196"/>
                    </a:lnTo>
                    <a:lnTo>
                      <a:pt x="514" y="206"/>
                    </a:lnTo>
                    <a:lnTo>
                      <a:pt x="527" y="217"/>
                    </a:lnTo>
                    <a:lnTo>
                      <a:pt x="539" y="228"/>
                    </a:lnTo>
                    <a:lnTo>
                      <a:pt x="526" y="227"/>
                    </a:lnTo>
                    <a:lnTo>
                      <a:pt x="512" y="227"/>
                    </a:lnTo>
                    <a:lnTo>
                      <a:pt x="498" y="227"/>
                    </a:lnTo>
                    <a:lnTo>
                      <a:pt x="483" y="227"/>
                    </a:lnTo>
                    <a:lnTo>
                      <a:pt x="469" y="228"/>
                    </a:lnTo>
                    <a:lnTo>
                      <a:pt x="455" y="229"/>
                    </a:lnTo>
                    <a:lnTo>
                      <a:pt x="440" y="229"/>
                    </a:lnTo>
                    <a:lnTo>
                      <a:pt x="427" y="230"/>
                    </a:lnTo>
                    <a:lnTo>
                      <a:pt x="413" y="230"/>
                    </a:lnTo>
                    <a:lnTo>
                      <a:pt x="398" y="230"/>
                    </a:lnTo>
                    <a:lnTo>
                      <a:pt x="384" y="230"/>
                    </a:lnTo>
                    <a:lnTo>
                      <a:pt x="370" y="229"/>
                    </a:lnTo>
                    <a:lnTo>
                      <a:pt x="356" y="228"/>
                    </a:lnTo>
                    <a:lnTo>
                      <a:pt x="342" y="227"/>
                    </a:lnTo>
                    <a:lnTo>
                      <a:pt x="330" y="223"/>
                    </a:lnTo>
                    <a:lnTo>
                      <a:pt x="316" y="220"/>
                    </a:lnTo>
                    <a:lnTo>
                      <a:pt x="301" y="215"/>
                    </a:lnTo>
                    <a:lnTo>
                      <a:pt x="286" y="213"/>
                    </a:lnTo>
                    <a:lnTo>
                      <a:pt x="271" y="213"/>
                    </a:lnTo>
                    <a:lnTo>
                      <a:pt x="257" y="214"/>
                    </a:lnTo>
                    <a:lnTo>
                      <a:pt x="243" y="217"/>
                    </a:lnTo>
                    <a:lnTo>
                      <a:pt x="230" y="220"/>
                    </a:lnTo>
                    <a:lnTo>
                      <a:pt x="217" y="225"/>
                    </a:lnTo>
                    <a:lnTo>
                      <a:pt x="203" y="228"/>
                    </a:lnTo>
                    <a:lnTo>
                      <a:pt x="190" y="233"/>
                    </a:lnTo>
                    <a:lnTo>
                      <a:pt x="177" y="236"/>
                    </a:lnTo>
                    <a:lnTo>
                      <a:pt x="164" y="240"/>
                    </a:lnTo>
                    <a:lnTo>
                      <a:pt x="150" y="242"/>
                    </a:lnTo>
                    <a:lnTo>
                      <a:pt x="136" y="243"/>
                    </a:lnTo>
                    <a:lnTo>
                      <a:pt x="122" y="242"/>
                    </a:lnTo>
                    <a:lnTo>
                      <a:pt x="108" y="240"/>
                    </a:lnTo>
                    <a:lnTo>
                      <a:pt x="93" y="235"/>
                    </a:lnTo>
                    <a:lnTo>
                      <a:pt x="98" y="215"/>
                    </a:lnTo>
                    <a:lnTo>
                      <a:pt x="106" y="197"/>
                    </a:lnTo>
                    <a:lnTo>
                      <a:pt x="116" y="179"/>
                    </a:lnTo>
                    <a:lnTo>
                      <a:pt x="124" y="160"/>
                    </a:lnTo>
                    <a:lnTo>
                      <a:pt x="118" y="155"/>
                    </a:lnTo>
                    <a:lnTo>
                      <a:pt x="112" y="155"/>
                    </a:lnTo>
                    <a:lnTo>
                      <a:pt x="108" y="157"/>
                    </a:lnTo>
                    <a:lnTo>
                      <a:pt x="102" y="159"/>
                    </a:lnTo>
                    <a:lnTo>
                      <a:pt x="96" y="161"/>
                    </a:lnTo>
                    <a:lnTo>
                      <a:pt x="90" y="164"/>
                    </a:lnTo>
                    <a:lnTo>
                      <a:pt x="83" y="164"/>
                    </a:lnTo>
                    <a:lnTo>
                      <a:pt x="78" y="161"/>
                    </a:lnTo>
                    <a:lnTo>
                      <a:pt x="66" y="155"/>
                    </a:lnTo>
                    <a:lnTo>
                      <a:pt x="66" y="145"/>
                    </a:lnTo>
                    <a:lnTo>
                      <a:pt x="69" y="134"/>
                    </a:lnTo>
                    <a:lnTo>
                      <a:pt x="65" y="123"/>
                    </a:lnTo>
                    <a:lnTo>
                      <a:pt x="55" y="124"/>
                    </a:lnTo>
                    <a:lnTo>
                      <a:pt x="45" y="127"/>
                    </a:lnTo>
                    <a:lnTo>
                      <a:pt x="35" y="130"/>
                    </a:lnTo>
                    <a:lnTo>
                      <a:pt x="26" y="132"/>
                    </a:lnTo>
                    <a:lnTo>
                      <a:pt x="18" y="136"/>
                    </a:lnTo>
                    <a:lnTo>
                      <a:pt x="12" y="138"/>
                    </a:lnTo>
                    <a:lnTo>
                      <a:pt x="8" y="139"/>
                    </a:lnTo>
                    <a:lnTo>
                      <a:pt x="8" y="139"/>
                    </a:lnTo>
                    <a:lnTo>
                      <a:pt x="0" y="134"/>
                    </a:lnTo>
                    <a:lnTo>
                      <a:pt x="6" y="129"/>
                    </a:lnTo>
                    <a:lnTo>
                      <a:pt x="13" y="124"/>
                    </a:lnTo>
                    <a:lnTo>
                      <a:pt x="19" y="119"/>
                    </a:lnTo>
                    <a:lnTo>
                      <a:pt x="25" y="114"/>
                    </a:lnTo>
                    <a:lnTo>
                      <a:pt x="31" y="111"/>
                    </a:lnTo>
                    <a:lnTo>
                      <a:pt x="38" y="108"/>
                    </a:lnTo>
                    <a:lnTo>
                      <a:pt x="46" y="107"/>
                    </a:lnTo>
                    <a:lnTo>
                      <a:pt x="55" y="108"/>
                    </a:lnTo>
                    <a:lnTo>
                      <a:pt x="64" y="104"/>
                    </a:lnTo>
                    <a:lnTo>
                      <a:pt x="73" y="98"/>
                    </a:lnTo>
                    <a:lnTo>
                      <a:pt x="80" y="91"/>
                    </a:lnTo>
                    <a:lnTo>
                      <a:pt x="88" y="84"/>
                    </a:lnTo>
                    <a:lnTo>
                      <a:pt x="95" y="77"/>
                    </a:lnTo>
                    <a:lnTo>
                      <a:pt x="102" y="70"/>
                    </a:lnTo>
                    <a:lnTo>
                      <a:pt x="111" y="67"/>
                    </a:lnTo>
                    <a:lnTo>
                      <a:pt x="120" y="64"/>
                    </a:lnTo>
                    <a:lnTo>
                      <a:pt x="137" y="66"/>
                    </a:lnTo>
                    <a:lnTo>
                      <a:pt x="154" y="62"/>
                    </a:lnTo>
                    <a:lnTo>
                      <a:pt x="169" y="56"/>
                    </a:lnTo>
                    <a:lnTo>
                      <a:pt x="182" y="47"/>
                    </a:lnTo>
                    <a:lnTo>
                      <a:pt x="195" y="37"/>
                    </a:lnTo>
                    <a:lnTo>
                      <a:pt x="208" y="25"/>
                    </a:lnTo>
                    <a:lnTo>
                      <a:pt x="219" y="13"/>
                    </a:lnTo>
                    <a:lnTo>
                      <a:pt x="231" y="0"/>
                    </a:lnTo>
                    <a:lnTo>
                      <a:pt x="236" y="1"/>
                    </a:lnTo>
                    <a:lnTo>
                      <a:pt x="243" y="3"/>
                    </a:lnTo>
                    <a:lnTo>
                      <a:pt x="247" y="8"/>
                    </a:lnTo>
                    <a:lnTo>
                      <a:pt x="243" y="1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未知"/>
              <p:cNvSpPr/>
              <p:nvPr/>
            </p:nvSpPr>
            <p:spPr>
              <a:xfrm rot="36600">
                <a:off x="5609160" y="375336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39" y="30"/>
                    </a:moveTo>
                    <a:lnTo>
                      <a:pt x="42" y="38"/>
                    </a:lnTo>
                    <a:lnTo>
                      <a:pt x="46" y="46"/>
                    </a:lnTo>
                    <a:lnTo>
                      <a:pt x="52" y="54"/>
                    </a:lnTo>
                    <a:lnTo>
                      <a:pt x="56" y="61"/>
                    </a:lnTo>
                    <a:lnTo>
                      <a:pt x="63" y="67"/>
                    </a:lnTo>
                    <a:lnTo>
                      <a:pt x="70" y="71"/>
                    </a:lnTo>
                    <a:lnTo>
                      <a:pt x="77" y="76"/>
                    </a:lnTo>
                    <a:lnTo>
                      <a:pt x="86" y="78"/>
                    </a:lnTo>
                    <a:lnTo>
                      <a:pt x="91" y="84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1" y="104"/>
                    </a:lnTo>
                    <a:lnTo>
                      <a:pt x="84" y="105"/>
                    </a:lnTo>
                    <a:lnTo>
                      <a:pt x="79" y="103"/>
                    </a:lnTo>
                    <a:lnTo>
                      <a:pt x="73" y="99"/>
                    </a:lnTo>
                    <a:lnTo>
                      <a:pt x="69" y="95"/>
                    </a:lnTo>
                    <a:lnTo>
                      <a:pt x="63" y="90"/>
                    </a:lnTo>
                    <a:lnTo>
                      <a:pt x="57" y="88"/>
                    </a:lnTo>
                    <a:lnTo>
                      <a:pt x="52" y="86"/>
                    </a:lnTo>
                    <a:lnTo>
                      <a:pt x="43" y="88"/>
                    </a:lnTo>
                    <a:lnTo>
                      <a:pt x="35" y="78"/>
                    </a:lnTo>
                    <a:lnTo>
                      <a:pt x="31" y="68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19" y="35"/>
                    </a:lnTo>
                    <a:lnTo>
                      <a:pt x="9" y="24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7" y="8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2"/>
                    </a:lnTo>
                    <a:lnTo>
                      <a:pt x="34" y="27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未知"/>
              <p:cNvSpPr/>
              <p:nvPr/>
            </p:nvSpPr>
            <p:spPr>
              <a:xfrm rot="36600">
                <a:off x="4340880" y="3782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4" y="14"/>
                    </a:moveTo>
                    <a:lnTo>
                      <a:pt x="14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5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未知"/>
              <p:cNvSpPr/>
              <p:nvPr/>
            </p:nvSpPr>
            <p:spPr>
              <a:xfrm rot="36600">
                <a:off x="5404320" y="382068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46"/>
                    </a:moveTo>
                    <a:lnTo>
                      <a:pt x="78" y="50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3" y="45"/>
                    </a:lnTo>
                    <a:lnTo>
                      <a:pt x="58" y="41"/>
                    </a:lnTo>
                    <a:lnTo>
                      <a:pt x="54" y="37"/>
                    </a:lnTo>
                    <a:lnTo>
                      <a:pt x="49" y="32"/>
                    </a:lnTo>
                    <a:lnTo>
                      <a:pt x="43" y="31"/>
                    </a:lnTo>
                    <a:lnTo>
                      <a:pt x="39" y="41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2" y="65"/>
                    </a:lnTo>
                    <a:lnTo>
                      <a:pt x="11" y="54"/>
                    </a:lnTo>
                    <a:lnTo>
                      <a:pt x="15" y="41"/>
                    </a:lnTo>
                    <a:lnTo>
                      <a:pt x="14" y="31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1" y="6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69" y="17"/>
                    </a:lnTo>
                    <a:lnTo>
                      <a:pt x="75" y="24"/>
                    </a:lnTo>
                    <a:lnTo>
                      <a:pt x="78" y="31"/>
                    </a:lnTo>
                    <a:lnTo>
                      <a:pt x="81" y="38"/>
                    </a:lnTo>
                    <a:lnTo>
                      <a:pt x="8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未知"/>
              <p:cNvSpPr/>
              <p:nvPr/>
            </p:nvSpPr>
            <p:spPr>
              <a:xfrm rot="36600">
                <a:off x="5393160" y="39445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8" y="5"/>
                    </a:moveTo>
                    <a:lnTo>
                      <a:pt x="33" y="13"/>
                    </a:lnTo>
                    <a:lnTo>
                      <a:pt x="24" y="15"/>
                    </a:lnTo>
                    <a:lnTo>
                      <a:pt x="14" y="18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5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未知"/>
              <p:cNvSpPr/>
              <p:nvPr/>
            </p:nvSpPr>
            <p:spPr>
              <a:xfrm rot="36600">
                <a:off x="5459760" y="3945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3"/>
                    </a:moveTo>
                    <a:lnTo>
                      <a:pt x="17" y="7"/>
                    </a:lnTo>
                    <a:lnTo>
                      <a:pt x="13" y="12"/>
                    </a:lnTo>
                    <a:lnTo>
                      <a:pt x="8" y="15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48" name="Picture 855" descr="c"/>
          <p:cNvPicPr/>
          <p:nvPr/>
        </p:nvPicPr>
        <p:blipFill>
          <a:blip r:embed="rId2"/>
          <a:stretch/>
        </p:blipFill>
        <p:spPr>
          <a:xfrm>
            <a:off x="0" y="3390840"/>
            <a:ext cx="8991720" cy="422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856" descr="f0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050" name="Line 857"/>
          <p:cNvSpPr/>
          <p:nvPr/>
        </p:nvSpPr>
        <p:spPr>
          <a:xfrm>
            <a:off x="3848040" y="6400800"/>
            <a:ext cx="1447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B0%B4%E5%BA%95%E4%B8%96%E7%95%8C%20%E5%85%B3%E9%97%AD%E7%A8%8B%E5%BA%8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秤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87188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35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称象第四步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计算石头总重量，就知道大象的重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称象的第五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9360" y="2023560"/>
            <a:ext cx="4034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把石头重量加起来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石头的总重量就是大象的重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5" descr="象和秤"/>
          <p:cNvPicPr/>
          <p:nvPr/>
        </p:nvPicPr>
        <p:blipFill>
          <a:blip r:embed="rId1"/>
          <a:stretch/>
        </p:blipFill>
        <p:spPr>
          <a:xfrm>
            <a:off x="4140360" y="2421000"/>
            <a:ext cx="4660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3"/>
          <p:cNvSpPr/>
          <p:nvPr/>
        </p:nvSpPr>
        <p:spPr>
          <a:xfrm>
            <a:off x="0" y="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，等船下沉到画线的地方。然后，（                  ）船上的石头。石头有多重，大象就有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3348000" y="260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5"/>
          <p:cNvSpPr/>
          <p:nvPr/>
        </p:nvSpPr>
        <p:spPr>
          <a:xfrm>
            <a:off x="5508720" y="1052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6"/>
          <p:cNvSpPr/>
          <p:nvPr/>
        </p:nvSpPr>
        <p:spPr>
          <a:xfrm>
            <a:off x="2627280" y="20113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755640" y="28656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11280" y="4761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6" name="Text Box 2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"/>
          <p:cNvSpPr/>
          <p:nvPr/>
        </p:nvSpPr>
        <p:spPr>
          <a:xfrm>
            <a:off x="73512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4"/>
          <p:cNvSpPr/>
          <p:nvPr/>
        </p:nvSpPr>
        <p:spPr>
          <a:xfrm>
            <a:off x="0" y="260280"/>
            <a:ext cx="9144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觉得曹冲是一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)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长大了，要做一个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                                       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"/>
          <p:cNvSpPr/>
          <p:nvPr/>
        </p:nvSpPr>
        <p:spPr>
          <a:xfrm>
            <a:off x="4164480" y="1295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聪明、爱动脑筋，遇到问题善于动脑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3"/>
          <p:cNvSpPr/>
          <p:nvPr/>
        </p:nvSpPr>
        <p:spPr>
          <a:xfrm>
            <a:off x="1599480" y="1057320"/>
            <a:ext cx="52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要向曹冲学习什么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4"/>
          <p:cNvSpPr/>
          <p:nvPr/>
        </p:nvSpPr>
        <p:spPr>
          <a:xfrm>
            <a:off x="2351520" y="254484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善于观察，勤于动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4" name="Text Box 2"/>
          <p:cNvSpPr/>
          <p:nvPr/>
        </p:nvSpPr>
        <p:spPr>
          <a:xfrm>
            <a:off x="1116000" y="62064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还有其他更好的办法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"/>
          <p:cNvSpPr/>
          <p:nvPr/>
        </p:nvSpPr>
        <p:spPr>
          <a:xfrm>
            <a:off x="3778200" y="3429000"/>
            <a:ext cx="18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Text Box 2"/>
          <p:cNvSpPr/>
          <p:nvPr/>
        </p:nvSpPr>
        <p:spPr>
          <a:xfrm>
            <a:off x="460440" y="404640"/>
            <a:ext cx="87120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大官     一棵大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头大象     一个办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堵墙        一艘大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根柱子     一条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杆大秤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2"/>
          <p:cNvSpPr/>
          <p:nvPr/>
        </p:nvSpPr>
        <p:spPr>
          <a:xfrm>
            <a:off x="324000" y="549360"/>
            <a:ext cx="849600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官员们一边看，一边议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朋友们一边</a:t>
            </a:r>
            <a:r>
              <a:rPr b="1" lang="zh-CN" sz="5400" spc="-1" strike="noStrike" u="sng">
                <a:solidFill>
                  <a:srgbClr val="ff0066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边</a:t>
            </a:r>
            <a:r>
              <a:rPr b="1" lang="zh-CN" sz="5400" spc="-1" strike="noStrike" u="sng">
                <a:solidFill>
                  <a:srgbClr val="ff0066"/>
                </a:solidFill>
                <a:uFillTx/>
                <a:latin typeface="Times New Roman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边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边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1" name="Text Box 2"/>
          <p:cNvSpPr/>
          <p:nvPr/>
        </p:nvSpPr>
        <p:spPr>
          <a:xfrm>
            <a:off x="990720" y="18288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6553080" y="37339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4"/>
          <p:cNvSpPr/>
          <p:nvPr/>
        </p:nvSpPr>
        <p:spPr>
          <a:xfrm>
            <a:off x="6553080" y="28195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5"/>
          <p:cNvGrpSpPr/>
          <p:nvPr/>
        </p:nvGrpSpPr>
        <p:grpSpPr>
          <a:xfrm>
            <a:off x="380880" y="1219320"/>
            <a:ext cx="4038480" cy="4114440"/>
            <a:chOff x="380880" y="1219320"/>
            <a:chExt cx="4038480" cy="4114440"/>
          </a:xfrm>
        </p:grpSpPr>
        <p:sp>
          <p:nvSpPr>
            <p:cNvPr id="1085" name="Rectangle 6"/>
            <p:cNvSpPr/>
            <p:nvPr/>
          </p:nvSpPr>
          <p:spPr>
            <a:xfrm>
              <a:off x="380880" y="121932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"/>
            <p:cNvSpPr/>
            <p:nvPr/>
          </p:nvSpPr>
          <p:spPr>
            <a:xfrm>
              <a:off x="520200" y="327636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8"/>
            <p:cNvSpPr/>
            <p:nvPr/>
          </p:nvSpPr>
          <p:spPr>
            <a:xfrm>
              <a:off x="2330280" y="121932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9"/>
          <p:cNvSpPr/>
          <p:nvPr/>
        </p:nvSpPr>
        <p:spPr>
          <a:xfrm>
            <a:off x="990720" y="144792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10"/>
          <p:cNvGrpSpPr/>
          <p:nvPr/>
        </p:nvGrpSpPr>
        <p:grpSpPr>
          <a:xfrm>
            <a:off x="4716360" y="1197000"/>
            <a:ext cx="4038480" cy="4114440"/>
            <a:chOff x="4716360" y="1197000"/>
            <a:chExt cx="4038480" cy="4114440"/>
          </a:xfrm>
        </p:grpSpPr>
        <p:sp>
          <p:nvSpPr>
            <p:cNvPr id="1090" name="Rectangle 11"/>
            <p:cNvSpPr/>
            <p:nvPr/>
          </p:nvSpPr>
          <p:spPr>
            <a:xfrm>
              <a:off x="4716360" y="119700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12"/>
            <p:cNvSpPr/>
            <p:nvPr/>
          </p:nvSpPr>
          <p:spPr>
            <a:xfrm>
              <a:off x="4855680" y="325404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13"/>
            <p:cNvSpPr/>
            <p:nvPr/>
          </p:nvSpPr>
          <p:spPr>
            <a:xfrm>
              <a:off x="6665760" y="119700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Text Box 14"/>
          <p:cNvSpPr/>
          <p:nvPr/>
        </p:nvSpPr>
        <p:spPr>
          <a:xfrm>
            <a:off x="5364000" y="170028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68360" y="395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称      议      杆      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割      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艘      曹      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067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0" y="597708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5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1852920" y="47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Times New Roman"/>
                <a:ea typeface="楷体"/>
              </a:rPr>
              <a:t>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5"/>
          <p:cNvSpPr/>
          <p:nvPr/>
        </p:nvSpPr>
        <p:spPr>
          <a:xfrm>
            <a:off x="4952880" y="83664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再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再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6"/>
          <p:cNvGrpSpPr/>
          <p:nvPr/>
        </p:nvGrpSpPr>
        <p:grpSpPr>
          <a:xfrm>
            <a:off x="1116000" y="765000"/>
            <a:ext cx="2951280" cy="2974680"/>
            <a:chOff x="1116000" y="765000"/>
            <a:chExt cx="2951280" cy="2974680"/>
          </a:xfrm>
        </p:grpSpPr>
        <p:sp>
          <p:nvSpPr>
            <p:cNvPr id="1099" name="Rectangle 3"/>
            <p:cNvSpPr/>
            <p:nvPr/>
          </p:nvSpPr>
          <p:spPr>
            <a:xfrm>
              <a:off x="1116000" y="765000"/>
              <a:ext cx="2950200" cy="2966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4"/>
            <p:cNvSpPr/>
            <p:nvPr/>
          </p:nvSpPr>
          <p:spPr>
            <a:xfrm>
              <a:off x="1116000" y="224784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5"/>
            <p:cNvSpPr/>
            <p:nvPr/>
          </p:nvSpPr>
          <p:spPr>
            <a:xfrm flipH="1">
              <a:off x="2590920" y="772560"/>
              <a:ext cx="720" cy="296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Text Box 10"/>
          <p:cNvSpPr/>
          <p:nvPr/>
        </p:nvSpPr>
        <p:spPr>
          <a:xfrm>
            <a:off x="1187280" y="393372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放学后，礼貌地对老师说了一声：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见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10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5" name="Text Box 4"/>
          <p:cNvSpPr/>
          <p:nvPr/>
        </p:nvSpPr>
        <p:spPr>
          <a:xfrm>
            <a:off x="1852920" y="47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Times New Roman"/>
                <a:ea typeface="楷体"/>
              </a:rPr>
              <a:t>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4952880" y="83664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大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景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6"/>
          <p:cNvGrpSpPr/>
          <p:nvPr/>
        </p:nvGrpSpPr>
        <p:grpSpPr>
          <a:xfrm>
            <a:off x="1116000" y="765000"/>
            <a:ext cx="2951280" cy="2974680"/>
            <a:chOff x="1116000" y="765000"/>
            <a:chExt cx="2951280" cy="2974680"/>
          </a:xfrm>
        </p:grpSpPr>
        <p:sp>
          <p:nvSpPr>
            <p:cNvPr id="1108" name="Rectangle 3"/>
            <p:cNvSpPr/>
            <p:nvPr/>
          </p:nvSpPr>
          <p:spPr>
            <a:xfrm>
              <a:off x="1116000" y="765000"/>
              <a:ext cx="2950200" cy="2966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4"/>
            <p:cNvSpPr/>
            <p:nvPr/>
          </p:nvSpPr>
          <p:spPr>
            <a:xfrm>
              <a:off x="1116000" y="224784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5"/>
            <p:cNvSpPr/>
            <p:nvPr/>
          </p:nvSpPr>
          <p:spPr>
            <a:xfrm flipH="1">
              <a:off x="2590920" y="772560"/>
              <a:ext cx="720" cy="296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Text Box 10"/>
          <p:cNvSpPr/>
          <p:nvPr/>
        </p:nvSpPr>
        <p:spPr>
          <a:xfrm>
            <a:off x="755640" y="4076640"/>
            <a:ext cx="66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象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耳朵像把大扇子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2"/>
          <p:cNvSpPr/>
          <p:nvPr/>
        </p:nvSpPr>
        <p:spPr>
          <a:xfrm>
            <a:off x="990720" y="18288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6553080" y="37339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6553080" y="28195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5"/>
          <p:cNvGrpSpPr/>
          <p:nvPr/>
        </p:nvGrpSpPr>
        <p:grpSpPr>
          <a:xfrm>
            <a:off x="395280" y="1197000"/>
            <a:ext cx="4038120" cy="4114440"/>
            <a:chOff x="395280" y="1197000"/>
            <a:chExt cx="4038120" cy="4114440"/>
          </a:xfrm>
        </p:grpSpPr>
        <p:sp>
          <p:nvSpPr>
            <p:cNvPr id="1117" name="Rectangle 6"/>
            <p:cNvSpPr/>
            <p:nvPr/>
          </p:nvSpPr>
          <p:spPr>
            <a:xfrm>
              <a:off x="395280" y="1197000"/>
              <a:ext cx="403812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"/>
            <p:cNvSpPr/>
            <p:nvPr/>
          </p:nvSpPr>
          <p:spPr>
            <a:xfrm>
              <a:off x="534600" y="3254040"/>
              <a:ext cx="3898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8"/>
            <p:cNvSpPr/>
            <p:nvPr/>
          </p:nvSpPr>
          <p:spPr>
            <a:xfrm>
              <a:off x="2344320" y="119700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9"/>
          <p:cNvSpPr/>
          <p:nvPr/>
        </p:nvSpPr>
        <p:spPr>
          <a:xfrm>
            <a:off x="1042920" y="155736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Group 10"/>
          <p:cNvGrpSpPr/>
          <p:nvPr/>
        </p:nvGrpSpPr>
        <p:grpSpPr>
          <a:xfrm>
            <a:off x="4724280" y="1219320"/>
            <a:ext cx="4038480" cy="4114440"/>
            <a:chOff x="4724280" y="1219320"/>
            <a:chExt cx="4038480" cy="4114440"/>
          </a:xfrm>
        </p:grpSpPr>
        <p:sp>
          <p:nvSpPr>
            <p:cNvPr id="1122" name="Rectangle 11"/>
            <p:cNvSpPr/>
            <p:nvPr/>
          </p:nvSpPr>
          <p:spPr>
            <a:xfrm>
              <a:off x="4724280" y="121932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12"/>
            <p:cNvSpPr/>
            <p:nvPr/>
          </p:nvSpPr>
          <p:spPr>
            <a:xfrm>
              <a:off x="4863600" y="327636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3"/>
            <p:cNvSpPr/>
            <p:nvPr/>
          </p:nvSpPr>
          <p:spPr>
            <a:xfrm>
              <a:off x="6673680" y="121932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Text Box 14"/>
          <p:cNvSpPr/>
          <p:nvPr/>
        </p:nvSpPr>
        <p:spPr>
          <a:xfrm>
            <a:off x="5508720" y="162864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127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1852920" y="47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Times New Roman"/>
                <a:ea typeface="楷体"/>
              </a:rPr>
              <a:t>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4952880" y="83664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好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画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1116000" y="765000"/>
            <a:ext cx="2951280" cy="2974680"/>
            <a:chOff x="1116000" y="765000"/>
            <a:chExt cx="2951280" cy="2974680"/>
          </a:xfrm>
        </p:grpSpPr>
        <p:sp>
          <p:nvSpPr>
            <p:cNvPr id="1131" name="Rectangle 3"/>
            <p:cNvSpPr/>
            <p:nvPr/>
          </p:nvSpPr>
          <p:spPr>
            <a:xfrm>
              <a:off x="1116000" y="765000"/>
              <a:ext cx="2950200" cy="2966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4"/>
            <p:cNvSpPr/>
            <p:nvPr/>
          </p:nvSpPr>
          <p:spPr>
            <a:xfrm>
              <a:off x="1116000" y="224784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5"/>
            <p:cNvSpPr/>
            <p:nvPr/>
          </p:nvSpPr>
          <p:spPr>
            <a:xfrm flipH="1">
              <a:off x="2590920" y="772560"/>
              <a:ext cx="720" cy="296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Text Box 10"/>
          <p:cNvSpPr/>
          <p:nvPr/>
        </p:nvSpPr>
        <p:spPr>
          <a:xfrm>
            <a:off x="1187280" y="393372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今天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像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交作业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2" descr="11111"/>
          <p:cNvPicPr/>
          <p:nvPr/>
        </p:nvPicPr>
        <p:blipFill>
          <a:blip r:embed="rId1"/>
          <a:stretch/>
        </p:blipFill>
        <p:spPr>
          <a:xfrm>
            <a:off x="-320760" y="0"/>
            <a:ext cx="9464760" cy="7245360"/>
          </a:xfrm>
          <a:prstGeom prst="rect">
            <a:avLst/>
          </a:prstGeom>
          <a:ln w="0">
            <a:noFill/>
          </a:ln>
        </p:spPr>
      </p:pic>
      <p:sp>
        <p:nvSpPr>
          <p:cNvPr id="1136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37" name="Text Box 4"/>
          <p:cNvSpPr/>
          <p:nvPr/>
        </p:nvSpPr>
        <p:spPr>
          <a:xfrm>
            <a:off x="1852920" y="47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Times New Roman"/>
                <a:ea typeface="楷体"/>
              </a:rPr>
              <a:t>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4952880" y="83664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做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做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116000" y="765000"/>
            <a:ext cx="2951280" cy="2974680"/>
            <a:chOff x="1116000" y="765000"/>
            <a:chExt cx="2951280" cy="2974680"/>
          </a:xfrm>
        </p:grpSpPr>
        <p:sp>
          <p:nvSpPr>
            <p:cNvPr id="1140" name="Rectangle 3"/>
            <p:cNvSpPr/>
            <p:nvPr/>
          </p:nvSpPr>
          <p:spPr>
            <a:xfrm>
              <a:off x="1116000" y="765000"/>
              <a:ext cx="2950200" cy="2966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4"/>
            <p:cNvSpPr/>
            <p:nvPr/>
          </p:nvSpPr>
          <p:spPr>
            <a:xfrm>
              <a:off x="1116000" y="224784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5"/>
            <p:cNvSpPr/>
            <p:nvPr/>
          </p:nvSpPr>
          <p:spPr>
            <a:xfrm flipH="1">
              <a:off x="2590920" y="772560"/>
              <a:ext cx="720" cy="296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Text Box 10"/>
          <p:cNvSpPr/>
          <p:nvPr/>
        </p:nvSpPr>
        <p:spPr>
          <a:xfrm>
            <a:off x="1187280" y="393372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别人家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做客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有礼貌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5" name="Text Box 2"/>
          <p:cNvSpPr/>
          <p:nvPr/>
        </p:nvSpPr>
        <p:spPr>
          <a:xfrm>
            <a:off x="990720" y="18288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6553080" y="37339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6553080" y="28195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5"/>
          <p:cNvGrpSpPr/>
          <p:nvPr/>
        </p:nvGrpSpPr>
        <p:grpSpPr>
          <a:xfrm>
            <a:off x="380880" y="1219320"/>
            <a:ext cx="4038480" cy="4114440"/>
            <a:chOff x="380880" y="1219320"/>
            <a:chExt cx="4038480" cy="4114440"/>
          </a:xfrm>
        </p:grpSpPr>
        <p:sp>
          <p:nvSpPr>
            <p:cNvPr id="1149" name="Rectangle 6"/>
            <p:cNvSpPr/>
            <p:nvPr/>
          </p:nvSpPr>
          <p:spPr>
            <a:xfrm>
              <a:off x="380880" y="121932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7"/>
            <p:cNvSpPr/>
            <p:nvPr/>
          </p:nvSpPr>
          <p:spPr>
            <a:xfrm>
              <a:off x="520200" y="327636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8"/>
            <p:cNvSpPr/>
            <p:nvPr/>
          </p:nvSpPr>
          <p:spPr>
            <a:xfrm>
              <a:off x="2330280" y="121932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Text Box 9"/>
          <p:cNvSpPr/>
          <p:nvPr/>
        </p:nvSpPr>
        <p:spPr>
          <a:xfrm>
            <a:off x="990720" y="144792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10"/>
          <p:cNvGrpSpPr/>
          <p:nvPr/>
        </p:nvGrpSpPr>
        <p:grpSpPr>
          <a:xfrm>
            <a:off x="4643280" y="1197000"/>
            <a:ext cx="4038480" cy="4114440"/>
            <a:chOff x="4643280" y="1197000"/>
            <a:chExt cx="4038480" cy="4114440"/>
          </a:xfrm>
        </p:grpSpPr>
        <p:sp>
          <p:nvSpPr>
            <p:cNvPr id="1154" name="Rectangle 11"/>
            <p:cNvSpPr/>
            <p:nvPr/>
          </p:nvSpPr>
          <p:spPr>
            <a:xfrm>
              <a:off x="4643280" y="119700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12"/>
            <p:cNvSpPr/>
            <p:nvPr/>
          </p:nvSpPr>
          <p:spPr>
            <a:xfrm>
              <a:off x="4782600" y="325404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13"/>
            <p:cNvSpPr/>
            <p:nvPr/>
          </p:nvSpPr>
          <p:spPr>
            <a:xfrm>
              <a:off x="6592680" y="119700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Text Box 14"/>
          <p:cNvSpPr/>
          <p:nvPr/>
        </p:nvSpPr>
        <p:spPr>
          <a:xfrm>
            <a:off x="5292720" y="155736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照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159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60" name="Text Box 4"/>
          <p:cNvSpPr/>
          <p:nvPr/>
        </p:nvSpPr>
        <p:spPr>
          <a:xfrm>
            <a:off x="1852920" y="47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Times New Roman"/>
                <a:ea typeface="楷体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5"/>
          <p:cNvSpPr/>
          <p:nvPr/>
        </p:nvSpPr>
        <p:spPr>
          <a:xfrm>
            <a:off x="4952880" y="83664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早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点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6"/>
          <p:cNvGrpSpPr/>
          <p:nvPr/>
        </p:nvGrpSpPr>
        <p:grpSpPr>
          <a:xfrm>
            <a:off x="1116000" y="836640"/>
            <a:ext cx="2951280" cy="2974680"/>
            <a:chOff x="1116000" y="836640"/>
            <a:chExt cx="2951280" cy="2974680"/>
          </a:xfrm>
        </p:grpSpPr>
        <p:sp>
          <p:nvSpPr>
            <p:cNvPr id="1163" name="Rectangle 3"/>
            <p:cNvSpPr/>
            <p:nvPr/>
          </p:nvSpPr>
          <p:spPr>
            <a:xfrm>
              <a:off x="1116000" y="836640"/>
              <a:ext cx="2950200" cy="2966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4"/>
            <p:cNvSpPr/>
            <p:nvPr/>
          </p:nvSpPr>
          <p:spPr>
            <a:xfrm>
              <a:off x="1116000" y="231948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5"/>
            <p:cNvSpPr/>
            <p:nvPr/>
          </p:nvSpPr>
          <p:spPr>
            <a:xfrm flipH="1">
              <a:off x="2590920" y="844200"/>
              <a:ext cx="720" cy="296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Text Box 10"/>
          <p:cNvSpPr/>
          <p:nvPr/>
        </p:nvSpPr>
        <p:spPr>
          <a:xfrm>
            <a:off x="1187280" y="393372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的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早点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真丰盛啊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2" descr="11111"/>
          <p:cNvPicPr/>
          <p:nvPr/>
        </p:nvPicPr>
        <p:blipFill>
          <a:blip r:embed="rId1"/>
          <a:stretch/>
        </p:blipFill>
        <p:spPr>
          <a:xfrm>
            <a:off x="-320760" y="0"/>
            <a:ext cx="9464760" cy="7245360"/>
          </a:xfrm>
          <a:prstGeom prst="rect">
            <a:avLst/>
          </a:prstGeom>
          <a:ln w="0">
            <a:noFill/>
          </a:ln>
        </p:spPr>
      </p:pic>
      <p:sp>
        <p:nvSpPr>
          <p:cNvPr id="116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69" name="Text Box 4"/>
          <p:cNvSpPr/>
          <p:nvPr/>
        </p:nvSpPr>
        <p:spPr>
          <a:xfrm>
            <a:off x="1852920" y="47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Times New Roman"/>
                <a:ea typeface="楷体"/>
              </a:rPr>
              <a:t>照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5"/>
          <p:cNvSpPr/>
          <p:nvPr/>
        </p:nvSpPr>
        <p:spPr>
          <a:xfrm>
            <a:off x="4952880" y="83664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照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照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6"/>
          <p:cNvGrpSpPr/>
          <p:nvPr/>
        </p:nvGrpSpPr>
        <p:grpSpPr>
          <a:xfrm>
            <a:off x="1116000" y="765000"/>
            <a:ext cx="2951280" cy="2974680"/>
            <a:chOff x="1116000" y="765000"/>
            <a:chExt cx="2951280" cy="2974680"/>
          </a:xfrm>
        </p:grpSpPr>
        <p:sp>
          <p:nvSpPr>
            <p:cNvPr id="1172" name="Rectangle 3"/>
            <p:cNvSpPr/>
            <p:nvPr/>
          </p:nvSpPr>
          <p:spPr>
            <a:xfrm>
              <a:off x="1116000" y="765000"/>
              <a:ext cx="2950200" cy="2966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4"/>
            <p:cNvSpPr/>
            <p:nvPr/>
          </p:nvSpPr>
          <p:spPr>
            <a:xfrm>
              <a:off x="1116000" y="224784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5"/>
            <p:cNvSpPr/>
            <p:nvPr/>
          </p:nvSpPr>
          <p:spPr>
            <a:xfrm flipH="1">
              <a:off x="2590920" y="772560"/>
              <a:ext cx="720" cy="296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 Box 10"/>
          <p:cNvSpPr/>
          <p:nvPr/>
        </p:nvSpPr>
        <p:spPr>
          <a:xfrm>
            <a:off x="1187280" y="393372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伤的小鸟在我的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照料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很快就好了。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E05-7126-4226-943F-65B21863E7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2"/>
          <p:cNvSpPr/>
          <p:nvPr/>
        </p:nvSpPr>
        <p:spPr>
          <a:xfrm>
            <a:off x="674640" y="23353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041480" y="1521000"/>
            <a:ext cx="2950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称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12760" y="3537000"/>
            <a:ext cx="39592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杆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138560" y="1521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称呼  称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10200" y="23860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对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206960" y="3465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旗杆  桅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138560" y="447372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笔杆  枪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451640" y="2386080"/>
            <a:ext cx="11858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9999"/>
                </a:solidFill>
                <a:latin typeface="Times New Roman"/>
              </a:rPr>
              <a:t>多音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971640" y="2344680"/>
            <a:ext cx="73454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象  称  腿  到  止  再  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像  秤  退  倒  正  在  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971640" y="1193760"/>
            <a:ext cx="24336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比一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332000" y="3786120"/>
            <a:ext cx="71280" cy="1006560"/>
          </a:xfrm>
          <a:prstGeom prst="upDownArrow">
            <a:avLst>
              <a:gd name="adj1" fmla="val 50000"/>
              <a:gd name="adj2" fmla="val 282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2413080" y="3786120"/>
            <a:ext cx="71280" cy="1006560"/>
          </a:xfrm>
          <a:prstGeom prst="upDownArrow">
            <a:avLst>
              <a:gd name="adj1" fmla="val 50000"/>
              <a:gd name="adj2" fmla="val 282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492360" y="3786120"/>
            <a:ext cx="71640" cy="1006560"/>
          </a:xfrm>
          <a:prstGeom prst="upDownArrow">
            <a:avLst>
              <a:gd name="adj1" fmla="val 50000"/>
              <a:gd name="adj2" fmla="val 280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572000" y="3786120"/>
            <a:ext cx="71280" cy="1006560"/>
          </a:xfrm>
          <a:prstGeom prst="upDownArrow">
            <a:avLst>
              <a:gd name="adj1" fmla="val 50000"/>
              <a:gd name="adj2" fmla="val 282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5653080" y="3786120"/>
            <a:ext cx="71280" cy="1006560"/>
          </a:xfrm>
          <a:prstGeom prst="upDownArrow">
            <a:avLst>
              <a:gd name="adj1" fmla="val 50000"/>
              <a:gd name="adj2" fmla="val 282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6732720" y="3786120"/>
            <a:ext cx="71280" cy="1006560"/>
          </a:xfrm>
          <a:prstGeom prst="upDownArrow">
            <a:avLst>
              <a:gd name="adj1" fmla="val 50000"/>
              <a:gd name="adj2" fmla="val 282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7813800" y="3786120"/>
            <a:ext cx="71280" cy="1006560"/>
          </a:xfrm>
          <a:prstGeom prst="upDownArrow">
            <a:avLst>
              <a:gd name="adj1" fmla="val 50000"/>
              <a:gd name="adj2" fmla="val 282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-166680" y="2098800"/>
            <a:ext cx="914256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人送给曹操一头大（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98800" y="87480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159520" y="8031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27520" y="15552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nɡ  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425320" y="3395520"/>
            <a:ext cx="48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闪闪的星星好（     ）无数的眼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539040" y="209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22680" y="3251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3049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像    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3284640"/>
            <a:ext cx="815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   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（      ）家看电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回家先看书，（     ）写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田方（      ）跑步比赛中得了第一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9219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五的月亮（     ）圆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动物园来了一只大（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419640" y="1341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941720" y="2333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22200" y="4005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24360" y="4815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717560" y="5661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4427640" y="0"/>
            <a:ext cx="2016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会选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539640" y="2276640"/>
            <a:ext cx="928872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拿来一杆（           ），去（          ）苹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916360" y="9079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788000" y="981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43280" y="476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hēnɡ   chè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908000" y="328464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443640" y="234936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13Z</dcterms:modified>
  <cp:revision>8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