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110-65F5-47BA-B98E-B84CF44A51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BB00-3DB0-49F1-B605-2324FE78F9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B61-38E7-41DF-98AB-7E25E8B1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126-7F91-443C-B14E-8D2E6EE2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9EA-5DD4-4B38-B8FC-0DEF51FD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BC4-1E08-4982-913D-78578499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C6F-ACFA-4765-A312-2D228DBE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7AF-954D-41BA-A777-470B6E71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E76-3070-4491-AA93-B2D4750A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2F7-43CA-453A-A7AF-DBDB2BB2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CD1-428F-44D1-A8F7-3F7F92E4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46E-0935-42D6-833E-A4090904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BF8-66C6-44F8-9CDD-8ADC42D1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415-1F33-4789-A39A-03C78247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CC8D-C72C-4B4E-ADB8-F3BD18633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读不完的大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2"/>
          <a:stretch/>
        </p:blipFill>
        <p:spPr>
          <a:xfrm>
            <a:off x="1287360" y="5857920"/>
            <a:ext cx="6685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140203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756702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01109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201173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730257~1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IMG361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658581~1"/>
          <p:cNvPicPr/>
          <p:nvPr/>
        </p:nvPicPr>
        <p:blipFill>
          <a:blip r:embed="rId1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"/>
          <p:cNvSpPr/>
          <p:nvPr/>
        </p:nvSpPr>
        <p:spPr>
          <a:xfrm>
            <a:off x="3301920" y="310824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06390~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E95E-E820-406F-9DFB-3D0A3949DA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预习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1557360"/>
            <a:ext cx="880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暇    玩耍    辽阔     蝌蚪     提供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盘旋    柚树    咸菜     棕榈     画册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柔    细腻   井然有序    两军对垒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壁垒森严      你死我活     英勇奋战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随风摇曳      雄健勇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井然：整齐不乱的样子。序：次序。整整齐齐，次序分明，条理清楚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然有序在文中的意思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壁垒森严在文中的意思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4000" y="2997360"/>
            <a:ext cx="698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壁垒：古代军营四周的围墙；森严：整齐，严肃。原指军事戒备严密。现也用来比喻彼此界限划得很分明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再读课文，了解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1268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小时候在大自然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野外的（      ）（      ）（      ）走兽、（      ），找到了玩不尽的材料；自家房子（        ）的空地上，栽着各种果树，（               ）对孩子来说，也很有情趣。文章通过对（          ）与自家（       ）自然环境的描述，说明了大自然是儿童的一本读不完的大书，表达了对大自然的（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516720" y="1197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天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84360" y="1700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195640" y="1700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飞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859280" y="1773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游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427640" y="2205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前后左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492360" y="270828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棕榈和竹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292720" y="3213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55640" y="3716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庭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116000" y="4653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喜爱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文中找出描写优美景色的段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2268360" y="407664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998~1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绿色通道_8061297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414A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30623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130429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1:59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9:23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