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8.png" ContentType="image/png"/>
  <Override PartName="/ppt/media/image2.jpeg" ContentType="image/jpeg"/>
  <Override PartName="/ppt/media/image3.png" ContentType="image/png"/>
  <Override PartName="/ppt/media/coin.wav" ContentType="audio/x-wav"/>
  <Override PartName="/ppt/media/image4.jpeg" ContentType="image/jpeg"/>
  <Override PartName="/ppt/media/type.wav" ContentType="audio/x-wav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47E4-A8CF-4A9A-B0B9-9CEA89C670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3A5C-5393-4B4C-B904-6CD6281E28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77F-26AF-4FA1-8957-9446D4CC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BEF-E88C-4690-B472-A27B426C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DAF-80D3-4480-8B08-7653FC9C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CC46-2A67-40CC-AFBC-84CF9431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98B-6BC5-4B9B-9338-BA0076DD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1F11-A2C6-4976-96CA-16BDD862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6F5B-14EB-4954-B055-DB0F6C10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5684-D38A-4D79-9DFE-E4B9F052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086-35F9-48FB-97B5-653F07B1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AC2-2A47-44CE-902C-B43B9CD5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9605-4A2F-41D9-9A64-5B3C1E01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E09-DE78-44C9-ACC2-3FE63137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CEE6-035C-4094-A8B4-2C15A92A7E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875640" y="692280"/>
            <a:ext cx="9871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隶书"/>
              </a:rPr>
              <a:t>盗火的英雄</a:t>
            </a:r>
            <a:endParaRPr b="1" i="1" lang="en-US" sz="6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4264200" y="61657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i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240" y="1440"/>
            <a:ext cx="9137520" cy="6855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9680" y="-142920"/>
            <a:ext cx="8177400" cy="31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象一下当时的情景，你觉普罗米修斯当时是什么感觉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SCN9933"/>
          <p:cNvPicPr/>
          <p:nvPr/>
        </p:nvPicPr>
        <p:blipFill>
          <a:blip r:embed="rId1"/>
          <a:stretch/>
        </p:blipFill>
        <p:spPr>
          <a:xfrm>
            <a:off x="0" y="0"/>
            <a:ext cx="10044000" cy="725472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 rot="5400000">
            <a:off x="-2476800" y="316224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745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普罗米修斯</a:t>
            </a:r>
            <a:endParaRPr b="1" i="1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240" y="1440"/>
            <a:ext cx="91375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81774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普罗米修斯为什么要盗火？他是怎样盗火的？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认为普罗米修斯是一个怎样的神？从哪些地方可以看出来？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817704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奥运圣火的由来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普罗米修斯留给我们的不仅是物质上的火种，更是精神上的火种，所以有关他的故事传遍了世界的每个角落。人们为了纪念他，古代奥运会规定在开幕前必须进行隆重的点火仪式。奥运圣火的意义就这样被希腊人奠定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5"/>
          <p:cNvSpPr txBox="1"/>
          <p:nvPr/>
        </p:nvSpPr>
        <p:spPr>
          <a:xfrm>
            <a:off x="2771640" y="260280"/>
            <a:ext cx="381636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我能行</a:t>
            </a:r>
            <a:endParaRPr b="1" i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24000" y="1989000"/>
            <a:ext cx="8640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         ）从火神（        ）那里为人类取来火种，</a:t>
            </a:r>
            <a:endParaRPr b="1" i="1" lang="en-US" sz="28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遭到了众神之王（         ）的严厉（       ），可是</a:t>
            </a:r>
            <a:endParaRPr b="1" i="1" lang="en-US" sz="28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       ）没有（       ），最后在大力神（            ）</a:t>
            </a:r>
            <a:endParaRPr b="1" i="1" lang="en-US" sz="28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帮助下（          ）。</a:t>
            </a:r>
            <a:endParaRPr b="1" i="1" lang="en-US" sz="28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1" i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3" name="文本框 1"/>
          <p:cNvSpPr/>
          <p:nvPr/>
        </p:nvSpPr>
        <p:spPr>
          <a:xfrm>
            <a:off x="457200" y="5197320"/>
            <a:ext cx="79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</a:rPr>
              <a:t>更多免费</a:t>
            </a:r>
            <a:r>
              <a:rPr b="1" i="1" lang="zh-CN" sz="2400" spc="-1" strike="noStrike">
                <a:solidFill>
                  <a:srgbClr val="000000"/>
                </a:solidFill>
                <a:latin typeface="黑体"/>
              </a:rPr>
              <a:t>PPT</a:t>
            </a:r>
            <a:r>
              <a:rPr b="1" i="1" lang="zh-CN" sz="2400" spc="-1" strike="noStrike">
                <a:solidFill>
                  <a:srgbClr val="000000"/>
                </a:solidFill>
                <a:latin typeface="黑体"/>
              </a:rPr>
              <a:t>模板尽在：</a:t>
            </a:r>
            <a:r>
              <a:rPr b="1" i="1" lang="zh-CN" sz="2400" spc="-1" strike="noStrike">
                <a:solidFill>
                  <a:srgbClr val="000000"/>
                </a:solidFill>
                <a:latin typeface="黑体"/>
              </a:rPr>
              <a:t>http://www.eeppt.com</a:t>
            </a:r>
            <a:endParaRPr b="1" i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WordArt 5"/>
          <p:cNvSpPr txBox="1"/>
          <p:nvPr/>
        </p:nvSpPr>
        <p:spPr>
          <a:xfrm>
            <a:off x="2771640" y="260280"/>
            <a:ext cx="381636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我能行</a:t>
            </a:r>
            <a:endParaRPr b="1" i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24000" y="1989000"/>
            <a:ext cx="8640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普罗米修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）从火神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阿波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那里为人类</a:t>
            </a:r>
            <a:endParaRPr b="1" i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取来火种，遭到了众神之王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宙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的严厉</a:t>
            </a:r>
            <a:endParaRPr b="1" i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惩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，可是（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普罗米修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没有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屈</a:t>
            </a:r>
            <a:endParaRPr b="1" i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），最后在大力神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赫拉克勒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i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帮助下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获得了自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。 </a:t>
            </a:r>
            <a:endParaRPr b="1" i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i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2172-56B5-4989-8249-9ADA694885C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4" descr="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28760" y="620280"/>
            <a:ext cx="8378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故事背景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普罗米修斯是古希腊神话传说中的提坦神。普罗米修斯与智慧女神雅典娜共同创造了人类，并教会了人类很多知识和技能。那时候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人和神是生活在一起的。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971640" y="2349360"/>
            <a:ext cx="7200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读准字音，读通课文，难读的地方多读几遍。</a:t>
            </a:r>
            <a:endParaRPr b="1" i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用一两句话概括地说说课文讲了一个什么故事。</a:t>
            </a:r>
            <a:endParaRPr b="1" i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971640" y="1484280"/>
            <a:ext cx="27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自学要求</a:t>
            </a:r>
            <a:endParaRPr b="1" i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142920" y="1285920"/>
            <a:ext cx="878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à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取   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yà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hu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香   </a:t>
            </a:r>
            <a:endParaRPr b="1" i="1" lang="en-US" sz="36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ǎ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莽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rá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起   </a:t>
            </a:r>
            <a:endParaRPr b="1" i="1" lang="en-US" sz="36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大发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tí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     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y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绝壁   </a:t>
            </a:r>
            <a:endParaRPr b="1" i="1" lang="en-US" sz="36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sh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zā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受</a:t>
            </a:r>
            <a:endParaRPr b="1" i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3" name="WordArt 6"/>
          <p:cNvSpPr txBox="1"/>
          <p:nvPr/>
        </p:nvSpPr>
        <p:spPr>
          <a:xfrm>
            <a:off x="428760" y="385920"/>
            <a:ext cx="2781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学习生字</a:t>
            </a:r>
            <a:endParaRPr b="1" i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7"/>
          <p:cNvSpPr/>
          <p:nvPr/>
        </p:nvSpPr>
        <p:spPr>
          <a:xfrm>
            <a:off x="1619280" y="4797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i="1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i="1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i="1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i="1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i="1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i="1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i="1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i="1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i="1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i="1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i="1" lang="en-US" sz="1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142920" y="1739880"/>
            <a:ext cx="878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盗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取   火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焰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香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莽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莽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燃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起   </a:t>
            </a:r>
            <a:endParaRPr b="1" i="1" lang="en-US" sz="48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大发雷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 悬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崖绝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饶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恕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遭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受</a:t>
            </a:r>
            <a:endParaRPr b="1" i="1" lang="en-US" sz="4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428760" y="457200"/>
            <a:ext cx="2781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学习生字</a:t>
            </a:r>
            <a:endParaRPr b="1" i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5480" y="1198080"/>
            <a:ext cx="8643960" cy="501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很久很久以前，地面上一丁点儿火星也没有。没有火烧烤食物，人们只好吃生的东西；没有火来照明，人们只能在无边的黑暗中度过一个个漫长的夜晚。</a:t>
            </a:r>
            <a:br>
              <a:rPr sz="40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想象一下没有火时人们的生活是什么样的？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段话运用了什么修辞手法？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240" y="264960"/>
            <a:ext cx="9137520" cy="6328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480" y="1483920"/>
            <a:ext cx="8643960" cy="501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此，人类用火来烧熟食物，驱除寒冷，用火来打造生产工具。有时，他们还用火来驱赶前来侵犯的猛兽。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火之后人们的生活发生了怎样的变化？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214200" y="285840"/>
            <a:ext cx="8643960" cy="4714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很久很久以前，地面上一丁点儿火星也没有。没有火烧烤食物，人们只好吃生的东西；没有火来照明，人们只能在无边的黑暗中度过一个个漫长的夜晚。</a:t>
            </a:r>
            <a:br>
              <a:rPr sz="4000"/>
            </a:br>
            <a:br>
              <a:rPr sz="4000"/>
            </a:br>
            <a:endParaRPr b="1" i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840" y="4000320"/>
            <a:ext cx="8643960" cy="250020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此，人类用火来烧熟食物，驱除寒冷，用火来打造生产工具。有时，他们还用火来驱赶前来侵犯的猛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571840" y="3429000"/>
            <a:ext cx="381636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85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这里运用了什么方法？</a:t>
            </a:r>
            <a:endParaRPr b="1" i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9680" y="1618920"/>
            <a:ext cx="81774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人类造福，有什么错呢？我可以忍受各种痛苦，但是，我的意志是不能动摇的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普罗米修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普罗米修斯的话让我们有什么体会？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21:33:2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4:23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