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FB1-0352-4F89-8F4D-18DC421245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1AD-9B03-4477-9954-2DE1A76478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2E0-8BA8-48C4-AC55-A9CC8505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C59-04E9-4218-925C-26837D46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CAEE-BF2E-43E8-AC6A-C36E2BA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BB5D2-12A3-4F59-B087-9A73AAB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5E178-862F-407C-842C-3A47BD5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7A12C-9CDC-41C3-B0B5-B1D862D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38BD2-B3D6-4F59-8CDD-FAE3601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11CCC-61C9-419F-85A4-8241AAA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1919E-DFC9-49A8-B5C6-EFD1478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910E-16BA-4734-A25E-5B74A576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5244-7C9E-47EB-9B58-9BBCAB4B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CAB5-C628-4DCC-BC7B-53F84E3B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2F6-F9DF-41DE-BF92-942176FE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3F83-80F5-4F0F-83B9-F983BE4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3D359-15F7-4C9E-92AF-D19CD9EE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6ECB-8046-4F83-9BEE-677C711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875E9-4A7F-4DBF-B0E9-23B235E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41747-31C7-42C9-80C2-D9EC5AED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4C58F-B463-4F66-AC3A-DB32B16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39AA-C251-421C-9D1F-7F26AD9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EC249-0E8E-4168-9504-1110EFF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AE328-582A-400D-AB13-782683E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6B0F4-699D-488C-8EAB-9F5EAAE2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F89-0D67-45D1-98AF-90B37CDB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09DA9-75E6-43B6-AB11-8406276E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1E9BD-DE17-412E-9B47-228CF663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F1FA8-9998-4268-B223-72C8C46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68ED3-7779-41F6-9950-E8375A4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A4082-53AF-46BA-A2B6-871BFA1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87BC8-0FC9-4403-9E71-00FB292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B0CD-DBA3-4A70-ADEC-C6BE1A5C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256F9-F8B4-4672-922E-3F36875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41D4-14FD-47D2-8C1D-E0A5DA3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443B-8B71-4391-8543-54FDCD6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11D-3D7D-4329-8718-9619FE10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140B-33C4-4FB8-A202-4138D729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23D0-A30D-48C2-8697-28E022A9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8262-8297-445A-92E4-EDBC1532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401F-0998-4F34-BFF3-7D33000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8A24-9558-4273-A5D0-0BA0568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C02-D57F-425C-9AAF-4BB4D876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AF4-30F7-4FC8-8723-F3FF626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743-37B5-4314-BA4A-BB34F055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00B-8DC3-4CC5-BF6C-9EDFCD0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C7C-848C-47E6-A918-48E1402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0AD9-EC22-49F4-BD3A-939DA52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221-7F7B-455C-A74B-036A031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324-D3AC-4C5C-B63F-94C4712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90DA-1715-4B09-B6DD-F98EFB5B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1BC2-1F98-413F-9C9E-FBC7BF62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17D8-F0BA-4CA9-936D-3CE6F8C4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8773-EFE0-4318-8BBC-E507655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AC0C-8158-46BC-AE4E-2009862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5AE8-3AD4-47B7-B9F4-387F1942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2D41-33B3-41E1-9719-910670B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116-BA9F-403D-999C-2E77F1B4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59BE-3DCE-452B-AC04-E66627A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4850-F44F-4A57-9C55-DB68F17E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B604-D562-411A-A5E4-0CB5DCC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E7FD-6394-47DC-B802-C2571FB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79BF-603E-4B54-A8E6-33BEA7C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766F-26E0-4934-BA5F-A981B6A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1327-4B74-4F88-BC55-E99F621C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DD23-3BEA-4FBE-966E-CDE4D110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AF0B-DE4A-4448-8028-4B4F425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D775-C6BA-48F2-BE6F-6E5C94AA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BE3-6C9A-41B0-A586-5CE75E44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10CB-D4C8-4ECF-B66D-E0D1A97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BF07-8940-49A8-8F69-B63DB933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C9BD-A130-4964-999E-E5574936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AE4E-8F1B-4B13-A2D4-BF99C3D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F8DF-AB83-489B-9199-5446FF9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FC5C-56AE-4F36-A798-0543757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DF3A-E10F-467B-8EE8-A2C74FB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B8B6-2A01-41A0-AFF6-5B1D6CF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CA93-9383-4CDD-863C-87C4173F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BBC0-E876-4C10-938E-48D98787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248-2D39-4174-8F9A-BB8F3CA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3670E-C286-470C-8953-52CE2C7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0963-AC71-418E-95B7-D53DE4C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251AA-0C22-4C2F-83F6-4F409039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B698-C6F4-4320-89BC-67E99DE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103F-02C2-46E8-A25A-7D00C6E8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7A53-9281-4AD9-B155-696BF677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AA60-4A62-4941-A785-66680E5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4D09-81EF-43B3-BD90-3780E2D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0B9F-F2DC-4D1F-845D-CA8E435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5FF6-710C-474B-925F-A92515EA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650-09C8-4137-963F-C46F4B0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6D64-DE60-4B41-9AA6-9CEFBBF9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A85B-BE12-4A2E-BBB5-3D7297D9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00D9-C363-40A8-A8C2-B33059A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9027-BC85-4B23-9CD7-4F70679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EB3B7-911F-4D3A-BBAC-897A13EF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F4CD4-22F2-4C41-851F-1A845A9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6474C-8609-4683-8FEF-A5CFE096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1EAF-D962-4C56-A7DB-CAB2BED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EDCC-3614-4EA9-83B1-54F2E08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7E2E-33BC-48F4-BDFF-35A82DF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62C-18CF-4640-B387-417CD88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6A71-0216-46A9-AE48-C9E9BF0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6598-BD22-4756-85F0-FBD42654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0FAD-70B4-4B55-85A3-D9F2C67F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6C1FE-3EA5-4269-A239-774EC0E5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11AB-588A-4F6E-8FF6-47BA262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89F67-AAB5-4AB4-85F4-47A03AC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B7F1-EFD8-4932-A0AA-263E98BD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49E2-8415-49CE-B9AF-434A30C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4584A-8DDD-46F8-9EC5-65DA2FF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7DFAF-3B95-4DF3-B154-89375A0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3E3-C479-428B-9533-43FDBAF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9B0E-DD9E-43F3-8B2A-BD1593C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6569-9549-4C03-8B28-53C3B2C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379E-103B-4F40-AEE9-7212D15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81FC-EC96-44CA-9B3E-521A54D9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F9EB-E642-44DE-8CB6-A729799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C8AEE-C03B-4A29-ABBD-09F27D3A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02D46-6AB0-4674-8ED3-48D4CDFC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16360-A22A-455E-A93C-B2D766EE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82CD-6324-4182-AFEE-42BB739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E601-C85C-4397-A12D-C3CA377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7A5-F2D6-4056-8D2E-54E9565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A3FE-8955-4E27-B0B1-6435C88C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46CC9-9FDA-409A-A88C-4F42B31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3B03-861C-4877-A989-20CEE4F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D1A3F-CDDD-433D-973D-6CFC348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2FF36-464A-4CE6-9568-D3016707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B2D60-40EA-48A6-90EF-E91B94C0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3111-DD6D-49CA-9A82-D61427D7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5204-6497-4F67-AFF1-7F98A7E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3B315-CC33-4878-908E-3717597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01BF-C681-4BD5-B58F-70C180B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30B-4935-4DD9-8D29-41344E6CDE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849-5609-4F15-8973-5327094FA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B64-F5A0-41FC-BF4D-ECB6D70EB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C373-FDF7-4B65-A041-196736C17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2CDB-C34D-41A3-837B-3AB23E210A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2108-8062-46EE-AFEE-EA777BC4C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C7C-A97C-404F-833C-44D2E2760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3EE9-410D-43A0-8ACF-847C2E84C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560-11C0-4403-93E4-5FE0E0D88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0E55-7795-497A-91F2-884957E31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AD5B-D9E0-40F9-A523-49886FDAF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63DB-9A56-4A79-877C-53C870FAF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5.xml"/><Relationship Id="rId3" Type="http://schemas.openxmlformats.org/officeDocument/2006/relationships/image" Target="../media/image11.png"/><Relationship Id="rId4" Type="http://schemas.openxmlformats.org/officeDocument/2006/relationships/slide" Target="slide16.xml"/><Relationship Id="rId5" Type="http://schemas.openxmlformats.org/officeDocument/2006/relationships/image" Target="../media/image12.png"/><Relationship Id="rId6" Type="http://schemas.openxmlformats.org/officeDocument/2006/relationships/slide" Target="slide18.xml"/><Relationship Id="rId7" Type="http://schemas.openxmlformats.org/officeDocument/2006/relationships/image" Target="../media/image13.png"/><Relationship Id="rId8" Type="http://schemas.openxmlformats.org/officeDocument/2006/relationships/slide" Target="slide19.xml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" Target="slide21.xml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4.xm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H:\012第十二课 地球清洁师\图片\未标题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1143000" y="25290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地球清洁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2133720" y="15717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课标实验教科书二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1827000" y="5562720"/>
            <a:ext cx="549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95" name="TextBox 6"/>
          <p:cNvSpPr/>
          <p:nvPr/>
        </p:nvSpPr>
        <p:spPr>
          <a:xfrm>
            <a:off x="533520" y="129528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牛粪、马粪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心，还把它们滚成粪球儿，埋到地底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7162920" y="914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6"/>
          <p:cNvSpPr/>
          <p:nvPr/>
        </p:nvSpPr>
        <p:spPr>
          <a:xfrm>
            <a:off x="533520" y="129528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牛粪、马粪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心，还把它们滚成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球儿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埋到地底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5"/>
          <p:cNvSpPr/>
          <p:nvPr/>
        </p:nvSpPr>
        <p:spPr>
          <a:xfrm>
            <a:off x="7162920" y="914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7"/>
          <p:cNvSpPr/>
          <p:nvPr/>
        </p:nvSpPr>
        <p:spPr>
          <a:xfrm>
            <a:off x="2057400" y="17524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内容占位符 4" descr="01.png"/>
          <p:cNvPicPr/>
          <p:nvPr/>
        </p:nvPicPr>
        <p:blipFill>
          <a:blip r:embed="rId1"/>
          <a:stretch/>
        </p:blipFill>
        <p:spPr>
          <a:xfrm>
            <a:off x="457200" y="2343240"/>
            <a:ext cx="8229600" cy="3039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F:\PPT制作素材\PPT背景素材\4c5e391e1d4b5f00(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762120" y="114300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不加字，不漏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边读边思考：鱼、乌鸦、屎壳郎和大树各有什么本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" descr="鱼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7040" y="4419720"/>
            <a:ext cx="1571760" cy="20890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5" descr="乌鸦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57400" y="4114800"/>
            <a:ext cx="1523880" cy="20271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6" descr="未标题-1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57600" y="5029200"/>
            <a:ext cx="1827360" cy="1622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7" descr="大树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53080" y="3733920"/>
            <a:ext cx="3490920" cy="29210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02.png"/>
          <p:cNvPicPr/>
          <p:nvPr/>
        </p:nvPicPr>
        <p:blipFill>
          <a:blip r:embed="rId10"/>
          <a:stretch/>
        </p:blipFill>
        <p:spPr>
          <a:xfrm>
            <a:off x="152280" y="1371600"/>
            <a:ext cx="2086200" cy="10904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9" descr="03.png"/>
          <p:cNvPicPr/>
          <p:nvPr/>
        </p:nvPicPr>
        <p:blipFill>
          <a:blip r:embed="rId11"/>
          <a:stretch/>
        </p:blipFill>
        <p:spPr>
          <a:xfrm>
            <a:off x="1447920" y="838080"/>
            <a:ext cx="2314440" cy="109080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10" descr="03.png"/>
          <p:cNvPicPr/>
          <p:nvPr/>
        </p:nvPicPr>
        <p:blipFill>
          <a:blip r:embed="rId12"/>
          <a:stretch/>
        </p:blipFill>
        <p:spPr>
          <a:xfrm>
            <a:off x="3657600" y="1811160"/>
            <a:ext cx="1828800" cy="9558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1" descr="04.png"/>
          <p:cNvPicPr/>
          <p:nvPr/>
        </p:nvPicPr>
        <p:blipFill>
          <a:blip r:embed="rId13"/>
          <a:stretch/>
        </p:blipFill>
        <p:spPr>
          <a:xfrm>
            <a:off x="5257800" y="304920"/>
            <a:ext cx="1587600" cy="8316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2" descr="04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95880" y="609480"/>
            <a:ext cx="25909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6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"/>
          <p:cNvSpPr/>
          <p:nvPr/>
        </p:nvSpPr>
        <p:spPr>
          <a:xfrm>
            <a:off x="990720" y="1405080"/>
            <a:ext cx="55623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 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在水里游来游去，见到那些破坏水质的微生物，就马上清除。假如没有我们，江河湖海就会变成臭水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7" descr="鱼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74000" y="4343400"/>
            <a:ext cx="2070000" cy="2654280"/>
          </a:xfrm>
          <a:prstGeom prst="rect">
            <a:avLst/>
          </a:prstGeom>
          <a:ln w="0">
            <a:noFill/>
          </a:ln>
        </p:spPr>
      </p:pic>
      <p:sp>
        <p:nvSpPr>
          <p:cNvPr id="521" name="矩形 8"/>
          <p:cNvSpPr/>
          <p:nvPr/>
        </p:nvSpPr>
        <p:spPr>
          <a:xfrm>
            <a:off x="0" y="6553080"/>
            <a:ext cx="7162920" cy="304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" descr="H:\012第十二课 地球清洁师\《地球清洁师〉课件\图形5.jpg"/>
          <p:cNvPicPr/>
          <p:nvPr/>
        </p:nvPicPr>
        <p:blipFill>
          <a:blip r:embed="rId4"/>
          <a:stretch/>
        </p:blipFill>
        <p:spPr>
          <a:xfrm>
            <a:off x="228600" y="380880"/>
            <a:ext cx="8153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3048120" y="57150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苍蝇的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3" descr="苍蝇的蛹.jpg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5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矩形 3"/>
          <p:cNvSpPr/>
          <p:nvPr/>
        </p:nvSpPr>
        <p:spPr>
          <a:xfrm>
            <a:off x="6400800" y="4038480"/>
            <a:ext cx="2743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6" descr="乌鸦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37400" y="3581280"/>
            <a:ext cx="2406600" cy="320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"/>
          <p:cNvSpPr/>
          <p:nvPr/>
        </p:nvSpPr>
        <p:spPr>
          <a:xfrm>
            <a:off x="1219320" y="14256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“我们能吃苍蝇的蛹、腐烂的肉，做地面清洁师最合适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8" descr="H:\012第十二课 地球清洁师\《地球清洁师〉课件\图形1.jpg"/>
          <p:cNvPicPr/>
          <p:nvPr/>
        </p:nvPicPr>
        <p:blipFill>
          <a:blip r:embed="rId4"/>
          <a:stretch/>
        </p:blipFill>
        <p:spPr>
          <a:xfrm>
            <a:off x="380880" y="682560"/>
            <a:ext cx="69343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4" descr="图片2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5" descr="未标题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533520" y="4195800"/>
            <a:ext cx="2743200" cy="24336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"/>
          <p:cNvSpPr/>
          <p:nvPr/>
        </p:nvSpPr>
        <p:spPr>
          <a:xfrm>
            <a:off x="2286000" y="1600200"/>
            <a:ext cx="66294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用牛粪、马粪当点心，还把它们滚成粪球儿，埋到地底下。如果没有我们，草原就会出现粪山，牧场也会变得很脏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H:\012第十二课 地球清洁师\《地球清洁师〉课件\图形2.jpg"/>
          <p:cNvPicPr/>
          <p:nvPr/>
        </p:nvPicPr>
        <p:blipFill>
          <a:blip r:embed="rId5"/>
          <a:stretch/>
        </p:blipFill>
        <p:spPr>
          <a:xfrm>
            <a:off x="1411200" y="762120"/>
            <a:ext cx="75042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5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2"/>
          <p:cNvSpPr/>
          <p:nvPr/>
        </p:nvSpPr>
        <p:spPr>
          <a:xfrm>
            <a:off x="914400" y="1035000"/>
            <a:ext cx="5943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   “我给大家提供清洁的空气，能不能当清洁师呢？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"/>
          <p:cNvSpPr/>
          <p:nvPr/>
        </p:nvSpPr>
        <p:spPr>
          <a:xfrm>
            <a:off x="5715000" y="4114800"/>
            <a:ext cx="342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6" descr="大树.png"/>
          <p:cNvPicPr/>
          <p:nvPr/>
        </p:nvPicPr>
        <p:blipFill>
          <a:blip r:embed="rId2"/>
          <a:stretch/>
        </p:blipFill>
        <p:spPr>
          <a:xfrm>
            <a:off x="4559400" y="2946240"/>
            <a:ext cx="4584600" cy="3835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H:\012第十二课 地球清洁师\《地球清洁师〉课件\图形3.jpg"/>
          <p:cNvPicPr/>
          <p:nvPr/>
        </p:nvPicPr>
        <p:blipFill>
          <a:blip r:embed="rId3"/>
          <a:stretch/>
        </p:blipFill>
        <p:spPr>
          <a:xfrm>
            <a:off x="304920" y="457200"/>
            <a:ext cx="7199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F:\PPT制作素材\PPT背景素材\4c5e391e1d4b5f00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4038480" y="12952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考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533520" y="2286000"/>
            <a:ext cx="2971800" cy="4064040"/>
          </a:xfrm>
          <a:prstGeom prst="rect">
            <a:avLst/>
          </a:prstGeom>
          <a:ln w="0">
            <a:noFill/>
          </a:ln>
        </p:spPr>
      </p:pic>
      <p:sp>
        <p:nvSpPr>
          <p:cNvPr id="465" name="文本框 1"/>
          <p:cNvSpPr/>
          <p:nvPr/>
        </p:nvSpPr>
        <p:spPr>
          <a:xfrm>
            <a:off x="3838680" y="5294160"/>
            <a:ext cx="51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5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"/>
          <p:cNvSpPr/>
          <p:nvPr/>
        </p:nvSpPr>
        <p:spPr>
          <a:xfrm>
            <a:off x="914400" y="1035000"/>
            <a:ext cx="5943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   “我给大家提供清洁的空气，能不能当清洁师呢</a:t>
            </a:r>
            <a:r>
              <a:rPr b="1" lang="zh-CN" sz="35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"/>
          <p:cNvSpPr/>
          <p:nvPr/>
        </p:nvSpPr>
        <p:spPr>
          <a:xfrm>
            <a:off x="5715000" y="4114800"/>
            <a:ext cx="342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6" descr="大树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59400" y="2946240"/>
            <a:ext cx="4584600" cy="3835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H:\012第十二课 地球清洁师\《地球清洁师〉课件\图形3.jpg"/>
          <p:cNvPicPr/>
          <p:nvPr/>
        </p:nvPicPr>
        <p:blipFill>
          <a:blip r:embed="rId4"/>
          <a:stretch/>
        </p:blipFill>
        <p:spPr>
          <a:xfrm>
            <a:off x="304920" y="500040"/>
            <a:ext cx="7199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2"/>
          <p:cNvSpPr/>
          <p:nvPr/>
        </p:nvSpPr>
        <p:spPr>
          <a:xfrm>
            <a:off x="3352680" y="1371600"/>
            <a:ext cx="4876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！当然能！你们都是很好的清洁师。有了你们，地球才会更干净、更美丽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" descr="田字格2.png"/>
          <p:cNvPicPr/>
          <p:nvPr/>
        </p:nvPicPr>
        <p:blipFill>
          <a:blip r:embed="rId2"/>
          <a:stretch/>
        </p:blipFill>
        <p:spPr>
          <a:xfrm>
            <a:off x="-152280" y="3429000"/>
            <a:ext cx="2581200" cy="3530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H:\012第十二课 地球清洁师\《地球清洁师〉课件\图形4.jpg"/>
          <p:cNvPicPr/>
          <p:nvPr/>
        </p:nvPicPr>
        <p:blipFill>
          <a:blip r:embed="rId3"/>
          <a:stretch/>
        </p:blipFill>
        <p:spPr>
          <a:xfrm>
            <a:off x="1752480" y="507960"/>
            <a:ext cx="7199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图片2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"/>
          <p:cNvSpPr/>
          <p:nvPr/>
        </p:nvSpPr>
        <p:spPr>
          <a:xfrm>
            <a:off x="3352680" y="1371600"/>
            <a:ext cx="4876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能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都是很好的清洁师。有了你们，地球才会更干净、更美丽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3" descr="田字格2.png"/>
          <p:cNvPicPr/>
          <p:nvPr/>
        </p:nvPicPr>
        <p:blipFill>
          <a:blip r:embed="rId2"/>
          <a:stretch/>
        </p:blipFill>
        <p:spPr>
          <a:xfrm>
            <a:off x="-152280" y="3429000"/>
            <a:ext cx="2581200" cy="3530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H:\012第十二课 地球清洁师\《地球清洁师〉课件\图形4.jpg"/>
          <p:cNvPicPr/>
          <p:nvPr/>
        </p:nvPicPr>
        <p:blipFill>
          <a:blip r:embed="rId3"/>
          <a:stretch/>
        </p:blipFill>
        <p:spPr>
          <a:xfrm>
            <a:off x="1752480" y="457200"/>
            <a:ext cx="7199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7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609480" y="1371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了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，地球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更干净、更美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2209680" y="38862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3886200" y="388620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5638680" y="3886200"/>
            <a:ext cx="2590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457200" y="333072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鱼儿 ，    才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"/>
          <p:cNvSpPr/>
          <p:nvPr/>
        </p:nvSpPr>
        <p:spPr>
          <a:xfrm>
            <a:off x="1219320" y="4549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     ，    才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>
            <a:off x="2286000" y="510552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3886200" y="51055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"/>
          <p:cNvSpPr/>
          <p:nvPr/>
        </p:nvSpPr>
        <p:spPr>
          <a:xfrm>
            <a:off x="5715000" y="5105520"/>
            <a:ext cx="2590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H:\012第十二课 地球清洁师\《地球清洁师〉课件\图形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5181480" y="3200400"/>
            <a:ext cx="2157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1" descr="034%5fdisp5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1" descr="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06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BA3-F052-4C67-A763-D2422F968C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4"/>
          <p:cNvSpPr/>
          <p:nvPr/>
        </p:nvSpPr>
        <p:spPr>
          <a:xfrm>
            <a:off x="1295280" y="10666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 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 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228600" y="3049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914400" y="2590920"/>
            <a:ext cx="90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蝇  屎壳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"/>
          <p:cNvSpPr/>
          <p:nvPr/>
        </p:nvSpPr>
        <p:spPr>
          <a:xfrm>
            <a:off x="914400" y="2590920"/>
            <a:ext cx="90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屎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壳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762120" y="160020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c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g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i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shǐ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l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g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4"/>
          <p:cNvSpPr/>
          <p:nvPr/>
        </p:nvSpPr>
        <p:spPr>
          <a:xfrm>
            <a:off x="762120" y="762120"/>
            <a:ext cx="79246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猜一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一不在，马上就变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5867280" y="3124080"/>
            <a:ext cx="14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4" descr="田字格.png"/>
          <p:cNvPicPr/>
          <p:nvPr/>
        </p:nvPicPr>
        <p:blipFill>
          <a:blip r:embed="rId2"/>
          <a:stretch/>
        </p:blipFill>
        <p:spPr>
          <a:xfrm>
            <a:off x="5791320" y="3657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"/>
          <p:cNvSpPr/>
          <p:nvPr/>
        </p:nvSpPr>
        <p:spPr>
          <a:xfrm>
            <a:off x="0" y="202896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6939720" y="20574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6232680" y="2057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89" name="TextBox 5"/>
          <p:cNvSpPr/>
          <p:nvPr/>
        </p:nvSpPr>
        <p:spPr>
          <a:xfrm>
            <a:off x="2590920" y="1905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6" descr="c:\documents and settings\administrator\application data\360se6\User Data\temp\20121103185112_VRxE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H:\012第十二课 地球清洁师\未标题-1.png"/>
          <p:cNvPicPr/>
          <p:nvPr/>
        </p:nvPicPr>
        <p:blipFill>
          <a:blip r:embed="rId2"/>
          <a:stretch/>
        </p:blipFill>
        <p:spPr>
          <a:xfrm>
            <a:off x="6843600" y="4454640"/>
            <a:ext cx="1766880" cy="2327040"/>
          </a:xfrm>
          <a:prstGeom prst="rect">
            <a:avLst/>
          </a:prstGeom>
          <a:ln w="0">
            <a:noFill/>
          </a:ln>
        </p:spPr>
      </p:pic>
      <p:sp>
        <p:nvSpPr>
          <p:cNvPr id="492" name="TextBox 6"/>
          <p:cNvSpPr/>
          <p:nvPr/>
        </p:nvSpPr>
        <p:spPr>
          <a:xfrm>
            <a:off x="533520" y="129528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牛粪、马粪当点心，还把它们滚成粪球儿，埋到地底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59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24Z</dcterms:modified>
  <cp:revision>7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